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915E-8977-4E80-BF0F-7D488B5E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D53-04B6-4287-A787-FD25C469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5EA-FCC1-4245-9284-EFE7A898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B927-9F6E-4E17-B0F1-ADDCE45E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A55-8003-4CAB-85E2-72810A92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FE61-CDEA-4626-8C8B-1F7C205F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1CC-C644-4BD2-8C07-7F9B6E6C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CC68-99F4-4BEC-99A8-CAE9E05D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3E0D-251C-4FE4-AA4B-B0B6AF2E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AE56-F09D-408E-8212-AC160642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B64-A9DD-4C03-89EC-32A27D4F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474-94A3-453B-9343-24D09C24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31FF5854-1205-45EE-82D8-357B31323C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3160" y="655560"/>
          <a:ext cx="803124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55560"/>
                    <a:ext cx="803124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7400" y="531720"/>
          <a:ext cx="8390160" cy="69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9120" y="493560"/>
          <a:ext cx="8477280" cy="75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77280" cy="75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9800" y="630360"/>
          <a:ext cx="86742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3560" y="581040"/>
          <a:ext cx="8329680" cy="590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81040"/>
                    <a:ext cx="832968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710560" cy="70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710560" cy="70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2760" y="395280"/>
          <a:ext cx="8624880" cy="721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395280"/>
                    <a:ext cx="8624880" cy="721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47680" y="358920"/>
          <a:ext cx="8637480" cy="64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63748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73160"/>
            <a:ext cx="9288720" cy="67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claración de entrada estandar (tecl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System.in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unciones (métodos) para leer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 return teclado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Double.parseDouble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Double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32400"/>
            <a:ext cx="9288720" cy="67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métodos para escribir frases,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de clase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395280"/>
          <a:ext cx="8575560" cy="79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95280"/>
                    <a:ext cx="8575560" cy="79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1456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  <a:ea typeface="Times New Roman"/>
              </a:rPr>
              <a:t>U.readIn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458280"/>
            <a:ext cx="8569080" cy="51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9016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0-08-10T15:17:57Z</dcterms:modified>
  <cp:revision>79</cp:revision>
  <dc:subject/>
  <dc:title>Sin título de diapositiva</dc:title>
</cp:coreProperties>
</file>