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EAB0-F3C9-40BF-860C-5DC9C3EF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022-34CC-4639-8F4D-2D43EBD7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2534-7098-4E98-BF07-B37E69E8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83D-7DEA-42FF-AB2E-0A364B08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B6F-CD0B-4393-87BF-8AD00EA1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CCD-6041-4CCA-BA2D-89D0F519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AA7-6AAE-46F1-BABA-0F03AF8C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297-376E-4B10-BD37-36CCD6AC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358-7643-4E2C-BC32-25C15806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C85-5893-48E3-8840-962746DB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F6E-C0B6-44BA-96C7-CA97AE83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FDB-4B6C-4312-BB93-EC6830E4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23AF0E88-F605-48C8-979E-AC80F5E08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3124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3124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581040"/>
          <a:ext cx="8329680" cy="59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81040"/>
                    <a:ext cx="83296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71056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71056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395280"/>
          <a:ext cx="8624880" cy="72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395280"/>
                    <a:ext cx="8624880" cy="72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575560" cy="79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575560" cy="79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458280"/>
            <a:ext cx="856908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0-08-10T15:17:57Z</dcterms:modified>
  <cp:revision>79</cp:revision>
  <dc:subject/>
  <dc:title>Sin título de diapositiva</dc:title>
</cp:coreProperties>
</file>