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635-D781-450A-9C3B-4568CCA9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521-1D7C-4B0D-9D30-21FB4B5C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EE4-4B01-4D0E-A742-379C8ED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746-428C-465D-A094-57644A36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127-6598-4E12-85F2-AF8AD8C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7B4-5430-4B76-9C6B-6C6CF0D9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744-F9EC-463D-8289-0C36B1E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A2D-152C-43F4-AD27-471A12A1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1AC-530A-4A54-A9EA-25802C6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8CB-F5F2-4F44-9FA5-A90136E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6C6-2AA1-47E9-9FB7-A290B92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860-B204-4875-8714-B8C4166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3C5F846B-2548-463E-B1D0-C48344E70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8-10T15:17:57Z</dcterms:modified>
  <cp:revision>79</cp:revision>
  <dc:subject/>
  <dc:title>Sin título de diapositiva</dc:title>
</cp:coreProperties>
</file>