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993-C650-49B3-AA14-C3FDE2E3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5E2-ECFA-4569-973D-6A488FB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F13-11B8-462C-90B5-85A3C7BD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698-AD4B-4BB8-BE75-DCDDDE00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9AB-DCA7-4869-BDA8-1064CB85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FCC-B7DA-4BCD-8C24-12606E7E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3FF-9383-4DCB-ABBE-5FDBF2E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6AC-1519-4923-9752-02859D1E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255-6DA2-4E21-A284-F5B10D73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511-4DC1-4FE9-9CDA-C8288F9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55E-707D-4FBA-ADFF-B33B9E12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81D-9867-4C84-B665-04A7EB3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9854-3CE7-42D4-9379-89F175F46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800000"/>
                <a:gridCol w="17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3/se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(8/oc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(5/no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0-08-10T15:35:24Z</dcterms:modified>
  <cp:revision>27</cp:revision>
  <dc:subject/>
  <dc:title>Un curso intensivo de Introducción a la Programación Orientada a Objetos en Java  para estudiantes de secundaria </dc:title>
</cp:coreProperties>
</file>