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20CC-0519-4102-BEF7-75B0FE34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0D01-4579-4277-9F77-C8A37F92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F758-B4D1-49C3-B131-F53D460E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701-4E2D-4DD9-BC6C-629FE15F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94FE-845C-4B9D-A7F7-8FCB50F3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D3BF-58DB-4B39-BF73-2CFBB800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0E22-CB4E-4DEB-9271-14368B70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A136-39CE-475E-AA06-571281DD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63E7-B1FB-4BEA-9797-1E8A84F4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0372-52C1-42AA-B753-AFD09B00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FB2C-F067-4FC3-9190-9AE63C55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A7B5-B90D-4E54-85A4-57C46868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E0C9-D281-4821-84EF-63C211146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alvarez@dcc.uchile.cl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a través de U-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8" idx="0"/>
            <a:endCxn id="44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1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 ex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800000"/>
                <a:gridCol w="172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(3/se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(8/oc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(5/no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g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3-02T13:33:10Z</cp:lastPrinted>
  <dcterms:modified xsi:type="dcterms:W3CDTF">2010-08-10T15:35:24Z</dcterms:modified>
  <cp:revision>27</cp:revision>
  <dc:subject/>
  <dc:title>Un curso intensivo de Introducción a la Programación Orientada a Objetos en Java  para estudiantes de secundaria </dc:title>
</cp:coreProperties>
</file>