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5B6-6D0A-4EAB-B9E0-B795D673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94D-190F-4303-A1EA-6DE36853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0A2-4546-4216-8338-5E19265C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45C-B7A8-47E0-969B-4B291323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DCA-C3DD-472C-83D4-F6628464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A1E-3A70-4BDB-8D0C-9C382F4D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9A5-96F1-42B4-A53D-99248933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6F6-04F6-4BA0-BBCA-35E6DD1C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7AB-30D3-4F2F-9F6A-1AF581CA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A3D-DFCF-4A5B-B0BF-898C8D16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81B-F494-4D9E-A805-6DB6574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5E1-35AE-4D74-8981-783C41C5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940A-561A-41F1-87AC-C74978A51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800000"/>
                <a:gridCol w="172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(3/se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(8/oc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(5/no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0-08-10T15:35:24Z</dcterms:modified>
  <cp:revision>27</cp:revision>
  <dc:subject/>
  <dc:title>Un curso intensivo de Introducción a la Programación Orientada a Objetos en Java  para estudiantes de secundaria </dc:title>
</cp:coreProperties>
</file>