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58C4-6677-4119-A4BA-21667A6F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ECD7-9C20-4C59-B7DB-883D2525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E42F-22F1-4061-99F4-E2325762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F374-3718-4D75-88B2-0C389DAA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5CD3-6F01-4163-A5FB-A38D8AF0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9AAC-BA54-4BE8-8AED-72AB7FA8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878E-249A-4FD7-8341-86AAEF60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65AC-E864-4BAA-82DC-5A08E3B1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D2BD-51DE-4189-B469-2703A74D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1624-28CC-4DD7-B6FF-973A08AA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B5A5-9983-4946-BE2C-55A6F3F0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AD3E-204C-4F14-A529-A123F80F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C751-36A9-4B70-AE61-5C293C54C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alvarez@dcc.uchile.cl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a través de U-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8" idx="0"/>
            <a:endCxn id="44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1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 ex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800000"/>
                <a:gridCol w="172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(3/se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(8/oc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(5/no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g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3-02T13:33:10Z</cp:lastPrinted>
  <dcterms:modified xsi:type="dcterms:W3CDTF">2010-08-10T15:35:24Z</dcterms:modified>
  <cp:revision>27</cp:revision>
  <dc:subject/>
  <dc:title>Un curso intensivo de Introducción a la Programación Orientada a Objetos en Java  para estudiantes de secundaria </dc:title>
</cp:coreProperties>
</file>