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4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57C-00E2-4412-B486-93ABE9A7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2A2-1BD1-4FBA-9B4F-895239F4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B45-F0C1-424B-9637-2E8654C3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02C-2A27-4974-AE95-1CB70EEF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4393-D727-4A00-A190-0F3695F2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12E1-E7C8-45D4-A330-8F8A9F6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9326-57F6-42B9-901F-F418F3B2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7362-823E-4931-92A1-489E441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7A43-4637-4BE9-9EBD-6828F06B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D06F-667C-40CA-B850-CAAA6C1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6183-4360-4474-8DD2-9732A84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0BF-03BA-4661-BC43-AF3183E8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A0A8-FBA1-4FA6-B32C-E2AC4F32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D774-B55E-4053-AF44-20EC5B2E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0DA3-E54D-407F-A593-346E71E1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28D-5F70-4F3C-9D16-5CE82BCA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FC28-4558-40B7-9CC5-B954F0BE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884-CA37-45CA-A8AA-6C90D7A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A11-E2D2-41D6-AC5C-4C714FD0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57A-78AB-4447-9EAA-8DCB918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D53-7756-4014-9D55-6D8747B0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6F2-22E0-42D5-8124-DCC139E2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69C-ABCF-4757-A789-B4AC4A26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4A5-243E-4A96-841D-8E596DA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FA9A-0703-42C6-9A92-9AE3CACA8747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039-A291-4840-8130-476500111D3C}" type="slidenum">
              <a:rPr b="0" lang="es-C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4160" y="350676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ana Sala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Agosto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773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Introducción a 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0000"/>
                </a:solidFill>
                <a:latin typeface="Arial"/>
              </a:rPr>
              <a:t>Tres “letras” (nucleótidos) significan un aminoácid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2070000"/>
          <a:ext cx="805032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70000"/>
                    <a:ext cx="80503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5564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152280"/>
            <a:ext cx="7550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traducción del mensaje genético en el RNA se realiza a través del CÓDIGO GEN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067440" cy="5943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lonamiento de un g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411280" y="0"/>
          <a:ext cx="38736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0"/>
                    <a:ext cx="387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2133720"/>
            <a:ext cx="5111640" cy="381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237636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 vector de expresión: usado para producir proteínas recombin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2708280"/>
            <a:ext cx="1296720" cy="2936880"/>
          </a:xfrm>
          <a:custGeom>
            <a:avLst/>
            <a:gdLst/>
            <a:ahLst/>
            <a:rect l="l" t="t" r="r" b="b"/>
            <a:pathLst>
              <a:path w="817" h="1850">
                <a:moveTo>
                  <a:pt x="145" y="1496"/>
                </a:moveTo>
                <a:cubicBezTo>
                  <a:pt x="94" y="1292"/>
                  <a:pt x="116" y="1402"/>
                  <a:pt x="137" y="976"/>
                </a:cubicBezTo>
                <a:cubicBezTo>
                  <a:pt x="138" y="954"/>
                  <a:pt x="184" y="903"/>
                  <a:pt x="193" y="880"/>
                </a:cubicBezTo>
                <a:cubicBezTo>
                  <a:pt x="190" y="845"/>
                  <a:pt x="191" y="810"/>
                  <a:pt x="185" y="776"/>
                </a:cubicBezTo>
                <a:cubicBezTo>
                  <a:pt x="182" y="758"/>
                  <a:pt x="153" y="715"/>
                  <a:pt x="145" y="696"/>
                </a:cubicBezTo>
                <a:cubicBezTo>
                  <a:pt x="121" y="639"/>
                  <a:pt x="118" y="596"/>
                  <a:pt x="65" y="560"/>
                </a:cubicBezTo>
                <a:cubicBezTo>
                  <a:pt x="7" y="385"/>
                  <a:pt x="24" y="108"/>
                  <a:pt x="233" y="56"/>
                </a:cubicBezTo>
                <a:cubicBezTo>
                  <a:pt x="269" y="29"/>
                  <a:pt x="311" y="14"/>
                  <a:pt x="353" y="0"/>
                </a:cubicBezTo>
                <a:cubicBezTo>
                  <a:pt x="441" y="5"/>
                  <a:pt x="516" y="12"/>
                  <a:pt x="601" y="24"/>
                </a:cubicBezTo>
                <a:cubicBezTo>
                  <a:pt x="636" y="36"/>
                  <a:pt x="633" y="27"/>
                  <a:pt x="633" y="80"/>
                </a:cubicBezTo>
                <a:cubicBezTo>
                  <a:pt x="633" y="213"/>
                  <a:pt x="629" y="347"/>
                  <a:pt x="625" y="480"/>
                </a:cubicBezTo>
                <a:cubicBezTo>
                  <a:pt x="621" y="615"/>
                  <a:pt x="650" y="701"/>
                  <a:pt x="521" y="744"/>
                </a:cubicBezTo>
                <a:cubicBezTo>
                  <a:pt x="503" y="758"/>
                  <a:pt x="480" y="767"/>
                  <a:pt x="465" y="784"/>
                </a:cubicBezTo>
                <a:cubicBezTo>
                  <a:pt x="452" y="798"/>
                  <a:pt x="433" y="832"/>
                  <a:pt x="433" y="832"/>
                </a:cubicBezTo>
                <a:cubicBezTo>
                  <a:pt x="436" y="859"/>
                  <a:pt x="431" y="887"/>
                  <a:pt x="441" y="912"/>
                </a:cubicBezTo>
                <a:cubicBezTo>
                  <a:pt x="446" y="923"/>
                  <a:pt x="463" y="921"/>
                  <a:pt x="473" y="928"/>
                </a:cubicBezTo>
                <a:cubicBezTo>
                  <a:pt x="544" y="975"/>
                  <a:pt x="612" y="1012"/>
                  <a:pt x="697" y="1024"/>
                </a:cubicBezTo>
                <a:cubicBezTo>
                  <a:pt x="712" y="1034"/>
                  <a:pt x="732" y="1035"/>
                  <a:pt x="745" y="1048"/>
                </a:cubicBezTo>
                <a:cubicBezTo>
                  <a:pt x="776" y="1079"/>
                  <a:pt x="786" y="1121"/>
                  <a:pt x="817" y="1152"/>
                </a:cubicBezTo>
                <a:cubicBezTo>
                  <a:pt x="814" y="1227"/>
                  <a:pt x="813" y="1301"/>
                  <a:pt x="809" y="1376"/>
                </a:cubicBezTo>
                <a:cubicBezTo>
                  <a:pt x="806" y="1437"/>
                  <a:pt x="803" y="1435"/>
                  <a:pt x="785" y="1488"/>
                </a:cubicBezTo>
                <a:cubicBezTo>
                  <a:pt x="777" y="1513"/>
                  <a:pt x="647" y="1533"/>
                  <a:pt x="625" y="1536"/>
                </a:cubicBezTo>
                <a:cubicBezTo>
                  <a:pt x="604" y="1539"/>
                  <a:pt x="582" y="1541"/>
                  <a:pt x="561" y="1544"/>
                </a:cubicBezTo>
                <a:cubicBezTo>
                  <a:pt x="558" y="1555"/>
                  <a:pt x="554" y="1565"/>
                  <a:pt x="553" y="1576"/>
                </a:cubicBezTo>
                <a:cubicBezTo>
                  <a:pt x="548" y="1648"/>
                  <a:pt x="555" y="1721"/>
                  <a:pt x="545" y="1792"/>
                </a:cubicBezTo>
                <a:cubicBezTo>
                  <a:pt x="543" y="1809"/>
                  <a:pt x="484" y="1816"/>
                  <a:pt x="481" y="1816"/>
                </a:cubicBezTo>
                <a:cubicBezTo>
                  <a:pt x="417" y="1820"/>
                  <a:pt x="353" y="1821"/>
                  <a:pt x="289" y="1824"/>
                </a:cubicBezTo>
                <a:cubicBezTo>
                  <a:pt x="210" y="1850"/>
                  <a:pt x="262" y="1850"/>
                  <a:pt x="129" y="1840"/>
                </a:cubicBezTo>
                <a:cubicBezTo>
                  <a:pt x="118" y="1824"/>
                  <a:pt x="108" y="1808"/>
                  <a:pt x="97" y="1792"/>
                </a:cubicBezTo>
                <a:cubicBezTo>
                  <a:pt x="81" y="1768"/>
                  <a:pt x="82" y="1737"/>
                  <a:pt x="65" y="1712"/>
                </a:cubicBezTo>
                <a:cubicBezTo>
                  <a:pt x="65" y="1712"/>
                  <a:pt x="53" y="1660"/>
                  <a:pt x="49" y="1656"/>
                </a:cubicBezTo>
                <a:cubicBezTo>
                  <a:pt x="43" y="1650"/>
                  <a:pt x="33" y="1652"/>
                  <a:pt x="25" y="1648"/>
                </a:cubicBezTo>
                <a:cubicBezTo>
                  <a:pt x="16" y="1644"/>
                  <a:pt x="9" y="1637"/>
                  <a:pt x="1" y="1632"/>
                </a:cubicBezTo>
                <a:cubicBezTo>
                  <a:pt x="4" y="1605"/>
                  <a:pt x="0" y="1577"/>
                  <a:pt x="9" y="1552"/>
                </a:cubicBezTo>
                <a:cubicBezTo>
                  <a:pt x="12" y="1544"/>
                  <a:pt x="25" y="1547"/>
                  <a:pt x="33" y="1544"/>
                </a:cubicBezTo>
                <a:cubicBezTo>
                  <a:pt x="49" y="1537"/>
                  <a:pt x="64" y="1526"/>
                  <a:pt x="81" y="1520"/>
                </a:cubicBezTo>
                <a:cubicBezTo>
                  <a:pt x="102" y="1513"/>
                  <a:pt x="145" y="1526"/>
                  <a:pt x="145" y="1504"/>
                </a:cubicBezTo>
                <a:cubicBezTo>
                  <a:pt x="145" y="1477"/>
                  <a:pt x="145" y="1451"/>
                  <a:pt x="145" y="1424"/>
                </a:cubicBezTo>
              </a:path>
            </a:pathLst>
          </a:custGeom>
          <a:noFill/>
          <a:ln w="507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4067280" y="2708280"/>
            <a:ext cx="936360" cy="936360"/>
            <a:chOff x="4067280" y="2708280"/>
            <a:chExt cx="936360" cy="936360"/>
          </a:xfrm>
        </p:grpSpPr>
        <p:grpSp>
          <p:nvGrpSpPr>
            <p:cNvPr id="166" name=""/>
            <p:cNvGrpSpPr/>
            <p:nvPr/>
          </p:nvGrpSpPr>
          <p:grpSpPr>
            <a:xfrm>
              <a:off x="4067280" y="2924280"/>
              <a:ext cx="360360" cy="288720"/>
              <a:chOff x="4067280" y="2924280"/>
              <a:chExt cx="360360" cy="288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06728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4036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600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2847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77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500720" y="2852640"/>
              <a:ext cx="360360" cy="288720"/>
              <a:chOff x="4500720" y="2852640"/>
              <a:chExt cx="360360" cy="288720"/>
            </a:xfrm>
          </p:grpSpPr>
          <p:sp>
            <p:nvSpPr>
              <p:cNvPr id="182" name=""/>
              <p:cNvSpPr/>
              <p:nvPr/>
            </p:nvSpPr>
            <p:spPr>
              <a:xfrm>
                <a:off x="45007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38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894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181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282920" y="3139920"/>
              <a:ext cx="360360" cy="288720"/>
              <a:chOff x="4282920" y="3139920"/>
              <a:chExt cx="360360" cy="288720"/>
            </a:xfrm>
          </p:grpSpPr>
          <p:sp>
            <p:nvSpPr>
              <p:cNvPr id="187" name=""/>
              <p:cNvSpPr/>
              <p:nvPr/>
            </p:nvSpPr>
            <p:spPr>
              <a:xfrm>
                <a:off x="428292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356000" y="328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571640" y="3357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500360" y="313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498920" y="3355920"/>
              <a:ext cx="360360" cy="288720"/>
              <a:chOff x="4498920" y="3355920"/>
              <a:chExt cx="360360" cy="288720"/>
            </a:xfrm>
          </p:grpSpPr>
          <p:sp>
            <p:nvSpPr>
              <p:cNvPr id="192" name=""/>
              <p:cNvSpPr/>
              <p:nvPr/>
            </p:nvSpPr>
            <p:spPr>
              <a:xfrm>
                <a:off x="449892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2000" y="3500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87640" y="35733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16360" y="335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643280" y="3141720"/>
              <a:ext cx="360360" cy="288720"/>
              <a:chOff x="4643280" y="3141720"/>
              <a:chExt cx="360360" cy="288720"/>
            </a:xfrm>
          </p:grpSpPr>
          <p:sp>
            <p:nvSpPr>
              <p:cNvPr id="197" name=""/>
              <p:cNvSpPr/>
              <p:nvPr/>
            </p:nvSpPr>
            <p:spPr>
              <a:xfrm>
                <a:off x="464328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16360" y="3286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32000" y="3359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60720" y="3141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067280" y="2708280"/>
              <a:ext cx="360360" cy="288720"/>
              <a:chOff x="4067280" y="2708280"/>
              <a:chExt cx="360360" cy="288720"/>
            </a:xfrm>
          </p:grpSpPr>
          <p:sp>
            <p:nvSpPr>
              <p:cNvPr id="202" name=""/>
              <p:cNvSpPr/>
              <p:nvPr/>
            </p:nvSpPr>
            <p:spPr>
              <a:xfrm>
                <a:off x="406728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0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56000" y="292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284720" y="270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4282920" y="2924280"/>
            <a:ext cx="936360" cy="936000"/>
            <a:chOff x="4282920" y="2924280"/>
            <a:chExt cx="936360" cy="936000"/>
          </a:xfrm>
        </p:grpSpPr>
        <p:grpSp>
          <p:nvGrpSpPr>
            <p:cNvPr id="207" name=""/>
            <p:cNvGrpSpPr/>
            <p:nvPr/>
          </p:nvGrpSpPr>
          <p:grpSpPr>
            <a:xfrm>
              <a:off x="4282920" y="3139920"/>
              <a:ext cx="360360" cy="288000"/>
              <a:chOff x="4282920" y="3139920"/>
              <a:chExt cx="360360" cy="288000"/>
            </a:xfrm>
          </p:grpSpPr>
          <p:sp>
            <p:nvSpPr>
              <p:cNvPr id="208" name=""/>
              <p:cNvSpPr/>
              <p:nvPr/>
            </p:nvSpPr>
            <p:spPr>
              <a:xfrm>
                <a:off x="428292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56000" y="3283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71640" y="335700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00360" y="313992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13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18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16360" y="3068280"/>
              <a:ext cx="360360" cy="288720"/>
              <a:chOff x="4716360" y="3068280"/>
              <a:chExt cx="360360" cy="28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471636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89440" y="321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005080" y="3285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33800" y="3068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8560" y="3355560"/>
              <a:ext cx="360360" cy="288720"/>
              <a:chOff x="4498560" y="3355560"/>
              <a:chExt cx="360360" cy="288720"/>
            </a:xfrm>
          </p:grpSpPr>
          <p:sp>
            <p:nvSpPr>
              <p:cNvPr id="228" name=""/>
              <p:cNvSpPr/>
              <p:nvPr/>
            </p:nvSpPr>
            <p:spPr>
              <a:xfrm>
                <a:off x="449856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1640" y="3499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87280" y="3573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16000" y="3355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714560" y="3571560"/>
              <a:ext cx="360360" cy="288720"/>
              <a:chOff x="4714560" y="3571560"/>
              <a:chExt cx="360360" cy="288720"/>
            </a:xfrm>
          </p:grpSpPr>
          <p:sp>
            <p:nvSpPr>
              <p:cNvPr id="233" name=""/>
              <p:cNvSpPr/>
              <p:nvPr/>
            </p:nvSpPr>
            <p:spPr>
              <a:xfrm>
                <a:off x="471456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87640" y="37159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003280" y="37890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32000" y="35715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4858920" y="3357360"/>
              <a:ext cx="360360" cy="288000"/>
              <a:chOff x="4858920" y="3357360"/>
              <a:chExt cx="360360" cy="288000"/>
            </a:xfrm>
          </p:grpSpPr>
          <p:sp>
            <p:nvSpPr>
              <p:cNvPr id="238" name=""/>
              <p:cNvSpPr/>
              <p:nvPr/>
            </p:nvSpPr>
            <p:spPr>
              <a:xfrm>
                <a:off x="485892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932000" y="3501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47640" y="3574440"/>
                <a:ext cx="7164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6360" y="3357360"/>
                <a:ext cx="71280" cy="709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282920" y="2924280"/>
              <a:ext cx="360360" cy="288720"/>
              <a:chOff x="4282920" y="2924280"/>
              <a:chExt cx="360360" cy="288720"/>
            </a:xfrm>
          </p:grpSpPr>
          <p:sp>
            <p:nvSpPr>
              <p:cNvPr id="243" name=""/>
              <p:cNvSpPr/>
              <p:nvPr/>
            </p:nvSpPr>
            <p:spPr>
              <a:xfrm>
                <a:off x="428292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6000" y="3068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571640" y="314172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00360" y="29242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4067280" y="2205000"/>
            <a:ext cx="936360" cy="936360"/>
            <a:chOff x="4067280" y="2205000"/>
            <a:chExt cx="936360" cy="936360"/>
          </a:xfrm>
        </p:grpSpPr>
        <p:grpSp>
          <p:nvGrpSpPr>
            <p:cNvPr id="248" name=""/>
            <p:cNvGrpSpPr/>
            <p:nvPr/>
          </p:nvGrpSpPr>
          <p:grpSpPr>
            <a:xfrm>
              <a:off x="4067280" y="2421000"/>
              <a:ext cx="360360" cy="288720"/>
              <a:chOff x="4067280" y="2421000"/>
              <a:chExt cx="360360" cy="288720"/>
            </a:xfrm>
          </p:grpSpPr>
          <p:sp>
            <p:nvSpPr>
              <p:cNvPr id="249" name=""/>
              <p:cNvSpPr/>
              <p:nvPr/>
            </p:nvSpPr>
            <p:spPr>
              <a:xfrm>
                <a:off x="406728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140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356000" y="2638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284720" y="242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54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500720" y="2349360"/>
              <a:ext cx="360360" cy="288720"/>
              <a:chOff x="4500720" y="2349360"/>
              <a:chExt cx="360360" cy="288720"/>
            </a:xfrm>
          </p:grpSpPr>
          <p:sp>
            <p:nvSpPr>
              <p:cNvPr id="264" name=""/>
              <p:cNvSpPr/>
              <p:nvPr/>
            </p:nvSpPr>
            <p:spPr>
              <a:xfrm>
                <a:off x="450072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3800" y="2493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89440" y="2566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181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282920" y="2636640"/>
              <a:ext cx="360360" cy="288720"/>
              <a:chOff x="4282920" y="2636640"/>
              <a:chExt cx="360360" cy="288720"/>
            </a:xfrm>
          </p:grpSpPr>
          <p:sp>
            <p:nvSpPr>
              <p:cNvPr id="269" name=""/>
              <p:cNvSpPr/>
              <p:nvPr/>
            </p:nvSpPr>
            <p:spPr>
              <a:xfrm>
                <a:off x="428292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356000" y="2781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1640" y="2854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0360" y="2636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498920" y="2852640"/>
              <a:ext cx="360360" cy="288720"/>
              <a:chOff x="4498920" y="2852640"/>
              <a:chExt cx="360360" cy="288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49892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72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87640" y="30700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16360" y="28526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643280" y="2638440"/>
              <a:ext cx="360360" cy="288720"/>
              <a:chOff x="4643280" y="2638440"/>
              <a:chExt cx="360360" cy="288720"/>
            </a:xfrm>
          </p:grpSpPr>
          <p:sp>
            <p:nvSpPr>
              <p:cNvPr id="279" name=""/>
              <p:cNvSpPr/>
              <p:nvPr/>
            </p:nvSpPr>
            <p:spPr>
              <a:xfrm>
                <a:off x="464328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716360" y="2782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932000" y="285588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60720" y="263844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067280" y="2205000"/>
              <a:ext cx="360360" cy="288720"/>
              <a:chOff x="4067280" y="2205000"/>
              <a:chExt cx="360360" cy="288720"/>
            </a:xfrm>
          </p:grpSpPr>
          <p:sp>
            <p:nvSpPr>
              <p:cNvPr id="284" name=""/>
              <p:cNvSpPr/>
              <p:nvPr/>
            </p:nvSpPr>
            <p:spPr>
              <a:xfrm>
                <a:off x="406728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0360" y="2349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56000" y="2422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84720" y="2205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708360" y="2565360"/>
            <a:ext cx="936360" cy="936360"/>
            <a:chOff x="3708360" y="2565360"/>
            <a:chExt cx="936360" cy="936360"/>
          </a:xfrm>
        </p:grpSpPr>
        <p:grpSp>
          <p:nvGrpSpPr>
            <p:cNvPr id="289" name=""/>
            <p:cNvGrpSpPr/>
            <p:nvPr/>
          </p:nvGrpSpPr>
          <p:grpSpPr>
            <a:xfrm>
              <a:off x="3708360" y="2781360"/>
              <a:ext cx="360360" cy="288720"/>
              <a:chOff x="3708360" y="2781360"/>
              <a:chExt cx="360360" cy="288720"/>
            </a:xfrm>
          </p:grpSpPr>
          <p:sp>
            <p:nvSpPr>
              <p:cNvPr id="290" name=""/>
              <p:cNvSpPr/>
              <p:nvPr/>
            </p:nvSpPr>
            <p:spPr>
              <a:xfrm>
                <a:off x="370836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1440" y="2925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97080" y="2998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25800" y="278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295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00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141800" y="2709720"/>
              <a:ext cx="360360" cy="288720"/>
              <a:chOff x="4141800" y="2709720"/>
              <a:chExt cx="360360" cy="288720"/>
            </a:xfrm>
          </p:grpSpPr>
          <p:sp>
            <p:nvSpPr>
              <p:cNvPr id="305" name=""/>
              <p:cNvSpPr/>
              <p:nvPr/>
            </p:nvSpPr>
            <p:spPr>
              <a:xfrm>
                <a:off x="414180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14880" y="285408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30520" y="292716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592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924000" y="2997000"/>
              <a:ext cx="360360" cy="288720"/>
              <a:chOff x="3924000" y="2997000"/>
              <a:chExt cx="360360" cy="288720"/>
            </a:xfrm>
          </p:grpSpPr>
          <p:sp>
            <p:nvSpPr>
              <p:cNvPr id="310" name=""/>
              <p:cNvSpPr/>
              <p:nvPr/>
            </p:nvSpPr>
            <p:spPr>
              <a:xfrm>
                <a:off x="392400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97080" y="3141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12720" y="3214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41440" y="2997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4140000" y="3213000"/>
              <a:ext cx="360360" cy="288720"/>
              <a:chOff x="4140000" y="3213000"/>
              <a:chExt cx="360360" cy="288720"/>
            </a:xfrm>
          </p:grpSpPr>
          <p:sp>
            <p:nvSpPr>
              <p:cNvPr id="315" name=""/>
              <p:cNvSpPr/>
              <p:nvPr/>
            </p:nvSpPr>
            <p:spPr>
              <a:xfrm>
                <a:off x="414000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13080" y="3357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428720" y="34304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57440" y="32130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4284360" y="2998800"/>
              <a:ext cx="360360" cy="288720"/>
              <a:chOff x="4284360" y="2998800"/>
              <a:chExt cx="360360" cy="288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28436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57440" y="31431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3080" y="321624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01800" y="299880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708360" y="2565360"/>
              <a:ext cx="360360" cy="288720"/>
              <a:chOff x="3708360" y="2565360"/>
              <a:chExt cx="360360" cy="288720"/>
            </a:xfrm>
          </p:grpSpPr>
          <p:sp>
            <p:nvSpPr>
              <p:cNvPr id="325" name=""/>
              <p:cNvSpPr/>
              <p:nvPr/>
            </p:nvSpPr>
            <p:spPr>
              <a:xfrm>
                <a:off x="370836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781440" y="270972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997080" y="2782800"/>
                <a:ext cx="7164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25800" y="2565360"/>
                <a:ext cx="71280" cy="712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 rot="17961000">
            <a:off x="3743280" y="3465360"/>
            <a:ext cx="504720" cy="289080"/>
          </a:xfrm>
          <a:prstGeom prst="rightArrow">
            <a:avLst>
              <a:gd name="adj1" fmla="val 50000"/>
              <a:gd name="adj2" fmla="val 436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84720" y="234936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Proteína recomb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6237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romosoma bacter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900000" y="5734080"/>
            <a:ext cx="716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219280" y="2637000"/>
            <a:ext cx="8650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ificación de la secuencia de aminoácidos de una proteína efectuados a  nivel de gen (ADN) de la enz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n de la enzima debe estar clo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ducción recombinante de la enzima en microorganis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Limitaciones de las enzimas indust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actividad catalí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 estabilidad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nte a la temperatura, al pH, a los solventes del medio, etc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ificidad de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trato diferente a la deseada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esidad de efectores auxiliares de alto valor económ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Ingeniería de proteín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objetivos de la I.P. al modificar la secuencia de una proteína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Alcanzar una mejor comprensión de las relaciones estructura-fun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Obtener un cambio deseado en alguna propiedad de la proteí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79280" y="1916280"/>
            <a:ext cx="896472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133720"/>
          <a:ext cx="853272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53272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os estudios de las relaciones estructura función permiten conocer las regiones de la estructura que son importantes para la actividad (función) de la enz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56000" y="1916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celu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2565360"/>
            <a:ext cx="72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8360" y="2205000"/>
            <a:ext cx="1512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cat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12000" y="5516640"/>
            <a:ext cx="1332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8000"/>
                </a:solidFill>
                <a:latin typeface="Arial"/>
                <a:ea typeface="Arial"/>
              </a:rPr>
              <a:t>Región que une celul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40720" y="5589720"/>
            <a:ext cx="712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59500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8000"/>
                </a:solidFill>
                <a:latin typeface="Tahoma"/>
                <a:ea typeface="Arial"/>
              </a:rPr>
              <a:t>sus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95640" y="5157720"/>
            <a:ext cx="168120" cy="792360"/>
          </a:xfrm>
          <a:custGeom>
            <a:avLst/>
            <a:gdLst/>
            <a:ahLst/>
            <a:rect l="l" t="t" r="r" b="b"/>
            <a:pathLst>
              <a:path w="106" h="499">
                <a:moveTo>
                  <a:pt x="106" y="499"/>
                </a:moveTo>
                <a:cubicBezTo>
                  <a:pt x="68" y="472"/>
                  <a:pt x="30" y="446"/>
                  <a:pt x="15" y="363"/>
                </a:cubicBezTo>
                <a:cubicBezTo>
                  <a:pt x="0" y="280"/>
                  <a:pt x="7" y="140"/>
                  <a:pt x="15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4941720"/>
            <a:ext cx="239760" cy="1079640"/>
          </a:xfrm>
          <a:custGeom>
            <a:avLst/>
            <a:gdLst/>
            <a:ahLst/>
            <a:rect l="l" t="t" r="r" b="b"/>
            <a:pathLst>
              <a:path w="151" h="680">
                <a:moveTo>
                  <a:pt x="151" y="680"/>
                </a:moveTo>
                <a:cubicBezTo>
                  <a:pt x="90" y="532"/>
                  <a:pt x="30" y="385"/>
                  <a:pt x="15" y="272"/>
                </a:cubicBezTo>
                <a:cubicBezTo>
                  <a:pt x="0" y="159"/>
                  <a:pt x="53" y="45"/>
                  <a:pt x="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1484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celulosa                                       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211640" y="148428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Estrategias para hacer ingeniería de enzim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543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r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equiere información estructural y funcional previa (estructura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investigador decide en base a la información disponible, qué aminoácido cambiar y por cu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ategia al azar o combina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Independiente de información prev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Se generan múltiples variantes de la proteína y se selecciona la que tiene la propiedad de interé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reve introducción a los métodos de DNA recomb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s de ingeniería de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Mutagénesis al az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rategias de modificación genética de microo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licación a enzimas y microorganismos  usados en la producción de biocombust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SQUEMA DEL DISEÑO RACIONAL DE PROTEÍ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76720" y="1628640"/>
            <a:ext cx="3742920" cy="5040000"/>
            <a:chOff x="5076720" y="1628640"/>
            <a:chExt cx="3742920" cy="5040000"/>
          </a:xfrm>
        </p:grpSpPr>
        <p:sp>
          <p:nvSpPr>
            <p:cNvPr id="358" name=""/>
            <p:cNvSpPr/>
            <p:nvPr/>
          </p:nvSpPr>
          <p:spPr>
            <a:xfrm>
              <a:off x="5076720" y="1628640"/>
              <a:ext cx="3742920" cy="50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416200" y="1781640"/>
              <a:ext cx="3033720" cy="46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5416200" y="2774880"/>
              <a:ext cx="30420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908000" y="1989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 DE PROTEI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32000" y="292428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AMIENTO MOLECULAR BASADO EN ESTRUCTUR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393372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TAGENESIS SITIO DIRIG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4653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ACION Y EXPR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5445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ACTERIZACION DE MU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56000" y="256536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56000" y="350028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56000" y="515772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0000"/>
                </a:solidFill>
                <a:latin typeface="Arial"/>
              </a:rPr>
              <a:t>Mutagénesis sitio dirigi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1280" y="2133720"/>
            <a:ext cx="374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AA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TT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50920" y="278136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2133720"/>
            <a:ext cx="3743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GTGTCCCA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GAC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TCTATACGC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ACAGGGT</a:t>
            </a:r>
            <a:r>
              <a:rPr b="1" lang="es-CL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TG</a:t>
            </a:r>
            <a:r>
              <a:rPr b="1" lang="es-C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AGATATGCG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2852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10240" cy="20764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4788000" y="3789360"/>
            <a:ext cx="3809880" cy="2076480"/>
            <a:chOff x="4788000" y="3789360"/>
            <a:chExt cx="3809880" cy="2076480"/>
          </a:xfrm>
        </p:grpSpPr>
        <p:pic>
          <p:nvPicPr>
            <p:cNvPr id="377" name="" descr=""/>
            <p:cNvPicPr/>
            <p:nvPr/>
          </p:nvPicPr>
          <p:blipFill>
            <a:blip r:embed="rId2"/>
            <a:stretch/>
          </p:blipFill>
          <p:spPr>
            <a:xfrm>
              <a:off x="4788000" y="3789360"/>
              <a:ext cx="38098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651640" y="50864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A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211640" y="2205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42920" y="155736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19640" y="162864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EN MU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16000" y="6165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35640" y="6165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TEINA MU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5594400" cy="46022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geniería de proteínas por evolución dirigid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788000" y="476280"/>
            <a:ext cx="3770280" cy="6165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381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Evolución dirigida requiere del análisis masivo de miles de variantes de la enz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5640" y="4149720"/>
            <a:ext cx="345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De una proteína de 300 aminoácidos se pueden gene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19 x 300 = 5700 variantes con un solo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857320" cy="322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763640" y="4149720"/>
            <a:ext cx="3727440" cy="2478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5940360" y="2565360"/>
            <a:ext cx="2903760" cy="32623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427640" y="62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ROBOT  PIPETE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177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PIPETA DIGITAL MULTI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4360" y="378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Arial"/>
              </a:rPr>
              <a:t>MICROPLACAS DE 96 POC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066680" y="2057400"/>
          <a:ext cx="662940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662940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célula es la unidad biológica fundamental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da por tres tipos de macromoléculas: proteínas, lípidos y ácidos nuclei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3505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00400" y="3886200"/>
            <a:ext cx="380880" cy="9144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1560" y="3815640"/>
            <a:ext cx="546120" cy="8265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876560" y="3276720"/>
            <a:ext cx="152280" cy="5331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971800"/>
            <a:ext cx="0" cy="5335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120" y="3352320"/>
            <a:ext cx="304920" cy="304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95120" y="3886200"/>
            <a:ext cx="304920" cy="152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410080" y="2514600"/>
            <a:ext cx="1067040" cy="137160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360" y="2286000"/>
            <a:ext cx="609480" cy="3808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981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Osaka"/>
              </a:rPr>
              <a:t>Lípidos de memb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4876920"/>
            <a:ext cx="2286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518148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257800"/>
            <a:ext cx="2286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419360" y="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atro posibles niveles de estruc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72000" y="1295280"/>
            <a:ext cx="4572000" cy="5562720"/>
            <a:chOff x="4572000" y="1295280"/>
            <a:chExt cx="4572000" cy="55627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4572000" y="1295280"/>
              <a:ext cx="428148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791320" y="12952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primaria (secuenci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53080" y="26686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secund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383616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terci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5415480"/>
              <a:ext cx="258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3300"/>
                  </a:solidFill>
                  <a:latin typeface="Arial"/>
                  <a:ea typeface="Osaka"/>
                </a:rPr>
                <a:t>Estructura cuaternar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228600"/>
            <a:ext cx="41911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Osaka"/>
              </a:rPr>
              <a:t>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Polímeros de amino ácidos asociados en una cadena lin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380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DNA versus R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803840"/>
            <a:ext cx="3352680" cy="1655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143000"/>
            <a:ext cx="2057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NA: una h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racilo en lugar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zúcar es ribosa, no desoxirribosa com en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708360" y="836640"/>
          <a:ext cx="48070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836640"/>
                    <a:ext cx="48070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EL ADN es el material gené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338640" cy="494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342900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zúcar + fos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1148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34340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ior: bases nitrogenadas formando puentes de Hidró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029200"/>
            <a:ext cx="2133360" cy="228600"/>
          </a:xfrm>
          <a:prstGeom prst="leftArrow">
            <a:avLst>
              <a:gd name="adj1" fmla="val 50000"/>
              <a:gd name="adj2" fmla="val 233307"/>
            </a:avLst>
          </a:prstGeom>
          <a:solidFill>
            <a:srgbClr val="ff00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6244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835280" y="25718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76360" y="2708280"/>
            <a:ext cx="619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Un gen es un fragmento de DNA que codifica para una proteí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573360"/>
            <a:ext cx="144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  <a:ea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34136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xpresión de los ge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56720" y="2637000"/>
            <a:ext cx="431640" cy="3887640"/>
          </a:xfrm>
          <a:prstGeom prst="downArrow">
            <a:avLst>
              <a:gd name="adj1" fmla="val 50000"/>
              <a:gd name="adj2" fmla="val 2251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437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NA polimer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5950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rib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573360"/>
            <a:ext cx="208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  <a:ea typeface="Arial"/>
              </a:rPr>
              <a:t>Region codific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12682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AGGCUUAGACCG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4724280"/>
            <a:ext cx="6782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Proteí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la-Met-Tyr Trp-Phe-L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380200">
            <a:off x="3636360" y="3213000"/>
            <a:ext cx="1905120" cy="609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cap="sq"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29242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  <a:ea typeface="Arial"/>
              </a:rPr>
              <a:t>CODIGO GEN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33360"/>
            <a:ext cx="83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Traduciendo el mensaje del m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20:51:03Z</dcterms:created>
  <dc:creator>Ing Quimica</dc:creator>
  <dc:description/>
  <dc:language>en-US</dc:language>
  <cp:lastModifiedBy>Ing Quimica</cp:lastModifiedBy>
  <dcterms:modified xsi:type="dcterms:W3CDTF">2010-08-24T17:00:36Z</dcterms:modified>
  <cp:revision>237</cp:revision>
  <dc:subject/>
  <dc:title>Diapositiva 1</dc:title>
</cp:coreProperties>
</file>