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3.png" ContentType="image/png"/>
  <Override PartName="/ppt/media/image12.png" ContentType="image/png"/>
  <Override PartName="/ppt/media/image9.png" ContentType="image/png"/>
  <Override PartName="/ppt/media/image11.png" ContentType="image/png"/>
  <Override PartName="/ppt/media/image19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4.png" ContentType="image/png"/>
  <Override PartName="/ppt/media/image16.wmf" ContentType="image/x-wmf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5A862-E1C4-4262-AA92-C6A05F0EF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90220-CC88-4528-AB1A-FE2ED3C9C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F5660-EC5E-46D8-9A95-74F9AAB1B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08DCB-585E-4E8F-9010-450843C93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61BFA-F100-4EA7-99F4-2D9175830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933A8-27DA-4A1D-A07D-E1E6A02A6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B9AA2-F35E-4D29-8E46-41E92F40E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C7AF7-7CE7-49C9-9753-553975EC9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FCBCC-522E-4FA0-B49A-BA994A846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39D5B-BDB9-4449-914A-8AC0C4A1A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ED3B6-E91E-4054-A50B-2D0ECFDD5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F0C5F-C39A-49F8-BB7A-CB43BA892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B7DF0-09BF-4514-9A7D-02B2A00D5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D9F9D-ACC1-45F2-8696-555D4E33F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419EC-6D5E-47C3-A466-14A214670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8B863-BFEE-4736-86DE-142B2CA19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2597A-B466-454B-B9AE-1C63447E1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96FD4-5564-4B6C-BDF8-68B5AFBD4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C64A9-B235-4241-A8DD-4BF126847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1606A-B2A8-4A9B-B1C2-4D55DDAE6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965FF-31FE-4A62-9FD3-752FCA445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1B201-3422-4EF6-AFED-76FACD394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A4AF2-F117-471A-A002-1522E1C2A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FE22E-1983-40C0-830F-8D185F46F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0AEC6-B7B0-457D-B114-D95A33147D2A}" type="slidenum">
              <a:rPr b="0" lang="es-C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BA37E-6D38-416C-B14C-7EBB69317AC3}" type="slidenum">
              <a:rPr b="0" lang="es-C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054160" y="3506760"/>
            <a:ext cx="6408720" cy="17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iana Salaz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ntro de Ingeniería Bioquímica y Biotecnologí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CF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dad de Ch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4 Agosto 20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332000" y="1773360"/>
            <a:ext cx="64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Introducción a técnicas de ingeniería genét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400" spc="-1" strike="noStrike">
                <a:solidFill>
                  <a:srgbClr val="000000"/>
                </a:solidFill>
                <a:latin typeface="Arial"/>
              </a:rPr>
              <a:t>Tres “letras” (nucleótidos) significan un aminoácido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826920" y="2070000"/>
          <a:ext cx="8050320" cy="478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2070000"/>
                    <a:ext cx="8050320" cy="478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755640" y="706320"/>
            <a:ext cx="7696080" cy="615168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755640" y="152280"/>
            <a:ext cx="755028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 traducción del mensaje genético en el RNA se realiza a través del CÓDIGO GENÉT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1143000" y="685800"/>
            <a:ext cx="6067440" cy="594360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Clonamiento de un ge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9" name=""/>
          <p:cNvGraphicFramePr/>
          <p:nvPr/>
        </p:nvGraphicFramePr>
        <p:xfrm>
          <a:off x="2411280" y="0"/>
          <a:ext cx="38736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11280" y="0"/>
                    <a:ext cx="38736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468360" y="2133720"/>
            <a:ext cx="5111640" cy="3816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2195640" y="3860640"/>
            <a:ext cx="2376360" cy="205740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Un vector de expresión: usado para producir proteínas recombinan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84360" y="2708280"/>
            <a:ext cx="1296720" cy="2936880"/>
          </a:xfrm>
          <a:custGeom>
            <a:avLst/>
            <a:gdLst/>
            <a:ahLst/>
            <a:rect l="l" t="t" r="r" b="b"/>
            <a:pathLst>
              <a:path w="817" h="1850">
                <a:moveTo>
                  <a:pt x="145" y="1496"/>
                </a:moveTo>
                <a:cubicBezTo>
                  <a:pt x="94" y="1292"/>
                  <a:pt x="116" y="1402"/>
                  <a:pt x="137" y="976"/>
                </a:cubicBezTo>
                <a:cubicBezTo>
                  <a:pt x="138" y="954"/>
                  <a:pt x="184" y="903"/>
                  <a:pt x="193" y="880"/>
                </a:cubicBezTo>
                <a:cubicBezTo>
                  <a:pt x="190" y="845"/>
                  <a:pt x="191" y="810"/>
                  <a:pt x="185" y="776"/>
                </a:cubicBezTo>
                <a:cubicBezTo>
                  <a:pt x="182" y="758"/>
                  <a:pt x="153" y="715"/>
                  <a:pt x="145" y="696"/>
                </a:cubicBezTo>
                <a:cubicBezTo>
                  <a:pt x="121" y="639"/>
                  <a:pt x="118" y="596"/>
                  <a:pt x="65" y="560"/>
                </a:cubicBezTo>
                <a:cubicBezTo>
                  <a:pt x="7" y="385"/>
                  <a:pt x="24" y="108"/>
                  <a:pt x="233" y="56"/>
                </a:cubicBezTo>
                <a:cubicBezTo>
                  <a:pt x="269" y="29"/>
                  <a:pt x="311" y="14"/>
                  <a:pt x="353" y="0"/>
                </a:cubicBezTo>
                <a:cubicBezTo>
                  <a:pt x="441" y="5"/>
                  <a:pt x="516" y="12"/>
                  <a:pt x="601" y="24"/>
                </a:cubicBezTo>
                <a:cubicBezTo>
                  <a:pt x="636" y="36"/>
                  <a:pt x="633" y="27"/>
                  <a:pt x="633" y="80"/>
                </a:cubicBezTo>
                <a:cubicBezTo>
                  <a:pt x="633" y="213"/>
                  <a:pt x="629" y="347"/>
                  <a:pt x="625" y="480"/>
                </a:cubicBezTo>
                <a:cubicBezTo>
                  <a:pt x="621" y="615"/>
                  <a:pt x="650" y="701"/>
                  <a:pt x="521" y="744"/>
                </a:cubicBezTo>
                <a:cubicBezTo>
                  <a:pt x="503" y="758"/>
                  <a:pt x="480" y="767"/>
                  <a:pt x="465" y="784"/>
                </a:cubicBezTo>
                <a:cubicBezTo>
                  <a:pt x="452" y="798"/>
                  <a:pt x="433" y="832"/>
                  <a:pt x="433" y="832"/>
                </a:cubicBezTo>
                <a:cubicBezTo>
                  <a:pt x="436" y="859"/>
                  <a:pt x="431" y="887"/>
                  <a:pt x="441" y="912"/>
                </a:cubicBezTo>
                <a:cubicBezTo>
                  <a:pt x="446" y="923"/>
                  <a:pt x="463" y="921"/>
                  <a:pt x="473" y="928"/>
                </a:cubicBezTo>
                <a:cubicBezTo>
                  <a:pt x="544" y="975"/>
                  <a:pt x="612" y="1012"/>
                  <a:pt x="697" y="1024"/>
                </a:cubicBezTo>
                <a:cubicBezTo>
                  <a:pt x="712" y="1034"/>
                  <a:pt x="732" y="1035"/>
                  <a:pt x="745" y="1048"/>
                </a:cubicBezTo>
                <a:cubicBezTo>
                  <a:pt x="776" y="1079"/>
                  <a:pt x="786" y="1121"/>
                  <a:pt x="817" y="1152"/>
                </a:cubicBezTo>
                <a:cubicBezTo>
                  <a:pt x="814" y="1227"/>
                  <a:pt x="813" y="1301"/>
                  <a:pt x="809" y="1376"/>
                </a:cubicBezTo>
                <a:cubicBezTo>
                  <a:pt x="806" y="1437"/>
                  <a:pt x="803" y="1435"/>
                  <a:pt x="785" y="1488"/>
                </a:cubicBezTo>
                <a:cubicBezTo>
                  <a:pt x="777" y="1513"/>
                  <a:pt x="647" y="1533"/>
                  <a:pt x="625" y="1536"/>
                </a:cubicBezTo>
                <a:cubicBezTo>
                  <a:pt x="604" y="1539"/>
                  <a:pt x="582" y="1541"/>
                  <a:pt x="561" y="1544"/>
                </a:cubicBezTo>
                <a:cubicBezTo>
                  <a:pt x="558" y="1555"/>
                  <a:pt x="554" y="1565"/>
                  <a:pt x="553" y="1576"/>
                </a:cubicBezTo>
                <a:cubicBezTo>
                  <a:pt x="548" y="1648"/>
                  <a:pt x="555" y="1721"/>
                  <a:pt x="545" y="1792"/>
                </a:cubicBezTo>
                <a:cubicBezTo>
                  <a:pt x="543" y="1809"/>
                  <a:pt x="484" y="1816"/>
                  <a:pt x="481" y="1816"/>
                </a:cubicBezTo>
                <a:cubicBezTo>
                  <a:pt x="417" y="1820"/>
                  <a:pt x="353" y="1821"/>
                  <a:pt x="289" y="1824"/>
                </a:cubicBezTo>
                <a:cubicBezTo>
                  <a:pt x="210" y="1850"/>
                  <a:pt x="262" y="1850"/>
                  <a:pt x="129" y="1840"/>
                </a:cubicBezTo>
                <a:cubicBezTo>
                  <a:pt x="118" y="1824"/>
                  <a:pt x="108" y="1808"/>
                  <a:pt x="97" y="1792"/>
                </a:cubicBezTo>
                <a:cubicBezTo>
                  <a:pt x="81" y="1768"/>
                  <a:pt x="82" y="1737"/>
                  <a:pt x="65" y="1712"/>
                </a:cubicBezTo>
                <a:cubicBezTo>
                  <a:pt x="65" y="1712"/>
                  <a:pt x="53" y="1660"/>
                  <a:pt x="49" y="1656"/>
                </a:cubicBezTo>
                <a:cubicBezTo>
                  <a:pt x="43" y="1650"/>
                  <a:pt x="33" y="1652"/>
                  <a:pt x="25" y="1648"/>
                </a:cubicBezTo>
                <a:cubicBezTo>
                  <a:pt x="16" y="1644"/>
                  <a:pt x="9" y="1637"/>
                  <a:pt x="1" y="1632"/>
                </a:cubicBezTo>
                <a:cubicBezTo>
                  <a:pt x="4" y="1605"/>
                  <a:pt x="0" y="1577"/>
                  <a:pt x="9" y="1552"/>
                </a:cubicBezTo>
                <a:cubicBezTo>
                  <a:pt x="12" y="1544"/>
                  <a:pt x="25" y="1547"/>
                  <a:pt x="33" y="1544"/>
                </a:cubicBezTo>
                <a:cubicBezTo>
                  <a:pt x="49" y="1537"/>
                  <a:pt x="64" y="1526"/>
                  <a:pt x="81" y="1520"/>
                </a:cubicBezTo>
                <a:cubicBezTo>
                  <a:pt x="102" y="1513"/>
                  <a:pt x="145" y="1526"/>
                  <a:pt x="145" y="1504"/>
                </a:cubicBezTo>
                <a:cubicBezTo>
                  <a:pt x="145" y="1477"/>
                  <a:pt x="145" y="1451"/>
                  <a:pt x="145" y="1424"/>
                </a:cubicBezTo>
              </a:path>
            </a:pathLst>
          </a:custGeom>
          <a:noFill/>
          <a:ln w="50760">
            <a:solidFill>
              <a:srgbClr val="00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4067280" y="2708280"/>
            <a:ext cx="936360" cy="936360"/>
            <a:chOff x="4067280" y="2708280"/>
            <a:chExt cx="936360" cy="936360"/>
          </a:xfrm>
        </p:grpSpPr>
        <p:grpSp>
          <p:nvGrpSpPr>
            <p:cNvPr id="166" name=""/>
            <p:cNvGrpSpPr/>
            <p:nvPr/>
          </p:nvGrpSpPr>
          <p:grpSpPr>
            <a:xfrm>
              <a:off x="4067280" y="2924280"/>
              <a:ext cx="360360" cy="288720"/>
              <a:chOff x="4067280" y="2924280"/>
              <a:chExt cx="360360" cy="288720"/>
            </a:xfrm>
          </p:grpSpPr>
          <p:sp>
            <p:nvSpPr>
              <p:cNvPr id="167" name=""/>
              <p:cNvSpPr/>
              <p:nvPr/>
            </p:nvSpPr>
            <p:spPr>
              <a:xfrm>
                <a:off x="4067280" y="2924280"/>
                <a:ext cx="71280" cy="712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4140360" y="3068640"/>
                <a:ext cx="71280" cy="712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4356000" y="3141720"/>
                <a:ext cx="71640" cy="712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4284720" y="2924280"/>
                <a:ext cx="71280" cy="712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1" name=""/>
            <p:cNvGrpSpPr/>
            <p:nvPr/>
          </p:nvGrpSpPr>
          <p:grpSpPr>
            <a:xfrm>
              <a:off x="4282920" y="3139920"/>
              <a:ext cx="360360" cy="288720"/>
              <a:chOff x="4282920" y="3139920"/>
              <a:chExt cx="360360" cy="288720"/>
            </a:xfrm>
          </p:grpSpPr>
          <p:sp>
            <p:nvSpPr>
              <p:cNvPr id="172" name=""/>
              <p:cNvSpPr/>
              <p:nvPr/>
            </p:nvSpPr>
            <p:spPr>
              <a:xfrm>
                <a:off x="4282920" y="3139920"/>
                <a:ext cx="71280" cy="712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4356000" y="3284280"/>
                <a:ext cx="71280" cy="712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4571640" y="3357360"/>
                <a:ext cx="71640" cy="712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4500360" y="3139920"/>
                <a:ext cx="71280" cy="712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" name=""/>
            <p:cNvGrpSpPr/>
            <p:nvPr/>
          </p:nvGrpSpPr>
          <p:grpSpPr>
            <a:xfrm>
              <a:off x="4498920" y="3355920"/>
              <a:ext cx="360360" cy="288720"/>
              <a:chOff x="4498920" y="3355920"/>
              <a:chExt cx="360360" cy="288720"/>
            </a:xfrm>
          </p:grpSpPr>
          <p:sp>
            <p:nvSpPr>
              <p:cNvPr id="177" name=""/>
              <p:cNvSpPr/>
              <p:nvPr/>
            </p:nvSpPr>
            <p:spPr>
              <a:xfrm>
                <a:off x="4498920" y="3355920"/>
                <a:ext cx="71280" cy="712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4572000" y="3500280"/>
                <a:ext cx="71280" cy="712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4787640" y="3573360"/>
                <a:ext cx="71640" cy="712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4716360" y="3355920"/>
                <a:ext cx="71280" cy="712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1" name=""/>
            <p:cNvGrpSpPr/>
            <p:nvPr/>
          </p:nvGrpSpPr>
          <p:grpSpPr>
            <a:xfrm>
              <a:off x="4500720" y="2852640"/>
              <a:ext cx="360360" cy="288720"/>
              <a:chOff x="4500720" y="2852640"/>
              <a:chExt cx="360360" cy="288720"/>
            </a:xfrm>
          </p:grpSpPr>
          <p:sp>
            <p:nvSpPr>
              <p:cNvPr id="182" name=""/>
              <p:cNvSpPr/>
              <p:nvPr/>
            </p:nvSpPr>
            <p:spPr>
              <a:xfrm>
                <a:off x="4500720" y="2852640"/>
                <a:ext cx="71280" cy="712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4573800" y="2997000"/>
                <a:ext cx="71280" cy="712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4789440" y="3070080"/>
                <a:ext cx="71640" cy="712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4718160" y="2852640"/>
                <a:ext cx="71280" cy="712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6" name=""/>
            <p:cNvGrpSpPr/>
            <p:nvPr/>
          </p:nvGrpSpPr>
          <p:grpSpPr>
            <a:xfrm>
              <a:off x="4282920" y="3139920"/>
              <a:ext cx="360360" cy="288720"/>
              <a:chOff x="4282920" y="3139920"/>
              <a:chExt cx="360360" cy="288720"/>
            </a:xfrm>
          </p:grpSpPr>
          <p:sp>
            <p:nvSpPr>
              <p:cNvPr id="187" name=""/>
              <p:cNvSpPr/>
              <p:nvPr/>
            </p:nvSpPr>
            <p:spPr>
              <a:xfrm>
                <a:off x="4282920" y="3139920"/>
                <a:ext cx="71280" cy="712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4356000" y="3284280"/>
                <a:ext cx="71280" cy="712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4571640" y="3357360"/>
                <a:ext cx="71640" cy="712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4500360" y="3139920"/>
                <a:ext cx="71280" cy="712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1" name=""/>
            <p:cNvGrpSpPr/>
            <p:nvPr/>
          </p:nvGrpSpPr>
          <p:grpSpPr>
            <a:xfrm>
              <a:off x="4498920" y="3355920"/>
              <a:ext cx="360360" cy="288720"/>
              <a:chOff x="4498920" y="3355920"/>
              <a:chExt cx="360360" cy="288720"/>
            </a:xfrm>
          </p:grpSpPr>
          <p:sp>
            <p:nvSpPr>
              <p:cNvPr id="192" name=""/>
              <p:cNvSpPr/>
              <p:nvPr/>
            </p:nvSpPr>
            <p:spPr>
              <a:xfrm>
                <a:off x="4498920" y="3355920"/>
                <a:ext cx="71280" cy="712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4572000" y="3500280"/>
                <a:ext cx="71280" cy="712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4787640" y="3573360"/>
                <a:ext cx="71640" cy="712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4716360" y="3355920"/>
                <a:ext cx="71280" cy="712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6" name=""/>
            <p:cNvGrpSpPr/>
            <p:nvPr/>
          </p:nvGrpSpPr>
          <p:grpSpPr>
            <a:xfrm>
              <a:off x="4643280" y="3141720"/>
              <a:ext cx="360360" cy="288720"/>
              <a:chOff x="4643280" y="3141720"/>
              <a:chExt cx="360360" cy="288720"/>
            </a:xfrm>
          </p:grpSpPr>
          <p:sp>
            <p:nvSpPr>
              <p:cNvPr id="197" name=""/>
              <p:cNvSpPr/>
              <p:nvPr/>
            </p:nvSpPr>
            <p:spPr>
              <a:xfrm>
                <a:off x="4643280" y="3141720"/>
                <a:ext cx="71280" cy="712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4716360" y="3286080"/>
                <a:ext cx="71280" cy="712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4932000" y="3359160"/>
                <a:ext cx="71640" cy="712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4860720" y="3141720"/>
                <a:ext cx="71280" cy="712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1" name=""/>
            <p:cNvGrpSpPr/>
            <p:nvPr/>
          </p:nvGrpSpPr>
          <p:grpSpPr>
            <a:xfrm>
              <a:off x="4067280" y="2708280"/>
              <a:ext cx="360360" cy="288720"/>
              <a:chOff x="4067280" y="2708280"/>
              <a:chExt cx="360360" cy="288720"/>
            </a:xfrm>
          </p:grpSpPr>
          <p:sp>
            <p:nvSpPr>
              <p:cNvPr id="202" name=""/>
              <p:cNvSpPr/>
              <p:nvPr/>
            </p:nvSpPr>
            <p:spPr>
              <a:xfrm>
                <a:off x="4067280" y="2708280"/>
                <a:ext cx="71280" cy="712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140360" y="2852640"/>
                <a:ext cx="71280" cy="712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4356000" y="2925720"/>
                <a:ext cx="71640" cy="712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4284720" y="2708280"/>
                <a:ext cx="71280" cy="712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06" name=""/>
          <p:cNvGrpSpPr/>
          <p:nvPr/>
        </p:nvGrpSpPr>
        <p:grpSpPr>
          <a:xfrm>
            <a:off x="4282920" y="2924280"/>
            <a:ext cx="936360" cy="936000"/>
            <a:chOff x="4282920" y="2924280"/>
            <a:chExt cx="936360" cy="936000"/>
          </a:xfrm>
        </p:grpSpPr>
        <p:grpSp>
          <p:nvGrpSpPr>
            <p:cNvPr id="207" name=""/>
            <p:cNvGrpSpPr/>
            <p:nvPr/>
          </p:nvGrpSpPr>
          <p:grpSpPr>
            <a:xfrm>
              <a:off x="4282920" y="3139920"/>
              <a:ext cx="360360" cy="288000"/>
              <a:chOff x="4282920" y="3139920"/>
              <a:chExt cx="360360" cy="288000"/>
            </a:xfrm>
          </p:grpSpPr>
          <p:sp>
            <p:nvSpPr>
              <p:cNvPr id="208" name=""/>
              <p:cNvSpPr/>
              <p:nvPr/>
            </p:nvSpPr>
            <p:spPr>
              <a:xfrm>
                <a:off x="4282920" y="3139920"/>
                <a:ext cx="71280" cy="7092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4356000" y="3283920"/>
                <a:ext cx="71280" cy="7092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571640" y="3357000"/>
                <a:ext cx="71640" cy="7092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4500360" y="3139920"/>
                <a:ext cx="71280" cy="7092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2" name=""/>
            <p:cNvGrpSpPr/>
            <p:nvPr/>
          </p:nvGrpSpPr>
          <p:grpSpPr>
            <a:xfrm>
              <a:off x="4498560" y="3355560"/>
              <a:ext cx="360360" cy="288720"/>
              <a:chOff x="4498560" y="3355560"/>
              <a:chExt cx="360360" cy="288720"/>
            </a:xfrm>
          </p:grpSpPr>
          <p:sp>
            <p:nvSpPr>
              <p:cNvPr id="213" name=""/>
              <p:cNvSpPr/>
              <p:nvPr/>
            </p:nvSpPr>
            <p:spPr>
              <a:xfrm>
                <a:off x="4498560" y="3355560"/>
                <a:ext cx="71280" cy="712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4571640" y="3499920"/>
                <a:ext cx="71280" cy="712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4787280" y="3573000"/>
                <a:ext cx="71640" cy="712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4716000" y="3355560"/>
                <a:ext cx="71280" cy="712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7" name=""/>
            <p:cNvGrpSpPr/>
            <p:nvPr/>
          </p:nvGrpSpPr>
          <p:grpSpPr>
            <a:xfrm>
              <a:off x="4714560" y="3571560"/>
              <a:ext cx="360360" cy="288720"/>
              <a:chOff x="4714560" y="3571560"/>
              <a:chExt cx="360360" cy="288720"/>
            </a:xfrm>
          </p:grpSpPr>
          <p:sp>
            <p:nvSpPr>
              <p:cNvPr id="218" name=""/>
              <p:cNvSpPr/>
              <p:nvPr/>
            </p:nvSpPr>
            <p:spPr>
              <a:xfrm>
                <a:off x="4714560" y="3571560"/>
                <a:ext cx="71280" cy="712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4787640" y="3715920"/>
                <a:ext cx="71280" cy="712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5003280" y="3789000"/>
                <a:ext cx="71640" cy="712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932000" y="3571560"/>
                <a:ext cx="71280" cy="712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2" name=""/>
            <p:cNvGrpSpPr/>
            <p:nvPr/>
          </p:nvGrpSpPr>
          <p:grpSpPr>
            <a:xfrm>
              <a:off x="4716360" y="3068280"/>
              <a:ext cx="360360" cy="288720"/>
              <a:chOff x="4716360" y="3068280"/>
              <a:chExt cx="360360" cy="288720"/>
            </a:xfrm>
          </p:grpSpPr>
          <p:sp>
            <p:nvSpPr>
              <p:cNvPr id="223" name=""/>
              <p:cNvSpPr/>
              <p:nvPr/>
            </p:nvSpPr>
            <p:spPr>
              <a:xfrm>
                <a:off x="4716360" y="3068280"/>
                <a:ext cx="71280" cy="712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4789440" y="3212640"/>
                <a:ext cx="71280" cy="712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5005080" y="3285720"/>
                <a:ext cx="71640" cy="712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4933800" y="3068280"/>
                <a:ext cx="71280" cy="712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7" name=""/>
            <p:cNvGrpSpPr/>
            <p:nvPr/>
          </p:nvGrpSpPr>
          <p:grpSpPr>
            <a:xfrm>
              <a:off x="4498560" y="3355560"/>
              <a:ext cx="360360" cy="288720"/>
              <a:chOff x="4498560" y="3355560"/>
              <a:chExt cx="360360" cy="288720"/>
            </a:xfrm>
          </p:grpSpPr>
          <p:sp>
            <p:nvSpPr>
              <p:cNvPr id="228" name=""/>
              <p:cNvSpPr/>
              <p:nvPr/>
            </p:nvSpPr>
            <p:spPr>
              <a:xfrm>
                <a:off x="4498560" y="3355560"/>
                <a:ext cx="71280" cy="712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4571640" y="3499920"/>
                <a:ext cx="71280" cy="712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4787280" y="3573000"/>
                <a:ext cx="71640" cy="712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4716000" y="3355560"/>
                <a:ext cx="71280" cy="712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2" name=""/>
            <p:cNvGrpSpPr/>
            <p:nvPr/>
          </p:nvGrpSpPr>
          <p:grpSpPr>
            <a:xfrm>
              <a:off x="4714560" y="3571560"/>
              <a:ext cx="360360" cy="288720"/>
              <a:chOff x="4714560" y="3571560"/>
              <a:chExt cx="360360" cy="288720"/>
            </a:xfrm>
          </p:grpSpPr>
          <p:sp>
            <p:nvSpPr>
              <p:cNvPr id="233" name=""/>
              <p:cNvSpPr/>
              <p:nvPr/>
            </p:nvSpPr>
            <p:spPr>
              <a:xfrm>
                <a:off x="4714560" y="3571560"/>
                <a:ext cx="71280" cy="712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4787640" y="3715920"/>
                <a:ext cx="71280" cy="712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5003280" y="3789000"/>
                <a:ext cx="71640" cy="712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4932000" y="3571560"/>
                <a:ext cx="71280" cy="712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7" name=""/>
            <p:cNvGrpSpPr/>
            <p:nvPr/>
          </p:nvGrpSpPr>
          <p:grpSpPr>
            <a:xfrm>
              <a:off x="4858920" y="3357360"/>
              <a:ext cx="360360" cy="288000"/>
              <a:chOff x="4858920" y="3357360"/>
              <a:chExt cx="360360" cy="288000"/>
            </a:xfrm>
          </p:grpSpPr>
          <p:sp>
            <p:nvSpPr>
              <p:cNvPr id="238" name=""/>
              <p:cNvSpPr/>
              <p:nvPr/>
            </p:nvSpPr>
            <p:spPr>
              <a:xfrm>
                <a:off x="4858920" y="3357360"/>
                <a:ext cx="71280" cy="7092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4932000" y="3501360"/>
                <a:ext cx="71280" cy="7092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5147640" y="3574440"/>
                <a:ext cx="71640" cy="7092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5076360" y="3357360"/>
                <a:ext cx="71280" cy="7092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2" name=""/>
            <p:cNvGrpSpPr/>
            <p:nvPr/>
          </p:nvGrpSpPr>
          <p:grpSpPr>
            <a:xfrm>
              <a:off x="4282920" y="2924280"/>
              <a:ext cx="360360" cy="288720"/>
              <a:chOff x="4282920" y="2924280"/>
              <a:chExt cx="360360" cy="288720"/>
            </a:xfrm>
          </p:grpSpPr>
          <p:sp>
            <p:nvSpPr>
              <p:cNvPr id="243" name=""/>
              <p:cNvSpPr/>
              <p:nvPr/>
            </p:nvSpPr>
            <p:spPr>
              <a:xfrm>
                <a:off x="4282920" y="2924280"/>
                <a:ext cx="71280" cy="712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4356000" y="3068640"/>
                <a:ext cx="71280" cy="712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4571640" y="3141720"/>
                <a:ext cx="71640" cy="712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4500360" y="2924280"/>
                <a:ext cx="71280" cy="712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47" name=""/>
          <p:cNvGrpSpPr/>
          <p:nvPr/>
        </p:nvGrpSpPr>
        <p:grpSpPr>
          <a:xfrm>
            <a:off x="4067280" y="2205000"/>
            <a:ext cx="936360" cy="936360"/>
            <a:chOff x="4067280" y="2205000"/>
            <a:chExt cx="936360" cy="936360"/>
          </a:xfrm>
        </p:grpSpPr>
        <p:grpSp>
          <p:nvGrpSpPr>
            <p:cNvPr id="248" name=""/>
            <p:cNvGrpSpPr/>
            <p:nvPr/>
          </p:nvGrpSpPr>
          <p:grpSpPr>
            <a:xfrm>
              <a:off x="4067280" y="2421000"/>
              <a:ext cx="360360" cy="288720"/>
              <a:chOff x="4067280" y="2421000"/>
              <a:chExt cx="360360" cy="288720"/>
            </a:xfrm>
          </p:grpSpPr>
          <p:sp>
            <p:nvSpPr>
              <p:cNvPr id="249" name=""/>
              <p:cNvSpPr/>
              <p:nvPr/>
            </p:nvSpPr>
            <p:spPr>
              <a:xfrm>
                <a:off x="4067280" y="2421000"/>
                <a:ext cx="71280" cy="712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4140360" y="2565360"/>
                <a:ext cx="71280" cy="712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4356000" y="2638440"/>
                <a:ext cx="71640" cy="712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4284720" y="2421000"/>
                <a:ext cx="71280" cy="712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3" name=""/>
            <p:cNvGrpSpPr/>
            <p:nvPr/>
          </p:nvGrpSpPr>
          <p:grpSpPr>
            <a:xfrm>
              <a:off x="4282920" y="2636640"/>
              <a:ext cx="360360" cy="288720"/>
              <a:chOff x="4282920" y="2636640"/>
              <a:chExt cx="360360" cy="288720"/>
            </a:xfrm>
          </p:grpSpPr>
          <p:sp>
            <p:nvSpPr>
              <p:cNvPr id="254" name=""/>
              <p:cNvSpPr/>
              <p:nvPr/>
            </p:nvSpPr>
            <p:spPr>
              <a:xfrm>
                <a:off x="4282920" y="2636640"/>
                <a:ext cx="71280" cy="712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4356000" y="2781000"/>
                <a:ext cx="71280" cy="712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4571640" y="2854080"/>
                <a:ext cx="71640" cy="712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4500360" y="2636640"/>
                <a:ext cx="71280" cy="712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8" name=""/>
            <p:cNvGrpSpPr/>
            <p:nvPr/>
          </p:nvGrpSpPr>
          <p:grpSpPr>
            <a:xfrm>
              <a:off x="4498920" y="2852640"/>
              <a:ext cx="360360" cy="288720"/>
              <a:chOff x="4498920" y="2852640"/>
              <a:chExt cx="360360" cy="288720"/>
            </a:xfrm>
          </p:grpSpPr>
          <p:sp>
            <p:nvSpPr>
              <p:cNvPr id="259" name=""/>
              <p:cNvSpPr/>
              <p:nvPr/>
            </p:nvSpPr>
            <p:spPr>
              <a:xfrm>
                <a:off x="4498920" y="2852640"/>
                <a:ext cx="71280" cy="712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4572000" y="2997000"/>
                <a:ext cx="71280" cy="712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4787640" y="3070080"/>
                <a:ext cx="71640" cy="712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4716360" y="2852640"/>
                <a:ext cx="71280" cy="712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3" name=""/>
            <p:cNvGrpSpPr/>
            <p:nvPr/>
          </p:nvGrpSpPr>
          <p:grpSpPr>
            <a:xfrm>
              <a:off x="4500720" y="2349360"/>
              <a:ext cx="360360" cy="288720"/>
              <a:chOff x="4500720" y="2349360"/>
              <a:chExt cx="360360" cy="288720"/>
            </a:xfrm>
          </p:grpSpPr>
          <p:sp>
            <p:nvSpPr>
              <p:cNvPr id="264" name=""/>
              <p:cNvSpPr/>
              <p:nvPr/>
            </p:nvSpPr>
            <p:spPr>
              <a:xfrm>
                <a:off x="4500720" y="2349360"/>
                <a:ext cx="71280" cy="712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4573800" y="2493720"/>
                <a:ext cx="71280" cy="712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4789440" y="2566800"/>
                <a:ext cx="71640" cy="712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4718160" y="2349360"/>
                <a:ext cx="71280" cy="712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8" name=""/>
            <p:cNvGrpSpPr/>
            <p:nvPr/>
          </p:nvGrpSpPr>
          <p:grpSpPr>
            <a:xfrm>
              <a:off x="4282920" y="2636640"/>
              <a:ext cx="360360" cy="288720"/>
              <a:chOff x="4282920" y="2636640"/>
              <a:chExt cx="360360" cy="288720"/>
            </a:xfrm>
          </p:grpSpPr>
          <p:sp>
            <p:nvSpPr>
              <p:cNvPr id="269" name=""/>
              <p:cNvSpPr/>
              <p:nvPr/>
            </p:nvSpPr>
            <p:spPr>
              <a:xfrm>
                <a:off x="4282920" y="2636640"/>
                <a:ext cx="71280" cy="712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4356000" y="2781000"/>
                <a:ext cx="71280" cy="712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4571640" y="2854080"/>
                <a:ext cx="71640" cy="712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4500360" y="2636640"/>
                <a:ext cx="71280" cy="712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3" name=""/>
            <p:cNvGrpSpPr/>
            <p:nvPr/>
          </p:nvGrpSpPr>
          <p:grpSpPr>
            <a:xfrm>
              <a:off x="4498920" y="2852640"/>
              <a:ext cx="360360" cy="288720"/>
              <a:chOff x="4498920" y="2852640"/>
              <a:chExt cx="360360" cy="288720"/>
            </a:xfrm>
          </p:grpSpPr>
          <p:sp>
            <p:nvSpPr>
              <p:cNvPr id="274" name=""/>
              <p:cNvSpPr/>
              <p:nvPr/>
            </p:nvSpPr>
            <p:spPr>
              <a:xfrm>
                <a:off x="4498920" y="2852640"/>
                <a:ext cx="71280" cy="712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4572000" y="2997000"/>
                <a:ext cx="71280" cy="712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4787640" y="3070080"/>
                <a:ext cx="71640" cy="712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4716360" y="2852640"/>
                <a:ext cx="71280" cy="712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8" name=""/>
            <p:cNvGrpSpPr/>
            <p:nvPr/>
          </p:nvGrpSpPr>
          <p:grpSpPr>
            <a:xfrm>
              <a:off x="4643280" y="2638440"/>
              <a:ext cx="360360" cy="288720"/>
              <a:chOff x="4643280" y="2638440"/>
              <a:chExt cx="360360" cy="288720"/>
            </a:xfrm>
          </p:grpSpPr>
          <p:sp>
            <p:nvSpPr>
              <p:cNvPr id="279" name=""/>
              <p:cNvSpPr/>
              <p:nvPr/>
            </p:nvSpPr>
            <p:spPr>
              <a:xfrm>
                <a:off x="4643280" y="2638440"/>
                <a:ext cx="71280" cy="712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4716360" y="2782800"/>
                <a:ext cx="71280" cy="712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4932000" y="2855880"/>
                <a:ext cx="71640" cy="712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4860720" y="2638440"/>
                <a:ext cx="71280" cy="712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3" name=""/>
            <p:cNvGrpSpPr/>
            <p:nvPr/>
          </p:nvGrpSpPr>
          <p:grpSpPr>
            <a:xfrm>
              <a:off x="4067280" y="2205000"/>
              <a:ext cx="360360" cy="288720"/>
              <a:chOff x="4067280" y="2205000"/>
              <a:chExt cx="360360" cy="288720"/>
            </a:xfrm>
          </p:grpSpPr>
          <p:sp>
            <p:nvSpPr>
              <p:cNvPr id="284" name=""/>
              <p:cNvSpPr/>
              <p:nvPr/>
            </p:nvSpPr>
            <p:spPr>
              <a:xfrm>
                <a:off x="4067280" y="2205000"/>
                <a:ext cx="71280" cy="712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4140360" y="2349360"/>
                <a:ext cx="71280" cy="712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4356000" y="2422440"/>
                <a:ext cx="71640" cy="712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4284720" y="2205000"/>
                <a:ext cx="71280" cy="712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88" name=""/>
          <p:cNvGrpSpPr/>
          <p:nvPr/>
        </p:nvGrpSpPr>
        <p:grpSpPr>
          <a:xfrm>
            <a:off x="3708360" y="2565360"/>
            <a:ext cx="936360" cy="936360"/>
            <a:chOff x="3708360" y="2565360"/>
            <a:chExt cx="936360" cy="936360"/>
          </a:xfrm>
        </p:grpSpPr>
        <p:grpSp>
          <p:nvGrpSpPr>
            <p:cNvPr id="289" name=""/>
            <p:cNvGrpSpPr/>
            <p:nvPr/>
          </p:nvGrpSpPr>
          <p:grpSpPr>
            <a:xfrm>
              <a:off x="3708360" y="2781360"/>
              <a:ext cx="360360" cy="288720"/>
              <a:chOff x="3708360" y="2781360"/>
              <a:chExt cx="360360" cy="288720"/>
            </a:xfrm>
          </p:grpSpPr>
          <p:sp>
            <p:nvSpPr>
              <p:cNvPr id="290" name=""/>
              <p:cNvSpPr/>
              <p:nvPr/>
            </p:nvSpPr>
            <p:spPr>
              <a:xfrm>
                <a:off x="3708360" y="2781360"/>
                <a:ext cx="71280" cy="712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3781440" y="2925720"/>
                <a:ext cx="71280" cy="712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3997080" y="2998800"/>
                <a:ext cx="71640" cy="712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3925800" y="2781360"/>
                <a:ext cx="71280" cy="712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4" name=""/>
            <p:cNvGrpSpPr/>
            <p:nvPr/>
          </p:nvGrpSpPr>
          <p:grpSpPr>
            <a:xfrm>
              <a:off x="3924000" y="2997000"/>
              <a:ext cx="360360" cy="288720"/>
              <a:chOff x="3924000" y="2997000"/>
              <a:chExt cx="360360" cy="288720"/>
            </a:xfrm>
          </p:grpSpPr>
          <p:sp>
            <p:nvSpPr>
              <p:cNvPr id="295" name=""/>
              <p:cNvSpPr/>
              <p:nvPr/>
            </p:nvSpPr>
            <p:spPr>
              <a:xfrm>
                <a:off x="3924000" y="2997000"/>
                <a:ext cx="71280" cy="712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3997080" y="3141360"/>
                <a:ext cx="71280" cy="712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4212720" y="3214440"/>
                <a:ext cx="71640" cy="712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141440" y="2997000"/>
                <a:ext cx="71280" cy="712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9" name=""/>
            <p:cNvGrpSpPr/>
            <p:nvPr/>
          </p:nvGrpSpPr>
          <p:grpSpPr>
            <a:xfrm>
              <a:off x="4140000" y="3213000"/>
              <a:ext cx="360360" cy="288720"/>
              <a:chOff x="4140000" y="3213000"/>
              <a:chExt cx="360360" cy="288720"/>
            </a:xfrm>
          </p:grpSpPr>
          <p:sp>
            <p:nvSpPr>
              <p:cNvPr id="300" name=""/>
              <p:cNvSpPr/>
              <p:nvPr/>
            </p:nvSpPr>
            <p:spPr>
              <a:xfrm>
                <a:off x="4140000" y="3213000"/>
                <a:ext cx="71280" cy="712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4213080" y="3357360"/>
                <a:ext cx="71280" cy="712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4428720" y="3430440"/>
                <a:ext cx="71640" cy="712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4357440" y="3213000"/>
                <a:ext cx="71280" cy="712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4141800" y="2709720"/>
              <a:ext cx="360360" cy="288720"/>
              <a:chOff x="4141800" y="2709720"/>
              <a:chExt cx="360360" cy="288720"/>
            </a:xfrm>
          </p:grpSpPr>
          <p:sp>
            <p:nvSpPr>
              <p:cNvPr id="305" name=""/>
              <p:cNvSpPr/>
              <p:nvPr/>
            </p:nvSpPr>
            <p:spPr>
              <a:xfrm>
                <a:off x="4141800" y="2709720"/>
                <a:ext cx="71280" cy="712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4214880" y="2854080"/>
                <a:ext cx="71280" cy="712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4430520" y="2927160"/>
                <a:ext cx="71640" cy="712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4359240" y="2709720"/>
                <a:ext cx="71280" cy="712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9" name=""/>
            <p:cNvGrpSpPr/>
            <p:nvPr/>
          </p:nvGrpSpPr>
          <p:grpSpPr>
            <a:xfrm>
              <a:off x="3924000" y="2997000"/>
              <a:ext cx="360360" cy="288720"/>
              <a:chOff x="3924000" y="2997000"/>
              <a:chExt cx="360360" cy="288720"/>
            </a:xfrm>
          </p:grpSpPr>
          <p:sp>
            <p:nvSpPr>
              <p:cNvPr id="310" name=""/>
              <p:cNvSpPr/>
              <p:nvPr/>
            </p:nvSpPr>
            <p:spPr>
              <a:xfrm>
                <a:off x="3924000" y="2997000"/>
                <a:ext cx="71280" cy="712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997080" y="3141360"/>
                <a:ext cx="71280" cy="712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4212720" y="3214440"/>
                <a:ext cx="71640" cy="712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141440" y="2997000"/>
                <a:ext cx="71280" cy="712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4" name=""/>
            <p:cNvGrpSpPr/>
            <p:nvPr/>
          </p:nvGrpSpPr>
          <p:grpSpPr>
            <a:xfrm>
              <a:off x="4140000" y="3213000"/>
              <a:ext cx="360360" cy="288720"/>
              <a:chOff x="4140000" y="3213000"/>
              <a:chExt cx="360360" cy="288720"/>
            </a:xfrm>
          </p:grpSpPr>
          <p:sp>
            <p:nvSpPr>
              <p:cNvPr id="315" name=""/>
              <p:cNvSpPr/>
              <p:nvPr/>
            </p:nvSpPr>
            <p:spPr>
              <a:xfrm>
                <a:off x="4140000" y="3213000"/>
                <a:ext cx="71280" cy="712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4213080" y="3357360"/>
                <a:ext cx="71280" cy="712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4428720" y="3430440"/>
                <a:ext cx="71640" cy="712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4357440" y="3213000"/>
                <a:ext cx="71280" cy="712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9" name=""/>
            <p:cNvGrpSpPr/>
            <p:nvPr/>
          </p:nvGrpSpPr>
          <p:grpSpPr>
            <a:xfrm>
              <a:off x="4284360" y="2998800"/>
              <a:ext cx="360360" cy="288720"/>
              <a:chOff x="4284360" y="2998800"/>
              <a:chExt cx="360360" cy="288720"/>
            </a:xfrm>
          </p:grpSpPr>
          <p:sp>
            <p:nvSpPr>
              <p:cNvPr id="320" name=""/>
              <p:cNvSpPr/>
              <p:nvPr/>
            </p:nvSpPr>
            <p:spPr>
              <a:xfrm>
                <a:off x="4284360" y="2998800"/>
                <a:ext cx="71280" cy="712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4357440" y="3143160"/>
                <a:ext cx="71280" cy="712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4573080" y="3216240"/>
                <a:ext cx="71640" cy="712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4501800" y="2998800"/>
                <a:ext cx="71280" cy="712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3708360" y="2565360"/>
              <a:ext cx="360360" cy="288720"/>
              <a:chOff x="3708360" y="2565360"/>
              <a:chExt cx="360360" cy="288720"/>
            </a:xfrm>
          </p:grpSpPr>
          <p:sp>
            <p:nvSpPr>
              <p:cNvPr id="325" name=""/>
              <p:cNvSpPr/>
              <p:nvPr/>
            </p:nvSpPr>
            <p:spPr>
              <a:xfrm>
                <a:off x="3708360" y="2565360"/>
                <a:ext cx="71280" cy="712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3781440" y="2709720"/>
                <a:ext cx="71280" cy="712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3997080" y="2782800"/>
                <a:ext cx="71640" cy="712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3925800" y="2565360"/>
                <a:ext cx="71280" cy="712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29" name=""/>
          <p:cNvSpPr/>
          <p:nvPr/>
        </p:nvSpPr>
        <p:spPr>
          <a:xfrm rot="17961000">
            <a:off x="3743280" y="3465360"/>
            <a:ext cx="504720" cy="289080"/>
          </a:xfrm>
          <a:prstGeom prst="rightArrow">
            <a:avLst>
              <a:gd name="adj1" fmla="val 50000"/>
              <a:gd name="adj2" fmla="val 4364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6084720" y="2349360"/>
            <a:ext cx="18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Proteína recombina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755640" y="623736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Cromosoma bacteria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V="1">
            <a:off x="900000" y="5734080"/>
            <a:ext cx="71640" cy="503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 flipH="1">
            <a:off x="5219280" y="2637000"/>
            <a:ext cx="865080" cy="360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800" spc="-1" strike="noStrike">
                <a:solidFill>
                  <a:srgbClr val="000000"/>
                </a:solidFill>
                <a:latin typeface="Arial"/>
              </a:rPr>
              <a:t>Ingeniería de proteínas</a:t>
            </a:r>
            <a:r>
              <a:rPr b="0" lang="es-CL" sz="3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042560" y="198900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Modificación de la secuencia de aminoácidos de una proteína efectuados a  nivel de gen (ADN) de la enzim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Gen de la enzima debe estar clona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Producción recombinante de la enzima en microorganism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0000"/>
                </a:solidFill>
                <a:latin typeface="Arial"/>
              </a:rPr>
              <a:t>Limitaciones de las enzimas industrial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Baja actividad catalític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Baja estabilidad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frente a la temperatura, al pH, a los solventes del medio, etc.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specificidad de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ustrato diferente a la deseada.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Necesidad de efectores auxiliares de alto valor económico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800" spc="-1" strike="noStrike">
                <a:solidFill>
                  <a:srgbClr val="000000"/>
                </a:solidFill>
                <a:latin typeface="Arial"/>
              </a:rPr>
              <a:t>Ingeniería de proteína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1042560" y="198900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Los objetivos de la I.P. al modificar la secuencia de una proteína s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spcBef>
                <a:spcPts val="675"/>
              </a:spcBef>
              <a:buClr>
                <a:srgbClr val="000000"/>
              </a:buClr>
              <a:buSzPct val="7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Arial"/>
              </a:rPr>
              <a:t>Alcanzar una mejor comprensión de las relaciones estructura-funció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spcBef>
                <a:spcPts val="675"/>
              </a:spcBef>
              <a:buClr>
                <a:srgbClr val="000000"/>
              </a:buClr>
              <a:buSzPct val="7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Arial"/>
              </a:rPr>
              <a:t>Obtener un cambio deseado en alguna propiedad de la proteín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179280" y="1916280"/>
            <a:ext cx="8964720" cy="4941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1" name=""/>
          <p:cNvGraphicFramePr/>
          <p:nvPr/>
        </p:nvGraphicFramePr>
        <p:xfrm>
          <a:off x="250920" y="2133720"/>
          <a:ext cx="8532720" cy="441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2133720"/>
                    <a:ext cx="8532720" cy="44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3" name=""/>
          <p:cNvSpPr txBox="1"/>
          <p:nvPr/>
        </p:nvSpPr>
        <p:spPr>
          <a:xfrm>
            <a:off x="513000" y="33012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Arial"/>
              </a:rPr>
              <a:t>Los estudios de las relaciones estructura función permiten conocer las regiones de la estructura que son importantes para la actividad (función) de la enzim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4356000" y="191628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8000"/>
                </a:solidFill>
                <a:latin typeface="Arial"/>
                <a:ea typeface="Arial"/>
              </a:rPr>
              <a:t>celul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755640" y="2565360"/>
            <a:ext cx="720720" cy="50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468360" y="2205000"/>
            <a:ext cx="151272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8000"/>
                </a:solidFill>
                <a:latin typeface="Arial"/>
                <a:ea typeface="Arial"/>
              </a:rPr>
              <a:t>Región catalít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7812000" y="5516640"/>
            <a:ext cx="133200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8000"/>
                </a:solidFill>
                <a:latin typeface="Arial"/>
                <a:ea typeface="Arial"/>
              </a:rPr>
              <a:t>Región que une celulo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7740720" y="5589720"/>
            <a:ext cx="71280" cy="647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268360" y="5950080"/>
            <a:ext cx="17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8000"/>
                </a:solidFill>
                <a:latin typeface="Tahoma"/>
                <a:ea typeface="Arial"/>
              </a:rPr>
              <a:t>sustr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2195640" y="5157720"/>
            <a:ext cx="168120" cy="792360"/>
          </a:xfrm>
          <a:custGeom>
            <a:avLst/>
            <a:gdLst/>
            <a:ahLst/>
            <a:rect l="l" t="t" r="r" b="b"/>
            <a:pathLst>
              <a:path w="106" h="499">
                <a:moveTo>
                  <a:pt x="106" y="499"/>
                </a:moveTo>
                <a:cubicBezTo>
                  <a:pt x="68" y="472"/>
                  <a:pt x="30" y="446"/>
                  <a:pt x="15" y="363"/>
                </a:cubicBezTo>
                <a:cubicBezTo>
                  <a:pt x="0" y="280"/>
                  <a:pt x="7" y="140"/>
                  <a:pt x="15" y="0"/>
                </a:cubicBezTo>
              </a:path>
            </a:pathLst>
          </a:custGeom>
          <a:noFill/>
          <a:ln w="38160">
            <a:solidFill>
              <a:srgbClr val="8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2340000" y="4941720"/>
            <a:ext cx="239760" cy="1079640"/>
          </a:xfrm>
          <a:custGeom>
            <a:avLst/>
            <a:gdLst/>
            <a:ahLst/>
            <a:rect l="l" t="t" r="r" b="b"/>
            <a:pathLst>
              <a:path w="151" h="680">
                <a:moveTo>
                  <a:pt x="151" y="680"/>
                </a:moveTo>
                <a:cubicBezTo>
                  <a:pt x="90" y="532"/>
                  <a:pt x="30" y="385"/>
                  <a:pt x="15" y="272"/>
                </a:cubicBezTo>
                <a:cubicBezTo>
                  <a:pt x="0" y="159"/>
                  <a:pt x="53" y="45"/>
                  <a:pt x="6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843280" y="1484280"/>
            <a:ext cx="48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celulosa                                        gluco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211640" y="1484280"/>
            <a:ext cx="1800360" cy="432000"/>
          </a:xfrm>
          <a:prstGeom prst="rightArrow">
            <a:avLst>
              <a:gd name="adj1" fmla="val 50000"/>
              <a:gd name="adj2" fmla="val 104188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800" spc="-1" strike="noStrike">
                <a:solidFill>
                  <a:srgbClr val="000000"/>
                </a:solidFill>
                <a:latin typeface="Arial"/>
              </a:rPr>
              <a:t>Estrategias para hacer ingeniería de enzima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042560" y="1988640"/>
            <a:ext cx="75438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strategia racion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300" spc="-1" strike="noStrike">
                <a:solidFill>
                  <a:srgbClr val="000000"/>
                </a:solidFill>
                <a:latin typeface="Arial"/>
              </a:rPr>
              <a:t>Requiere información estructural y funcional previa (estructura)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300" spc="-1" strike="noStrike">
                <a:solidFill>
                  <a:srgbClr val="000000"/>
                </a:solidFill>
                <a:latin typeface="Arial"/>
              </a:rPr>
              <a:t>El investigador decide en base a la información disponible, qué aminoácido cambiar y por cual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strategia al azar o combina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300" spc="-1" strike="noStrike">
                <a:solidFill>
                  <a:srgbClr val="000000"/>
                </a:solidFill>
                <a:latin typeface="Arial"/>
              </a:rPr>
              <a:t>Independiente de información previ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300" spc="-1" strike="noStrike">
                <a:solidFill>
                  <a:srgbClr val="000000"/>
                </a:solidFill>
                <a:latin typeface="Arial"/>
              </a:rPr>
              <a:t>Se generan múltiples variantes de la proteína y se selecciona la que tiene la propiedad de interés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emario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42560" y="198900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Breve introducción a los métodos de DNA recombina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Métodos de ingeniería de proteín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Arial"/>
              </a:rPr>
              <a:t>Mutagénesis sitio Dirigido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Arial"/>
              </a:rPr>
              <a:t>Mutagénesis al aza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strategias de modificación genética de microorganism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plicación a enzimas y microorganismos  usados en la producción de biocombusti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SQUEMA DEL DISEÑO RACIONAL DE PROTEÍN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7" name=""/>
          <p:cNvGrpSpPr/>
          <p:nvPr/>
        </p:nvGrpSpPr>
        <p:grpSpPr>
          <a:xfrm>
            <a:off x="5076720" y="1628640"/>
            <a:ext cx="3742920" cy="5040000"/>
            <a:chOff x="5076720" y="1628640"/>
            <a:chExt cx="3742920" cy="5040000"/>
          </a:xfrm>
        </p:grpSpPr>
        <p:sp>
          <p:nvSpPr>
            <p:cNvPr id="358" name=""/>
            <p:cNvSpPr/>
            <p:nvPr/>
          </p:nvSpPr>
          <p:spPr>
            <a:xfrm>
              <a:off x="5076720" y="1628640"/>
              <a:ext cx="3742920" cy="504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59" name="" descr=""/>
            <p:cNvPicPr/>
            <p:nvPr/>
          </p:nvPicPr>
          <p:blipFill>
            <a:blip r:embed="rId1"/>
            <a:stretch/>
          </p:blipFill>
          <p:spPr>
            <a:xfrm>
              <a:off x="5416200" y="1781640"/>
              <a:ext cx="3033720" cy="465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0" name=""/>
            <p:cNvSpPr/>
            <p:nvPr/>
          </p:nvSpPr>
          <p:spPr>
            <a:xfrm>
              <a:off x="5416200" y="2774880"/>
              <a:ext cx="304200" cy="61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1" name=""/>
          <p:cNvSpPr/>
          <p:nvPr/>
        </p:nvSpPr>
        <p:spPr>
          <a:xfrm>
            <a:off x="1908000" y="1989000"/>
            <a:ext cx="1873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STRUCTURA DE PROTEIN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1332000" y="2924280"/>
            <a:ext cx="2879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ODELAMIENTO MOLECULAR BASADO EN ESTRUCTUR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1187280" y="3933720"/>
            <a:ext cx="302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UTAGENESIS SITIO DIRIGI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1835280" y="4653000"/>
            <a:ext cx="2089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ANSFORMACION Y EXPRE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1835280" y="5445000"/>
            <a:ext cx="2089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ARACTERIZACION DE MUTAN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556000" y="2565360"/>
            <a:ext cx="288720" cy="289080"/>
          </a:xfrm>
          <a:prstGeom prst="downArrow">
            <a:avLst>
              <a:gd name="adj1" fmla="val 50000"/>
              <a:gd name="adj2" fmla="val 25031"/>
            </a:avLst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2556000" y="4221000"/>
            <a:ext cx="288720" cy="289080"/>
          </a:xfrm>
          <a:prstGeom prst="downArrow">
            <a:avLst>
              <a:gd name="adj1" fmla="val 50000"/>
              <a:gd name="adj2" fmla="val 25031"/>
            </a:avLst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2556000" y="3500280"/>
            <a:ext cx="288720" cy="289080"/>
          </a:xfrm>
          <a:prstGeom prst="downArrow">
            <a:avLst>
              <a:gd name="adj1" fmla="val 50000"/>
              <a:gd name="adj2" fmla="val 25031"/>
            </a:avLst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2556000" y="5157720"/>
            <a:ext cx="288720" cy="289080"/>
          </a:xfrm>
          <a:prstGeom prst="downArrow">
            <a:avLst>
              <a:gd name="adj1" fmla="val 50000"/>
              <a:gd name="adj2" fmla="val 25031"/>
            </a:avLst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800" spc="-1" strike="noStrike">
                <a:solidFill>
                  <a:srgbClr val="000000"/>
                </a:solidFill>
                <a:latin typeface="Arial"/>
              </a:rPr>
              <a:t>Mutagénesis sitio dirigido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611280" y="2133720"/>
            <a:ext cx="374472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GTGTCCCA</a:t>
            </a:r>
            <a:r>
              <a:rPr b="1" lang="es-CL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AAG</a:t>
            </a:r>
            <a:r>
              <a:rPr b="1" lang="es-C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TCTATACGCT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CACAGGGT</a:t>
            </a:r>
            <a:r>
              <a:rPr b="1" lang="es-CL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TTC</a:t>
            </a:r>
            <a:r>
              <a:rPr b="1" lang="es-C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AGATATGCGAC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050920" y="2781360"/>
            <a:ext cx="505080" cy="576360"/>
          </a:xfrm>
          <a:prstGeom prst="downArrow">
            <a:avLst>
              <a:gd name="adj1" fmla="val 50000"/>
              <a:gd name="adj2" fmla="val 28528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5076720" y="2133720"/>
            <a:ext cx="37432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GTGTCCCA</a:t>
            </a:r>
            <a:r>
              <a:rPr b="1" lang="es-CL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GAC</a:t>
            </a:r>
            <a:r>
              <a:rPr b="1" lang="es-C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TCTATACGCT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CACAGGGT</a:t>
            </a:r>
            <a:r>
              <a:rPr b="1" lang="es-CL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CTG</a:t>
            </a:r>
            <a:r>
              <a:rPr b="1" lang="es-C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AGATATGCGA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6588000" y="2852640"/>
            <a:ext cx="505080" cy="576360"/>
          </a:xfrm>
          <a:prstGeom prst="downArrow">
            <a:avLst>
              <a:gd name="adj1" fmla="val 50000"/>
              <a:gd name="adj2" fmla="val 28528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539640" y="3789360"/>
            <a:ext cx="3810240" cy="2076480"/>
          </a:xfrm>
          <a:prstGeom prst="rect">
            <a:avLst/>
          </a:prstGeom>
          <a:ln w="0">
            <a:noFill/>
          </a:ln>
        </p:spPr>
      </p:pic>
      <p:grpSp>
        <p:nvGrpSpPr>
          <p:cNvPr id="376" name=""/>
          <p:cNvGrpSpPr/>
          <p:nvPr/>
        </p:nvGrpSpPr>
        <p:grpSpPr>
          <a:xfrm>
            <a:off x="4788000" y="3789360"/>
            <a:ext cx="3809880" cy="2076480"/>
            <a:chOff x="4788000" y="3789360"/>
            <a:chExt cx="3809880" cy="2076480"/>
          </a:xfrm>
        </p:grpSpPr>
        <p:pic>
          <p:nvPicPr>
            <p:cNvPr id="377" name="" descr=""/>
            <p:cNvPicPr/>
            <p:nvPr/>
          </p:nvPicPr>
          <p:blipFill>
            <a:blip r:embed="rId2"/>
            <a:stretch/>
          </p:blipFill>
          <p:spPr>
            <a:xfrm>
              <a:off x="4788000" y="3789360"/>
              <a:ext cx="3809880" cy="207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8" name=""/>
            <p:cNvSpPr/>
            <p:nvPr/>
          </p:nvSpPr>
          <p:spPr>
            <a:xfrm>
              <a:off x="5651640" y="5086440"/>
              <a:ext cx="287280" cy="287280"/>
            </a:xfrm>
            <a:prstGeom prst="ellipse">
              <a:avLst/>
            </a:prstGeom>
            <a:solidFill>
              <a:srgbClr val="ffff00"/>
            </a:solidFill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00"/>
                  </a:solidFill>
                  <a:latin typeface="Arial"/>
                </a:rPr>
                <a:t>As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9" name=""/>
          <p:cNvSpPr/>
          <p:nvPr/>
        </p:nvSpPr>
        <p:spPr>
          <a:xfrm>
            <a:off x="4211640" y="2205000"/>
            <a:ext cx="647640" cy="432000"/>
          </a:xfrm>
          <a:prstGeom prst="rightArrow">
            <a:avLst>
              <a:gd name="adj1" fmla="val 50000"/>
              <a:gd name="adj2" fmla="val 37479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1042920" y="1557360"/>
            <a:ext cx="22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GEN SILVEST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5219640" y="1628640"/>
            <a:ext cx="22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GEN MUT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1116000" y="616572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PROTEINA SILVEST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435640" y="6165720"/>
            <a:ext cx="35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PROTEINA MUT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" descr=""/>
          <p:cNvPicPr/>
          <p:nvPr/>
        </p:nvPicPr>
        <p:blipFill>
          <a:blip r:embed="rId1"/>
          <a:stretch/>
        </p:blipFill>
        <p:spPr>
          <a:xfrm>
            <a:off x="1332000" y="2060640"/>
            <a:ext cx="5594400" cy="4602240"/>
          </a:xfrm>
          <a:prstGeom prst="rect">
            <a:avLst/>
          </a:prstGeom>
          <a:ln w="0">
            <a:noFill/>
          </a:ln>
        </p:spPr>
      </p:pic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Ingeniería de proteínas por evolución dirigid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4788000" y="476280"/>
            <a:ext cx="3770280" cy="6165720"/>
          </a:xfrm>
          <a:prstGeom prst="rect">
            <a:avLst/>
          </a:prstGeom>
          <a:ln w="0">
            <a:noFill/>
          </a:ln>
        </p:spPr>
      </p:pic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755280" y="1557360"/>
            <a:ext cx="381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500" spc="-1" strike="noStrike">
                <a:solidFill>
                  <a:srgbClr val="000000"/>
                </a:solidFill>
                <a:latin typeface="Arial"/>
              </a:rPr>
              <a:t>Evolución dirigida requiere del análisis masivo de miles de variantes de la enzim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755640" y="4149720"/>
            <a:ext cx="345600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  <a:ea typeface="Arial"/>
              </a:rPr>
              <a:t>De una proteína de 300 aminoácidos se pueden genera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  <a:ea typeface="Arial"/>
              </a:rPr>
              <a:t>19 x 300 = 5700 variantes con un solo camb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" descr=""/>
          <p:cNvPicPr/>
          <p:nvPr/>
        </p:nvPicPr>
        <p:blipFill>
          <a:blip r:embed="rId1"/>
          <a:stretch/>
        </p:blipFill>
        <p:spPr>
          <a:xfrm>
            <a:off x="1258920" y="404640"/>
            <a:ext cx="2857320" cy="3229200"/>
          </a:xfrm>
          <a:prstGeom prst="rect">
            <a:avLst/>
          </a:prstGeom>
          <a:ln w="0">
            <a:noFill/>
          </a:ln>
        </p:spPr>
      </p:pic>
      <p:pic>
        <p:nvPicPr>
          <p:cNvPr id="390" name="" descr=""/>
          <p:cNvPicPr/>
          <p:nvPr/>
        </p:nvPicPr>
        <p:blipFill>
          <a:blip r:embed="rId2"/>
          <a:stretch/>
        </p:blipFill>
        <p:spPr>
          <a:xfrm>
            <a:off x="1763640" y="4149720"/>
            <a:ext cx="3727440" cy="2478240"/>
          </a:xfrm>
          <a:prstGeom prst="rect">
            <a:avLst/>
          </a:prstGeom>
          <a:ln w="0">
            <a:noFill/>
          </a:ln>
        </p:spPr>
      </p:pic>
      <p:pic>
        <p:nvPicPr>
          <p:cNvPr id="391" name="" descr=""/>
          <p:cNvPicPr/>
          <p:nvPr/>
        </p:nvPicPr>
        <p:blipFill>
          <a:blip r:embed="rId3"/>
          <a:stretch/>
        </p:blipFill>
        <p:spPr>
          <a:xfrm>
            <a:off x="5940360" y="2565360"/>
            <a:ext cx="2903760" cy="3262320"/>
          </a:xfrm>
          <a:prstGeom prst="rect">
            <a:avLst/>
          </a:prstGeom>
          <a:ln w="0">
            <a:noFill/>
          </a:ln>
        </p:spPr>
      </p:pic>
      <p:sp>
        <p:nvSpPr>
          <p:cNvPr id="392" name=""/>
          <p:cNvSpPr/>
          <p:nvPr/>
        </p:nvSpPr>
        <p:spPr>
          <a:xfrm>
            <a:off x="4427640" y="620640"/>
            <a:ext cx="30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  <a:ea typeface="Arial"/>
              </a:rPr>
              <a:t>ROBOT  PIPETEA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796000" y="1773360"/>
            <a:ext cx="29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  <a:ea typeface="Arial"/>
              </a:rPr>
              <a:t>PIPETA DIGITAL MULTICA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684360" y="3789360"/>
            <a:ext cx="194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  <a:ea typeface="Arial"/>
              </a:rPr>
              <a:t>MICROPLACAS DE 96 POCILL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0" name=""/>
          <p:cNvGraphicFramePr/>
          <p:nvPr/>
        </p:nvGraphicFramePr>
        <p:xfrm>
          <a:off x="1066680" y="2057400"/>
          <a:ext cx="6629400" cy="401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057400"/>
                    <a:ext cx="6629400" cy="401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La célula es la unidad biológica fundamental,</a:t>
            </a: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formada por tres tipos de macromoléculas: proteínas, lípidos y ácidos nucleico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124080" y="350532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  <a:ea typeface="Osaka"/>
              </a:rPr>
              <a:t>Proteín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3200400" y="3886200"/>
            <a:ext cx="380880" cy="91440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841560" y="3815640"/>
            <a:ext cx="546120" cy="82656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4876560" y="3276720"/>
            <a:ext cx="152280" cy="53316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3429000" y="2971800"/>
            <a:ext cx="0" cy="53352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 flipV="1">
            <a:off x="2895120" y="3352320"/>
            <a:ext cx="304920" cy="30492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895120" y="3886200"/>
            <a:ext cx="304920" cy="15228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5410080" y="2514600"/>
            <a:ext cx="1067040" cy="137160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562360" y="2286000"/>
            <a:ext cx="609480" cy="38088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648320" y="28195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  <a:ea typeface="Osaka"/>
              </a:rPr>
              <a:t>D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867280" y="1981080"/>
            <a:ext cx="2210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  <a:ea typeface="Osaka"/>
              </a:rPr>
              <a:t>Lípidos de membra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971800" y="4876920"/>
            <a:ext cx="22860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5181480"/>
            <a:ext cx="22860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14800" y="5257800"/>
            <a:ext cx="22860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419360" y="0"/>
            <a:ext cx="3733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Cuatro posibles niveles de estructur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4572000" y="1295280"/>
            <a:ext cx="4572000" cy="5562720"/>
            <a:chOff x="4572000" y="1295280"/>
            <a:chExt cx="4572000" cy="5562720"/>
          </a:xfrm>
        </p:grpSpPr>
        <p:pic>
          <p:nvPicPr>
            <p:cNvPr id="119" name="" descr=""/>
            <p:cNvPicPr/>
            <p:nvPr/>
          </p:nvPicPr>
          <p:blipFill>
            <a:blip r:embed="rId1"/>
            <a:stretch/>
          </p:blipFill>
          <p:spPr>
            <a:xfrm>
              <a:off x="4572000" y="1295280"/>
              <a:ext cx="4281480" cy="556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"/>
            <p:cNvSpPr/>
            <p:nvPr/>
          </p:nvSpPr>
          <p:spPr>
            <a:xfrm>
              <a:off x="5791320" y="1295280"/>
              <a:ext cx="2895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ff3300"/>
                  </a:solidFill>
                  <a:latin typeface="Arial"/>
                  <a:ea typeface="Osaka"/>
                </a:rPr>
                <a:t>Estructura primaria (secuencia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553080" y="2668680"/>
              <a:ext cx="2590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ff3300"/>
                  </a:solidFill>
                  <a:latin typeface="Arial"/>
                  <a:ea typeface="Osaka"/>
                </a:rPr>
                <a:t>Estructura secundari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553080" y="3836160"/>
              <a:ext cx="2590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ff3300"/>
                  </a:solidFill>
                  <a:latin typeface="Arial"/>
                  <a:ea typeface="Osaka"/>
                </a:rPr>
                <a:t>Estructura terciari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400800" y="5415480"/>
              <a:ext cx="258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ff3300"/>
                  </a:solidFill>
                  <a:latin typeface="Arial"/>
                  <a:ea typeface="Osaka"/>
                </a:rPr>
                <a:t>Estructura cuaternari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457200" y="228600"/>
            <a:ext cx="4191120" cy="18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Osaka"/>
              </a:rPr>
              <a:t>Proteín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Osaka"/>
              </a:rPr>
              <a:t>Polímeros de amino ácidos asociados en una cadena line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324000" y="3068640"/>
            <a:ext cx="3809880" cy="20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800" spc="-1" strike="noStrike">
                <a:solidFill>
                  <a:srgbClr val="000000"/>
                </a:solidFill>
                <a:latin typeface="Arial"/>
              </a:rPr>
              <a:t>DNA versus RN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28600" y="4803840"/>
            <a:ext cx="3352680" cy="165564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533520" y="1143000"/>
            <a:ext cx="2057400" cy="39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NA: una heb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racilo en lugar de tim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zúcar es ribosa, no desoxirribosa com en D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3708360" y="836640"/>
          <a:ext cx="4807080" cy="5472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708360" y="836640"/>
                    <a:ext cx="4807080" cy="54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45600"/>
            <a:ext cx="822960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800" spc="-1" strike="noStrike">
                <a:solidFill>
                  <a:srgbClr val="000000"/>
                </a:solidFill>
                <a:latin typeface="Arial"/>
              </a:rPr>
              <a:t>EL ADN es el material genético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2987640" y="1916280"/>
            <a:ext cx="3338640" cy="49417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533520" y="3429000"/>
            <a:ext cx="18288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xteri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Azúcar + fosfa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905120" y="4114800"/>
            <a:ext cx="1523880" cy="304920"/>
          </a:xfrm>
          <a:prstGeom prst="rightArrow">
            <a:avLst>
              <a:gd name="adj1" fmla="val 50000"/>
              <a:gd name="adj2" fmla="val 124941"/>
            </a:avLst>
          </a:prstGeom>
          <a:solidFill>
            <a:srgbClr val="ff0000"/>
          </a:solidFill>
          <a:ln cap="sq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934320" y="4343400"/>
            <a:ext cx="2209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Interior: bases nitrogenadas formando puentes de Hidróge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648320" y="5029200"/>
            <a:ext cx="2133360" cy="228600"/>
          </a:xfrm>
          <a:prstGeom prst="leftArrow">
            <a:avLst>
              <a:gd name="adj1" fmla="val 50000"/>
              <a:gd name="adj2" fmla="val 233307"/>
            </a:avLst>
          </a:prstGeom>
          <a:solidFill>
            <a:srgbClr val="ff0000"/>
          </a:solidFill>
          <a:ln cap="sq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62440" cy="228600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1835280" y="2571840"/>
            <a:ext cx="5715000" cy="42861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1476360" y="2708280"/>
            <a:ext cx="61912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Un gen es un fragmento de DNA que codifica para una proteí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050920" y="3573360"/>
            <a:ext cx="14414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0000"/>
                </a:solidFill>
                <a:latin typeface="Arial"/>
                <a:ea typeface="Arial"/>
              </a:rPr>
              <a:t>promo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796000" y="1341360"/>
            <a:ext cx="2592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Expresión de los ge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956720" y="2637000"/>
            <a:ext cx="431640" cy="3887640"/>
          </a:xfrm>
          <a:prstGeom prst="downArrow">
            <a:avLst>
              <a:gd name="adj1" fmla="val 50000"/>
              <a:gd name="adj2" fmla="val 2251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95280" y="443700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RNA polimer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26920" y="595008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ribosom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780000" y="3573360"/>
            <a:ext cx="20872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8000"/>
                </a:solidFill>
                <a:latin typeface="Arial"/>
                <a:ea typeface="Arial"/>
              </a:rPr>
              <a:t>Region codifica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836640"/>
            <a:ext cx="9144000" cy="548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1835280" y="1268280"/>
            <a:ext cx="5715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  <a:ea typeface="Arial"/>
              </a:rPr>
              <a:t>mRNA</a:t>
            </a:r>
            <a:r>
              <a:rPr b="1" lang="es-ES_tradnl" sz="3200" spc="-1" strike="noStrike">
                <a:solidFill>
                  <a:srgbClr val="000000"/>
                </a:solidFill>
                <a:latin typeface="Arial"/>
                <a:ea typeface="Arial"/>
              </a:rPr>
              <a:t> AGGCUUAGACCGAG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295280" y="4724280"/>
            <a:ext cx="67820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  <a:ea typeface="Arial"/>
              </a:rPr>
              <a:t>Proteín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  <a:ea typeface="Arial"/>
              </a:rPr>
              <a:t>Ala-Met-Tyr Trp-Phe-Leu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rot="5380200">
            <a:off x="3636360" y="3213000"/>
            <a:ext cx="1905120" cy="609480"/>
          </a:xfrm>
          <a:custGeom>
            <a:avLst/>
            <a:gdLst>
              <a:gd name="textAreaLeft" fmla="*/ 297720 w 1905120"/>
              <a:gd name="textAreaRight" fmla="*/ 1667160 w 1905120"/>
              <a:gd name="textAreaTop" fmla="*/ 152280 h 609480"/>
              <a:gd name="textAreaBottom" fmla="*/ 457200 h 609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00"/>
          </a:solidFill>
          <a:ln cap="sq"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39640" y="2924280"/>
            <a:ext cx="3429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8000"/>
                </a:solidFill>
                <a:latin typeface="Arial"/>
                <a:ea typeface="Arial"/>
              </a:rPr>
              <a:t>CODIGO GENET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11280" y="333360"/>
            <a:ext cx="83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0000"/>
                </a:solidFill>
                <a:latin typeface="Arial"/>
              </a:rPr>
              <a:t>Traduciendo el mensaje del mR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4T20:51:03Z</dcterms:created>
  <dc:creator>Ing Quimica</dc:creator>
  <dc:description/>
  <dc:language>en-US</dc:language>
  <cp:lastModifiedBy>Ing Quimica</cp:lastModifiedBy>
  <dcterms:modified xsi:type="dcterms:W3CDTF">2010-08-24T17:00:36Z</dcterms:modified>
  <cp:revision>237</cp:revision>
  <dc:subject/>
  <dc:title>Diapositiva 1</dc:title>
</cp:coreProperties>
</file>