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416A-F42E-4AD8-B9EE-E63AF210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8751-918D-4E56-ACC4-3555F05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A7B6-0EA2-426A-98B8-3671ECD7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3524-FD0C-489E-A685-FC997D2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EC3-CCDC-4677-A7F1-189009B7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2A30-C65A-4735-86B7-4107F62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DFCE-D652-4D5B-9ACC-00D0597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B810-FCE7-4481-9F7C-B0F09A4D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79C2-3D98-4489-BA89-330D9DF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9AAE-60C9-4170-84DE-83DECB3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7EFC-205F-42A8-98C1-D40F1CE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9A11-5364-4928-8E10-2D6AFF1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EA24-FEE7-48AA-AA5A-0B8FC20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DF38-B890-434F-B0B2-3E1DCDC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7EDA-2048-446D-AD5C-B0F81C13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824-4B1B-40A7-977A-47A8DA8D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3AA-AB26-4401-94E2-1FE63CA9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6DE8-3CED-4FB8-8540-368A8F42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1505-AD96-48A9-9136-033A8B5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90B0-78F4-4FC8-9878-4E872A18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488D-90D8-46D2-A423-EC7CB81E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AFFF-CE4E-4131-AF5B-A6FC9F7A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18AF-AE8C-4BD5-BB9E-4C384B1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6F01-3954-406A-A33D-9E0BF38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009-C911-41CB-A6AC-BCD42971C29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12F-0690-4D31-83FF-4C57E11D6211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Introducción a sistemas miner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57G- Manejo de mater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714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idere un sistema de carguío y transporte, con las siguientes 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pacidad equipo carguí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5 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mpo ciclo pal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0,5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mpo posicionamiento carguí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0,2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mpo posicionamiento descarg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0,2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mpo vaci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0,35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pacidad eq. Transport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28 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tancia viaj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5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locidad equipo carg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36 km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locidad equipo vaci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= 45 km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lcule el numero de camiones requeridos para saturar a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termine el tiempo medio de espera de cam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álculo de flota de cam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268360" y="1989000"/>
          <a:ext cx="3332520" cy="6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89000"/>
                    <a:ext cx="333252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6"/>
          <p:cNvSpPr/>
          <p:nvPr/>
        </p:nvSpPr>
        <p:spPr>
          <a:xfrm>
            <a:off x="900000" y="321300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ualmente este numero no es su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1763640" y="4149720"/>
          <a:ext cx="59770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149720"/>
                    <a:ext cx="5977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álculo de flota de cam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87760" y="2685960"/>
          <a:ext cx="362412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7760" y="2685960"/>
                    <a:ext cx="362412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1042920" y="1484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bilidad que hay exactamente n camiones disponibles de una flota de N cam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258920" y="4292640"/>
            <a:ext cx="5618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fl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 camione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= probabilidad de n camione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na= probabilidad de N-n camiones no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álculo de flota de cam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195640" y="2624040"/>
          <a:ext cx="41767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624040"/>
                    <a:ext cx="4176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4"/>
          <p:cNvSpPr/>
          <p:nvPr/>
        </p:nvSpPr>
        <p:spPr>
          <a:xfrm>
            <a:off x="971640" y="17002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bilidad que halla al menos n camiones disponibles de una flota de N cam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58920" y="4076640"/>
            <a:ext cx="5618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fl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 camione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= probabilidad de n camione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na= probabilidad de N-n camiones no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timización sistemas de carguío-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s determini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culo de flota de cam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s estocá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ulación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s mineros de manejo de mater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5216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sistema de manejo de materiales en una mina esta conformado por carguío, transporte y vac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análisis de sistemas se ve una aproximación integrada de los proce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anejo de materiales se considera como un sistema formado de componentes que forman una 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timización sistemas de carguío -trans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468360" y="2624040"/>
                <a:ext cx="431964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Z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d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ectivida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bl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trolable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ble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ntrolables</m:t>
                                </m:r>
                              </m:sub>
                            </m:sSub>
                          </m:sub>
                        </m:sSub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rad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Text Box 7"/>
          <p:cNvSpPr/>
          <p:nvPr/>
        </p:nvSpPr>
        <p:spPr>
          <a:xfrm>
            <a:off x="5214960" y="1500120"/>
            <a:ext cx="36432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s controlab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bicación de infraestructura (botaderos, silos, pilas, p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de carga (fragmen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s endo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bicación del y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es / miner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timiz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n identificar variables de control y variables endóge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definir la forma de medir la efectividad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debe definir la escala d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definir las relaciones ent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debe ser integrado en una medida de efectividad para cuantificar el valor de la d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sistema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delos mate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ísticos: relaciones entre causa –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ísticos: se tiene una medida de la incerteza e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mulación: se simula el escenario para tener una idea de la realidad considerando alguna medida estad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minería el carguío y transporte es un sistema complejo y por lo tanto se usa generalmente simulación ya que existe incerteza en las diversas componentes y como estas interactúan entre 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imulació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no se busca optimizar el sistem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 bien usar el computador como un laboratorio (what i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cic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403280" y="2190600"/>
                <a:ext cx="60962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P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V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P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VV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900000" y="2637000"/>
            <a:ext cx="7488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T=tiempo ciclo unidad de transporte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PP= tiempo para posicionarse frente a la unidad de carguío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= tiempo carguio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VC=tiempo viaje cargado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PV=tiempo posicionamiento en lugar de descarga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V= tiempo vaciado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VV=tiempo viaje vacío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= retrasos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empos de cic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971640" y="2314440"/>
                <a:ext cx="2200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U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UC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T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7"/>
          <p:cNvSpPr/>
          <p:nvPr/>
        </p:nvSpPr>
        <p:spPr>
          <a:xfrm>
            <a:off x="3816360" y="1773360"/>
            <a:ext cx="532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T= capacidad unidad de transporte,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C= capacidad unidad de carguío,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C=tiempo ciclo cargu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042920" y="3736800"/>
                <a:ext cx="18622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V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rg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V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aci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10"/>
          <p:cNvSpPr/>
          <p:nvPr/>
        </p:nvSpPr>
        <p:spPr>
          <a:xfrm>
            <a:off x="4067280" y="378936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V= distancia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= velocidad en estad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la- N cam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826920" y="1773360"/>
          <a:ext cx="417672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41767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6"/>
          <p:cNvSpPr/>
          <p:nvPr/>
        </p:nvSpPr>
        <p:spPr>
          <a:xfrm>
            <a:off x="539640" y="5589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4:11:05Z</dcterms:created>
  <dc:creator>Raul Castro</dc:creator>
  <dc:description/>
  <dc:language>en-US</dc:language>
  <cp:lastModifiedBy>Raul Castro</cp:lastModifiedBy>
  <dcterms:modified xsi:type="dcterms:W3CDTF">2009-04-30T21:28:43Z</dcterms:modified>
  <cp:revision>9</cp:revision>
  <dc:subject/>
  <dc:title>Introducción a sistemas mineros</dc:title>
</cp:coreProperties>
</file>