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media/image10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6C44F6-59E8-4D2D-9518-9D1B7E175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BDBAC9-006E-4386-AB0B-58CA5A461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4E6B45-A4F7-44DA-9943-EC2712DD6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281641-6CCA-48A1-866B-5CF847083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6A14A-EB48-4BC0-A3E4-8E8C82838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352F9-F57D-4C54-9F55-286198996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C90D6-0C23-451C-B077-8519E1592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B0E2A-A24D-4CD8-9416-320D68FE4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8EB1F-5539-4A81-B116-381B7BC8E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F5DDB-1F1A-4CCE-A9F6-64230CDB0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62E3B-C455-407A-8C29-6BBCF28C0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3C8108-A238-4A58-B95C-DB2D23E99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1B49D-CC84-466F-B8CD-83B70770F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FF4D7-9689-493E-8F8B-E0F6F8106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361E9-27AE-4934-A7C7-5EEA2F237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B20BF-5225-417A-943C-6F10CAAA7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90410-EA65-48A3-BA71-89E5F8866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4B74BC-BFC1-4890-B68C-5BBFC8DAF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CE4819-F207-483A-86AD-0F977268D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4F38CB-F2B5-4BD3-A52F-BEE81163C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65BA99-E242-483C-8323-38DDBE707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42D809-06B5-4810-9EAE-DD6A28905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0E4C49-43AA-44B6-9088-4FC2144A8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6730C2-DD52-4926-BC1F-96DE8DEBD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0F903-52D6-4DA4-98C3-1C39655A5F96}" type="slidenum">
              <a:rPr b="0" lang="es-CL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51A38-3D74-45DB-AEEB-3DBFA38E164D}" type="slidenum">
              <a:rPr b="0" lang="es-CL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000" spc="-1" strike="noStrike">
                <a:solidFill>
                  <a:srgbClr val="ffffff"/>
                </a:solidFill>
                <a:latin typeface="Arial"/>
              </a:rPr>
              <a:t>Ferrocarriles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618920" y="4941720"/>
            <a:ext cx="7016760" cy="7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900" spc="-1" strike="noStrike">
                <a:solidFill>
                  <a:srgbClr val="000000"/>
                </a:solidFill>
                <a:latin typeface="Arial"/>
              </a:rPr>
              <a:t>MI57G- Manejo de materiales y ventilación de mina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900" spc="-1" strike="noStrike">
                <a:solidFill>
                  <a:srgbClr val="000000"/>
                </a:solidFill>
                <a:latin typeface="Arial"/>
              </a:rPr>
              <a:t>Profesor: Raúl Castro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3300"/>
                </a:solidFill>
                <a:latin typeface="Arial"/>
              </a:rPr>
              <a:t>Sistema de descarga de car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3"/>
          <p:cNvSpPr/>
          <p:nvPr/>
        </p:nvSpPr>
        <p:spPr>
          <a:xfrm>
            <a:off x="684360" y="1773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Sistema vaciado late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Group 6"/>
          <p:cNvGrpSpPr/>
          <p:nvPr/>
        </p:nvGrpSpPr>
        <p:grpSpPr>
          <a:xfrm>
            <a:off x="1908000" y="3213000"/>
            <a:ext cx="4892040" cy="1284120"/>
            <a:chOff x="1908000" y="3213000"/>
            <a:chExt cx="4892040" cy="1284120"/>
          </a:xfrm>
        </p:grpSpPr>
        <p:grpSp>
          <p:nvGrpSpPr>
            <p:cNvPr id="155" name="Group 7"/>
            <p:cNvGrpSpPr/>
            <p:nvPr/>
          </p:nvGrpSpPr>
          <p:grpSpPr>
            <a:xfrm>
              <a:off x="3614040" y="3239640"/>
              <a:ext cx="3186000" cy="1257480"/>
              <a:chOff x="3614040" y="3239640"/>
              <a:chExt cx="3186000" cy="1257480"/>
            </a:xfrm>
          </p:grpSpPr>
          <p:grpSp>
            <p:nvGrpSpPr>
              <p:cNvPr id="156" name="Group 8"/>
              <p:cNvGrpSpPr/>
              <p:nvPr/>
            </p:nvGrpSpPr>
            <p:grpSpPr>
              <a:xfrm>
                <a:off x="5695200" y="3324600"/>
                <a:ext cx="1104840" cy="1149840"/>
                <a:chOff x="5695200" y="3324600"/>
                <a:chExt cx="1104840" cy="1149840"/>
              </a:xfrm>
            </p:grpSpPr>
            <p:grpSp>
              <p:nvGrpSpPr>
                <p:cNvPr id="157" name="Group 9"/>
                <p:cNvGrpSpPr/>
                <p:nvPr/>
              </p:nvGrpSpPr>
              <p:grpSpPr>
                <a:xfrm>
                  <a:off x="5695200" y="3324600"/>
                  <a:ext cx="1044720" cy="1149840"/>
                  <a:chOff x="5695200" y="3324600"/>
                  <a:chExt cx="1044720" cy="1149840"/>
                </a:xfrm>
              </p:grpSpPr>
              <p:grpSp>
                <p:nvGrpSpPr>
                  <p:cNvPr id="158" name="Group 10"/>
                  <p:cNvGrpSpPr/>
                  <p:nvPr/>
                </p:nvGrpSpPr>
                <p:grpSpPr>
                  <a:xfrm>
                    <a:off x="5821560" y="4046040"/>
                    <a:ext cx="729000" cy="240120"/>
                    <a:chOff x="5821560" y="4046040"/>
                    <a:chExt cx="729000" cy="240120"/>
                  </a:xfrm>
                </p:grpSpPr>
                <p:sp>
                  <p:nvSpPr>
                    <p:cNvPr id="159" name="Rectangle 11"/>
                    <p:cNvSpPr/>
                    <p:nvPr/>
                  </p:nvSpPr>
                  <p:spPr>
                    <a:xfrm rot="10800000">
                      <a:off x="6522480" y="4126680"/>
                      <a:ext cx="28080" cy="723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5560" bIns="255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60" name="Group 12"/>
                    <p:cNvGrpSpPr/>
                    <p:nvPr/>
                  </p:nvGrpSpPr>
                  <p:grpSpPr>
                    <a:xfrm>
                      <a:off x="6444360" y="4049640"/>
                      <a:ext cx="78120" cy="236520"/>
                      <a:chOff x="6444360" y="4049640"/>
                      <a:chExt cx="78120" cy="236520"/>
                    </a:xfrm>
                  </p:grpSpPr>
                  <p:grpSp>
                    <p:nvGrpSpPr>
                      <p:cNvPr id="161" name="Group 13"/>
                      <p:cNvGrpSpPr/>
                      <p:nvPr/>
                    </p:nvGrpSpPr>
                    <p:grpSpPr>
                      <a:xfrm>
                        <a:off x="6444720" y="4049640"/>
                        <a:ext cx="77760" cy="235440"/>
                        <a:chOff x="6444720" y="4049640"/>
                        <a:chExt cx="77760" cy="235440"/>
                      </a:xfrm>
                    </p:grpSpPr>
                    <p:sp>
                      <p:nvSpPr>
                        <p:cNvPr id="162" name="Freeform 14"/>
                        <p:cNvSpPr/>
                        <p:nvPr/>
                      </p:nvSpPr>
                      <p:spPr>
                        <a:xfrm rot="10800000">
                          <a:off x="6470640" y="4078440"/>
                          <a:ext cx="51840" cy="172800"/>
                        </a:xfrm>
                        <a:prstGeom prst="pie">
                          <a:avLst/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3" name="Freeform 15"/>
                        <p:cNvSpPr/>
                        <p:nvPr/>
                      </p:nvSpPr>
                      <p:spPr>
                        <a:xfrm rot="10800000">
                          <a:off x="6444720" y="4251240"/>
                          <a:ext cx="25920" cy="33840"/>
                        </a:xfrm>
                        <a:prstGeom prst="pie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2600" bIns="-126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4" name="Freeform 16"/>
                        <p:cNvSpPr/>
                        <p:nvPr/>
                      </p:nvSpPr>
                      <p:spPr>
                        <a:xfrm flipV="1" rot="10800000">
                          <a:off x="6444720" y="4049640"/>
                          <a:ext cx="25920" cy="33840"/>
                        </a:xfrm>
                        <a:prstGeom prst="pie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2600" bIns="-126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165" name="Freeform 17"/>
                      <p:cNvSpPr/>
                      <p:nvPr/>
                    </p:nvSpPr>
                    <p:spPr>
                      <a:xfrm rot="10800000">
                        <a:off x="6444360" y="4049640"/>
                        <a:ext cx="360" cy="236520"/>
                      </a:xfrm>
                      <a:prstGeom prst="pie">
                        <a:avLst/>
                      </a:prstGeom>
                      <a:noFill/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66" name="Group 18"/>
                    <p:cNvGrpSpPr/>
                    <p:nvPr/>
                  </p:nvGrpSpPr>
                  <p:grpSpPr>
                    <a:xfrm>
                      <a:off x="5847840" y="4046040"/>
                      <a:ext cx="78120" cy="236520"/>
                      <a:chOff x="5847840" y="4046040"/>
                      <a:chExt cx="78120" cy="236520"/>
                    </a:xfrm>
                  </p:grpSpPr>
                  <p:grpSp>
                    <p:nvGrpSpPr>
                      <p:cNvPr id="167" name="Group 19"/>
                      <p:cNvGrpSpPr/>
                      <p:nvPr/>
                    </p:nvGrpSpPr>
                    <p:grpSpPr>
                      <a:xfrm>
                        <a:off x="5847840" y="4046040"/>
                        <a:ext cx="77760" cy="235440"/>
                        <a:chOff x="5847840" y="4046040"/>
                        <a:chExt cx="77760" cy="235440"/>
                      </a:xfrm>
                    </p:grpSpPr>
                    <p:sp>
                      <p:nvSpPr>
                        <p:cNvPr id="168" name="Freeform 20"/>
                        <p:cNvSpPr/>
                        <p:nvPr/>
                      </p:nvSpPr>
                      <p:spPr>
                        <a:xfrm flipH="1" rot="10800000">
                          <a:off x="5847840" y="4074840"/>
                          <a:ext cx="51840" cy="172800"/>
                        </a:xfrm>
                        <a:prstGeom prst="pie">
                          <a:avLst/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9" name="Freeform 21"/>
                        <p:cNvSpPr/>
                        <p:nvPr/>
                      </p:nvSpPr>
                      <p:spPr>
                        <a:xfrm flipH="1" rot="10800000">
                          <a:off x="5899680" y="4247640"/>
                          <a:ext cx="25920" cy="33840"/>
                        </a:xfrm>
                        <a:prstGeom prst="pie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2600" bIns="-126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0" name="Freeform 22"/>
                        <p:cNvSpPr/>
                        <p:nvPr/>
                      </p:nvSpPr>
                      <p:spPr>
                        <a:xfrm flipH="1" flipV="1" rot="10800000">
                          <a:off x="5899680" y="4046040"/>
                          <a:ext cx="25920" cy="33840"/>
                        </a:xfrm>
                        <a:prstGeom prst="pie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2600" bIns="-126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171" name="Freeform 23"/>
                      <p:cNvSpPr/>
                      <p:nvPr/>
                    </p:nvSpPr>
                    <p:spPr>
                      <a:xfrm flipH="1" rot="10800000">
                        <a:off x="5925240" y="4046040"/>
                        <a:ext cx="360" cy="236520"/>
                      </a:xfrm>
                      <a:prstGeom prst="pie">
                        <a:avLst/>
                      </a:prstGeom>
                      <a:noFill/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172" name="Rectangle 24"/>
                    <p:cNvSpPr/>
                    <p:nvPr/>
                  </p:nvSpPr>
                  <p:spPr>
                    <a:xfrm rot="10800000">
                      <a:off x="5925600" y="4126680"/>
                      <a:ext cx="519120" cy="723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5560" bIns="255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3" name="Rectangle 25"/>
                    <p:cNvSpPr/>
                    <p:nvPr/>
                  </p:nvSpPr>
                  <p:spPr>
                    <a:xfrm rot="10800000">
                      <a:off x="5821560" y="4126680"/>
                      <a:ext cx="25920" cy="723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5560" bIns="255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74" name="Group 26"/>
                  <p:cNvGrpSpPr/>
                  <p:nvPr/>
                </p:nvGrpSpPr>
                <p:grpSpPr>
                  <a:xfrm>
                    <a:off x="5717880" y="3324600"/>
                    <a:ext cx="1022040" cy="630720"/>
                    <a:chOff x="5717880" y="3324600"/>
                    <a:chExt cx="1022040" cy="630720"/>
                  </a:xfrm>
                </p:grpSpPr>
                <p:sp>
                  <p:nvSpPr>
                    <p:cNvPr id="175" name="Line 27"/>
                    <p:cNvSpPr/>
                    <p:nvPr/>
                  </p:nvSpPr>
                  <p:spPr>
                    <a:xfrm flipH="1">
                      <a:off x="6589080" y="3768120"/>
                      <a:ext cx="90000" cy="720"/>
                    </a:xfrm>
                    <a:prstGeom prst="line">
                      <a:avLst/>
                    </a:prstGeom>
                    <a:ln w="7632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76" name="Group 28"/>
                    <p:cNvGrpSpPr/>
                    <p:nvPr/>
                  </p:nvGrpSpPr>
                  <p:grpSpPr>
                    <a:xfrm>
                      <a:off x="5717880" y="3324600"/>
                      <a:ext cx="901440" cy="630720"/>
                      <a:chOff x="5717880" y="3324600"/>
                      <a:chExt cx="901440" cy="630720"/>
                    </a:xfrm>
                  </p:grpSpPr>
                  <p:grpSp>
                    <p:nvGrpSpPr>
                      <p:cNvPr id="177" name="Group 29"/>
                      <p:cNvGrpSpPr/>
                      <p:nvPr/>
                    </p:nvGrpSpPr>
                    <p:grpSpPr>
                      <a:xfrm>
                        <a:off x="5807880" y="3324600"/>
                        <a:ext cx="811440" cy="630720"/>
                        <a:chOff x="5807880" y="3324600"/>
                        <a:chExt cx="811440" cy="630720"/>
                      </a:xfrm>
                    </p:grpSpPr>
                    <p:sp>
                      <p:nvSpPr>
                        <p:cNvPr id="178" name="Arc 30"/>
                        <p:cNvSpPr/>
                        <p:nvPr/>
                      </p:nvSpPr>
                      <p:spPr>
                        <a:xfrm flipV="1">
                          <a:off x="5818680" y="3684600"/>
                          <a:ext cx="800640" cy="270360"/>
                        </a:xfrm>
                        <a:prstGeom prst="pie">
                          <a:avLst/>
                        </a:prstGeom>
                        <a:noFill/>
                        <a:ln w="1260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Freeform 31"/>
                        <p:cNvSpPr/>
                        <p:nvPr/>
                      </p:nvSpPr>
                      <p:spPr>
                        <a:xfrm>
                          <a:off x="5807880" y="3324600"/>
                          <a:ext cx="811440" cy="360720"/>
                        </a:xfrm>
                        <a:prstGeom prst="pie">
                          <a:avLst/>
                        </a:prstGeom>
                        <a:noFill/>
                        <a:ln w="1260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180" name="Freeform 32"/>
                      <p:cNvSpPr/>
                      <p:nvPr/>
                    </p:nvSpPr>
                    <p:spPr>
                      <a:xfrm>
                        <a:off x="5717880" y="3324600"/>
                        <a:ext cx="540720" cy="541080"/>
                      </a:xfrm>
                      <a:prstGeom prst="pie">
                        <a:avLst/>
                      </a:prstGeom>
                      <a:solidFill>
                        <a:srgbClr val="c0c0c0"/>
                      </a:solidFill>
                      <a:ln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81" name="Group 33"/>
                    <p:cNvGrpSpPr/>
                    <p:nvPr/>
                  </p:nvGrpSpPr>
                  <p:grpSpPr>
                    <a:xfrm>
                      <a:off x="6649920" y="3667680"/>
                      <a:ext cx="90000" cy="198000"/>
                      <a:chOff x="6649920" y="3667680"/>
                      <a:chExt cx="90000" cy="198000"/>
                    </a:xfrm>
                  </p:grpSpPr>
                  <p:grpSp>
                    <p:nvGrpSpPr>
                      <p:cNvPr id="182" name="Group 34"/>
                      <p:cNvGrpSpPr/>
                      <p:nvPr/>
                    </p:nvGrpSpPr>
                    <p:grpSpPr>
                      <a:xfrm>
                        <a:off x="6649920" y="3667680"/>
                        <a:ext cx="67680" cy="198000"/>
                        <a:chOff x="6649920" y="3667680"/>
                        <a:chExt cx="67680" cy="198000"/>
                      </a:xfrm>
                    </p:grpSpPr>
                    <p:grpSp>
                      <p:nvGrpSpPr>
                        <p:cNvPr id="183" name="Group 35"/>
                        <p:cNvGrpSpPr/>
                        <p:nvPr/>
                      </p:nvGrpSpPr>
                      <p:grpSpPr>
                        <a:xfrm>
                          <a:off x="6650280" y="3668400"/>
                          <a:ext cx="67320" cy="196920"/>
                          <a:chOff x="6650280" y="3668400"/>
                          <a:chExt cx="67320" cy="196920"/>
                        </a:xfrm>
                      </p:grpSpPr>
                      <p:sp>
                        <p:nvSpPr>
                          <p:cNvPr id="184" name="Freeform 36"/>
                          <p:cNvSpPr/>
                          <p:nvPr/>
                        </p:nvSpPr>
                        <p:spPr>
                          <a:xfrm flipH="1">
                            <a:off x="6672240" y="3696840"/>
                            <a:ext cx="45000" cy="144720"/>
                          </a:xfrm>
                          <a:prstGeom prst="pie">
                            <a:avLst/>
                          </a:prstGeom>
                          <a:solidFill>
                            <a:srgbClr val="ffffff"/>
                          </a:solidFill>
                          <a:ln w="936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85" name="Freeform 37"/>
                          <p:cNvSpPr/>
                          <p:nvPr/>
                        </p:nvSpPr>
                        <p:spPr>
                          <a:xfrm flipH="1">
                            <a:off x="6650280" y="3668400"/>
                            <a:ext cx="22320" cy="28440"/>
                          </a:xfrm>
                          <a:prstGeom prst="pie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18000" bIns="-1800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86" name="Freeform 38"/>
                          <p:cNvSpPr/>
                          <p:nvPr/>
                        </p:nvSpPr>
                        <p:spPr>
                          <a:xfrm flipH="1" flipV="1">
                            <a:off x="6650280" y="3836520"/>
                            <a:ext cx="22320" cy="28440"/>
                          </a:xfrm>
                          <a:prstGeom prst="pie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18000" bIns="-1800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187" name="Freeform 39"/>
                        <p:cNvSpPr/>
                        <p:nvPr/>
                      </p:nvSpPr>
                      <p:spPr>
                        <a:xfrm flipH="1">
                          <a:off x="6649560" y="3667680"/>
                          <a:ext cx="360" cy="198000"/>
                        </a:xfrm>
                        <a:prstGeom prst="pie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188" name="Rectangle 40"/>
                      <p:cNvSpPr/>
                      <p:nvPr/>
                    </p:nvSpPr>
                    <p:spPr>
                      <a:xfrm>
                        <a:off x="6717600" y="3738240"/>
                        <a:ext cx="22320" cy="6084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4040" bIns="1404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189" name="Group 41"/>
                  <p:cNvGrpSpPr/>
                  <p:nvPr/>
                </p:nvGrpSpPr>
                <p:grpSpPr>
                  <a:xfrm>
                    <a:off x="5695200" y="4226760"/>
                    <a:ext cx="991800" cy="247680"/>
                    <a:chOff x="5695200" y="4226760"/>
                    <a:chExt cx="991800" cy="247680"/>
                  </a:xfrm>
                </p:grpSpPr>
                <p:grpSp>
                  <p:nvGrpSpPr>
                    <p:cNvPr id="190" name="Group 42"/>
                    <p:cNvGrpSpPr/>
                    <p:nvPr/>
                  </p:nvGrpSpPr>
                  <p:grpSpPr>
                    <a:xfrm>
                      <a:off x="5785200" y="4226760"/>
                      <a:ext cx="123120" cy="180360"/>
                      <a:chOff x="5785200" y="4226760"/>
                      <a:chExt cx="123120" cy="180360"/>
                    </a:xfrm>
                  </p:grpSpPr>
                  <p:sp>
                    <p:nvSpPr>
                      <p:cNvPr id="191" name="Oval 43"/>
                      <p:cNvSpPr/>
                      <p:nvPr/>
                    </p:nvSpPr>
                    <p:spPr>
                      <a:xfrm>
                        <a:off x="5800680" y="4226760"/>
                        <a:ext cx="97200" cy="8496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3680" bIns="1368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2" name="Rectangle 44"/>
                      <p:cNvSpPr/>
                      <p:nvPr/>
                    </p:nvSpPr>
                    <p:spPr>
                      <a:xfrm>
                        <a:off x="5825880" y="4300920"/>
                        <a:ext cx="43920" cy="95400"/>
                      </a:xfrm>
                      <a:prstGeom prst="rect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3" name="Rectangle 45"/>
                      <p:cNvSpPr/>
                      <p:nvPr/>
                    </p:nvSpPr>
                    <p:spPr>
                      <a:xfrm>
                        <a:off x="5785200" y="4378680"/>
                        <a:ext cx="123120" cy="28440"/>
                      </a:xfrm>
                      <a:prstGeom prst="rect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8360" bIns="-1836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94" name="Group 46"/>
                    <p:cNvGrpSpPr/>
                    <p:nvPr/>
                  </p:nvGrpSpPr>
                  <p:grpSpPr>
                    <a:xfrm>
                      <a:off x="6464880" y="4226760"/>
                      <a:ext cx="123120" cy="180360"/>
                      <a:chOff x="6464880" y="4226760"/>
                      <a:chExt cx="123120" cy="180360"/>
                    </a:xfrm>
                  </p:grpSpPr>
                  <p:sp>
                    <p:nvSpPr>
                      <p:cNvPr id="195" name="Oval 47"/>
                      <p:cNvSpPr/>
                      <p:nvPr/>
                    </p:nvSpPr>
                    <p:spPr>
                      <a:xfrm>
                        <a:off x="6480360" y="4226760"/>
                        <a:ext cx="97200" cy="8496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3680" bIns="1368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6" name="Rectangle 48"/>
                      <p:cNvSpPr/>
                      <p:nvPr/>
                    </p:nvSpPr>
                    <p:spPr>
                      <a:xfrm>
                        <a:off x="6505560" y="4300920"/>
                        <a:ext cx="43920" cy="95400"/>
                      </a:xfrm>
                      <a:prstGeom prst="rect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7" name="Rectangle 49"/>
                      <p:cNvSpPr/>
                      <p:nvPr/>
                    </p:nvSpPr>
                    <p:spPr>
                      <a:xfrm>
                        <a:off x="6464880" y="4378680"/>
                        <a:ext cx="123120" cy="28440"/>
                      </a:xfrm>
                      <a:prstGeom prst="rect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8360" bIns="-1836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198" name="Freeform 50"/>
                    <p:cNvSpPr/>
                    <p:nvPr/>
                  </p:nvSpPr>
                  <p:spPr>
                    <a:xfrm>
                      <a:off x="5695200" y="4413600"/>
                      <a:ext cx="991800" cy="60840"/>
                    </a:xfrm>
                    <a:prstGeom prst="pie">
                      <a:avLst/>
                    </a:prstGeom>
                    <a:solidFill>
                      <a:srgbClr val="c0c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4400" b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99" name="Oval 51"/>
                  <p:cNvSpPr/>
                  <p:nvPr/>
                </p:nvSpPr>
                <p:spPr>
                  <a:xfrm>
                    <a:off x="6138360" y="3368880"/>
                    <a:ext cx="90000" cy="90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7280" bIns="172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00" name="Group 52"/>
                  <p:cNvGrpSpPr/>
                  <p:nvPr/>
                </p:nvGrpSpPr>
                <p:grpSpPr>
                  <a:xfrm>
                    <a:off x="6656400" y="3850560"/>
                    <a:ext cx="78480" cy="65160"/>
                    <a:chOff x="6656400" y="3850560"/>
                    <a:chExt cx="78480" cy="65160"/>
                  </a:xfrm>
                </p:grpSpPr>
                <p:sp>
                  <p:nvSpPr>
                    <p:cNvPr id="201" name="Oval 53"/>
                    <p:cNvSpPr/>
                    <p:nvPr/>
                  </p:nvSpPr>
                  <p:spPr>
                    <a:xfrm>
                      <a:off x="6666480" y="3850560"/>
                      <a:ext cx="61920" cy="3060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840" bIns="-248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2" name="Rectangle 54"/>
                    <p:cNvSpPr/>
                    <p:nvPr/>
                  </p:nvSpPr>
                  <p:spPr>
                    <a:xfrm>
                      <a:off x="6682320" y="3877200"/>
                      <a:ext cx="28080" cy="3456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240" bIns="-122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Rectangle 55"/>
                    <p:cNvSpPr/>
                    <p:nvPr/>
                  </p:nvSpPr>
                  <p:spPr>
                    <a:xfrm>
                      <a:off x="6656400" y="3905640"/>
                      <a:ext cx="78480" cy="1008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6720" bIns="-36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04" name="Group 56"/>
                <p:cNvGrpSpPr/>
                <p:nvPr/>
              </p:nvGrpSpPr>
              <p:grpSpPr>
                <a:xfrm>
                  <a:off x="6656760" y="3678840"/>
                  <a:ext cx="143280" cy="237960"/>
                  <a:chOff x="6656760" y="3678840"/>
                  <a:chExt cx="143280" cy="237960"/>
                </a:xfrm>
              </p:grpSpPr>
              <p:grpSp>
                <p:nvGrpSpPr>
                  <p:cNvPr id="205" name="Group 57"/>
                  <p:cNvGrpSpPr/>
                  <p:nvPr/>
                </p:nvGrpSpPr>
                <p:grpSpPr>
                  <a:xfrm>
                    <a:off x="6702480" y="3678840"/>
                    <a:ext cx="78480" cy="65160"/>
                    <a:chOff x="6702480" y="3678840"/>
                    <a:chExt cx="78480" cy="65160"/>
                  </a:xfrm>
                </p:grpSpPr>
                <p:sp>
                  <p:nvSpPr>
                    <p:cNvPr id="206" name="Oval 58"/>
                    <p:cNvSpPr/>
                    <p:nvPr/>
                  </p:nvSpPr>
                  <p:spPr>
                    <a:xfrm>
                      <a:off x="6712560" y="3678840"/>
                      <a:ext cx="61920" cy="3060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840" bIns="-248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7" name="Rectangle 59"/>
                    <p:cNvSpPr/>
                    <p:nvPr/>
                  </p:nvSpPr>
                  <p:spPr>
                    <a:xfrm>
                      <a:off x="6728400" y="3705480"/>
                      <a:ext cx="28080" cy="3456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240" bIns="-122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8" name="Rectangle 60"/>
                    <p:cNvSpPr/>
                    <p:nvPr/>
                  </p:nvSpPr>
                  <p:spPr>
                    <a:xfrm>
                      <a:off x="6702480" y="3733920"/>
                      <a:ext cx="78480" cy="1008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6720" bIns="-36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9" name="Group 61"/>
                  <p:cNvGrpSpPr/>
                  <p:nvPr/>
                </p:nvGrpSpPr>
                <p:grpSpPr>
                  <a:xfrm>
                    <a:off x="6656760" y="3851640"/>
                    <a:ext cx="78480" cy="65160"/>
                    <a:chOff x="6656760" y="3851640"/>
                    <a:chExt cx="78480" cy="65160"/>
                  </a:xfrm>
                </p:grpSpPr>
                <p:sp>
                  <p:nvSpPr>
                    <p:cNvPr id="210" name="Oval 62"/>
                    <p:cNvSpPr/>
                    <p:nvPr/>
                  </p:nvSpPr>
                  <p:spPr>
                    <a:xfrm>
                      <a:off x="6666840" y="3851640"/>
                      <a:ext cx="61920" cy="3060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840" bIns="-248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1" name="Rectangle 63"/>
                    <p:cNvSpPr/>
                    <p:nvPr/>
                  </p:nvSpPr>
                  <p:spPr>
                    <a:xfrm>
                      <a:off x="6682680" y="3878280"/>
                      <a:ext cx="28080" cy="3456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240" bIns="-122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Rectangle 64"/>
                    <p:cNvSpPr/>
                    <p:nvPr/>
                  </p:nvSpPr>
                  <p:spPr>
                    <a:xfrm>
                      <a:off x="6656760" y="3906720"/>
                      <a:ext cx="78480" cy="1008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6720" bIns="-36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13" name="Arc 65"/>
                  <p:cNvSpPr/>
                  <p:nvPr/>
                </p:nvSpPr>
                <p:spPr>
                  <a:xfrm flipV="1" rot="10800000">
                    <a:off x="6687000" y="3708000"/>
                    <a:ext cx="90000" cy="165240"/>
                  </a:xfrm>
                  <a:prstGeom prst="pie">
                    <a:avLst/>
                  </a:prstGeom>
                  <a:noFill/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Arc 66"/>
                  <p:cNvSpPr/>
                  <p:nvPr/>
                </p:nvSpPr>
                <p:spPr>
                  <a:xfrm flipV="1" rot="10800000">
                    <a:off x="6710040" y="3715920"/>
                    <a:ext cx="90000" cy="165240"/>
                  </a:xfrm>
                  <a:prstGeom prst="pie">
                    <a:avLst/>
                  </a:prstGeom>
                  <a:noFill/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15" name="Group 67"/>
              <p:cNvGrpSpPr/>
              <p:nvPr/>
            </p:nvGrpSpPr>
            <p:grpSpPr>
              <a:xfrm>
                <a:off x="3614040" y="3239640"/>
                <a:ext cx="1279080" cy="1257480"/>
                <a:chOff x="3614040" y="3239640"/>
                <a:chExt cx="1279080" cy="1257480"/>
              </a:xfrm>
            </p:grpSpPr>
            <p:grpSp>
              <p:nvGrpSpPr>
                <p:cNvPr id="216" name="Group 68"/>
                <p:cNvGrpSpPr/>
                <p:nvPr/>
              </p:nvGrpSpPr>
              <p:grpSpPr>
                <a:xfrm>
                  <a:off x="3788640" y="3239640"/>
                  <a:ext cx="1104480" cy="1257480"/>
                  <a:chOff x="3788640" y="3239640"/>
                  <a:chExt cx="1104480" cy="1257480"/>
                </a:xfrm>
              </p:grpSpPr>
              <p:grpSp>
                <p:nvGrpSpPr>
                  <p:cNvPr id="217" name="Group 69"/>
                  <p:cNvGrpSpPr/>
                  <p:nvPr/>
                </p:nvGrpSpPr>
                <p:grpSpPr>
                  <a:xfrm>
                    <a:off x="3915000" y="4068720"/>
                    <a:ext cx="729000" cy="240120"/>
                    <a:chOff x="3915000" y="4068720"/>
                    <a:chExt cx="729000" cy="240120"/>
                  </a:xfrm>
                </p:grpSpPr>
                <p:sp>
                  <p:nvSpPr>
                    <p:cNvPr id="218" name="Rectangle 70"/>
                    <p:cNvSpPr/>
                    <p:nvPr/>
                  </p:nvSpPr>
                  <p:spPr>
                    <a:xfrm rot="10800000">
                      <a:off x="4615920" y="4149360"/>
                      <a:ext cx="28080" cy="723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5560" bIns="255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219" name="Group 71"/>
                    <p:cNvGrpSpPr/>
                    <p:nvPr/>
                  </p:nvGrpSpPr>
                  <p:grpSpPr>
                    <a:xfrm>
                      <a:off x="4537800" y="4072320"/>
                      <a:ext cx="78120" cy="236520"/>
                      <a:chOff x="4537800" y="4072320"/>
                      <a:chExt cx="78120" cy="236520"/>
                    </a:xfrm>
                  </p:grpSpPr>
                  <p:grpSp>
                    <p:nvGrpSpPr>
                      <p:cNvPr id="220" name="Group 72"/>
                      <p:cNvGrpSpPr/>
                      <p:nvPr/>
                    </p:nvGrpSpPr>
                    <p:grpSpPr>
                      <a:xfrm>
                        <a:off x="4538160" y="4072320"/>
                        <a:ext cx="77760" cy="235440"/>
                        <a:chOff x="4538160" y="4072320"/>
                        <a:chExt cx="77760" cy="235440"/>
                      </a:xfrm>
                    </p:grpSpPr>
                    <p:sp>
                      <p:nvSpPr>
                        <p:cNvPr id="221" name="Freeform 73"/>
                        <p:cNvSpPr/>
                        <p:nvPr/>
                      </p:nvSpPr>
                      <p:spPr>
                        <a:xfrm rot="10800000">
                          <a:off x="4564080" y="4101120"/>
                          <a:ext cx="51840" cy="172800"/>
                        </a:xfrm>
                        <a:prstGeom prst="pie">
                          <a:avLst/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2" name="Freeform 74"/>
                        <p:cNvSpPr/>
                        <p:nvPr/>
                      </p:nvSpPr>
                      <p:spPr>
                        <a:xfrm rot="10800000">
                          <a:off x="4538160" y="4273920"/>
                          <a:ext cx="25920" cy="33840"/>
                        </a:xfrm>
                        <a:prstGeom prst="pie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2600" bIns="-126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3" name="Freeform 75"/>
                        <p:cNvSpPr/>
                        <p:nvPr/>
                      </p:nvSpPr>
                      <p:spPr>
                        <a:xfrm flipV="1" rot="10800000">
                          <a:off x="4538160" y="4072320"/>
                          <a:ext cx="25920" cy="33840"/>
                        </a:xfrm>
                        <a:prstGeom prst="pie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2600" bIns="-126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224" name="Freeform 76"/>
                      <p:cNvSpPr/>
                      <p:nvPr/>
                    </p:nvSpPr>
                    <p:spPr>
                      <a:xfrm rot="10800000">
                        <a:off x="4537800" y="4072320"/>
                        <a:ext cx="360" cy="236520"/>
                      </a:xfrm>
                      <a:prstGeom prst="pie">
                        <a:avLst/>
                      </a:prstGeom>
                      <a:noFill/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225" name="Group 77"/>
                    <p:cNvGrpSpPr/>
                    <p:nvPr/>
                  </p:nvGrpSpPr>
                  <p:grpSpPr>
                    <a:xfrm>
                      <a:off x="3941280" y="4068720"/>
                      <a:ext cx="78120" cy="236520"/>
                      <a:chOff x="3941280" y="4068720"/>
                      <a:chExt cx="78120" cy="236520"/>
                    </a:xfrm>
                  </p:grpSpPr>
                  <p:grpSp>
                    <p:nvGrpSpPr>
                      <p:cNvPr id="226" name="Group 78"/>
                      <p:cNvGrpSpPr/>
                      <p:nvPr/>
                    </p:nvGrpSpPr>
                    <p:grpSpPr>
                      <a:xfrm>
                        <a:off x="3941280" y="4068720"/>
                        <a:ext cx="77760" cy="235440"/>
                        <a:chOff x="3941280" y="4068720"/>
                        <a:chExt cx="77760" cy="235440"/>
                      </a:xfrm>
                    </p:grpSpPr>
                    <p:sp>
                      <p:nvSpPr>
                        <p:cNvPr id="227" name="Freeform 79"/>
                        <p:cNvSpPr/>
                        <p:nvPr/>
                      </p:nvSpPr>
                      <p:spPr>
                        <a:xfrm flipH="1" rot="10800000">
                          <a:off x="3941280" y="4097520"/>
                          <a:ext cx="51840" cy="172800"/>
                        </a:xfrm>
                        <a:prstGeom prst="pie">
                          <a:avLst/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Freeform 80"/>
                        <p:cNvSpPr/>
                        <p:nvPr/>
                      </p:nvSpPr>
                      <p:spPr>
                        <a:xfrm flipH="1" rot="10800000">
                          <a:off x="3993120" y="4270320"/>
                          <a:ext cx="25920" cy="33840"/>
                        </a:xfrm>
                        <a:prstGeom prst="pie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2600" bIns="-126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Freeform 81"/>
                        <p:cNvSpPr/>
                        <p:nvPr/>
                      </p:nvSpPr>
                      <p:spPr>
                        <a:xfrm flipH="1" flipV="1" rot="10800000">
                          <a:off x="3993120" y="4068720"/>
                          <a:ext cx="25920" cy="33840"/>
                        </a:xfrm>
                        <a:prstGeom prst="pie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2600" bIns="-126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230" name="Freeform 82"/>
                      <p:cNvSpPr/>
                      <p:nvPr/>
                    </p:nvSpPr>
                    <p:spPr>
                      <a:xfrm flipH="1" rot="10800000">
                        <a:off x="4018680" y="4068720"/>
                        <a:ext cx="360" cy="236520"/>
                      </a:xfrm>
                      <a:prstGeom prst="pie">
                        <a:avLst/>
                      </a:prstGeom>
                      <a:noFill/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231" name="Rectangle 83"/>
                    <p:cNvSpPr/>
                    <p:nvPr/>
                  </p:nvSpPr>
                  <p:spPr>
                    <a:xfrm rot="10800000">
                      <a:off x="4019040" y="4149360"/>
                      <a:ext cx="519120" cy="723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5560" bIns="255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2" name="Rectangle 84"/>
                    <p:cNvSpPr/>
                    <p:nvPr/>
                  </p:nvSpPr>
                  <p:spPr>
                    <a:xfrm rot="10800000">
                      <a:off x="3915000" y="4149360"/>
                      <a:ext cx="25920" cy="723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5560" bIns="255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3" name="Group 85"/>
                  <p:cNvGrpSpPr/>
                  <p:nvPr/>
                </p:nvGrpSpPr>
                <p:grpSpPr>
                  <a:xfrm>
                    <a:off x="3816720" y="3239640"/>
                    <a:ext cx="1042560" cy="887760"/>
                    <a:chOff x="3816720" y="3239640"/>
                    <a:chExt cx="1042560" cy="887760"/>
                  </a:xfrm>
                </p:grpSpPr>
                <p:sp>
                  <p:nvSpPr>
                    <p:cNvPr id="234" name="Line 86"/>
                    <p:cNvSpPr/>
                    <p:nvPr/>
                  </p:nvSpPr>
                  <p:spPr>
                    <a:xfrm flipH="1">
                      <a:off x="4707720" y="3627360"/>
                      <a:ext cx="82800" cy="34560"/>
                    </a:xfrm>
                    <a:prstGeom prst="line">
                      <a:avLst/>
                    </a:prstGeom>
                    <a:ln w="7632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240" bIns="-122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235" name="Group 87"/>
                    <p:cNvGrpSpPr/>
                    <p:nvPr/>
                  </p:nvGrpSpPr>
                  <p:grpSpPr>
                    <a:xfrm>
                      <a:off x="3816720" y="3239640"/>
                      <a:ext cx="990360" cy="887760"/>
                      <a:chOff x="3816720" y="3239640"/>
                      <a:chExt cx="990360" cy="887760"/>
                    </a:xfrm>
                  </p:grpSpPr>
                  <p:sp>
                    <p:nvSpPr>
                      <p:cNvPr id="236" name="Arc 88"/>
                      <p:cNvSpPr/>
                      <p:nvPr/>
                    </p:nvSpPr>
                    <p:spPr>
                      <a:xfrm flipV="1" rot="20259000">
                        <a:off x="3984840" y="3714120"/>
                        <a:ext cx="800640" cy="270360"/>
                      </a:xfrm>
                      <a:prstGeom prst="pie">
                        <a:avLst/>
                      </a:prstGeom>
                      <a:noFill/>
                      <a:ln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37" name="Freeform 89"/>
                      <p:cNvSpPr/>
                      <p:nvPr/>
                    </p:nvSpPr>
                    <p:spPr>
                      <a:xfrm rot="20259000">
                        <a:off x="3854520" y="3380040"/>
                        <a:ext cx="811440" cy="360720"/>
                      </a:xfrm>
                      <a:prstGeom prst="pie">
                        <a:avLst/>
                      </a:prstGeom>
                      <a:noFill/>
                      <a:ln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238" name="Group 90"/>
                    <p:cNvGrpSpPr/>
                    <p:nvPr/>
                  </p:nvGrpSpPr>
                  <p:grpSpPr>
                    <a:xfrm>
                      <a:off x="4725720" y="3537000"/>
                      <a:ext cx="133560" cy="191520"/>
                      <a:chOff x="4725720" y="3537000"/>
                      <a:chExt cx="133560" cy="191520"/>
                    </a:xfrm>
                  </p:grpSpPr>
                  <p:grpSp>
                    <p:nvGrpSpPr>
                      <p:cNvPr id="239" name="Group 91"/>
                      <p:cNvGrpSpPr/>
                      <p:nvPr/>
                    </p:nvGrpSpPr>
                    <p:grpSpPr>
                      <a:xfrm>
                        <a:off x="4725720" y="3537000"/>
                        <a:ext cx="128520" cy="191520"/>
                        <a:chOff x="4725720" y="3537000"/>
                        <a:chExt cx="128520" cy="191520"/>
                      </a:xfrm>
                    </p:grpSpPr>
                    <p:grpSp>
                      <p:nvGrpSpPr>
                        <p:cNvPr id="240" name="Group 92"/>
                        <p:cNvGrpSpPr/>
                        <p:nvPr/>
                      </p:nvGrpSpPr>
                      <p:grpSpPr>
                        <a:xfrm>
                          <a:off x="4726440" y="3537000"/>
                          <a:ext cx="127800" cy="191160"/>
                          <a:chOff x="4726440" y="3537000"/>
                          <a:chExt cx="127800" cy="191160"/>
                        </a:xfrm>
                      </p:grpSpPr>
                      <p:sp>
                        <p:nvSpPr>
                          <p:cNvPr id="241" name="Freeform 93"/>
                          <p:cNvSpPr/>
                          <p:nvPr/>
                        </p:nvSpPr>
                        <p:spPr>
                          <a:xfrm flipH="1" rot="20259000">
                            <a:off x="4782960" y="3549240"/>
                            <a:ext cx="45000" cy="144720"/>
                          </a:xfrm>
                          <a:prstGeom prst="pie">
                            <a:avLst/>
                          </a:prstGeom>
                          <a:solidFill>
                            <a:srgbClr val="ffffff"/>
                          </a:solidFill>
                          <a:ln w="936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42" name="Freeform 94"/>
                          <p:cNvSpPr/>
                          <p:nvPr/>
                        </p:nvSpPr>
                        <p:spPr>
                          <a:xfrm flipH="1" rot="20259000">
                            <a:off x="4730400" y="3539880"/>
                            <a:ext cx="22320" cy="28440"/>
                          </a:xfrm>
                          <a:prstGeom prst="pie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18000" bIns="-1800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43" name="Freeform 95"/>
                          <p:cNvSpPr/>
                          <p:nvPr/>
                        </p:nvSpPr>
                        <p:spPr>
                          <a:xfrm flipH="1" flipV="1" rot="20259000">
                            <a:off x="4794480" y="3696120"/>
                            <a:ext cx="22320" cy="28440"/>
                          </a:xfrm>
                          <a:prstGeom prst="pie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18000" bIns="-1800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44" name="Freeform 96"/>
                        <p:cNvSpPr/>
                        <p:nvPr/>
                      </p:nvSpPr>
                      <p:spPr>
                        <a:xfrm flipH="1" rot="20259000">
                          <a:off x="4763160" y="3537720"/>
                          <a:ext cx="360" cy="198000"/>
                        </a:xfrm>
                        <a:prstGeom prst="pie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245" name="Rectangle 97"/>
                      <p:cNvSpPr/>
                      <p:nvPr/>
                    </p:nvSpPr>
                    <p:spPr>
                      <a:xfrm rot="20259000">
                        <a:off x="4825800" y="3578040"/>
                        <a:ext cx="22320" cy="6084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4040" bIns="1404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246" name="Group 98"/>
                  <p:cNvGrpSpPr/>
                  <p:nvPr/>
                </p:nvGrpSpPr>
                <p:grpSpPr>
                  <a:xfrm>
                    <a:off x="3788640" y="4249440"/>
                    <a:ext cx="991800" cy="247680"/>
                    <a:chOff x="3788640" y="4249440"/>
                    <a:chExt cx="991800" cy="247680"/>
                  </a:xfrm>
                </p:grpSpPr>
                <p:grpSp>
                  <p:nvGrpSpPr>
                    <p:cNvPr id="247" name="Group 99"/>
                    <p:cNvGrpSpPr/>
                    <p:nvPr/>
                  </p:nvGrpSpPr>
                  <p:grpSpPr>
                    <a:xfrm>
                      <a:off x="3878640" y="4249440"/>
                      <a:ext cx="123120" cy="180360"/>
                      <a:chOff x="3878640" y="4249440"/>
                      <a:chExt cx="123120" cy="180360"/>
                    </a:xfrm>
                  </p:grpSpPr>
                  <p:sp>
                    <p:nvSpPr>
                      <p:cNvPr id="248" name="Oval 100"/>
                      <p:cNvSpPr/>
                      <p:nvPr/>
                    </p:nvSpPr>
                    <p:spPr>
                      <a:xfrm>
                        <a:off x="3894120" y="4249440"/>
                        <a:ext cx="97200" cy="8496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3680" bIns="1368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49" name="Rectangle 101"/>
                      <p:cNvSpPr/>
                      <p:nvPr/>
                    </p:nvSpPr>
                    <p:spPr>
                      <a:xfrm>
                        <a:off x="3919320" y="4323600"/>
                        <a:ext cx="43920" cy="95400"/>
                      </a:xfrm>
                      <a:prstGeom prst="rect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50" name="Rectangle 102"/>
                      <p:cNvSpPr/>
                      <p:nvPr/>
                    </p:nvSpPr>
                    <p:spPr>
                      <a:xfrm>
                        <a:off x="3878640" y="4401360"/>
                        <a:ext cx="123120" cy="28440"/>
                      </a:xfrm>
                      <a:prstGeom prst="rect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8360" bIns="-1836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251" name="Group 103"/>
                    <p:cNvGrpSpPr/>
                    <p:nvPr/>
                  </p:nvGrpSpPr>
                  <p:grpSpPr>
                    <a:xfrm>
                      <a:off x="4558320" y="4249440"/>
                      <a:ext cx="123120" cy="180360"/>
                      <a:chOff x="4558320" y="4249440"/>
                      <a:chExt cx="123120" cy="180360"/>
                    </a:xfrm>
                  </p:grpSpPr>
                  <p:sp>
                    <p:nvSpPr>
                      <p:cNvPr id="252" name="Oval 104"/>
                      <p:cNvSpPr/>
                      <p:nvPr/>
                    </p:nvSpPr>
                    <p:spPr>
                      <a:xfrm>
                        <a:off x="4573800" y="4249440"/>
                        <a:ext cx="97200" cy="8496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3680" bIns="1368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53" name="Rectangle 105"/>
                      <p:cNvSpPr/>
                      <p:nvPr/>
                    </p:nvSpPr>
                    <p:spPr>
                      <a:xfrm>
                        <a:off x="4599000" y="4323600"/>
                        <a:ext cx="43920" cy="95400"/>
                      </a:xfrm>
                      <a:prstGeom prst="rect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54" name="Rectangle 106"/>
                      <p:cNvSpPr/>
                      <p:nvPr/>
                    </p:nvSpPr>
                    <p:spPr>
                      <a:xfrm>
                        <a:off x="4558320" y="4401360"/>
                        <a:ext cx="123120" cy="28440"/>
                      </a:xfrm>
                      <a:prstGeom prst="rect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8360" bIns="-1836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255" name="Freeform 107"/>
                    <p:cNvSpPr/>
                    <p:nvPr/>
                  </p:nvSpPr>
                  <p:spPr>
                    <a:xfrm>
                      <a:off x="3788640" y="4436280"/>
                      <a:ext cx="991800" cy="60840"/>
                    </a:xfrm>
                    <a:prstGeom prst="pie">
                      <a:avLst/>
                    </a:prstGeom>
                    <a:solidFill>
                      <a:srgbClr val="c0c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4400" b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56" name="Freeform 108"/>
                  <p:cNvSpPr/>
                  <p:nvPr/>
                </p:nvSpPr>
                <p:spPr>
                  <a:xfrm>
                    <a:off x="3811320" y="3347280"/>
                    <a:ext cx="540720" cy="541080"/>
                  </a:xfrm>
                  <a:prstGeom prst="pie">
                    <a:avLst/>
                  </a:prstGeom>
                  <a:solidFill>
                    <a:srgbClr val="c0c0c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7" name="Oval 109"/>
                  <p:cNvSpPr/>
                  <p:nvPr/>
                </p:nvSpPr>
                <p:spPr>
                  <a:xfrm>
                    <a:off x="4231800" y="3393000"/>
                    <a:ext cx="90000" cy="90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7280" bIns="172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8" name="Group 110"/>
                  <p:cNvGrpSpPr/>
                  <p:nvPr/>
                </p:nvGrpSpPr>
                <p:grpSpPr>
                  <a:xfrm>
                    <a:off x="4749840" y="3692880"/>
                    <a:ext cx="143280" cy="237960"/>
                    <a:chOff x="4749840" y="3692880"/>
                    <a:chExt cx="143280" cy="237960"/>
                  </a:xfrm>
                </p:grpSpPr>
                <p:grpSp>
                  <p:nvGrpSpPr>
                    <p:cNvPr id="259" name="Group 111"/>
                    <p:cNvGrpSpPr/>
                    <p:nvPr/>
                  </p:nvGrpSpPr>
                  <p:grpSpPr>
                    <a:xfrm>
                      <a:off x="4795560" y="3692880"/>
                      <a:ext cx="78480" cy="65160"/>
                      <a:chOff x="4795560" y="3692880"/>
                      <a:chExt cx="78480" cy="65160"/>
                    </a:xfrm>
                  </p:grpSpPr>
                  <p:sp>
                    <p:nvSpPr>
                      <p:cNvPr id="260" name="Oval 112"/>
                      <p:cNvSpPr/>
                      <p:nvPr/>
                    </p:nvSpPr>
                    <p:spPr>
                      <a:xfrm>
                        <a:off x="4805640" y="3692880"/>
                        <a:ext cx="61920" cy="3060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4840" bIns="-2484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61" name="Rectangle 113"/>
                      <p:cNvSpPr/>
                      <p:nvPr/>
                    </p:nvSpPr>
                    <p:spPr>
                      <a:xfrm>
                        <a:off x="4821480" y="3719520"/>
                        <a:ext cx="28080" cy="34560"/>
                      </a:xfrm>
                      <a:prstGeom prst="rect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2240" bIns="-1224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62" name="Rectangle 114"/>
                      <p:cNvSpPr/>
                      <p:nvPr/>
                    </p:nvSpPr>
                    <p:spPr>
                      <a:xfrm>
                        <a:off x="4795560" y="3747960"/>
                        <a:ext cx="78480" cy="10080"/>
                      </a:xfrm>
                      <a:prstGeom prst="rect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720" bIns="-3672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263" name="Group 115"/>
                    <p:cNvGrpSpPr/>
                    <p:nvPr/>
                  </p:nvGrpSpPr>
                  <p:grpSpPr>
                    <a:xfrm>
                      <a:off x="4749840" y="3865680"/>
                      <a:ext cx="78480" cy="65160"/>
                      <a:chOff x="4749840" y="3865680"/>
                      <a:chExt cx="78480" cy="65160"/>
                    </a:xfrm>
                  </p:grpSpPr>
                  <p:sp>
                    <p:nvSpPr>
                      <p:cNvPr id="264" name="Oval 116"/>
                      <p:cNvSpPr/>
                      <p:nvPr/>
                    </p:nvSpPr>
                    <p:spPr>
                      <a:xfrm>
                        <a:off x="4759920" y="3865680"/>
                        <a:ext cx="61920" cy="3060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4840" bIns="-2484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65" name="Rectangle 117"/>
                      <p:cNvSpPr/>
                      <p:nvPr/>
                    </p:nvSpPr>
                    <p:spPr>
                      <a:xfrm>
                        <a:off x="4775760" y="3892320"/>
                        <a:ext cx="28080" cy="34560"/>
                      </a:xfrm>
                      <a:prstGeom prst="rect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2240" bIns="-1224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66" name="Rectangle 118"/>
                      <p:cNvSpPr/>
                      <p:nvPr/>
                    </p:nvSpPr>
                    <p:spPr>
                      <a:xfrm>
                        <a:off x="4749840" y="3920760"/>
                        <a:ext cx="78480" cy="10080"/>
                      </a:xfrm>
                      <a:prstGeom prst="rect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720" bIns="-3672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267" name="Arc 119"/>
                    <p:cNvSpPr/>
                    <p:nvPr/>
                  </p:nvSpPr>
                  <p:spPr>
                    <a:xfrm flipV="1" rot="10800000">
                      <a:off x="4780080" y="3723120"/>
                      <a:ext cx="90000" cy="164880"/>
                    </a:xfrm>
                    <a:prstGeom prst="pie">
                      <a:avLst/>
                    </a:prstGeom>
                    <a:noFill/>
                    <a:ln w="28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Arc 120"/>
                    <p:cNvSpPr/>
                    <p:nvPr/>
                  </p:nvSpPr>
                  <p:spPr>
                    <a:xfrm flipV="1" rot="10800000">
                      <a:off x="4803120" y="3731040"/>
                      <a:ext cx="90000" cy="164880"/>
                    </a:xfrm>
                    <a:prstGeom prst="pie">
                      <a:avLst/>
                    </a:prstGeom>
                    <a:noFill/>
                    <a:ln w="28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269" name="Arc 121"/>
                <p:cNvSpPr/>
                <p:nvPr/>
              </p:nvSpPr>
              <p:spPr>
                <a:xfrm flipH="1" rot="20305200">
                  <a:off x="3658320" y="3909600"/>
                  <a:ext cx="618480" cy="360720"/>
                </a:xfrm>
                <a:prstGeom prst="pie">
                  <a:avLst/>
                </a:prstGeom>
                <a:noFill/>
                <a:ln w="9360">
                  <a:solidFill>
                    <a:srgbClr val="ff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0" name="Group 122"/>
            <p:cNvGrpSpPr/>
            <p:nvPr/>
          </p:nvGrpSpPr>
          <p:grpSpPr>
            <a:xfrm>
              <a:off x="1908000" y="3213000"/>
              <a:ext cx="1104480" cy="1261440"/>
              <a:chOff x="1908000" y="3213000"/>
              <a:chExt cx="1104480" cy="1261440"/>
            </a:xfrm>
          </p:grpSpPr>
          <p:sp>
            <p:nvSpPr>
              <p:cNvPr id="271" name="Freeform 123"/>
              <p:cNvSpPr/>
              <p:nvPr/>
            </p:nvSpPr>
            <p:spPr>
              <a:xfrm>
                <a:off x="2036160" y="3213000"/>
                <a:ext cx="754200" cy="109080"/>
              </a:xfrm>
              <a:prstGeom prst="pie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2" name="Group 124"/>
              <p:cNvGrpSpPr/>
              <p:nvPr/>
            </p:nvGrpSpPr>
            <p:grpSpPr>
              <a:xfrm>
                <a:off x="1908000" y="3324600"/>
                <a:ext cx="1104480" cy="1149840"/>
                <a:chOff x="1908000" y="3324600"/>
                <a:chExt cx="1104480" cy="1149840"/>
              </a:xfrm>
            </p:grpSpPr>
            <p:grpSp>
              <p:nvGrpSpPr>
                <p:cNvPr id="273" name="Group 125"/>
                <p:cNvGrpSpPr/>
                <p:nvPr/>
              </p:nvGrpSpPr>
              <p:grpSpPr>
                <a:xfrm>
                  <a:off x="2869200" y="3677760"/>
                  <a:ext cx="143280" cy="237960"/>
                  <a:chOff x="2869200" y="3677760"/>
                  <a:chExt cx="143280" cy="237960"/>
                </a:xfrm>
              </p:grpSpPr>
              <p:grpSp>
                <p:nvGrpSpPr>
                  <p:cNvPr id="274" name="Group 126"/>
                  <p:cNvGrpSpPr/>
                  <p:nvPr/>
                </p:nvGrpSpPr>
                <p:grpSpPr>
                  <a:xfrm>
                    <a:off x="2914920" y="3677760"/>
                    <a:ext cx="78480" cy="65160"/>
                    <a:chOff x="2914920" y="3677760"/>
                    <a:chExt cx="78480" cy="65160"/>
                  </a:xfrm>
                </p:grpSpPr>
                <p:sp>
                  <p:nvSpPr>
                    <p:cNvPr id="275" name="Oval 127"/>
                    <p:cNvSpPr/>
                    <p:nvPr/>
                  </p:nvSpPr>
                  <p:spPr>
                    <a:xfrm>
                      <a:off x="2925000" y="3677760"/>
                      <a:ext cx="61920" cy="3060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840" bIns="-248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6" name="Rectangle 128"/>
                    <p:cNvSpPr/>
                    <p:nvPr/>
                  </p:nvSpPr>
                  <p:spPr>
                    <a:xfrm>
                      <a:off x="2940840" y="3704400"/>
                      <a:ext cx="28080" cy="3456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240" bIns="-122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Rectangle 129"/>
                    <p:cNvSpPr/>
                    <p:nvPr/>
                  </p:nvSpPr>
                  <p:spPr>
                    <a:xfrm>
                      <a:off x="2914920" y="3732840"/>
                      <a:ext cx="78480" cy="1008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6720" bIns="-36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Group 130"/>
                  <p:cNvGrpSpPr/>
                  <p:nvPr/>
                </p:nvGrpSpPr>
                <p:grpSpPr>
                  <a:xfrm>
                    <a:off x="2869200" y="3850560"/>
                    <a:ext cx="78480" cy="65160"/>
                    <a:chOff x="2869200" y="3850560"/>
                    <a:chExt cx="78480" cy="65160"/>
                  </a:xfrm>
                </p:grpSpPr>
                <p:sp>
                  <p:nvSpPr>
                    <p:cNvPr id="279" name="Oval 131"/>
                    <p:cNvSpPr/>
                    <p:nvPr/>
                  </p:nvSpPr>
                  <p:spPr>
                    <a:xfrm>
                      <a:off x="2879280" y="3850560"/>
                      <a:ext cx="61920" cy="3060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840" bIns="-248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Rectangle 132"/>
                    <p:cNvSpPr/>
                    <p:nvPr/>
                  </p:nvSpPr>
                  <p:spPr>
                    <a:xfrm>
                      <a:off x="2895120" y="3877200"/>
                      <a:ext cx="28080" cy="3456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240" bIns="-122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1" name="Rectangle 133"/>
                    <p:cNvSpPr/>
                    <p:nvPr/>
                  </p:nvSpPr>
                  <p:spPr>
                    <a:xfrm>
                      <a:off x="2869200" y="3905640"/>
                      <a:ext cx="78480" cy="1008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6720" bIns="-36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82" name="Arc 134"/>
                  <p:cNvSpPr/>
                  <p:nvPr/>
                </p:nvSpPr>
                <p:spPr>
                  <a:xfrm flipV="1" rot="10800000">
                    <a:off x="2899440" y="3708000"/>
                    <a:ext cx="90000" cy="164880"/>
                  </a:xfrm>
                  <a:prstGeom prst="pie">
                    <a:avLst/>
                  </a:prstGeom>
                  <a:noFill/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Arc 135"/>
                  <p:cNvSpPr/>
                  <p:nvPr/>
                </p:nvSpPr>
                <p:spPr>
                  <a:xfrm flipV="1" rot="10800000">
                    <a:off x="2922480" y="3715920"/>
                    <a:ext cx="90000" cy="164880"/>
                  </a:xfrm>
                  <a:prstGeom prst="pie">
                    <a:avLst/>
                  </a:prstGeom>
                  <a:noFill/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4" name="Group 136"/>
                <p:cNvGrpSpPr/>
                <p:nvPr/>
              </p:nvGrpSpPr>
              <p:grpSpPr>
                <a:xfrm>
                  <a:off x="1908000" y="3324600"/>
                  <a:ext cx="1044720" cy="1149840"/>
                  <a:chOff x="1908000" y="3324600"/>
                  <a:chExt cx="1044720" cy="1149840"/>
                </a:xfrm>
              </p:grpSpPr>
              <p:grpSp>
                <p:nvGrpSpPr>
                  <p:cNvPr id="285" name="Group 137"/>
                  <p:cNvGrpSpPr/>
                  <p:nvPr/>
                </p:nvGrpSpPr>
                <p:grpSpPr>
                  <a:xfrm>
                    <a:off x="2034360" y="4046040"/>
                    <a:ext cx="729000" cy="240120"/>
                    <a:chOff x="2034360" y="4046040"/>
                    <a:chExt cx="729000" cy="240120"/>
                  </a:xfrm>
                </p:grpSpPr>
                <p:sp>
                  <p:nvSpPr>
                    <p:cNvPr id="286" name="Rectangle 138"/>
                    <p:cNvSpPr/>
                    <p:nvPr/>
                  </p:nvSpPr>
                  <p:spPr>
                    <a:xfrm rot="10800000">
                      <a:off x="2735280" y="4126680"/>
                      <a:ext cx="28080" cy="723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5560" bIns="255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287" name="Group 139"/>
                    <p:cNvGrpSpPr/>
                    <p:nvPr/>
                  </p:nvGrpSpPr>
                  <p:grpSpPr>
                    <a:xfrm>
                      <a:off x="2657160" y="4049640"/>
                      <a:ext cx="78120" cy="236520"/>
                      <a:chOff x="2657160" y="4049640"/>
                      <a:chExt cx="78120" cy="236520"/>
                    </a:xfrm>
                  </p:grpSpPr>
                  <p:grpSp>
                    <p:nvGrpSpPr>
                      <p:cNvPr id="288" name="Group 140"/>
                      <p:cNvGrpSpPr/>
                      <p:nvPr/>
                    </p:nvGrpSpPr>
                    <p:grpSpPr>
                      <a:xfrm>
                        <a:off x="2657520" y="4049640"/>
                        <a:ext cx="77760" cy="235440"/>
                        <a:chOff x="2657520" y="4049640"/>
                        <a:chExt cx="77760" cy="235440"/>
                      </a:xfrm>
                    </p:grpSpPr>
                    <p:sp>
                      <p:nvSpPr>
                        <p:cNvPr id="289" name="Freeform 141"/>
                        <p:cNvSpPr/>
                        <p:nvPr/>
                      </p:nvSpPr>
                      <p:spPr>
                        <a:xfrm rot="10800000">
                          <a:off x="2683440" y="4078440"/>
                          <a:ext cx="51840" cy="172800"/>
                        </a:xfrm>
                        <a:prstGeom prst="pie">
                          <a:avLst/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0" name="Freeform 142"/>
                        <p:cNvSpPr/>
                        <p:nvPr/>
                      </p:nvSpPr>
                      <p:spPr>
                        <a:xfrm rot="10800000">
                          <a:off x="2657520" y="4251240"/>
                          <a:ext cx="25920" cy="33840"/>
                        </a:xfrm>
                        <a:prstGeom prst="pie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2600" bIns="-126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1" name="Freeform 143"/>
                        <p:cNvSpPr/>
                        <p:nvPr/>
                      </p:nvSpPr>
                      <p:spPr>
                        <a:xfrm flipV="1" rot="10800000">
                          <a:off x="2657520" y="4049640"/>
                          <a:ext cx="25920" cy="33840"/>
                        </a:xfrm>
                        <a:prstGeom prst="pie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2600" bIns="-126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292" name="Freeform 144"/>
                      <p:cNvSpPr/>
                      <p:nvPr/>
                    </p:nvSpPr>
                    <p:spPr>
                      <a:xfrm rot="10800000">
                        <a:off x="2657160" y="4049640"/>
                        <a:ext cx="360" cy="236520"/>
                      </a:xfrm>
                      <a:prstGeom prst="pie">
                        <a:avLst/>
                      </a:prstGeom>
                      <a:noFill/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293" name="Group 145"/>
                    <p:cNvGrpSpPr/>
                    <p:nvPr/>
                  </p:nvGrpSpPr>
                  <p:grpSpPr>
                    <a:xfrm>
                      <a:off x="2060640" y="4046040"/>
                      <a:ext cx="78120" cy="236520"/>
                      <a:chOff x="2060640" y="4046040"/>
                      <a:chExt cx="78120" cy="236520"/>
                    </a:xfrm>
                  </p:grpSpPr>
                  <p:grpSp>
                    <p:nvGrpSpPr>
                      <p:cNvPr id="294" name="Group 146"/>
                      <p:cNvGrpSpPr/>
                      <p:nvPr/>
                    </p:nvGrpSpPr>
                    <p:grpSpPr>
                      <a:xfrm>
                        <a:off x="2060640" y="4046040"/>
                        <a:ext cx="77760" cy="235440"/>
                        <a:chOff x="2060640" y="4046040"/>
                        <a:chExt cx="77760" cy="235440"/>
                      </a:xfrm>
                    </p:grpSpPr>
                    <p:sp>
                      <p:nvSpPr>
                        <p:cNvPr id="295" name="Freeform 147"/>
                        <p:cNvSpPr/>
                        <p:nvPr/>
                      </p:nvSpPr>
                      <p:spPr>
                        <a:xfrm flipH="1" rot="10800000">
                          <a:off x="2060640" y="4074840"/>
                          <a:ext cx="51840" cy="172800"/>
                        </a:xfrm>
                        <a:prstGeom prst="pie">
                          <a:avLst/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6" name="Freeform 148"/>
                        <p:cNvSpPr/>
                        <p:nvPr/>
                      </p:nvSpPr>
                      <p:spPr>
                        <a:xfrm flipH="1" rot="10800000">
                          <a:off x="2112480" y="4247640"/>
                          <a:ext cx="25920" cy="33840"/>
                        </a:xfrm>
                        <a:prstGeom prst="pie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2600" bIns="-126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7" name="Freeform 149"/>
                        <p:cNvSpPr/>
                        <p:nvPr/>
                      </p:nvSpPr>
                      <p:spPr>
                        <a:xfrm flipH="1" flipV="1" rot="10800000">
                          <a:off x="2112480" y="4046040"/>
                          <a:ext cx="25920" cy="33840"/>
                        </a:xfrm>
                        <a:prstGeom prst="pie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2600" bIns="-126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298" name="Freeform 150"/>
                      <p:cNvSpPr/>
                      <p:nvPr/>
                    </p:nvSpPr>
                    <p:spPr>
                      <a:xfrm flipH="1" rot="10800000">
                        <a:off x="2138040" y="4046040"/>
                        <a:ext cx="360" cy="236520"/>
                      </a:xfrm>
                      <a:prstGeom prst="pie">
                        <a:avLst/>
                      </a:prstGeom>
                      <a:noFill/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299" name="Rectangle 151"/>
                    <p:cNvSpPr/>
                    <p:nvPr/>
                  </p:nvSpPr>
                  <p:spPr>
                    <a:xfrm rot="10800000">
                      <a:off x="2138400" y="4126680"/>
                      <a:ext cx="519120" cy="723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5560" bIns="255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0" name="Rectangle 152"/>
                    <p:cNvSpPr/>
                    <p:nvPr/>
                  </p:nvSpPr>
                  <p:spPr>
                    <a:xfrm rot="10800000">
                      <a:off x="2034360" y="4126680"/>
                      <a:ext cx="25920" cy="723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5560" bIns="255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1" name="Group 153"/>
                  <p:cNvGrpSpPr/>
                  <p:nvPr/>
                </p:nvGrpSpPr>
                <p:grpSpPr>
                  <a:xfrm>
                    <a:off x="1930680" y="3324600"/>
                    <a:ext cx="1022040" cy="630720"/>
                    <a:chOff x="1930680" y="3324600"/>
                    <a:chExt cx="1022040" cy="630720"/>
                  </a:xfrm>
                </p:grpSpPr>
                <p:sp>
                  <p:nvSpPr>
                    <p:cNvPr id="302" name="Line 154"/>
                    <p:cNvSpPr/>
                    <p:nvPr/>
                  </p:nvSpPr>
                  <p:spPr>
                    <a:xfrm flipH="1">
                      <a:off x="2801880" y="3768120"/>
                      <a:ext cx="90000" cy="720"/>
                    </a:xfrm>
                    <a:prstGeom prst="line">
                      <a:avLst/>
                    </a:prstGeom>
                    <a:ln w="7632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303" name="Group 155"/>
                    <p:cNvGrpSpPr/>
                    <p:nvPr/>
                  </p:nvGrpSpPr>
                  <p:grpSpPr>
                    <a:xfrm>
                      <a:off x="1930680" y="3324600"/>
                      <a:ext cx="901440" cy="630720"/>
                      <a:chOff x="1930680" y="3324600"/>
                      <a:chExt cx="901440" cy="630720"/>
                    </a:xfrm>
                  </p:grpSpPr>
                  <p:grpSp>
                    <p:nvGrpSpPr>
                      <p:cNvPr id="304" name="Group 156"/>
                      <p:cNvGrpSpPr/>
                      <p:nvPr/>
                    </p:nvGrpSpPr>
                    <p:grpSpPr>
                      <a:xfrm>
                        <a:off x="2020680" y="3324600"/>
                        <a:ext cx="811440" cy="630720"/>
                        <a:chOff x="2020680" y="3324600"/>
                        <a:chExt cx="811440" cy="630720"/>
                      </a:xfrm>
                    </p:grpSpPr>
                    <p:sp>
                      <p:nvSpPr>
                        <p:cNvPr id="305" name="Arc 157"/>
                        <p:cNvSpPr/>
                        <p:nvPr/>
                      </p:nvSpPr>
                      <p:spPr>
                        <a:xfrm flipV="1">
                          <a:off x="2031480" y="3684600"/>
                          <a:ext cx="800640" cy="270360"/>
                        </a:xfrm>
                        <a:prstGeom prst="pie">
                          <a:avLst/>
                        </a:prstGeom>
                        <a:noFill/>
                        <a:ln w="1260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6" name="Freeform 158"/>
                        <p:cNvSpPr/>
                        <p:nvPr/>
                      </p:nvSpPr>
                      <p:spPr>
                        <a:xfrm>
                          <a:off x="2020680" y="3324600"/>
                          <a:ext cx="811440" cy="360720"/>
                        </a:xfrm>
                        <a:prstGeom prst="pie">
                          <a:avLst/>
                        </a:prstGeom>
                        <a:noFill/>
                        <a:ln w="1260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307" name="Freeform 159"/>
                      <p:cNvSpPr/>
                      <p:nvPr/>
                    </p:nvSpPr>
                    <p:spPr>
                      <a:xfrm>
                        <a:off x="1930680" y="3324600"/>
                        <a:ext cx="540720" cy="541080"/>
                      </a:xfrm>
                      <a:prstGeom prst="pie">
                        <a:avLst/>
                      </a:prstGeom>
                      <a:solidFill>
                        <a:srgbClr val="c0c0c0"/>
                      </a:solidFill>
                      <a:ln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308" name="Group 160"/>
                    <p:cNvGrpSpPr/>
                    <p:nvPr/>
                  </p:nvGrpSpPr>
                  <p:grpSpPr>
                    <a:xfrm>
                      <a:off x="2862720" y="3667680"/>
                      <a:ext cx="90000" cy="198000"/>
                      <a:chOff x="2862720" y="3667680"/>
                      <a:chExt cx="90000" cy="198000"/>
                    </a:xfrm>
                  </p:grpSpPr>
                  <p:grpSp>
                    <p:nvGrpSpPr>
                      <p:cNvPr id="309" name="Group 161"/>
                      <p:cNvGrpSpPr/>
                      <p:nvPr/>
                    </p:nvGrpSpPr>
                    <p:grpSpPr>
                      <a:xfrm>
                        <a:off x="2862720" y="3667680"/>
                        <a:ext cx="67680" cy="198000"/>
                        <a:chOff x="2862720" y="3667680"/>
                        <a:chExt cx="67680" cy="198000"/>
                      </a:xfrm>
                    </p:grpSpPr>
                    <p:grpSp>
                      <p:nvGrpSpPr>
                        <p:cNvPr id="310" name="Group 162"/>
                        <p:cNvGrpSpPr/>
                        <p:nvPr/>
                      </p:nvGrpSpPr>
                      <p:grpSpPr>
                        <a:xfrm>
                          <a:off x="2863080" y="3668400"/>
                          <a:ext cx="67320" cy="196920"/>
                          <a:chOff x="2863080" y="3668400"/>
                          <a:chExt cx="67320" cy="196920"/>
                        </a:xfrm>
                      </p:grpSpPr>
                      <p:sp>
                        <p:nvSpPr>
                          <p:cNvPr id="311" name="Freeform 163"/>
                          <p:cNvSpPr/>
                          <p:nvPr/>
                        </p:nvSpPr>
                        <p:spPr>
                          <a:xfrm flipH="1">
                            <a:off x="2885040" y="3696840"/>
                            <a:ext cx="45000" cy="144720"/>
                          </a:xfrm>
                          <a:prstGeom prst="pie">
                            <a:avLst/>
                          </a:prstGeom>
                          <a:solidFill>
                            <a:srgbClr val="ffffff"/>
                          </a:solidFill>
                          <a:ln w="936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12" name="Freeform 164"/>
                          <p:cNvSpPr/>
                          <p:nvPr/>
                        </p:nvSpPr>
                        <p:spPr>
                          <a:xfrm flipH="1">
                            <a:off x="2863080" y="3668400"/>
                            <a:ext cx="22320" cy="28440"/>
                          </a:xfrm>
                          <a:prstGeom prst="pie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18000" bIns="-1800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13" name="Freeform 165"/>
                          <p:cNvSpPr/>
                          <p:nvPr/>
                        </p:nvSpPr>
                        <p:spPr>
                          <a:xfrm flipH="1" flipV="1">
                            <a:off x="2863080" y="3836520"/>
                            <a:ext cx="22320" cy="28440"/>
                          </a:xfrm>
                          <a:prstGeom prst="pie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18000" bIns="-1800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314" name="Freeform 166"/>
                        <p:cNvSpPr/>
                        <p:nvPr/>
                      </p:nvSpPr>
                      <p:spPr>
                        <a:xfrm flipH="1">
                          <a:off x="2862360" y="3667680"/>
                          <a:ext cx="360" cy="198000"/>
                        </a:xfrm>
                        <a:prstGeom prst="pie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315" name="Rectangle 167"/>
                      <p:cNvSpPr/>
                      <p:nvPr/>
                    </p:nvSpPr>
                    <p:spPr>
                      <a:xfrm>
                        <a:off x="2930400" y="3738240"/>
                        <a:ext cx="22320" cy="6084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4040" bIns="1404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316" name="Group 168"/>
                  <p:cNvGrpSpPr/>
                  <p:nvPr/>
                </p:nvGrpSpPr>
                <p:grpSpPr>
                  <a:xfrm>
                    <a:off x="1908000" y="4226760"/>
                    <a:ext cx="991800" cy="247680"/>
                    <a:chOff x="1908000" y="4226760"/>
                    <a:chExt cx="991800" cy="247680"/>
                  </a:xfrm>
                </p:grpSpPr>
                <p:grpSp>
                  <p:nvGrpSpPr>
                    <p:cNvPr id="317" name="Group 169"/>
                    <p:cNvGrpSpPr/>
                    <p:nvPr/>
                  </p:nvGrpSpPr>
                  <p:grpSpPr>
                    <a:xfrm>
                      <a:off x="1998000" y="4226760"/>
                      <a:ext cx="123120" cy="180360"/>
                      <a:chOff x="1998000" y="4226760"/>
                      <a:chExt cx="123120" cy="180360"/>
                    </a:xfrm>
                  </p:grpSpPr>
                  <p:sp>
                    <p:nvSpPr>
                      <p:cNvPr id="318" name="Oval 170"/>
                      <p:cNvSpPr/>
                      <p:nvPr/>
                    </p:nvSpPr>
                    <p:spPr>
                      <a:xfrm>
                        <a:off x="2013480" y="4226760"/>
                        <a:ext cx="97200" cy="8496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3680" bIns="1368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19" name="Rectangle 171"/>
                      <p:cNvSpPr/>
                      <p:nvPr/>
                    </p:nvSpPr>
                    <p:spPr>
                      <a:xfrm>
                        <a:off x="2038680" y="4300920"/>
                        <a:ext cx="43920" cy="95400"/>
                      </a:xfrm>
                      <a:prstGeom prst="rect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20" name="Rectangle 172"/>
                      <p:cNvSpPr/>
                      <p:nvPr/>
                    </p:nvSpPr>
                    <p:spPr>
                      <a:xfrm>
                        <a:off x="1998000" y="4378680"/>
                        <a:ext cx="123120" cy="28440"/>
                      </a:xfrm>
                      <a:prstGeom prst="rect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8360" bIns="-1836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321" name="Group 173"/>
                    <p:cNvGrpSpPr/>
                    <p:nvPr/>
                  </p:nvGrpSpPr>
                  <p:grpSpPr>
                    <a:xfrm>
                      <a:off x="2677680" y="4226760"/>
                      <a:ext cx="123120" cy="180360"/>
                      <a:chOff x="2677680" y="4226760"/>
                      <a:chExt cx="123120" cy="180360"/>
                    </a:xfrm>
                  </p:grpSpPr>
                  <p:sp>
                    <p:nvSpPr>
                      <p:cNvPr id="322" name="Oval 174"/>
                      <p:cNvSpPr/>
                      <p:nvPr/>
                    </p:nvSpPr>
                    <p:spPr>
                      <a:xfrm>
                        <a:off x="2693160" y="4226760"/>
                        <a:ext cx="97200" cy="8496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3680" bIns="1368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23" name="Rectangle 175"/>
                      <p:cNvSpPr/>
                      <p:nvPr/>
                    </p:nvSpPr>
                    <p:spPr>
                      <a:xfrm>
                        <a:off x="2718360" y="4300920"/>
                        <a:ext cx="43920" cy="95400"/>
                      </a:xfrm>
                      <a:prstGeom prst="rect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24" name="Rectangle 176"/>
                      <p:cNvSpPr/>
                      <p:nvPr/>
                    </p:nvSpPr>
                    <p:spPr>
                      <a:xfrm>
                        <a:off x="2677680" y="4378680"/>
                        <a:ext cx="123120" cy="28440"/>
                      </a:xfrm>
                      <a:prstGeom prst="rect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8360" bIns="-1836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325" name="Freeform 177"/>
                    <p:cNvSpPr/>
                    <p:nvPr/>
                  </p:nvSpPr>
                  <p:spPr>
                    <a:xfrm>
                      <a:off x="1908000" y="4413600"/>
                      <a:ext cx="991800" cy="60840"/>
                    </a:xfrm>
                    <a:prstGeom prst="pie">
                      <a:avLst/>
                    </a:prstGeom>
                    <a:solidFill>
                      <a:srgbClr val="c0c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4400" b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26" name="Oval 178"/>
                  <p:cNvSpPr/>
                  <p:nvPr/>
                </p:nvSpPr>
                <p:spPr>
                  <a:xfrm>
                    <a:off x="2351160" y="3368880"/>
                    <a:ext cx="90000" cy="90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7280" bIns="172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27" name="Group 179"/>
                  <p:cNvGrpSpPr/>
                  <p:nvPr/>
                </p:nvGrpSpPr>
                <p:grpSpPr>
                  <a:xfrm>
                    <a:off x="2869200" y="3850560"/>
                    <a:ext cx="78480" cy="65160"/>
                    <a:chOff x="2869200" y="3850560"/>
                    <a:chExt cx="78480" cy="65160"/>
                  </a:xfrm>
                </p:grpSpPr>
                <p:sp>
                  <p:nvSpPr>
                    <p:cNvPr id="328" name="Oval 180"/>
                    <p:cNvSpPr/>
                    <p:nvPr/>
                  </p:nvSpPr>
                  <p:spPr>
                    <a:xfrm>
                      <a:off x="2879280" y="3850560"/>
                      <a:ext cx="61920" cy="3060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840" bIns="-248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9" name="Rectangle 181"/>
                    <p:cNvSpPr/>
                    <p:nvPr/>
                  </p:nvSpPr>
                  <p:spPr>
                    <a:xfrm>
                      <a:off x="2895120" y="3877200"/>
                      <a:ext cx="28080" cy="3456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240" bIns="-122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0" name="Rectangle 182"/>
                    <p:cNvSpPr/>
                    <p:nvPr/>
                  </p:nvSpPr>
                  <p:spPr>
                    <a:xfrm>
                      <a:off x="2869200" y="3905640"/>
                      <a:ext cx="78480" cy="1008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6720" bIns="-36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</p:grpSp>
      <p:sp>
        <p:nvSpPr>
          <p:cNvPr id="331" name="Text Box 183"/>
          <p:cNvSpPr/>
          <p:nvPr/>
        </p:nvSpPr>
        <p:spPr>
          <a:xfrm>
            <a:off x="684360" y="5445000"/>
            <a:ext cx="66960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El carro pivotea mediante una rueda o bien accionado por medio de cilindros hidraul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Se ha ocupado en niveles intermedios de transpo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184"/>
          <p:cNvSpPr/>
          <p:nvPr/>
        </p:nvSpPr>
        <p:spPr>
          <a:xfrm>
            <a:off x="3419640" y="4653000"/>
            <a:ext cx="20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Sistema Gran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3300"/>
                </a:solidFill>
                <a:latin typeface="Arial"/>
              </a:rPr>
              <a:t>Sistema de descarga de car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3"/>
          <p:cNvSpPr/>
          <p:nvPr/>
        </p:nvSpPr>
        <p:spPr>
          <a:xfrm>
            <a:off x="684360" y="1773360"/>
            <a:ext cx="39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Sistema vaciado en el fon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Group 6"/>
          <p:cNvGrpSpPr/>
          <p:nvPr/>
        </p:nvGrpSpPr>
        <p:grpSpPr>
          <a:xfrm>
            <a:off x="1619280" y="2924280"/>
            <a:ext cx="5473440" cy="1248840"/>
            <a:chOff x="1619280" y="2924280"/>
            <a:chExt cx="5473440" cy="1248840"/>
          </a:xfrm>
        </p:grpSpPr>
        <p:grpSp>
          <p:nvGrpSpPr>
            <p:cNvPr id="336" name="Group 7"/>
            <p:cNvGrpSpPr/>
            <p:nvPr/>
          </p:nvGrpSpPr>
          <p:grpSpPr>
            <a:xfrm>
              <a:off x="1619280" y="2924280"/>
              <a:ext cx="1036440" cy="1248840"/>
              <a:chOff x="1619280" y="2924280"/>
              <a:chExt cx="1036440" cy="1248840"/>
            </a:xfrm>
          </p:grpSpPr>
          <p:grpSp>
            <p:nvGrpSpPr>
              <p:cNvPr id="337" name="Group 8"/>
              <p:cNvGrpSpPr/>
              <p:nvPr/>
            </p:nvGrpSpPr>
            <p:grpSpPr>
              <a:xfrm>
                <a:off x="1619280" y="3851640"/>
                <a:ext cx="1036440" cy="321480"/>
                <a:chOff x="1619280" y="3851640"/>
                <a:chExt cx="1036440" cy="321480"/>
              </a:xfrm>
            </p:grpSpPr>
            <p:grpSp>
              <p:nvGrpSpPr>
                <p:cNvPr id="338" name="Group 9"/>
                <p:cNvGrpSpPr/>
                <p:nvPr/>
              </p:nvGrpSpPr>
              <p:grpSpPr>
                <a:xfrm>
                  <a:off x="1713240" y="3851640"/>
                  <a:ext cx="128520" cy="234360"/>
                  <a:chOff x="1713240" y="3851640"/>
                  <a:chExt cx="128520" cy="234360"/>
                </a:xfrm>
              </p:grpSpPr>
              <p:sp>
                <p:nvSpPr>
                  <p:cNvPr id="339" name="Oval 10"/>
                  <p:cNvSpPr/>
                  <p:nvPr/>
                </p:nvSpPr>
                <p:spPr>
                  <a:xfrm>
                    <a:off x="1729440" y="3851640"/>
                    <a:ext cx="101520" cy="1101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1680" bIns="316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0" name="Rectangle 11"/>
                  <p:cNvSpPr/>
                  <p:nvPr/>
                </p:nvSpPr>
                <p:spPr>
                  <a:xfrm>
                    <a:off x="1755720" y="3948120"/>
                    <a:ext cx="46080" cy="12420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1" name="Rectangle 12"/>
                  <p:cNvSpPr/>
                  <p:nvPr/>
                </p:nvSpPr>
                <p:spPr>
                  <a:xfrm>
                    <a:off x="1713240" y="4048920"/>
                    <a:ext cx="128520" cy="3708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720" bIns="-97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2" name="Group 13"/>
                <p:cNvGrpSpPr/>
                <p:nvPr/>
              </p:nvGrpSpPr>
              <p:grpSpPr>
                <a:xfrm>
                  <a:off x="2423520" y="3851640"/>
                  <a:ext cx="128520" cy="234360"/>
                  <a:chOff x="2423520" y="3851640"/>
                  <a:chExt cx="128520" cy="234360"/>
                </a:xfrm>
              </p:grpSpPr>
              <p:sp>
                <p:nvSpPr>
                  <p:cNvPr id="343" name="Oval 14"/>
                  <p:cNvSpPr/>
                  <p:nvPr/>
                </p:nvSpPr>
                <p:spPr>
                  <a:xfrm>
                    <a:off x="2439720" y="3851640"/>
                    <a:ext cx="101520" cy="1101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1680" bIns="316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4" name="Rectangle 15"/>
                  <p:cNvSpPr/>
                  <p:nvPr/>
                </p:nvSpPr>
                <p:spPr>
                  <a:xfrm>
                    <a:off x="2466000" y="3948120"/>
                    <a:ext cx="46080" cy="12420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5" name="Rectangle 16"/>
                  <p:cNvSpPr/>
                  <p:nvPr/>
                </p:nvSpPr>
                <p:spPr>
                  <a:xfrm>
                    <a:off x="2423520" y="4048920"/>
                    <a:ext cx="128520" cy="3708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720" bIns="-97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6" name="Freeform 17"/>
                <p:cNvSpPr/>
                <p:nvPr/>
              </p:nvSpPr>
              <p:spPr>
                <a:xfrm>
                  <a:off x="1619280" y="4094280"/>
                  <a:ext cx="1036440" cy="78840"/>
                </a:xfrm>
                <a:prstGeom prst="pie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7" name="Group 18"/>
              <p:cNvGrpSpPr/>
              <p:nvPr/>
            </p:nvGrpSpPr>
            <p:grpSpPr>
              <a:xfrm>
                <a:off x="1681560" y="2924280"/>
                <a:ext cx="933480" cy="585720"/>
                <a:chOff x="1681560" y="2924280"/>
                <a:chExt cx="933480" cy="585720"/>
              </a:xfrm>
            </p:grpSpPr>
            <p:sp>
              <p:nvSpPr>
                <p:cNvPr id="348" name="Freeform 19"/>
                <p:cNvSpPr/>
                <p:nvPr/>
              </p:nvSpPr>
              <p:spPr>
                <a:xfrm>
                  <a:off x="1681560" y="2924280"/>
                  <a:ext cx="472680" cy="58572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9" name="Freeform 20"/>
                <p:cNvSpPr/>
                <p:nvPr/>
              </p:nvSpPr>
              <p:spPr>
                <a:xfrm flipH="1">
                  <a:off x="2142000" y="2924280"/>
                  <a:ext cx="472680" cy="58572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0" name="Group 21"/>
              <p:cNvGrpSpPr/>
              <p:nvPr/>
            </p:nvGrpSpPr>
            <p:grpSpPr>
              <a:xfrm>
                <a:off x="1759680" y="3587400"/>
                <a:ext cx="761760" cy="311760"/>
                <a:chOff x="1759680" y="3587400"/>
                <a:chExt cx="761760" cy="311760"/>
              </a:xfrm>
            </p:grpSpPr>
            <p:sp>
              <p:nvSpPr>
                <p:cNvPr id="351" name="Rectangle 22"/>
                <p:cNvSpPr/>
                <p:nvPr/>
              </p:nvSpPr>
              <p:spPr>
                <a:xfrm rot="10800000">
                  <a:off x="2492280" y="3691440"/>
                  <a:ext cx="29160" cy="943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52" name="Group 23"/>
                <p:cNvGrpSpPr/>
                <p:nvPr/>
              </p:nvGrpSpPr>
              <p:grpSpPr>
                <a:xfrm>
                  <a:off x="2410560" y="3592440"/>
                  <a:ext cx="81720" cy="306720"/>
                  <a:chOff x="2410560" y="3592440"/>
                  <a:chExt cx="81720" cy="306720"/>
                </a:xfrm>
              </p:grpSpPr>
              <p:grpSp>
                <p:nvGrpSpPr>
                  <p:cNvPr id="353" name="Group 24"/>
                  <p:cNvGrpSpPr/>
                  <p:nvPr/>
                </p:nvGrpSpPr>
                <p:grpSpPr>
                  <a:xfrm>
                    <a:off x="2410920" y="3592440"/>
                    <a:ext cx="81360" cy="305280"/>
                    <a:chOff x="2410920" y="3592440"/>
                    <a:chExt cx="81360" cy="305280"/>
                  </a:xfrm>
                </p:grpSpPr>
                <p:sp>
                  <p:nvSpPr>
                    <p:cNvPr id="354" name="Freeform 25"/>
                    <p:cNvSpPr/>
                    <p:nvPr/>
                  </p:nvSpPr>
                  <p:spPr>
                    <a:xfrm rot="10800000">
                      <a:off x="2437920" y="3629880"/>
                      <a:ext cx="54360" cy="223920"/>
                    </a:xfrm>
                    <a:prstGeom prst="pi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5" name="Freeform 26"/>
                    <p:cNvSpPr/>
                    <p:nvPr/>
                  </p:nvSpPr>
                  <p:spPr>
                    <a:xfrm rot="10800000">
                      <a:off x="2410920" y="3853800"/>
                      <a:ext cx="27000" cy="4392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80" bIns="-28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6" name="Freeform 27"/>
                    <p:cNvSpPr/>
                    <p:nvPr/>
                  </p:nvSpPr>
                  <p:spPr>
                    <a:xfrm flipV="1" rot="10800000">
                      <a:off x="2410920" y="3592440"/>
                      <a:ext cx="27000" cy="4392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80" bIns="-28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57" name="Freeform 28"/>
                  <p:cNvSpPr/>
                  <p:nvPr/>
                </p:nvSpPr>
                <p:spPr>
                  <a:xfrm rot="10800000">
                    <a:off x="2410560" y="3592440"/>
                    <a:ext cx="360" cy="30672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8" name="Group 29"/>
                <p:cNvGrpSpPr/>
                <p:nvPr/>
              </p:nvGrpSpPr>
              <p:grpSpPr>
                <a:xfrm>
                  <a:off x="1787040" y="3587400"/>
                  <a:ext cx="81720" cy="306720"/>
                  <a:chOff x="1787040" y="3587400"/>
                  <a:chExt cx="81720" cy="306720"/>
                </a:xfrm>
              </p:grpSpPr>
              <p:grpSp>
                <p:nvGrpSpPr>
                  <p:cNvPr id="359" name="Group 30"/>
                  <p:cNvGrpSpPr/>
                  <p:nvPr/>
                </p:nvGrpSpPr>
                <p:grpSpPr>
                  <a:xfrm>
                    <a:off x="1787040" y="3587400"/>
                    <a:ext cx="81360" cy="305280"/>
                    <a:chOff x="1787040" y="3587400"/>
                    <a:chExt cx="81360" cy="305280"/>
                  </a:xfrm>
                </p:grpSpPr>
                <p:sp>
                  <p:nvSpPr>
                    <p:cNvPr id="360" name="Freeform 31"/>
                    <p:cNvSpPr/>
                    <p:nvPr/>
                  </p:nvSpPr>
                  <p:spPr>
                    <a:xfrm flipH="1" rot="10800000">
                      <a:off x="1786680" y="3624840"/>
                      <a:ext cx="54360" cy="223920"/>
                    </a:xfrm>
                    <a:prstGeom prst="pi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1" name="Freeform 32"/>
                    <p:cNvSpPr/>
                    <p:nvPr/>
                  </p:nvSpPr>
                  <p:spPr>
                    <a:xfrm flipH="1" rot="10800000">
                      <a:off x="1841040" y="3848760"/>
                      <a:ext cx="27000" cy="4392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80" bIns="-28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2" name="Freeform 33"/>
                    <p:cNvSpPr/>
                    <p:nvPr/>
                  </p:nvSpPr>
                  <p:spPr>
                    <a:xfrm flipH="1" flipV="1" rot="10800000">
                      <a:off x="1841040" y="3587400"/>
                      <a:ext cx="27000" cy="4392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80" bIns="-28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63" name="Freeform 34"/>
                  <p:cNvSpPr/>
                  <p:nvPr/>
                </p:nvSpPr>
                <p:spPr>
                  <a:xfrm flipH="1" rot="10800000">
                    <a:off x="1868040" y="3587400"/>
                    <a:ext cx="360" cy="30672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64" name="Rectangle 35"/>
                <p:cNvSpPr/>
                <p:nvPr/>
              </p:nvSpPr>
              <p:spPr>
                <a:xfrm rot="10800000">
                  <a:off x="1868400" y="3691440"/>
                  <a:ext cx="542520" cy="943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5" name="Rectangle 36"/>
                <p:cNvSpPr/>
                <p:nvPr/>
              </p:nvSpPr>
              <p:spPr>
                <a:xfrm rot="10800000">
                  <a:off x="1759680" y="3691440"/>
                  <a:ext cx="27000" cy="943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66" name="Line 37"/>
              <p:cNvSpPr/>
              <p:nvPr/>
            </p:nvSpPr>
            <p:spPr>
              <a:xfrm>
                <a:off x="2143440" y="3587400"/>
                <a:ext cx="0" cy="4687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Text Box 38"/>
              <p:cNvSpPr/>
              <p:nvPr/>
            </p:nvSpPr>
            <p:spPr>
              <a:xfrm>
                <a:off x="1915200" y="3001680"/>
                <a:ext cx="470880" cy="46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Arc 39"/>
              <p:cNvSpPr/>
              <p:nvPr/>
            </p:nvSpPr>
            <p:spPr>
              <a:xfrm flipV="1">
                <a:off x="1933560" y="3462120"/>
                <a:ext cx="188280" cy="234000"/>
              </a:xfrm>
              <a:prstGeom prst="pie">
                <a:avLst/>
              </a:prstGeom>
              <a:noFill/>
              <a:ln w="9360">
                <a:solidFill>
                  <a:srgbClr val="333399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Freeform 40"/>
              <p:cNvSpPr/>
              <p:nvPr/>
            </p:nvSpPr>
            <p:spPr>
              <a:xfrm>
                <a:off x="1892520" y="3500280"/>
                <a:ext cx="83520" cy="24084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Arc 41"/>
              <p:cNvSpPr/>
              <p:nvPr/>
            </p:nvSpPr>
            <p:spPr>
              <a:xfrm flipH="1" flipV="1">
                <a:off x="2167920" y="3470400"/>
                <a:ext cx="188280" cy="234000"/>
              </a:xfrm>
              <a:prstGeom prst="pie">
                <a:avLst/>
              </a:prstGeom>
              <a:noFill/>
              <a:ln w="9360">
                <a:solidFill>
                  <a:srgbClr val="333399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Freeform 42"/>
              <p:cNvSpPr/>
              <p:nvPr/>
            </p:nvSpPr>
            <p:spPr>
              <a:xfrm flipH="1">
                <a:off x="2315880" y="3511800"/>
                <a:ext cx="83520" cy="24084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2" name="Group 43"/>
            <p:cNvGrpSpPr/>
            <p:nvPr/>
          </p:nvGrpSpPr>
          <p:grpSpPr>
            <a:xfrm>
              <a:off x="3417840" y="2924280"/>
              <a:ext cx="3674880" cy="1238760"/>
              <a:chOff x="3417840" y="2924280"/>
              <a:chExt cx="3674880" cy="1238760"/>
            </a:xfrm>
          </p:grpSpPr>
          <p:grpSp>
            <p:nvGrpSpPr>
              <p:cNvPr id="373" name="Group 44"/>
              <p:cNvGrpSpPr/>
              <p:nvPr/>
            </p:nvGrpSpPr>
            <p:grpSpPr>
              <a:xfrm>
                <a:off x="3417840" y="2924280"/>
                <a:ext cx="1036440" cy="1238760"/>
                <a:chOff x="3417840" y="2924280"/>
                <a:chExt cx="1036440" cy="1238760"/>
              </a:xfrm>
            </p:grpSpPr>
            <p:sp>
              <p:nvSpPr>
                <p:cNvPr id="374" name="Freeform 45"/>
                <p:cNvSpPr/>
                <p:nvPr/>
              </p:nvSpPr>
              <p:spPr>
                <a:xfrm>
                  <a:off x="4131720" y="3499920"/>
                  <a:ext cx="7920" cy="415440"/>
                </a:xfrm>
                <a:prstGeom prst="pie">
                  <a:avLst/>
                </a:pr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75" name="Group 46"/>
                <p:cNvGrpSpPr/>
                <p:nvPr/>
              </p:nvGrpSpPr>
              <p:grpSpPr>
                <a:xfrm>
                  <a:off x="3417840" y="3841560"/>
                  <a:ext cx="1036440" cy="321480"/>
                  <a:chOff x="3417840" y="3841560"/>
                  <a:chExt cx="1036440" cy="321480"/>
                </a:xfrm>
              </p:grpSpPr>
              <p:grpSp>
                <p:nvGrpSpPr>
                  <p:cNvPr id="376" name="Group 47"/>
                  <p:cNvGrpSpPr/>
                  <p:nvPr/>
                </p:nvGrpSpPr>
                <p:grpSpPr>
                  <a:xfrm>
                    <a:off x="3511800" y="3841560"/>
                    <a:ext cx="128520" cy="234360"/>
                    <a:chOff x="3511800" y="3841560"/>
                    <a:chExt cx="128520" cy="234360"/>
                  </a:xfrm>
                </p:grpSpPr>
                <p:sp>
                  <p:nvSpPr>
                    <p:cNvPr id="377" name="Oval 48"/>
                    <p:cNvSpPr/>
                    <p:nvPr/>
                  </p:nvSpPr>
                  <p:spPr>
                    <a:xfrm>
                      <a:off x="3528000" y="3841560"/>
                      <a:ext cx="101520" cy="11016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1680" bIns="316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8" name="Rectangle 49"/>
                    <p:cNvSpPr/>
                    <p:nvPr/>
                  </p:nvSpPr>
                  <p:spPr>
                    <a:xfrm>
                      <a:off x="3554280" y="3938040"/>
                      <a:ext cx="46080" cy="12420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9" name="Rectangle 50"/>
                    <p:cNvSpPr/>
                    <p:nvPr/>
                  </p:nvSpPr>
                  <p:spPr>
                    <a:xfrm>
                      <a:off x="3511800" y="4038840"/>
                      <a:ext cx="128520" cy="3708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9720" bIns="-9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80" name="Group 51"/>
                  <p:cNvGrpSpPr/>
                  <p:nvPr/>
                </p:nvGrpSpPr>
                <p:grpSpPr>
                  <a:xfrm>
                    <a:off x="4222080" y="3841560"/>
                    <a:ext cx="128520" cy="234360"/>
                    <a:chOff x="4222080" y="3841560"/>
                    <a:chExt cx="128520" cy="234360"/>
                  </a:xfrm>
                </p:grpSpPr>
                <p:sp>
                  <p:nvSpPr>
                    <p:cNvPr id="381" name="Oval 52"/>
                    <p:cNvSpPr/>
                    <p:nvPr/>
                  </p:nvSpPr>
                  <p:spPr>
                    <a:xfrm>
                      <a:off x="4238280" y="3841560"/>
                      <a:ext cx="101520" cy="11016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1680" bIns="316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2" name="Rectangle 53"/>
                    <p:cNvSpPr/>
                    <p:nvPr/>
                  </p:nvSpPr>
                  <p:spPr>
                    <a:xfrm>
                      <a:off x="4264560" y="3938040"/>
                      <a:ext cx="46080" cy="12420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3" name="Rectangle 54"/>
                    <p:cNvSpPr/>
                    <p:nvPr/>
                  </p:nvSpPr>
                  <p:spPr>
                    <a:xfrm>
                      <a:off x="4222080" y="4038840"/>
                      <a:ext cx="128520" cy="3708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9720" bIns="-9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84" name="Freeform 55"/>
                  <p:cNvSpPr/>
                  <p:nvPr/>
                </p:nvSpPr>
                <p:spPr>
                  <a:xfrm>
                    <a:off x="3417840" y="4084200"/>
                    <a:ext cx="1036440" cy="78840"/>
                  </a:xfrm>
                  <a:prstGeom prst="pie">
                    <a:avLst/>
                  </a:prstGeom>
                  <a:solidFill>
                    <a:srgbClr val="c0c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400" bIns="324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5" name="Group 56"/>
                <p:cNvGrpSpPr/>
                <p:nvPr/>
              </p:nvGrpSpPr>
              <p:grpSpPr>
                <a:xfrm>
                  <a:off x="3574440" y="2924280"/>
                  <a:ext cx="721440" cy="585720"/>
                  <a:chOff x="3574440" y="2924280"/>
                  <a:chExt cx="721440" cy="585720"/>
                </a:xfrm>
              </p:grpSpPr>
              <p:sp>
                <p:nvSpPr>
                  <p:cNvPr id="386" name="Freeform 57"/>
                  <p:cNvSpPr/>
                  <p:nvPr/>
                </p:nvSpPr>
                <p:spPr>
                  <a:xfrm>
                    <a:off x="3574440" y="2924280"/>
                    <a:ext cx="365400" cy="585720"/>
                  </a:xfrm>
                  <a:prstGeom prst="pie">
                    <a:avLst/>
                  </a:pr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7" name="Freeform 58"/>
                  <p:cNvSpPr/>
                  <p:nvPr/>
                </p:nvSpPr>
                <p:spPr>
                  <a:xfrm flipH="1">
                    <a:off x="3930120" y="2924280"/>
                    <a:ext cx="365400" cy="585720"/>
                  </a:xfrm>
                  <a:prstGeom prst="pie">
                    <a:avLst/>
                  </a:pr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8" name="Freeform 59"/>
                <p:cNvSpPr/>
                <p:nvPr/>
              </p:nvSpPr>
              <p:spPr>
                <a:xfrm>
                  <a:off x="3716280" y="3501720"/>
                  <a:ext cx="7560" cy="415800"/>
                </a:xfrm>
                <a:prstGeom prst="pie">
                  <a:avLst/>
                </a:pr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9" name="Freeform 60"/>
                <p:cNvSpPr/>
                <p:nvPr/>
              </p:nvSpPr>
              <p:spPr>
                <a:xfrm>
                  <a:off x="3728160" y="3897720"/>
                  <a:ext cx="398160" cy="720"/>
                </a:xfrm>
                <a:prstGeom prst="pie">
                  <a:avLst/>
                </a:pr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90" name="Group 61"/>
                <p:cNvGrpSpPr/>
                <p:nvPr/>
              </p:nvGrpSpPr>
              <p:grpSpPr>
                <a:xfrm>
                  <a:off x="3550320" y="3587400"/>
                  <a:ext cx="761760" cy="311760"/>
                  <a:chOff x="3550320" y="3587400"/>
                  <a:chExt cx="761760" cy="311760"/>
                </a:xfrm>
              </p:grpSpPr>
              <p:sp>
                <p:nvSpPr>
                  <p:cNvPr id="391" name="Rectangle 62"/>
                  <p:cNvSpPr/>
                  <p:nvPr/>
                </p:nvSpPr>
                <p:spPr>
                  <a:xfrm rot="10800000">
                    <a:off x="4282920" y="3691440"/>
                    <a:ext cx="29160" cy="943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92" name="Group 63"/>
                  <p:cNvGrpSpPr/>
                  <p:nvPr/>
                </p:nvGrpSpPr>
                <p:grpSpPr>
                  <a:xfrm>
                    <a:off x="4201200" y="3592440"/>
                    <a:ext cx="81720" cy="306720"/>
                    <a:chOff x="4201200" y="3592440"/>
                    <a:chExt cx="81720" cy="306720"/>
                  </a:xfrm>
                </p:grpSpPr>
                <p:grpSp>
                  <p:nvGrpSpPr>
                    <p:cNvPr id="393" name="Group 64"/>
                    <p:cNvGrpSpPr/>
                    <p:nvPr/>
                  </p:nvGrpSpPr>
                  <p:grpSpPr>
                    <a:xfrm>
                      <a:off x="4201560" y="3592440"/>
                      <a:ext cx="81360" cy="305280"/>
                      <a:chOff x="4201560" y="3592440"/>
                      <a:chExt cx="81360" cy="305280"/>
                    </a:xfrm>
                  </p:grpSpPr>
                  <p:sp>
                    <p:nvSpPr>
                      <p:cNvPr id="394" name="Freeform 65"/>
                      <p:cNvSpPr/>
                      <p:nvPr/>
                    </p:nvSpPr>
                    <p:spPr>
                      <a:xfrm rot="10800000">
                        <a:off x="4228560" y="3629880"/>
                        <a:ext cx="54360" cy="223920"/>
                      </a:xfrm>
                      <a:prstGeom prst="pie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95" name="Freeform 66"/>
                      <p:cNvSpPr/>
                      <p:nvPr/>
                    </p:nvSpPr>
                    <p:spPr>
                      <a:xfrm rot="10800000">
                        <a:off x="4201560" y="3853800"/>
                        <a:ext cx="27000" cy="43920"/>
                      </a:xfrm>
                      <a:prstGeom prst="pie">
                        <a:avLst/>
                      </a:prstGeom>
                      <a:noFill/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880" bIns="-288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96" name="Freeform 67"/>
                      <p:cNvSpPr/>
                      <p:nvPr/>
                    </p:nvSpPr>
                    <p:spPr>
                      <a:xfrm flipV="1" rot="10800000">
                        <a:off x="4201560" y="3592440"/>
                        <a:ext cx="27000" cy="43920"/>
                      </a:xfrm>
                      <a:prstGeom prst="pie">
                        <a:avLst/>
                      </a:prstGeom>
                      <a:noFill/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880" bIns="-288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397" name="Freeform 68"/>
                    <p:cNvSpPr/>
                    <p:nvPr/>
                  </p:nvSpPr>
                  <p:spPr>
                    <a:xfrm rot="10800000">
                      <a:off x="4201200" y="3592440"/>
                      <a:ext cx="360" cy="30672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98" name="Group 69"/>
                  <p:cNvGrpSpPr/>
                  <p:nvPr/>
                </p:nvGrpSpPr>
                <p:grpSpPr>
                  <a:xfrm>
                    <a:off x="3577680" y="3587400"/>
                    <a:ext cx="81720" cy="306720"/>
                    <a:chOff x="3577680" y="3587400"/>
                    <a:chExt cx="81720" cy="306720"/>
                  </a:xfrm>
                </p:grpSpPr>
                <p:grpSp>
                  <p:nvGrpSpPr>
                    <p:cNvPr id="399" name="Group 70"/>
                    <p:cNvGrpSpPr/>
                    <p:nvPr/>
                  </p:nvGrpSpPr>
                  <p:grpSpPr>
                    <a:xfrm>
                      <a:off x="3577680" y="3587400"/>
                      <a:ext cx="81360" cy="305280"/>
                      <a:chOff x="3577680" y="3587400"/>
                      <a:chExt cx="81360" cy="305280"/>
                    </a:xfrm>
                  </p:grpSpPr>
                  <p:sp>
                    <p:nvSpPr>
                      <p:cNvPr id="400" name="Freeform 71"/>
                      <p:cNvSpPr/>
                      <p:nvPr/>
                    </p:nvSpPr>
                    <p:spPr>
                      <a:xfrm flipH="1" rot="10800000">
                        <a:off x="3577320" y="3624840"/>
                        <a:ext cx="54360" cy="223920"/>
                      </a:xfrm>
                      <a:prstGeom prst="pie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01" name="Freeform 72"/>
                      <p:cNvSpPr/>
                      <p:nvPr/>
                    </p:nvSpPr>
                    <p:spPr>
                      <a:xfrm flipH="1" rot="10800000">
                        <a:off x="3631680" y="3848760"/>
                        <a:ext cx="27000" cy="43920"/>
                      </a:xfrm>
                      <a:prstGeom prst="pie">
                        <a:avLst/>
                      </a:prstGeom>
                      <a:noFill/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880" bIns="-288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02" name="Freeform 73"/>
                      <p:cNvSpPr/>
                      <p:nvPr/>
                    </p:nvSpPr>
                    <p:spPr>
                      <a:xfrm flipH="1" flipV="1" rot="10800000">
                        <a:off x="3631680" y="3587400"/>
                        <a:ext cx="27000" cy="43920"/>
                      </a:xfrm>
                      <a:prstGeom prst="pie">
                        <a:avLst/>
                      </a:prstGeom>
                      <a:noFill/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880" bIns="-288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403" name="Freeform 74"/>
                    <p:cNvSpPr/>
                    <p:nvPr/>
                  </p:nvSpPr>
                  <p:spPr>
                    <a:xfrm flipH="1" rot="10800000">
                      <a:off x="3658680" y="3587400"/>
                      <a:ext cx="360" cy="30672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04" name="Rectangle 75"/>
                  <p:cNvSpPr/>
                  <p:nvPr/>
                </p:nvSpPr>
                <p:spPr>
                  <a:xfrm rot="10800000">
                    <a:off x="3659040" y="3691440"/>
                    <a:ext cx="542520" cy="943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5" name="Rectangle 76"/>
                  <p:cNvSpPr/>
                  <p:nvPr/>
                </p:nvSpPr>
                <p:spPr>
                  <a:xfrm rot="10800000">
                    <a:off x="3550320" y="3691440"/>
                    <a:ext cx="27000" cy="943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06" name="Text Box 77"/>
                <p:cNvSpPr/>
                <p:nvPr/>
              </p:nvSpPr>
              <p:spPr>
                <a:xfrm>
                  <a:off x="3705840" y="3001680"/>
                  <a:ext cx="470880" cy="46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CL" sz="1200" spc="-1" strike="noStrike">
                      <a:solidFill>
                        <a:srgbClr val="000000"/>
                      </a:solidFill>
                      <a:latin typeface="Arial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7" name="Line 78"/>
                <p:cNvSpPr/>
                <p:nvPr/>
              </p:nvSpPr>
              <p:spPr>
                <a:xfrm>
                  <a:off x="3927240" y="3841560"/>
                  <a:ext cx="0" cy="23436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8" name="Group 79"/>
              <p:cNvGrpSpPr/>
              <p:nvPr/>
            </p:nvGrpSpPr>
            <p:grpSpPr>
              <a:xfrm>
                <a:off x="4736880" y="2924280"/>
                <a:ext cx="2355840" cy="1113840"/>
                <a:chOff x="4736880" y="2924280"/>
                <a:chExt cx="2355840" cy="1113840"/>
              </a:xfrm>
            </p:grpSpPr>
            <p:sp>
              <p:nvSpPr>
                <p:cNvPr id="409" name="Line 80"/>
                <p:cNvSpPr/>
                <p:nvPr/>
              </p:nvSpPr>
              <p:spPr>
                <a:xfrm flipH="1">
                  <a:off x="5163840" y="3661560"/>
                  <a:ext cx="1565280" cy="341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10" name="Group 81"/>
                <p:cNvGrpSpPr/>
                <p:nvPr/>
              </p:nvGrpSpPr>
              <p:grpSpPr>
                <a:xfrm>
                  <a:off x="6621480" y="3764160"/>
                  <a:ext cx="398880" cy="234000"/>
                  <a:chOff x="6621480" y="3764160"/>
                  <a:chExt cx="398880" cy="234000"/>
                </a:xfrm>
              </p:grpSpPr>
              <p:grpSp>
                <p:nvGrpSpPr>
                  <p:cNvPr id="411" name="Group 82"/>
                  <p:cNvGrpSpPr/>
                  <p:nvPr/>
                </p:nvGrpSpPr>
                <p:grpSpPr>
                  <a:xfrm>
                    <a:off x="6621480" y="3764160"/>
                    <a:ext cx="188280" cy="234000"/>
                    <a:chOff x="6621480" y="3764160"/>
                    <a:chExt cx="188280" cy="234000"/>
                  </a:xfrm>
                </p:grpSpPr>
                <p:sp>
                  <p:nvSpPr>
                    <p:cNvPr id="412" name="Oval 83"/>
                    <p:cNvSpPr/>
                    <p:nvPr/>
                  </p:nvSpPr>
                  <p:spPr>
                    <a:xfrm>
                      <a:off x="6621480" y="3764160"/>
                      <a:ext cx="188280" cy="234000"/>
                    </a:xfrm>
                    <a:prstGeom prst="ellipse">
                      <a:avLst/>
                    </a:prstGeom>
                    <a:solidFill>
                      <a:srgbClr val="c0c0c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3" name="Oval 84"/>
                    <p:cNvSpPr/>
                    <p:nvPr/>
                  </p:nvSpPr>
                  <p:spPr>
                    <a:xfrm>
                      <a:off x="6667920" y="3813480"/>
                      <a:ext cx="93960" cy="11700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6360" bIns="363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14" name="Group 85"/>
                  <p:cNvGrpSpPr/>
                  <p:nvPr/>
                </p:nvGrpSpPr>
                <p:grpSpPr>
                  <a:xfrm>
                    <a:off x="6832080" y="3764160"/>
                    <a:ext cx="188280" cy="234000"/>
                    <a:chOff x="6832080" y="3764160"/>
                    <a:chExt cx="188280" cy="234000"/>
                  </a:xfrm>
                </p:grpSpPr>
                <p:sp>
                  <p:nvSpPr>
                    <p:cNvPr id="415" name="Oval 86"/>
                    <p:cNvSpPr/>
                    <p:nvPr/>
                  </p:nvSpPr>
                  <p:spPr>
                    <a:xfrm>
                      <a:off x="6832080" y="3764160"/>
                      <a:ext cx="188280" cy="234000"/>
                    </a:xfrm>
                    <a:prstGeom prst="ellipse">
                      <a:avLst/>
                    </a:prstGeom>
                    <a:solidFill>
                      <a:srgbClr val="c0c0c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6" name="Oval 87"/>
                    <p:cNvSpPr/>
                    <p:nvPr/>
                  </p:nvSpPr>
                  <p:spPr>
                    <a:xfrm>
                      <a:off x="6878520" y="3813480"/>
                      <a:ext cx="93960" cy="11700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6360" bIns="363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417" name="Group 88"/>
                <p:cNvGrpSpPr/>
                <p:nvPr/>
              </p:nvGrpSpPr>
              <p:grpSpPr>
                <a:xfrm>
                  <a:off x="4830840" y="3764160"/>
                  <a:ext cx="398880" cy="234000"/>
                  <a:chOff x="4830840" y="3764160"/>
                  <a:chExt cx="398880" cy="234000"/>
                </a:xfrm>
              </p:grpSpPr>
              <p:grpSp>
                <p:nvGrpSpPr>
                  <p:cNvPr id="418" name="Group 89"/>
                  <p:cNvGrpSpPr/>
                  <p:nvPr/>
                </p:nvGrpSpPr>
                <p:grpSpPr>
                  <a:xfrm>
                    <a:off x="4830840" y="3764160"/>
                    <a:ext cx="188280" cy="234000"/>
                    <a:chOff x="4830840" y="3764160"/>
                    <a:chExt cx="188280" cy="234000"/>
                  </a:xfrm>
                </p:grpSpPr>
                <p:sp>
                  <p:nvSpPr>
                    <p:cNvPr id="419" name="Oval 90"/>
                    <p:cNvSpPr/>
                    <p:nvPr/>
                  </p:nvSpPr>
                  <p:spPr>
                    <a:xfrm>
                      <a:off x="4830840" y="3764160"/>
                      <a:ext cx="188280" cy="234000"/>
                    </a:xfrm>
                    <a:prstGeom prst="ellipse">
                      <a:avLst/>
                    </a:prstGeom>
                    <a:solidFill>
                      <a:srgbClr val="c0c0c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0" name="Oval 91"/>
                    <p:cNvSpPr/>
                    <p:nvPr/>
                  </p:nvSpPr>
                  <p:spPr>
                    <a:xfrm>
                      <a:off x="4877280" y="3813480"/>
                      <a:ext cx="93960" cy="11700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6360" bIns="363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21" name="Group 92"/>
                  <p:cNvGrpSpPr/>
                  <p:nvPr/>
                </p:nvGrpSpPr>
                <p:grpSpPr>
                  <a:xfrm>
                    <a:off x="5041440" y="3764160"/>
                    <a:ext cx="188280" cy="234000"/>
                    <a:chOff x="5041440" y="3764160"/>
                    <a:chExt cx="188280" cy="234000"/>
                  </a:xfrm>
                </p:grpSpPr>
                <p:sp>
                  <p:nvSpPr>
                    <p:cNvPr id="422" name="Oval 93"/>
                    <p:cNvSpPr/>
                    <p:nvPr/>
                  </p:nvSpPr>
                  <p:spPr>
                    <a:xfrm>
                      <a:off x="5041440" y="3764160"/>
                      <a:ext cx="188280" cy="234000"/>
                    </a:xfrm>
                    <a:prstGeom prst="ellipse">
                      <a:avLst/>
                    </a:prstGeom>
                    <a:solidFill>
                      <a:srgbClr val="c0c0c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3" name="Oval 94"/>
                    <p:cNvSpPr/>
                    <p:nvPr/>
                  </p:nvSpPr>
                  <p:spPr>
                    <a:xfrm>
                      <a:off x="5087880" y="3813480"/>
                      <a:ext cx="93960" cy="11700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6360" bIns="363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424" name="Group 95"/>
                <p:cNvGrpSpPr/>
                <p:nvPr/>
              </p:nvGrpSpPr>
              <p:grpSpPr>
                <a:xfrm>
                  <a:off x="4807080" y="2924280"/>
                  <a:ext cx="2198880" cy="703080"/>
                  <a:chOff x="4807080" y="2924280"/>
                  <a:chExt cx="2198880" cy="703080"/>
                </a:xfrm>
              </p:grpSpPr>
              <p:sp>
                <p:nvSpPr>
                  <p:cNvPr id="425" name="Freeform 96"/>
                  <p:cNvSpPr/>
                  <p:nvPr/>
                </p:nvSpPr>
                <p:spPr>
                  <a:xfrm>
                    <a:off x="4807080" y="2924280"/>
                    <a:ext cx="1113120" cy="703080"/>
                  </a:xfrm>
                  <a:prstGeom prst="pie">
                    <a:avLst/>
                  </a:pr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6" name="Freeform 97"/>
                  <p:cNvSpPr/>
                  <p:nvPr/>
                </p:nvSpPr>
                <p:spPr>
                  <a:xfrm flipH="1">
                    <a:off x="5892840" y="2924280"/>
                    <a:ext cx="1113120" cy="703080"/>
                  </a:xfrm>
                  <a:prstGeom prst="pie">
                    <a:avLst/>
                  </a:pr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27" name="Text Box 98"/>
                <p:cNvSpPr/>
                <p:nvPr/>
              </p:nvSpPr>
              <p:spPr>
                <a:xfrm>
                  <a:off x="5679000" y="3041280"/>
                  <a:ext cx="471240" cy="46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CL" sz="1200" spc="-1" strike="noStrike">
                      <a:solidFill>
                        <a:srgbClr val="000000"/>
                      </a:solidFill>
                      <a:latin typeface="Arial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28" name="Group 99"/>
                <p:cNvGrpSpPr/>
                <p:nvPr/>
              </p:nvGrpSpPr>
              <p:grpSpPr>
                <a:xfrm>
                  <a:off x="4736880" y="3978720"/>
                  <a:ext cx="2355840" cy="59400"/>
                  <a:chOff x="4736880" y="3978720"/>
                  <a:chExt cx="2355840" cy="59400"/>
                </a:xfrm>
              </p:grpSpPr>
              <p:grpSp>
                <p:nvGrpSpPr>
                  <p:cNvPr id="429" name="Group 100"/>
                  <p:cNvGrpSpPr/>
                  <p:nvPr/>
                </p:nvGrpSpPr>
                <p:grpSpPr>
                  <a:xfrm>
                    <a:off x="4830840" y="3978720"/>
                    <a:ext cx="2065320" cy="59400"/>
                    <a:chOff x="4830840" y="3978720"/>
                    <a:chExt cx="2065320" cy="59400"/>
                  </a:xfrm>
                </p:grpSpPr>
                <p:grpSp>
                  <p:nvGrpSpPr>
                    <p:cNvPr id="430" name="Group 101"/>
                    <p:cNvGrpSpPr/>
                    <p:nvPr/>
                  </p:nvGrpSpPr>
                  <p:grpSpPr>
                    <a:xfrm>
                      <a:off x="4830840" y="3978720"/>
                      <a:ext cx="566640" cy="59400"/>
                      <a:chOff x="4830840" y="3978720"/>
                      <a:chExt cx="566640" cy="59400"/>
                    </a:xfrm>
                  </p:grpSpPr>
                  <p:sp>
                    <p:nvSpPr>
                      <p:cNvPr id="431" name="Freeform 102"/>
                      <p:cNvSpPr/>
                      <p:nvPr/>
                    </p:nvSpPr>
                    <p:spPr>
                      <a:xfrm>
                        <a:off x="4830840" y="3978720"/>
                        <a:ext cx="191160" cy="59400"/>
                      </a:xfrm>
                      <a:prstGeom prst="pie">
                        <a:avLst/>
                      </a:prstGeom>
                      <a:solidFill>
                        <a:srgbClr val="c0c0c0"/>
                      </a:solidFill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2960" bIns="1296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32" name="Freeform 103"/>
                      <p:cNvSpPr/>
                      <p:nvPr/>
                    </p:nvSpPr>
                    <p:spPr>
                      <a:xfrm>
                        <a:off x="5206320" y="3978720"/>
                        <a:ext cx="191160" cy="59400"/>
                      </a:xfrm>
                      <a:prstGeom prst="pie">
                        <a:avLst/>
                      </a:prstGeom>
                      <a:solidFill>
                        <a:srgbClr val="c0c0c0"/>
                      </a:solidFill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2960" bIns="1296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433" name="Group 104"/>
                    <p:cNvGrpSpPr/>
                    <p:nvPr/>
                  </p:nvGrpSpPr>
                  <p:grpSpPr>
                    <a:xfrm>
                      <a:off x="5563440" y="3978720"/>
                      <a:ext cx="566640" cy="59400"/>
                      <a:chOff x="5563440" y="3978720"/>
                      <a:chExt cx="566640" cy="59400"/>
                    </a:xfrm>
                  </p:grpSpPr>
                  <p:sp>
                    <p:nvSpPr>
                      <p:cNvPr id="434" name="Freeform 105"/>
                      <p:cNvSpPr/>
                      <p:nvPr/>
                    </p:nvSpPr>
                    <p:spPr>
                      <a:xfrm>
                        <a:off x="5563440" y="3978720"/>
                        <a:ext cx="191160" cy="59400"/>
                      </a:xfrm>
                      <a:prstGeom prst="pie">
                        <a:avLst/>
                      </a:prstGeom>
                      <a:solidFill>
                        <a:srgbClr val="c0c0c0"/>
                      </a:solidFill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2960" bIns="1296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35" name="Freeform 106"/>
                      <p:cNvSpPr/>
                      <p:nvPr/>
                    </p:nvSpPr>
                    <p:spPr>
                      <a:xfrm>
                        <a:off x="5938920" y="3978720"/>
                        <a:ext cx="191160" cy="59400"/>
                      </a:xfrm>
                      <a:prstGeom prst="pie">
                        <a:avLst/>
                      </a:prstGeom>
                      <a:solidFill>
                        <a:srgbClr val="c0c0c0"/>
                      </a:solidFill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2960" bIns="1296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436" name="Group 107"/>
                    <p:cNvGrpSpPr/>
                    <p:nvPr/>
                  </p:nvGrpSpPr>
                  <p:grpSpPr>
                    <a:xfrm>
                      <a:off x="6329520" y="3978720"/>
                      <a:ext cx="566640" cy="59400"/>
                      <a:chOff x="6329520" y="3978720"/>
                      <a:chExt cx="566640" cy="59400"/>
                    </a:xfrm>
                  </p:grpSpPr>
                  <p:sp>
                    <p:nvSpPr>
                      <p:cNvPr id="437" name="Freeform 108"/>
                      <p:cNvSpPr/>
                      <p:nvPr/>
                    </p:nvSpPr>
                    <p:spPr>
                      <a:xfrm>
                        <a:off x="6329520" y="3978720"/>
                        <a:ext cx="191160" cy="59400"/>
                      </a:xfrm>
                      <a:prstGeom prst="pie">
                        <a:avLst/>
                      </a:prstGeom>
                      <a:solidFill>
                        <a:srgbClr val="c0c0c0"/>
                      </a:solidFill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2960" bIns="1296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38" name="Freeform 109"/>
                      <p:cNvSpPr/>
                      <p:nvPr/>
                    </p:nvSpPr>
                    <p:spPr>
                      <a:xfrm>
                        <a:off x="6705000" y="3978720"/>
                        <a:ext cx="191160" cy="59400"/>
                      </a:xfrm>
                      <a:prstGeom prst="pie">
                        <a:avLst/>
                      </a:prstGeom>
                      <a:solidFill>
                        <a:srgbClr val="c0c0c0"/>
                      </a:solidFill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2960" bIns="1296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439" name="Line 110"/>
                  <p:cNvSpPr/>
                  <p:nvPr/>
                </p:nvSpPr>
                <p:spPr>
                  <a:xfrm>
                    <a:off x="4736880" y="3978720"/>
                    <a:ext cx="235584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40" name="Arc 111"/>
                <p:cNvSpPr/>
                <p:nvPr/>
              </p:nvSpPr>
              <p:spPr>
                <a:xfrm flipH="1" flipV="1">
                  <a:off x="5678280" y="3601800"/>
                  <a:ext cx="188280" cy="287640"/>
                </a:xfrm>
                <a:prstGeom prst="pie">
                  <a:avLst/>
                </a:prstGeom>
                <a:noFill/>
                <a:ln w="9360">
                  <a:solidFill>
                    <a:srgbClr val="333399"/>
                  </a:solidFill>
                  <a:round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1" name="Line 112"/>
                <p:cNvSpPr/>
                <p:nvPr/>
              </p:nvSpPr>
              <p:spPr>
                <a:xfrm flipH="1">
                  <a:off x="4748040" y="3793680"/>
                  <a:ext cx="1002960" cy="23328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42" name="Text Box 113"/>
          <p:cNvSpPr/>
          <p:nvPr/>
        </p:nvSpPr>
        <p:spPr>
          <a:xfrm>
            <a:off x="826920" y="4581360"/>
            <a:ext cx="19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Descarga central (2 puerta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 Box 114"/>
          <p:cNvSpPr/>
          <p:nvPr/>
        </p:nvSpPr>
        <p:spPr>
          <a:xfrm>
            <a:off x="4572000" y="458136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Descarga una puer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115"/>
          <p:cNvSpPr/>
          <p:nvPr/>
        </p:nvSpPr>
        <p:spPr>
          <a:xfrm>
            <a:off x="755640" y="5734080"/>
            <a:ext cx="74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Es apropiado cuando existen restricciones de espac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3300"/>
                </a:solidFill>
                <a:latin typeface="Arial"/>
              </a:rPr>
              <a:t>Vi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6" name="Group 4"/>
          <p:cNvGrpSpPr/>
          <p:nvPr/>
        </p:nvGrpSpPr>
        <p:grpSpPr>
          <a:xfrm>
            <a:off x="1187280" y="2133720"/>
            <a:ext cx="2736720" cy="2106000"/>
            <a:chOff x="1187280" y="2133720"/>
            <a:chExt cx="2736720" cy="2106000"/>
          </a:xfrm>
        </p:grpSpPr>
        <p:grpSp>
          <p:nvGrpSpPr>
            <p:cNvPr id="447" name="Group 5"/>
            <p:cNvGrpSpPr/>
            <p:nvPr/>
          </p:nvGrpSpPr>
          <p:grpSpPr>
            <a:xfrm>
              <a:off x="1877760" y="2293200"/>
              <a:ext cx="2046240" cy="1272600"/>
              <a:chOff x="1877760" y="2293200"/>
              <a:chExt cx="2046240" cy="1272600"/>
            </a:xfrm>
          </p:grpSpPr>
          <p:sp>
            <p:nvSpPr>
              <p:cNvPr id="448" name="Freeform 6"/>
              <p:cNvSpPr/>
              <p:nvPr/>
            </p:nvSpPr>
            <p:spPr>
              <a:xfrm>
                <a:off x="2068920" y="3008880"/>
                <a:ext cx="1357200" cy="131760"/>
              </a:xfrm>
              <a:prstGeom prst="pie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Freeform 7"/>
              <p:cNvSpPr/>
              <p:nvPr/>
            </p:nvSpPr>
            <p:spPr>
              <a:xfrm>
                <a:off x="1877760" y="2293200"/>
                <a:ext cx="2046240" cy="968760"/>
              </a:xfrm>
              <a:prstGeom prst="pie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50" name="Group 8"/>
              <p:cNvGrpSpPr/>
              <p:nvPr/>
            </p:nvGrpSpPr>
            <p:grpSpPr>
              <a:xfrm>
                <a:off x="2336760" y="2872800"/>
                <a:ext cx="832680" cy="133560"/>
                <a:chOff x="2336760" y="2872800"/>
                <a:chExt cx="832680" cy="133560"/>
              </a:xfrm>
            </p:grpSpPr>
            <p:grpSp>
              <p:nvGrpSpPr>
                <p:cNvPr id="451" name="Group 9"/>
                <p:cNvGrpSpPr/>
                <p:nvPr/>
              </p:nvGrpSpPr>
              <p:grpSpPr>
                <a:xfrm>
                  <a:off x="2412000" y="2872800"/>
                  <a:ext cx="103680" cy="97200"/>
                  <a:chOff x="2412000" y="2872800"/>
                  <a:chExt cx="103680" cy="97200"/>
                </a:xfrm>
              </p:grpSpPr>
              <p:sp>
                <p:nvSpPr>
                  <p:cNvPr id="452" name="Oval 10"/>
                  <p:cNvSpPr/>
                  <p:nvPr/>
                </p:nvSpPr>
                <p:spPr>
                  <a:xfrm>
                    <a:off x="2425320" y="2872800"/>
                    <a:ext cx="81720" cy="457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040" bIns="-140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3" name="Rectangle 11"/>
                  <p:cNvSpPr/>
                  <p:nvPr/>
                </p:nvSpPr>
                <p:spPr>
                  <a:xfrm>
                    <a:off x="2446200" y="2912760"/>
                    <a:ext cx="37080" cy="5148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" bIns="46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4" name="Rectangle 12"/>
                  <p:cNvSpPr/>
                  <p:nvPr/>
                </p:nvSpPr>
                <p:spPr>
                  <a:xfrm>
                    <a:off x="2412000" y="2954880"/>
                    <a:ext cx="103680" cy="1512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5" name="Group 13"/>
                <p:cNvGrpSpPr/>
                <p:nvPr/>
              </p:nvGrpSpPr>
              <p:grpSpPr>
                <a:xfrm>
                  <a:off x="2982600" y="2872800"/>
                  <a:ext cx="103680" cy="97200"/>
                  <a:chOff x="2982600" y="2872800"/>
                  <a:chExt cx="103680" cy="97200"/>
                </a:xfrm>
              </p:grpSpPr>
              <p:sp>
                <p:nvSpPr>
                  <p:cNvPr id="456" name="Oval 14"/>
                  <p:cNvSpPr/>
                  <p:nvPr/>
                </p:nvSpPr>
                <p:spPr>
                  <a:xfrm>
                    <a:off x="2995920" y="2872800"/>
                    <a:ext cx="81720" cy="457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040" bIns="-140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7" name="Rectangle 15"/>
                  <p:cNvSpPr/>
                  <p:nvPr/>
                </p:nvSpPr>
                <p:spPr>
                  <a:xfrm>
                    <a:off x="3016800" y="2912760"/>
                    <a:ext cx="37080" cy="5148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" bIns="46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8" name="Rectangle 16"/>
                  <p:cNvSpPr/>
                  <p:nvPr/>
                </p:nvSpPr>
                <p:spPr>
                  <a:xfrm>
                    <a:off x="2982600" y="2954880"/>
                    <a:ext cx="103680" cy="1512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59" name="Freeform 17"/>
                <p:cNvSpPr/>
                <p:nvPr/>
              </p:nvSpPr>
              <p:spPr>
                <a:xfrm>
                  <a:off x="2336760" y="2973600"/>
                  <a:ext cx="832680" cy="32760"/>
                </a:xfrm>
                <a:prstGeom prst="pie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60" name="Line 18"/>
              <p:cNvSpPr/>
              <p:nvPr/>
            </p:nvSpPr>
            <p:spPr>
              <a:xfrm flipV="1">
                <a:off x="2496240" y="3175560"/>
                <a:ext cx="594720" cy="26064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Line 19"/>
              <p:cNvSpPr/>
              <p:nvPr/>
            </p:nvSpPr>
            <p:spPr>
              <a:xfrm>
                <a:off x="2376360" y="2437200"/>
                <a:ext cx="475560" cy="5209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Line 20"/>
              <p:cNvSpPr/>
              <p:nvPr/>
            </p:nvSpPr>
            <p:spPr>
              <a:xfrm>
                <a:off x="3328920" y="2523600"/>
                <a:ext cx="0" cy="5209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Line 21"/>
              <p:cNvSpPr/>
              <p:nvPr/>
            </p:nvSpPr>
            <p:spPr>
              <a:xfrm flipV="1">
                <a:off x="3566160" y="3175200"/>
                <a:ext cx="237960" cy="39060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4" name="Text Box 22"/>
            <p:cNvSpPr/>
            <p:nvPr/>
          </p:nvSpPr>
          <p:spPr>
            <a:xfrm>
              <a:off x="1187280" y="3142800"/>
              <a:ext cx="1427760" cy="78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000000"/>
                  </a:solidFill>
                  <a:latin typeface="Arial"/>
                </a:rPr>
                <a:t>Piso con 1% de pendiente para drenaj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Text Box 23"/>
            <p:cNvSpPr/>
            <p:nvPr/>
          </p:nvSpPr>
          <p:spPr>
            <a:xfrm>
              <a:off x="2853360" y="3458160"/>
              <a:ext cx="1070640" cy="78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000000"/>
                  </a:solidFill>
                  <a:latin typeface="Arial"/>
                </a:rPr>
                <a:t>Drenaj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Text Box 24"/>
            <p:cNvSpPr/>
            <p:nvPr/>
          </p:nvSpPr>
          <p:spPr>
            <a:xfrm>
              <a:off x="1782000" y="2133720"/>
              <a:ext cx="1071000" cy="78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000000"/>
                  </a:solidFill>
                  <a:latin typeface="Arial"/>
                </a:rPr>
                <a:t>Ví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Text Box 25"/>
            <p:cNvSpPr/>
            <p:nvPr/>
          </p:nvSpPr>
          <p:spPr>
            <a:xfrm>
              <a:off x="2833200" y="2155680"/>
              <a:ext cx="1070640" cy="78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000000"/>
                  </a:solidFill>
                  <a:latin typeface="Arial"/>
                </a:rPr>
                <a:t>Afirmad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8" name="Text Box 26"/>
          <p:cNvSpPr/>
          <p:nvPr/>
        </p:nvSpPr>
        <p:spPr>
          <a:xfrm>
            <a:off x="4572000" y="1628640"/>
            <a:ext cx="374508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Componentes de las vía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Base: excavación en el piso en la que se asentara el afirmado y vias. Se conecta con el drenaj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Afirmado: capa de grava angula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Vias: incluye rieles y durmie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3300"/>
                </a:solidFill>
                <a:latin typeface="Arial"/>
              </a:rPr>
              <a:t>Afirm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0" name="Group 4"/>
          <p:cNvGrpSpPr/>
          <p:nvPr/>
        </p:nvGrpSpPr>
        <p:grpSpPr>
          <a:xfrm>
            <a:off x="1042920" y="2133720"/>
            <a:ext cx="5616720" cy="1439280"/>
            <a:chOff x="1042920" y="2133720"/>
            <a:chExt cx="5616720" cy="1439280"/>
          </a:xfrm>
        </p:grpSpPr>
        <p:grpSp>
          <p:nvGrpSpPr>
            <p:cNvPr id="471" name="Group 5"/>
            <p:cNvGrpSpPr/>
            <p:nvPr/>
          </p:nvGrpSpPr>
          <p:grpSpPr>
            <a:xfrm>
              <a:off x="4811400" y="2647800"/>
              <a:ext cx="1848240" cy="849600"/>
              <a:chOff x="4811400" y="2647800"/>
              <a:chExt cx="1848240" cy="849600"/>
            </a:xfrm>
          </p:grpSpPr>
          <p:grpSp>
            <p:nvGrpSpPr>
              <p:cNvPr id="472" name="Group 6"/>
              <p:cNvGrpSpPr/>
              <p:nvPr/>
            </p:nvGrpSpPr>
            <p:grpSpPr>
              <a:xfrm>
                <a:off x="4811400" y="2673720"/>
                <a:ext cx="1848240" cy="823680"/>
                <a:chOff x="4811400" y="2673720"/>
                <a:chExt cx="1848240" cy="823680"/>
              </a:xfrm>
            </p:grpSpPr>
            <p:grpSp>
              <p:nvGrpSpPr>
                <p:cNvPr id="473" name="Group 7"/>
                <p:cNvGrpSpPr/>
                <p:nvPr/>
              </p:nvGrpSpPr>
              <p:grpSpPr>
                <a:xfrm>
                  <a:off x="4811400" y="2874240"/>
                  <a:ext cx="466560" cy="361800"/>
                  <a:chOff x="4811400" y="2874240"/>
                  <a:chExt cx="466560" cy="361800"/>
                </a:xfrm>
              </p:grpSpPr>
              <p:sp>
                <p:nvSpPr>
                  <p:cNvPr id="474" name="Freeform 8"/>
                  <p:cNvSpPr/>
                  <p:nvPr/>
                </p:nvSpPr>
                <p:spPr>
                  <a:xfrm flipH="1" rot="202200">
                    <a:off x="4844880" y="3050280"/>
                    <a:ext cx="177840" cy="180720"/>
                  </a:xfrm>
                  <a:prstGeom prst="pie">
                    <a:avLst/>
                  </a:prstGeom>
                  <a:solidFill>
                    <a:srgbClr val="969696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5" name="Freeform 9"/>
                  <p:cNvSpPr/>
                  <p:nvPr/>
                </p:nvSpPr>
                <p:spPr>
                  <a:xfrm flipH="1" rot="13147800">
                    <a:off x="5001480" y="2993040"/>
                    <a:ext cx="177840" cy="181080"/>
                  </a:xfrm>
                  <a:prstGeom prst="pie">
                    <a:avLst/>
                  </a:prstGeom>
                  <a:solidFill>
                    <a:srgbClr val="969696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6" name="Freeform 10"/>
                  <p:cNvSpPr/>
                  <p:nvPr/>
                </p:nvSpPr>
                <p:spPr>
                  <a:xfrm flipH="1" rot="7091400">
                    <a:off x="5029920" y="2958120"/>
                    <a:ext cx="263520" cy="121680"/>
                  </a:xfrm>
                  <a:prstGeom prst="pie">
                    <a:avLst/>
                  </a:prstGeom>
                  <a:solidFill>
                    <a:srgbClr val="969696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7" name="Freeform 11"/>
                  <p:cNvSpPr/>
                  <p:nvPr/>
                </p:nvSpPr>
                <p:spPr>
                  <a:xfrm flipH="1" rot="11002200">
                    <a:off x="4926600" y="3038760"/>
                    <a:ext cx="177840" cy="180720"/>
                  </a:xfrm>
                  <a:prstGeom prst="pie">
                    <a:avLst/>
                  </a:prstGeom>
                  <a:solidFill>
                    <a:srgbClr val="969696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8" name="Freeform 12"/>
                  <p:cNvSpPr/>
                  <p:nvPr/>
                </p:nvSpPr>
                <p:spPr>
                  <a:xfrm flipH="1" rot="20315400">
                    <a:off x="4907160" y="2943720"/>
                    <a:ext cx="177840" cy="181080"/>
                  </a:xfrm>
                  <a:prstGeom prst="pie">
                    <a:avLst/>
                  </a:prstGeom>
                  <a:solidFill>
                    <a:srgbClr val="969696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9" name="Freeform 13"/>
                  <p:cNvSpPr/>
                  <p:nvPr/>
                </p:nvSpPr>
                <p:spPr>
                  <a:xfrm flipH="1" rot="11002200">
                    <a:off x="4977000" y="2902320"/>
                    <a:ext cx="177840" cy="180720"/>
                  </a:xfrm>
                  <a:prstGeom prst="pie">
                    <a:avLst/>
                  </a:prstGeom>
                  <a:solidFill>
                    <a:srgbClr val="969696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0" name="Freeform 14"/>
                  <p:cNvSpPr/>
                  <p:nvPr/>
                </p:nvSpPr>
                <p:spPr>
                  <a:xfrm flipH="1" rot="202200">
                    <a:off x="4816080" y="2921040"/>
                    <a:ext cx="177840" cy="180720"/>
                  </a:xfrm>
                  <a:prstGeom prst="pie">
                    <a:avLst/>
                  </a:prstGeom>
                  <a:solidFill>
                    <a:srgbClr val="969696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1" name="Group 15"/>
                <p:cNvGrpSpPr/>
                <p:nvPr/>
              </p:nvGrpSpPr>
              <p:grpSpPr>
                <a:xfrm>
                  <a:off x="4819320" y="3121920"/>
                  <a:ext cx="466560" cy="361800"/>
                  <a:chOff x="4819320" y="3121920"/>
                  <a:chExt cx="466560" cy="361800"/>
                </a:xfrm>
              </p:grpSpPr>
              <p:sp>
                <p:nvSpPr>
                  <p:cNvPr id="482" name="Freeform 16"/>
                  <p:cNvSpPr/>
                  <p:nvPr/>
                </p:nvSpPr>
                <p:spPr>
                  <a:xfrm flipH="1" rot="202200">
                    <a:off x="4852800" y="3297960"/>
                    <a:ext cx="177840" cy="180720"/>
                  </a:xfrm>
                  <a:prstGeom prst="pie">
                    <a:avLst/>
                  </a:prstGeom>
                  <a:solidFill>
                    <a:srgbClr val="969696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3" name="Freeform 17"/>
                  <p:cNvSpPr/>
                  <p:nvPr/>
                </p:nvSpPr>
                <p:spPr>
                  <a:xfrm flipH="1" rot="13147800">
                    <a:off x="5009400" y="3240720"/>
                    <a:ext cx="177840" cy="181080"/>
                  </a:xfrm>
                  <a:prstGeom prst="pie">
                    <a:avLst/>
                  </a:prstGeom>
                  <a:solidFill>
                    <a:srgbClr val="969696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4" name="Freeform 18"/>
                  <p:cNvSpPr/>
                  <p:nvPr/>
                </p:nvSpPr>
                <p:spPr>
                  <a:xfrm flipH="1" rot="7091400">
                    <a:off x="5037840" y="3205800"/>
                    <a:ext cx="263520" cy="121680"/>
                  </a:xfrm>
                  <a:prstGeom prst="pie">
                    <a:avLst/>
                  </a:prstGeom>
                  <a:solidFill>
                    <a:srgbClr val="969696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5" name="Freeform 19"/>
                  <p:cNvSpPr/>
                  <p:nvPr/>
                </p:nvSpPr>
                <p:spPr>
                  <a:xfrm flipH="1" rot="11002200">
                    <a:off x="4934520" y="3286440"/>
                    <a:ext cx="177840" cy="180720"/>
                  </a:xfrm>
                  <a:prstGeom prst="pie">
                    <a:avLst/>
                  </a:prstGeom>
                  <a:solidFill>
                    <a:srgbClr val="969696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6" name="Freeform 20"/>
                  <p:cNvSpPr/>
                  <p:nvPr/>
                </p:nvSpPr>
                <p:spPr>
                  <a:xfrm flipH="1" rot="20315400">
                    <a:off x="4915080" y="3191400"/>
                    <a:ext cx="177840" cy="181080"/>
                  </a:xfrm>
                  <a:prstGeom prst="pie">
                    <a:avLst/>
                  </a:prstGeom>
                  <a:solidFill>
                    <a:srgbClr val="969696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7" name="Freeform 21"/>
                  <p:cNvSpPr/>
                  <p:nvPr/>
                </p:nvSpPr>
                <p:spPr>
                  <a:xfrm flipH="1" rot="11002200">
                    <a:off x="4984920" y="3150000"/>
                    <a:ext cx="177840" cy="180720"/>
                  </a:xfrm>
                  <a:prstGeom prst="pie">
                    <a:avLst/>
                  </a:prstGeom>
                  <a:solidFill>
                    <a:srgbClr val="969696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8" name="Freeform 22"/>
                  <p:cNvSpPr/>
                  <p:nvPr/>
                </p:nvSpPr>
                <p:spPr>
                  <a:xfrm flipH="1" rot="202200">
                    <a:off x="4824000" y="3168720"/>
                    <a:ext cx="177840" cy="180720"/>
                  </a:xfrm>
                  <a:prstGeom prst="pie">
                    <a:avLst/>
                  </a:prstGeom>
                  <a:solidFill>
                    <a:srgbClr val="969696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9" name="Group 23"/>
                <p:cNvGrpSpPr/>
                <p:nvPr/>
              </p:nvGrpSpPr>
              <p:grpSpPr>
                <a:xfrm>
                  <a:off x="5109480" y="3114720"/>
                  <a:ext cx="466560" cy="361800"/>
                  <a:chOff x="5109480" y="3114720"/>
                  <a:chExt cx="466560" cy="361800"/>
                </a:xfrm>
              </p:grpSpPr>
              <p:sp>
                <p:nvSpPr>
                  <p:cNvPr id="490" name="Freeform 24"/>
                  <p:cNvSpPr/>
                  <p:nvPr/>
                </p:nvSpPr>
                <p:spPr>
                  <a:xfrm flipH="1" rot="202200">
                    <a:off x="5142960" y="3290760"/>
                    <a:ext cx="177840" cy="180720"/>
                  </a:xfrm>
                  <a:prstGeom prst="pie">
                    <a:avLst/>
                  </a:prstGeom>
                  <a:solidFill>
                    <a:srgbClr val="969696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1" name="Freeform 25"/>
                  <p:cNvSpPr/>
                  <p:nvPr/>
                </p:nvSpPr>
                <p:spPr>
                  <a:xfrm flipH="1" rot="13147800">
                    <a:off x="5299560" y="3233520"/>
                    <a:ext cx="177840" cy="181080"/>
                  </a:xfrm>
                  <a:prstGeom prst="pie">
                    <a:avLst/>
                  </a:prstGeom>
                  <a:solidFill>
                    <a:srgbClr val="969696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2" name="Freeform 26"/>
                  <p:cNvSpPr/>
                  <p:nvPr/>
                </p:nvSpPr>
                <p:spPr>
                  <a:xfrm flipH="1" rot="7091400">
                    <a:off x="5328000" y="3198600"/>
                    <a:ext cx="263520" cy="121680"/>
                  </a:xfrm>
                  <a:prstGeom prst="pie">
                    <a:avLst/>
                  </a:prstGeom>
                  <a:solidFill>
                    <a:srgbClr val="969696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3" name="Freeform 27"/>
                  <p:cNvSpPr/>
                  <p:nvPr/>
                </p:nvSpPr>
                <p:spPr>
                  <a:xfrm flipH="1" rot="11002200">
                    <a:off x="5224680" y="3279240"/>
                    <a:ext cx="177840" cy="180720"/>
                  </a:xfrm>
                  <a:prstGeom prst="pie">
                    <a:avLst/>
                  </a:prstGeom>
                  <a:solidFill>
                    <a:srgbClr val="969696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4" name="Freeform 28"/>
                  <p:cNvSpPr/>
                  <p:nvPr/>
                </p:nvSpPr>
                <p:spPr>
                  <a:xfrm flipH="1" rot="20315400">
                    <a:off x="5205240" y="3184200"/>
                    <a:ext cx="177840" cy="181080"/>
                  </a:xfrm>
                  <a:prstGeom prst="pie">
                    <a:avLst/>
                  </a:prstGeom>
                  <a:solidFill>
                    <a:srgbClr val="969696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5" name="Freeform 29"/>
                  <p:cNvSpPr/>
                  <p:nvPr/>
                </p:nvSpPr>
                <p:spPr>
                  <a:xfrm flipH="1" rot="11002200">
                    <a:off x="5275080" y="3142800"/>
                    <a:ext cx="177840" cy="180720"/>
                  </a:xfrm>
                  <a:prstGeom prst="pie">
                    <a:avLst/>
                  </a:prstGeom>
                  <a:solidFill>
                    <a:srgbClr val="969696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6" name="Freeform 30"/>
                  <p:cNvSpPr/>
                  <p:nvPr/>
                </p:nvSpPr>
                <p:spPr>
                  <a:xfrm flipH="1" rot="202200">
                    <a:off x="5114160" y="3161520"/>
                    <a:ext cx="177840" cy="180720"/>
                  </a:xfrm>
                  <a:prstGeom prst="pie">
                    <a:avLst/>
                  </a:prstGeom>
                  <a:solidFill>
                    <a:srgbClr val="969696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7" name="Group 31"/>
                <p:cNvGrpSpPr/>
                <p:nvPr/>
              </p:nvGrpSpPr>
              <p:grpSpPr>
                <a:xfrm>
                  <a:off x="5343840" y="3115440"/>
                  <a:ext cx="1184760" cy="381960"/>
                  <a:chOff x="5343840" y="3115440"/>
                  <a:chExt cx="1184760" cy="381960"/>
                </a:xfrm>
              </p:grpSpPr>
              <p:grpSp>
                <p:nvGrpSpPr>
                  <p:cNvPr id="498" name="Group 32"/>
                  <p:cNvGrpSpPr/>
                  <p:nvPr/>
                </p:nvGrpSpPr>
                <p:grpSpPr>
                  <a:xfrm>
                    <a:off x="5746680" y="3124440"/>
                    <a:ext cx="466560" cy="361800"/>
                    <a:chOff x="5746680" y="3124440"/>
                    <a:chExt cx="466560" cy="361800"/>
                  </a:xfrm>
                </p:grpSpPr>
                <p:sp>
                  <p:nvSpPr>
                    <p:cNvPr id="499" name="Freeform 33"/>
                    <p:cNvSpPr/>
                    <p:nvPr/>
                  </p:nvSpPr>
                  <p:spPr>
                    <a:xfrm flipH="1" rot="202200">
                      <a:off x="5780160" y="3300480"/>
                      <a:ext cx="177840" cy="180720"/>
                    </a:xfrm>
                    <a:prstGeom prst="pie">
                      <a:avLst/>
                    </a:prstGeom>
                    <a:solidFill>
                      <a:srgbClr val="969696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0" name="Freeform 34"/>
                    <p:cNvSpPr/>
                    <p:nvPr/>
                  </p:nvSpPr>
                  <p:spPr>
                    <a:xfrm flipH="1" rot="13147800">
                      <a:off x="5936760" y="3243240"/>
                      <a:ext cx="177840" cy="181080"/>
                    </a:xfrm>
                    <a:prstGeom prst="pie">
                      <a:avLst/>
                    </a:prstGeom>
                    <a:solidFill>
                      <a:srgbClr val="969696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1" name="Freeform 35"/>
                    <p:cNvSpPr/>
                    <p:nvPr/>
                  </p:nvSpPr>
                  <p:spPr>
                    <a:xfrm flipH="1" rot="7091400">
                      <a:off x="5965200" y="3208320"/>
                      <a:ext cx="263520" cy="121680"/>
                    </a:xfrm>
                    <a:prstGeom prst="pie">
                      <a:avLst/>
                    </a:prstGeom>
                    <a:solidFill>
                      <a:srgbClr val="969696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2" name="Freeform 36"/>
                    <p:cNvSpPr/>
                    <p:nvPr/>
                  </p:nvSpPr>
                  <p:spPr>
                    <a:xfrm flipH="1" rot="11002200">
                      <a:off x="5861880" y="3289320"/>
                      <a:ext cx="177840" cy="180720"/>
                    </a:xfrm>
                    <a:prstGeom prst="pie">
                      <a:avLst/>
                    </a:prstGeom>
                    <a:solidFill>
                      <a:srgbClr val="969696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3" name="Freeform 37"/>
                    <p:cNvSpPr/>
                    <p:nvPr/>
                  </p:nvSpPr>
                  <p:spPr>
                    <a:xfrm flipH="1" rot="20315400">
                      <a:off x="5842440" y="3194280"/>
                      <a:ext cx="177840" cy="181080"/>
                    </a:xfrm>
                    <a:prstGeom prst="pie">
                      <a:avLst/>
                    </a:prstGeom>
                    <a:solidFill>
                      <a:srgbClr val="969696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4" name="Freeform 38"/>
                    <p:cNvSpPr/>
                    <p:nvPr/>
                  </p:nvSpPr>
                  <p:spPr>
                    <a:xfrm flipH="1" rot="11002200">
                      <a:off x="5912280" y="3152520"/>
                      <a:ext cx="177840" cy="180720"/>
                    </a:xfrm>
                    <a:prstGeom prst="pie">
                      <a:avLst/>
                    </a:prstGeom>
                    <a:solidFill>
                      <a:srgbClr val="969696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5" name="Freeform 39"/>
                    <p:cNvSpPr/>
                    <p:nvPr/>
                  </p:nvSpPr>
                  <p:spPr>
                    <a:xfrm flipH="1" rot="202200">
                      <a:off x="5751360" y="3171240"/>
                      <a:ext cx="177840" cy="180720"/>
                    </a:xfrm>
                    <a:prstGeom prst="pie">
                      <a:avLst/>
                    </a:prstGeom>
                    <a:solidFill>
                      <a:srgbClr val="969696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06" name="Group 40"/>
                  <p:cNvGrpSpPr/>
                  <p:nvPr/>
                </p:nvGrpSpPr>
                <p:grpSpPr>
                  <a:xfrm>
                    <a:off x="6062040" y="3115440"/>
                    <a:ext cx="466560" cy="361800"/>
                    <a:chOff x="6062040" y="3115440"/>
                    <a:chExt cx="466560" cy="361800"/>
                  </a:xfrm>
                </p:grpSpPr>
                <p:sp>
                  <p:nvSpPr>
                    <p:cNvPr id="507" name="Freeform 41"/>
                    <p:cNvSpPr/>
                    <p:nvPr/>
                  </p:nvSpPr>
                  <p:spPr>
                    <a:xfrm flipH="1" rot="202200">
                      <a:off x="6095520" y="3291480"/>
                      <a:ext cx="177840" cy="180720"/>
                    </a:xfrm>
                    <a:prstGeom prst="pie">
                      <a:avLst/>
                    </a:prstGeom>
                    <a:solidFill>
                      <a:srgbClr val="969696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8" name="Freeform 42"/>
                    <p:cNvSpPr/>
                    <p:nvPr/>
                  </p:nvSpPr>
                  <p:spPr>
                    <a:xfrm flipH="1" rot="13147800">
                      <a:off x="6252120" y="3234240"/>
                      <a:ext cx="177840" cy="181080"/>
                    </a:xfrm>
                    <a:prstGeom prst="pie">
                      <a:avLst/>
                    </a:prstGeom>
                    <a:solidFill>
                      <a:srgbClr val="969696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9" name="Freeform 43"/>
                    <p:cNvSpPr/>
                    <p:nvPr/>
                  </p:nvSpPr>
                  <p:spPr>
                    <a:xfrm flipH="1" rot="7091400">
                      <a:off x="6280560" y="3199320"/>
                      <a:ext cx="263520" cy="121680"/>
                    </a:xfrm>
                    <a:prstGeom prst="pie">
                      <a:avLst/>
                    </a:prstGeom>
                    <a:solidFill>
                      <a:srgbClr val="969696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0" name="Freeform 44"/>
                    <p:cNvSpPr/>
                    <p:nvPr/>
                  </p:nvSpPr>
                  <p:spPr>
                    <a:xfrm flipH="1" rot="11002200">
                      <a:off x="6177240" y="3279960"/>
                      <a:ext cx="177840" cy="180720"/>
                    </a:xfrm>
                    <a:prstGeom prst="pie">
                      <a:avLst/>
                    </a:prstGeom>
                    <a:solidFill>
                      <a:srgbClr val="969696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1" name="Freeform 45"/>
                    <p:cNvSpPr/>
                    <p:nvPr/>
                  </p:nvSpPr>
                  <p:spPr>
                    <a:xfrm flipH="1" rot="20315400">
                      <a:off x="6157800" y="3184920"/>
                      <a:ext cx="177840" cy="181080"/>
                    </a:xfrm>
                    <a:prstGeom prst="pie">
                      <a:avLst/>
                    </a:prstGeom>
                    <a:solidFill>
                      <a:srgbClr val="969696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2" name="Freeform 46"/>
                    <p:cNvSpPr/>
                    <p:nvPr/>
                  </p:nvSpPr>
                  <p:spPr>
                    <a:xfrm flipH="1" rot="11002200">
                      <a:off x="6227640" y="3143520"/>
                      <a:ext cx="177840" cy="180720"/>
                    </a:xfrm>
                    <a:prstGeom prst="pie">
                      <a:avLst/>
                    </a:prstGeom>
                    <a:solidFill>
                      <a:srgbClr val="969696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3" name="Freeform 47"/>
                    <p:cNvSpPr/>
                    <p:nvPr/>
                  </p:nvSpPr>
                  <p:spPr>
                    <a:xfrm flipH="1" rot="202200">
                      <a:off x="6066720" y="3162240"/>
                      <a:ext cx="177840" cy="180720"/>
                    </a:xfrm>
                    <a:prstGeom prst="pie">
                      <a:avLst/>
                    </a:prstGeom>
                    <a:solidFill>
                      <a:srgbClr val="969696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14" name="Group 48"/>
                  <p:cNvGrpSpPr/>
                  <p:nvPr/>
                </p:nvGrpSpPr>
                <p:grpSpPr>
                  <a:xfrm>
                    <a:off x="5343840" y="3135600"/>
                    <a:ext cx="466560" cy="361800"/>
                    <a:chOff x="5343840" y="3135600"/>
                    <a:chExt cx="466560" cy="361800"/>
                  </a:xfrm>
                </p:grpSpPr>
                <p:sp>
                  <p:nvSpPr>
                    <p:cNvPr id="515" name="Freeform 49"/>
                    <p:cNvSpPr/>
                    <p:nvPr/>
                  </p:nvSpPr>
                  <p:spPr>
                    <a:xfrm flipH="1" rot="11002200">
                      <a:off x="5598000" y="3140280"/>
                      <a:ext cx="177840" cy="180720"/>
                    </a:xfrm>
                    <a:prstGeom prst="pie">
                      <a:avLst/>
                    </a:prstGeom>
                    <a:solidFill>
                      <a:srgbClr val="969696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6" name="Freeform 50"/>
                    <p:cNvSpPr/>
                    <p:nvPr/>
                  </p:nvSpPr>
                  <p:spPr>
                    <a:xfrm flipH="1" rot="2347200">
                      <a:off x="5441400" y="3197160"/>
                      <a:ext cx="177840" cy="181080"/>
                    </a:xfrm>
                    <a:prstGeom prst="pie">
                      <a:avLst/>
                    </a:prstGeom>
                    <a:solidFill>
                      <a:srgbClr val="969696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7" name="Freeform 51"/>
                    <p:cNvSpPr/>
                    <p:nvPr/>
                  </p:nvSpPr>
                  <p:spPr>
                    <a:xfrm flipH="1" rot="17892000">
                      <a:off x="5328000" y="3291480"/>
                      <a:ext cx="263520" cy="121680"/>
                    </a:xfrm>
                    <a:prstGeom prst="pie">
                      <a:avLst/>
                    </a:prstGeom>
                    <a:solidFill>
                      <a:srgbClr val="969696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8" name="Freeform 52"/>
                    <p:cNvSpPr/>
                    <p:nvPr/>
                  </p:nvSpPr>
                  <p:spPr>
                    <a:xfrm flipH="1" rot="202200">
                      <a:off x="5516280" y="3151800"/>
                      <a:ext cx="177840" cy="180720"/>
                    </a:xfrm>
                    <a:prstGeom prst="pie">
                      <a:avLst/>
                    </a:prstGeom>
                    <a:solidFill>
                      <a:srgbClr val="969696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9" name="Freeform 53"/>
                    <p:cNvSpPr/>
                    <p:nvPr/>
                  </p:nvSpPr>
                  <p:spPr>
                    <a:xfrm flipH="1" rot="9515400">
                      <a:off x="5535720" y="3246480"/>
                      <a:ext cx="177840" cy="181080"/>
                    </a:xfrm>
                    <a:prstGeom prst="pie">
                      <a:avLst/>
                    </a:prstGeom>
                    <a:solidFill>
                      <a:srgbClr val="969696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0" name="Freeform 54"/>
                    <p:cNvSpPr/>
                    <p:nvPr/>
                  </p:nvSpPr>
                  <p:spPr>
                    <a:xfrm flipH="1" rot="202200">
                      <a:off x="5465880" y="3288240"/>
                      <a:ext cx="177840" cy="180720"/>
                    </a:xfrm>
                    <a:prstGeom prst="pie">
                      <a:avLst/>
                    </a:prstGeom>
                    <a:solidFill>
                      <a:srgbClr val="969696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1" name="Freeform 55"/>
                    <p:cNvSpPr/>
                    <p:nvPr/>
                  </p:nvSpPr>
                  <p:spPr>
                    <a:xfrm flipH="1" rot="11002200">
                      <a:off x="5626800" y="3269520"/>
                      <a:ext cx="177840" cy="180720"/>
                    </a:xfrm>
                    <a:prstGeom prst="pie">
                      <a:avLst/>
                    </a:prstGeom>
                    <a:solidFill>
                      <a:srgbClr val="969696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522" name="Freeform 56"/>
                <p:cNvSpPr/>
                <p:nvPr/>
              </p:nvSpPr>
              <p:spPr>
                <a:xfrm>
                  <a:off x="5209200" y="2673720"/>
                  <a:ext cx="1450440" cy="514080"/>
                </a:xfrm>
                <a:prstGeom prst="pi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23" name="Line 57"/>
              <p:cNvSpPr/>
              <p:nvPr/>
            </p:nvSpPr>
            <p:spPr>
              <a:xfrm>
                <a:off x="5200920" y="2879280"/>
                <a:ext cx="289800" cy="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Line 58"/>
              <p:cNvSpPr/>
              <p:nvPr/>
            </p:nvSpPr>
            <p:spPr>
              <a:xfrm flipH="1">
                <a:off x="5394240" y="2882160"/>
                <a:ext cx="720" cy="3081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Text Box 59"/>
              <p:cNvSpPr/>
              <p:nvPr/>
            </p:nvSpPr>
            <p:spPr>
              <a:xfrm>
                <a:off x="5297760" y="2879280"/>
                <a:ext cx="579960" cy="514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200" spc="-1" strike="noStrike">
                    <a:solidFill>
                      <a:srgbClr val="000000"/>
                    </a:solidFill>
                    <a:latin typeface="Arial"/>
                  </a:rPr>
                  <a:t>2/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Text Box 60"/>
              <p:cNvSpPr/>
              <p:nvPr/>
            </p:nvSpPr>
            <p:spPr>
              <a:xfrm>
                <a:off x="5394240" y="2647800"/>
                <a:ext cx="1063440" cy="514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200" spc="-1" strike="noStrike">
                    <a:solidFill>
                      <a:srgbClr val="000000"/>
                    </a:solidFill>
                    <a:latin typeface="Arial"/>
                  </a:rPr>
                  <a:t>Durmient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7" name="Group 61"/>
            <p:cNvGrpSpPr/>
            <p:nvPr/>
          </p:nvGrpSpPr>
          <p:grpSpPr>
            <a:xfrm>
              <a:off x="1042920" y="2133720"/>
              <a:ext cx="3319200" cy="1439280"/>
              <a:chOff x="1042920" y="2133720"/>
              <a:chExt cx="3319200" cy="1439280"/>
            </a:xfrm>
          </p:grpSpPr>
          <p:grpSp>
            <p:nvGrpSpPr>
              <p:cNvPr id="528" name="Group 62"/>
              <p:cNvGrpSpPr/>
              <p:nvPr/>
            </p:nvGrpSpPr>
            <p:grpSpPr>
              <a:xfrm>
                <a:off x="1042920" y="2133720"/>
                <a:ext cx="3094200" cy="1428120"/>
                <a:chOff x="1042920" y="2133720"/>
                <a:chExt cx="3094200" cy="1428120"/>
              </a:xfrm>
            </p:grpSpPr>
            <p:grpSp>
              <p:nvGrpSpPr>
                <p:cNvPr id="529" name="Group 63"/>
                <p:cNvGrpSpPr/>
                <p:nvPr/>
              </p:nvGrpSpPr>
              <p:grpSpPr>
                <a:xfrm>
                  <a:off x="1042920" y="2544840"/>
                  <a:ext cx="3094200" cy="1017000"/>
                  <a:chOff x="1042920" y="2544840"/>
                  <a:chExt cx="3094200" cy="1017000"/>
                </a:xfrm>
              </p:grpSpPr>
              <p:grpSp>
                <p:nvGrpSpPr>
                  <p:cNvPr id="530" name="Group 64"/>
                  <p:cNvGrpSpPr/>
                  <p:nvPr/>
                </p:nvGrpSpPr>
                <p:grpSpPr>
                  <a:xfrm>
                    <a:off x="1042920" y="2895480"/>
                    <a:ext cx="3094200" cy="666360"/>
                    <a:chOff x="1042920" y="2895480"/>
                    <a:chExt cx="3094200" cy="666360"/>
                  </a:xfrm>
                </p:grpSpPr>
                <p:grpSp>
                  <p:nvGrpSpPr>
                    <p:cNvPr id="531" name="Group 65"/>
                    <p:cNvGrpSpPr/>
                    <p:nvPr/>
                  </p:nvGrpSpPr>
                  <p:grpSpPr>
                    <a:xfrm>
                      <a:off x="1385640" y="2895480"/>
                      <a:ext cx="2346480" cy="666360"/>
                      <a:chOff x="1385640" y="2895480"/>
                      <a:chExt cx="2346480" cy="666360"/>
                    </a:xfrm>
                  </p:grpSpPr>
                  <p:grpSp>
                    <p:nvGrpSpPr>
                      <p:cNvPr id="532" name="Group 66"/>
                      <p:cNvGrpSpPr/>
                      <p:nvPr/>
                    </p:nvGrpSpPr>
                    <p:grpSpPr>
                      <a:xfrm>
                        <a:off x="1385640" y="2897640"/>
                        <a:ext cx="1285200" cy="397080"/>
                        <a:chOff x="1385640" y="2897640"/>
                        <a:chExt cx="1285200" cy="397080"/>
                      </a:xfrm>
                    </p:grpSpPr>
                    <p:grpSp>
                      <p:nvGrpSpPr>
                        <p:cNvPr id="533" name="Group 67"/>
                        <p:cNvGrpSpPr/>
                        <p:nvPr/>
                      </p:nvGrpSpPr>
                      <p:grpSpPr>
                        <a:xfrm>
                          <a:off x="1819800" y="2920680"/>
                          <a:ext cx="503280" cy="359280"/>
                          <a:chOff x="1819800" y="2920680"/>
                          <a:chExt cx="503280" cy="359280"/>
                        </a:xfrm>
                      </p:grpSpPr>
                      <p:sp>
                        <p:nvSpPr>
                          <p:cNvPr id="534" name="Freeform 68"/>
                          <p:cNvSpPr/>
                          <p:nvPr/>
                        </p:nvSpPr>
                        <p:spPr>
                          <a:xfrm rot="10681200">
                            <a:off x="1859040" y="2923920"/>
                            <a:ext cx="196560" cy="176040"/>
                          </a:xfrm>
                          <a:prstGeom prst="pie">
                            <a:avLst/>
                          </a:prstGeom>
                          <a:solidFill>
                            <a:srgbClr val="969696"/>
                          </a:solidFill>
                          <a:ln w="936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5" name="Freeform 69"/>
                          <p:cNvSpPr/>
                          <p:nvPr/>
                        </p:nvSpPr>
                        <p:spPr>
                          <a:xfrm rot="19336200">
                            <a:off x="2030040" y="2982600"/>
                            <a:ext cx="196560" cy="175680"/>
                          </a:xfrm>
                          <a:prstGeom prst="pie">
                            <a:avLst/>
                          </a:prstGeom>
                          <a:solidFill>
                            <a:srgbClr val="969696"/>
                          </a:solidFill>
                          <a:ln w="936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6" name="Freeform 70"/>
                          <p:cNvSpPr/>
                          <p:nvPr/>
                        </p:nvSpPr>
                        <p:spPr>
                          <a:xfrm rot="3791400">
                            <a:off x="2076480" y="3067560"/>
                            <a:ext cx="256680" cy="134640"/>
                          </a:xfrm>
                          <a:prstGeom prst="pie">
                            <a:avLst/>
                          </a:prstGeom>
                          <a:solidFill>
                            <a:srgbClr val="969696"/>
                          </a:solidFill>
                          <a:ln w="936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7" name="Freeform 71"/>
                          <p:cNvSpPr/>
                          <p:nvPr/>
                        </p:nvSpPr>
                        <p:spPr>
                          <a:xfrm rot="21481200">
                            <a:off x="1948680" y="2936880"/>
                            <a:ext cx="196200" cy="176040"/>
                          </a:xfrm>
                          <a:prstGeom prst="pie">
                            <a:avLst/>
                          </a:prstGeom>
                          <a:solidFill>
                            <a:srgbClr val="969696"/>
                          </a:solidFill>
                          <a:ln w="936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8" name="Freeform 72"/>
                          <p:cNvSpPr/>
                          <p:nvPr/>
                        </p:nvSpPr>
                        <p:spPr>
                          <a:xfrm rot="12168600">
                            <a:off x="1924560" y="3028680"/>
                            <a:ext cx="196200" cy="176040"/>
                          </a:xfrm>
                          <a:prstGeom prst="pie">
                            <a:avLst/>
                          </a:prstGeom>
                          <a:solidFill>
                            <a:srgbClr val="969696"/>
                          </a:solidFill>
                          <a:ln w="936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9" name="Freeform 73"/>
                          <p:cNvSpPr/>
                          <p:nvPr/>
                        </p:nvSpPr>
                        <p:spPr>
                          <a:xfrm rot="21481200">
                            <a:off x="2000160" y="3070800"/>
                            <a:ext cx="196200" cy="176040"/>
                          </a:xfrm>
                          <a:prstGeom prst="pie">
                            <a:avLst/>
                          </a:prstGeom>
                          <a:solidFill>
                            <a:srgbClr val="969696"/>
                          </a:solidFill>
                          <a:ln w="936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0" name="Freeform 74"/>
                          <p:cNvSpPr/>
                          <p:nvPr/>
                        </p:nvSpPr>
                        <p:spPr>
                          <a:xfrm rot="10681200">
                            <a:off x="1822680" y="3049200"/>
                            <a:ext cx="196200" cy="176040"/>
                          </a:xfrm>
                          <a:prstGeom prst="pie">
                            <a:avLst/>
                          </a:prstGeom>
                          <a:solidFill>
                            <a:srgbClr val="969696"/>
                          </a:solidFill>
                          <a:ln w="936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541" name="Group 75"/>
                        <p:cNvGrpSpPr/>
                        <p:nvPr/>
                      </p:nvGrpSpPr>
                      <p:grpSpPr>
                        <a:xfrm>
                          <a:off x="2167560" y="2935800"/>
                          <a:ext cx="503280" cy="358920"/>
                          <a:chOff x="2167560" y="2935800"/>
                          <a:chExt cx="503280" cy="358920"/>
                        </a:xfrm>
                      </p:grpSpPr>
                      <p:sp>
                        <p:nvSpPr>
                          <p:cNvPr id="542" name="Freeform 76"/>
                          <p:cNvSpPr/>
                          <p:nvPr/>
                        </p:nvSpPr>
                        <p:spPr>
                          <a:xfrm rot="10681200">
                            <a:off x="2206800" y="2939040"/>
                            <a:ext cx="196560" cy="176040"/>
                          </a:xfrm>
                          <a:prstGeom prst="pie">
                            <a:avLst/>
                          </a:prstGeom>
                          <a:solidFill>
                            <a:srgbClr val="969696"/>
                          </a:solidFill>
                          <a:ln w="936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3" name="Freeform 77"/>
                          <p:cNvSpPr/>
                          <p:nvPr/>
                        </p:nvSpPr>
                        <p:spPr>
                          <a:xfrm rot="19336200">
                            <a:off x="2377800" y="2997720"/>
                            <a:ext cx="196560" cy="175680"/>
                          </a:xfrm>
                          <a:prstGeom prst="pie">
                            <a:avLst/>
                          </a:prstGeom>
                          <a:solidFill>
                            <a:srgbClr val="969696"/>
                          </a:solidFill>
                          <a:ln w="936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4" name="Freeform 78"/>
                          <p:cNvSpPr/>
                          <p:nvPr/>
                        </p:nvSpPr>
                        <p:spPr>
                          <a:xfrm rot="3791400">
                            <a:off x="2424240" y="3082320"/>
                            <a:ext cx="256680" cy="134640"/>
                          </a:xfrm>
                          <a:prstGeom prst="pie">
                            <a:avLst/>
                          </a:prstGeom>
                          <a:solidFill>
                            <a:srgbClr val="969696"/>
                          </a:solidFill>
                          <a:ln w="936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5" name="Freeform 79"/>
                          <p:cNvSpPr/>
                          <p:nvPr/>
                        </p:nvSpPr>
                        <p:spPr>
                          <a:xfrm rot="21481200">
                            <a:off x="2296440" y="2951640"/>
                            <a:ext cx="196200" cy="176040"/>
                          </a:xfrm>
                          <a:prstGeom prst="pie">
                            <a:avLst/>
                          </a:prstGeom>
                          <a:solidFill>
                            <a:srgbClr val="969696"/>
                          </a:solidFill>
                          <a:ln w="936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6" name="Freeform 80"/>
                          <p:cNvSpPr/>
                          <p:nvPr/>
                        </p:nvSpPr>
                        <p:spPr>
                          <a:xfrm rot="12168600">
                            <a:off x="2272320" y="3043800"/>
                            <a:ext cx="196200" cy="176040"/>
                          </a:xfrm>
                          <a:prstGeom prst="pie">
                            <a:avLst/>
                          </a:prstGeom>
                          <a:solidFill>
                            <a:srgbClr val="969696"/>
                          </a:solidFill>
                          <a:ln w="936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7" name="Freeform 81"/>
                          <p:cNvSpPr/>
                          <p:nvPr/>
                        </p:nvSpPr>
                        <p:spPr>
                          <a:xfrm rot="21481200">
                            <a:off x="2347920" y="3085920"/>
                            <a:ext cx="196200" cy="176040"/>
                          </a:xfrm>
                          <a:prstGeom prst="pie">
                            <a:avLst/>
                          </a:prstGeom>
                          <a:solidFill>
                            <a:srgbClr val="969696"/>
                          </a:solidFill>
                          <a:ln w="936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8" name="Freeform 82"/>
                          <p:cNvSpPr/>
                          <p:nvPr/>
                        </p:nvSpPr>
                        <p:spPr>
                          <a:xfrm rot="10681200">
                            <a:off x="2170440" y="3063960"/>
                            <a:ext cx="196200" cy="176040"/>
                          </a:xfrm>
                          <a:prstGeom prst="pie">
                            <a:avLst/>
                          </a:prstGeom>
                          <a:solidFill>
                            <a:srgbClr val="969696"/>
                          </a:solidFill>
                          <a:ln w="936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549" name="Group 83"/>
                        <p:cNvGrpSpPr/>
                        <p:nvPr/>
                      </p:nvGrpSpPr>
                      <p:grpSpPr>
                        <a:xfrm>
                          <a:off x="1385640" y="2897640"/>
                          <a:ext cx="502920" cy="358920"/>
                          <a:chOff x="1385640" y="2897640"/>
                          <a:chExt cx="502920" cy="358920"/>
                        </a:xfrm>
                      </p:grpSpPr>
                      <p:sp>
                        <p:nvSpPr>
                          <p:cNvPr id="550" name="Freeform 84"/>
                          <p:cNvSpPr/>
                          <p:nvPr/>
                        </p:nvSpPr>
                        <p:spPr>
                          <a:xfrm rot="21481200">
                            <a:off x="1652400" y="3076920"/>
                            <a:ext cx="196560" cy="176040"/>
                          </a:xfrm>
                          <a:prstGeom prst="pie">
                            <a:avLst/>
                          </a:prstGeom>
                          <a:solidFill>
                            <a:srgbClr val="969696"/>
                          </a:solidFill>
                          <a:ln w="936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1" name="Freeform 85"/>
                          <p:cNvSpPr/>
                          <p:nvPr/>
                        </p:nvSpPr>
                        <p:spPr>
                          <a:xfrm rot="8536200">
                            <a:off x="1481400" y="3018600"/>
                            <a:ext cx="196560" cy="175680"/>
                          </a:xfrm>
                          <a:prstGeom prst="pie">
                            <a:avLst/>
                          </a:prstGeom>
                          <a:solidFill>
                            <a:srgbClr val="969696"/>
                          </a:solidFill>
                          <a:ln w="936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2" name="Freeform 86"/>
                          <p:cNvSpPr/>
                          <p:nvPr/>
                        </p:nvSpPr>
                        <p:spPr>
                          <a:xfrm rot="14592000">
                            <a:off x="1374840" y="2975040"/>
                            <a:ext cx="256680" cy="134640"/>
                          </a:xfrm>
                          <a:prstGeom prst="pie">
                            <a:avLst/>
                          </a:prstGeom>
                          <a:solidFill>
                            <a:srgbClr val="969696"/>
                          </a:solidFill>
                          <a:ln w="936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3" name="Freeform 87"/>
                          <p:cNvSpPr/>
                          <p:nvPr/>
                        </p:nvSpPr>
                        <p:spPr>
                          <a:xfrm rot="10681200">
                            <a:off x="1563120" y="3064320"/>
                            <a:ext cx="196200" cy="176040"/>
                          </a:xfrm>
                          <a:prstGeom prst="pie">
                            <a:avLst/>
                          </a:prstGeom>
                          <a:solidFill>
                            <a:srgbClr val="969696"/>
                          </a:solidFill>
                          <a:ln w="936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4" name="Freeform 88"/>
                          <p:cNvSpPr/>
                          <p:nvPr/>
                        </p:nvSpPr>
                        <p:spPr>
                          <a:xfrm rot="1368000">
                            <a:off x="1587240" y="2972160"/>
                            <a:ext cx="196200" cy="176040"/>
                          </a:xfrm>
                          <a:prstGeom prst="pie">
                            <a:avLst/>
                          </a:prstGeom>
                          <a:solidFill>
                            <a:srgbClr val="969696"/>
                          </a:solidFill>
                          <a:ln w="936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5" name="Freeform 89"/>
                          <p:cNvSpPr/>
                          <p:nvPr/>
                        </p:nvSpPr>
                        <p:spPr>
                          <a:xfrm rot="10681200">
                            <a:off x="1511640" y="2930040"/>
                            <a:ext cx="196200" cy="176040"/>
                          </a:xfrm>
                          <a:prstGeom prst="pie">
                            <a:avLst/>
                          </a:prstGeom>
                          <a:solidFill>
                            <a:srgbClr val="969696"/>
                          </a:solidFill>
                          <a:ln w="936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6" name="Freeform 90"/>
                          <p:cNvSpPr/>
                          <p:nvPr/>
                        </p:nvSpPr>
                        <p:spPr>
                          <a:xfrm rot="21481200">
                            <a:off x="1689120" y="2952000"/>
                            <a:ext cx="196200" cy="176040"/>
                          </a:xfrm>
                          <a:prstGeom prst="pie">
                            <a:avLst/>
                          </a:prstGeom>
                          <a:solidFill>
                            <a:srgbClr val="969696"/>
                          </a:solidFill>
                          <a:ln w="936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557" name="Group 91"/>
                      <p:cNvGrpSpPr/>
                      <p:nvPr/>
                    </p:nvGrpSpPr>
                    <p:grpSpPr>
                      <a:xfrm>
                        <a:off x="2446920" y="2895480"/>
                        <a:ext cx="1285200" cy="396720"/>
                        <a:chOff x="2446920" y="2895480"/>
                        <a:chExt cx="1285200" cy="396720"/>
                      </a:xfrm>
                    </p:grpSpPr>
                    <p:grpSp>
                      <p:nvGrpSpPr>
                        <p:cNvPr id="558" name="Group 92"/>
                        <p:cNvGrpSpPr/>
                        <p:nvPr/>
                      </p:nvGrpSpPr>
                      <p:grpSpPr>
                        <a:xfrm>
                          <a:off x="2881080" y="2910240"/>
                          <a:ext cx="503280" cy="359280"/>
                          <a:chOff x="2881080" y="2910240"/>
                          <a:chExt cx="503280" cy="359280"/>
                        </a:xfrm>
                      </p:grpSpPr>
                      <p:sp>
                        <p:nvSpPr>
                          <p:cNvPr id="559" name="Freeform 93"/>
                          <p:cNvSpPr/>
                          <p:nvPr/>
                        </p:nvSpPr>
                        <p:spPr>
                          <a:xfrm flipH="1" rot="118800">
                            <a:off x="2919960" y="3089880"/>
                            <a:ext cx="196560" cy="176040"/>
                          </a:xfrm>
                          <a:prstGeom prst="pie">
                            <a:avLst/>
                          </a:prstGeom>
                          <a:solidFill>
                            <a:srgbClr val="969696"/>
                          </a:solidFill>
                          <a:ln w="936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0" name="Freeform 94"/>
                          <p:cNvSpPr/>
                          <p:nvPr/>
                        </p:nvSpPr>
                        <p:spPr>
                          <a:xfrm flipH="1" rot="13063800">
                            <a:off x="3090960" y="3031200"/>
                            <a:ext cx="196560" cy="175680"/>
                          </a:xfrm>
                          <a:prstGeom prst="pie">
                            <a:avLst/>
                          </a:prstGeom>
                          <a:solidFill>
                            <a:srgbClr val="969696"/>
                          </a:solidFill>
                          <a:ln w="936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1" name="Freeform 95"/>
                          <p:cNvSpPr/>
                          <p:nvPr/>
                        </p:nvSpPr>
                        <p:spPr>
                          <a:xfrm flipH="1" rot="7008000">
                            <a:off x="3137760" y="2987640"/>
                            <a:ext cx="256680" cy="134640"/>
                          </a:xfrm>
                          <a:prstGeom prst="pie">
                            <a:avLst/>
                          </a:prstGeom>
                          <a:solidFill>
                            <a:srgbClr val="969696"/>
                          </a:solidFill>
                          <a:ln w="936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2" name="Freeform 96"/>
                          <p:cNvSpPr/>
                          <p:nvPr/>
                        </p:nvSpPr>
                        <p:spPr>
                          <a:xfrm flipH="1" rot="10918800">
                            <a:off x="3009960" y="3076920"/>
                            <a:ext cx="196200" cy="176040"/>
                          </a:xfrm>
                          <a:prstGeom prst="pie">
                            <a:avLst/>
                          </a:prstGeom>
                          <a:solidFill>
                            <a:srgbClr val="969696"/>
                          </a:solidFill>
                          <a:ln w="936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3" name="Freeform 97"/>
                          <p:cNvSpPr/>
                          <p:nvPr/>
                        </p:nvSpPr>
                        <p:spPr>
                          <a:xfrm flipH="1" rot="20232000">
                            <a:off x="2985840" y="2985120"/>
                            <a:ext cx="196200" cy="176040"/>
                          </a:xfrm>
                          <a:prstGeom prst="pie">
                            <a:avLst/>
                          </a:prstGeom>
                          <a:solidFill>
                            <a:srgbClr val="969696"/>
                          </a:solidFill>
                          <a:ln w="936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4" name="Freeform 98"/>
                          <p:cNvSpPr/>
                          <p:nvPr/>
                        </p:nvSpPr>
                        <p:spPr>
                          <a:xfrm flipH="1" rot="10918800">
                            <a:off x="3061440" y="2943000"/>
                            <a:ext cx="196200" cy="176040"/>
                          </a:xfrm>
                          <a:prstGeom prst="pie">
                            <a:avLst/>
                          </a:prstGeom>
                          <a:solidFill>
                            <a:srgbClr val="969696"/>
                          </a:solidFill>
                          <a:ln w="936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5" name="Freeform 99"/>
                          <p:cNvSpPr/>
                          <p:nvPr/>
                        </p:nvSpPr>
                        <p:spPr>
                          <a:xfrm flipH="1" rot="118800">
                            <a:off x="2883960" y="2964600"/>
                            <a:ext cx="196200" cy="176040"/>
                          </a:xfrm>
                          <a:prstGeom prst="pie">
                            <a:avLst/>
                          </a:prstGeom>
                          <a:solidFill>
                            <a:srgbClr val="969696"/>
                          </a:solidFill>
                          <a:ln w="936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566" name="Group 100"/>
                        <p:cNvGrpSpPr/>
                        <p:nvPr/>
                      </p:nvGrpSpPr>
                      <p:grpSpPr>
                        <a:xfrm>
                          <a:off x="3228840" y="2895480"/>
                          <a:ext cx="503280" cy="358920"/>
                          <a:chOff x="3228840" y="2895480"/>
                          <a:chExt cx="503280" cy="358920"/>
                        </a:xfrm>
                      </p:grpSpPr>
                      <p:sp>
                        <p:nvSpPr>
                          <p:cNvPr id="567" name="Freeform 101"/>
                          <p:cNvSpPr/>
                          <p:nvPr/>
                        </p:nvSpPr>
                        <p:spPr>
                          <a:xfrm flipH="1" rot="118800">
                            <a:off x="3267720" y="3074760"/>
                            <a:ext cx="196560" cy="176040"/>
                          </a:xfrm>
                          <a:prstGeom prst="pie">
                            <a:avLst/>
                          </a:prstGeom>
                          <a:solidFill>
                            <a:srgbClr val="969696"/>
                          </a:solidFill>
                          <a:ln w="936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8" name="Freeform 102"/>
                          <p:cNvSpPr/>
                          <p:nvPr/>
                        </p:nvSpPr>
                        <p:spPr>
                          <a:xfrm flipH="1" rot="13063800">
                            <a:off x="3438720" y="3016080"/>
                            <a:ext cx="196560" cy="175680"/>
                          </a:xfrm>
                          <a:prstGeom prst="pie">
                            <a:avLst/>
                          </a:prstGeom>
                          <a:solidFill>
                            <a:srgbClr val="969696"/>
                          </a:solidFill>
                          <a:ln w="936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9" name="Freeform 103"/>
                          <p:cNvSpPr/>
                          <p:nvPr/>
                        </p:nvSpPr>
                        <p:spPr>
                          <a:xfrm flipH="1" rot="7008000">
                            <a:off x="3485520" y="2972880"/>
                            <a:ext cx="256680" cy="134640"/>
                          </a:xfrm>
                          <a:prstGeom prst="pie">
                            <a:avLst/>
                          </a:prstGeom>
                          <a:solidFill>
                            <a:srgbClr val="969696"/>
                          </a:solidFill>
                          <a:ln w="936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0" name="Freeform 104"/>
                          <p:cNvSpPr/>
                          <p:nvPr/>
                        </p:nvSpPr>
                        <p:spPr>
                          <a:xfrm flipH="1" rot="10918800">
                            <a:off x="3357720" y="3062160"/>
                            <a:ext cx="196200" cy="176040"/>
                          </a:xfrm>
                          <a:prstGeom prst="pie">
                            <a:avLst/>
                          </a:prstGeom>
                          <a:solidFill>
                            <a:srgbClr val="969696"/>
                          </a:solidFill>
                          <a:ln w="936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1" name="Freeform 105"/>
                          <p:cNvSpPr/>
                          <p:nvPr/>
                        </p:nvSpPr>
                        <p:spPr>
                          <a:xfrm flipH="1" rot="20232000">
                            <a:off x="3333600" y="2970000"/>
                            <a:ext cx="196200" cy="176040"/>
                          </a:xfrm>
                          <a:prstGeom prst="pie">
                            <a:avLst/>
                          </a:prstGeom>
                          <a:solidFill>
                            <a:srgbClr val="969696"/>
                          </a:solidFill>
                          <a:ln w="936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2" name="Freeform 106"/>
                          <p:cNvSpPr/>
                          <p:nvPr/>
                        </p:nvSpPr>
                        <p:spPr>
                          <a:xfrm flipH="1" rot="10918800">
                            <a:off x="3409200" y="2927880"/>
                            <a:ext cx="196200" cy="176040"/>
                          </a:xfrm>
                          <a:prstGeom prst="pie">
                            <a:avLst/>
                          </a:prstGeom>
                          <a:solidFill>
                            <a:srgbClr val="969696"/>
                          </a:solidFill>
                          <a:ln w="936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3" name="Freeform 107"/>
                          <p:cNvSpPr/>
                          <p:nvPr/>
                        </p:nvSpPr>
                        <p:spPr>
                          <a:xfrm flipH="1" rot="118800">
                            <a:off x="3231720" y="2949840"/>
                            <a:ext cx="196200" cy="176040"/>
                          </a:xfrm>
                          <a:prstGeom prst="pie">
                            <a:avLst/>
                          </a:prstGeom>
                          <a:solidFill>
                            <a:srgbClr val="969696"/>
                          </a:solidFill>
                          <a:ln w="936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574" name="Group 108"/>
                        <p:cNvGrpSpPr/>
                        <p:nvPr/>
                      </p:nvGrpSpPr>
                      <p:grpSpPr>
                        <a:xfrm>
                          <a:off x="2446920" y="2933640"/>
                          <a:ext cx="502920" cy="358560"/>
                          <a:chOff x="2446920" y="2933640"/>
                          <a:chExt cx="502920" cy="358560"/>
                        </a:xfrm>
                      </p:grpSpPr>
                      <p:sp>
                        <p:nvSpPr>
                          <p:cNvPr id="575" name="Freeform 109"/>
                          <p:cNvSpPr/>
                          <p:nvPr/>
                        </p:nvSpPr>
                        <p:spPr>
                          <a:xfrm flipH="1" rot="10918800">
                            <a:off x="2713320" y="2936880"/>
                            <a:ext cx="196560" cy="176040"/>
                          </a:xfrm>
                          <a:prstGeom prst="pie">
                            <a:avLst/>
                          </a:prstGeom>
                          <a:solidFill>
                            <a:srgbClr val="969696"/>
                          </a:solidFill>
                          <a:ln w="936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6" name="Freeform 110"/>
                          <p:cNvSpPr/>
                          <p:nvPr/>
                        </p:nvSpPr>
                        <p:spPr>
                          <a:xfrm flipH="1" rot="2264400">
                            <a:off x="2543040" y="2995920"/>
                            <a:ext cx="196560" cy="175680"/>
                          </a:xfrm>
                          <a:prstGeom prst="pie">
                            <a:avLst/>
                          </a:prstGeom>
                          <a:solidFill>
                            <a:srgbClr val="969696"/>
                          </a:solidFill>
                          <a:ln w="936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7" name="Freeform 111"/>
                          <p:cNvSpPr/>
                          <p:nvPr/>
                        </p:nvSpPr>
                        <p:spPr>
                          <a:xfrm flipH="1" rot="17808000">
                            <a:off x="2436120" y="3080160"/>
                            <a:ext cx="256320" cy="134280"/>
                          </a:xfrm>
                          <a:prstGeom prst="pie">
                            <a:avLst/>
                          </a:prstGeom>
                          <a:solidFill>
                            <a:srgbClr val="969696"/>
                          </a:solidFill>
                          <a:ln w="936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8" name="Freeform 112"/>
                          <p:cNvSpPr/>
                          <p:nvPr/>
                        </p:nvSpPr>
                        <p:spPr>
                          <a:xfrm flipH="1" rot="118800">
                            <a:off x="2624400" y="2949480"/>
                            <a:ext cx="196200" cy="176040"/>
                          </a:xfrm>
                          <a:prstGeom prst="pie">
                            <a:avLst/>
                          </a:prstGeom>
                          <a:solidFill>
                            <a:srgbClr val="969696"/>
                          </a:solidFill>
                          <a:ln w="936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9" name="Freeform 113"/>
                          <p:cNvSpPr/>
                          <p:nvPr/>
                        </p:nvSpPr>
                        <p:spPr>
                          <a:xfrm flipH="1" rot="9432000">
                            <a:off x="2648520" y="3041640"/>
                            <a:ext cx="196200" cy="176040"/>
                          </a:xfrm>
                          <a:prstGeom prst="pie">
                            <a:avLst/>
                          </a:prstGeom>
                          <a:solidFill>
                            <a:srgbClr val="969696"/>
                          </a:solidFill>
                          <a:ln w="936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0" name="Freeform 114"/>
                          <p:cNvSpPr/>
                          <p:nvPr/>
                        </p:nvSpPr>
                        <p:spPr>
                          <a:xfrm flipH="1" rot="118800">
                            <a:off x="2572920" y="3083760"/>
                            <a:ext cx="196200" cy="176040"/>
                          </a:xfrm>
                          <a:prstGeom prst="pie">
                            <a:avLst/>
                          </a:prstGeom>
                          <a:solidFill>
                            <a:srgbClr val="969696"/>
                          </a:solidFill>
                          <a:ln w="936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1" name="Freeform 115"/>
                          <p:cNvSpPr/>
                          <p:nvPr/>
                        </p:nvSpPr>
                        <p:spPr>
                          <a:xfrm flipH="1" rot="10918800">
                            <a:off x="2750400" y="3061800"/>
                            <a:ext cx="196200" cy="176040"/>
                          </a:xfrm>
                          <a:prstGeom prst="pie">
                            <a:avLst/>
                          </a:prstGeom>
                          <a:solidFill>
                            <a:srgbClr val="969696"/>
                          </a:solidFill>
                          <a:ln w="936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582" name="Group 116"/>
                      <p:cNvGrpSpPr/>
                      <p:nvPr/>
                    </p:nvGrpSpPr>
                    <p:grpSpPr>
                      <a:xfrm>
                        <a:off x="1505160" y="3161160"/>
                        <a:ext cx="1284120" cy="395280"/>
                        <a:chOff x="1505160" y="3161160"/>
                        <a:chExt cx="1284120" cy="395280"/>
                      </a:xfrm>
                    </p:grpSpPr>
                    <p:grpSp>
                      <p:nvGrpSpPr>
                        <p:cNvPr id="583" name="Group 117"/>
                        <p:cNvGrpSpPr/>
                        <p:nvPr/>
                      </p:nvGrpSpPr>
                      <p:grpSpPr>
                        <a:xfrm>
                          <a:off x="1938600" y="3183840"/>
                          <a:ext cx="502920" cy="358920"/>
                          <a:chOff x="1938600" y="3183840"/>
                          <a:chExt cx="502920" cy="358920"/>
                        </a:xfrm>
                      </p:grpSpPr>
                      <p:sp>
                        <p:nvSpPr>
                          <p:cNvPr id="584" name="Freeform 118"/>
                          <p:cNvSpPr/>
                          <p:nvPr/>
                        </p:nvSpPr>
                        <p:spPr>
                          <a:xfrm rot="10681200">
                            <a:off x="1977480" y="3187080"/>
                            <a:ext cx="196200" cy="176040"/>
                          </a:xfrm>
                          <a:prstGeom prst="pie">
                            <a:avLst/>
                          </a:prstGeom>
                          <a:solidFill>
                            <a:srgbClr val="969696"/>
                          </a:solidFill>
                          <a:ln w="936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5" name="Freeform 119"/>
                          <p:cNvSpPr/>
                          <p:nvPr/>
                        </p:nvSpPr>
                        <p:spPr>
                          <a:xfrm rot="19336200">
                            <a:off x="2148840" y="3245760"/>
                            <a:ext cx="196200" cy="175680"/>
                          </a:xfrm>
                          <a:prstGeom prst="pie">
                            <a:avLst/>
                          </a:prstGeom>
                          <a:solidFill>
                            <a:srgbClr val="969696"/>
                          </a:solidFill>
                          <a:ln w="936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6" name="Freeform 120"/>
                          <p:cNvSpPr/>
                          <p:nvPr/>
                        </p:nvSpPr>
                        <p:spPr>
                          <a:xfrm rot="3791400">
                            <a:off x="2194920" y="3330360"/>
                            <a:ext cx="256680" cy="134640"/>
                          </a:xfrm>
                          <a:prstGeom prst="pie">
                            <a:avLst/>
                          </a:prstGeom>
                          <a:solidFill>
                            <a:srgbClr val="969696"/>
                          </a:solidFill>
                          <a:ln w="936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7" name="Freeform 121"/>
                          <p:cNvSpPr/>
                          <p:nvPr/>
                        </p:nvSpPr>
                        <p:spPr>
                          <a:xfrm rot="21481200">
                            <a:off x="2067480" y="3199680"/>
                            <a:ext cx="196200" cy="176040"/>
                          </a:xfrm>
                          <a:prstGeom prst="pie">
                            <a:avLst/>
                          </a:prstGeom>
                          <a:solidFill>
                            <a:srgbClr val="969696"/>
                          </a:solidFill>
                          <a:ln w="936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8" name="Freeform 122"/>
                          <p:cNvSpPr/>
                          <p:nvPr/>
                        </p:nvSpPr>
                        <p:spPr>
                          <a:xfrm rot="12168600">
                            <a:off x="2043360" y="3291840"/>
                            <a:ext cx="196200" cy="176040"/>
                          </a:xfrm>
                          <a:prstGeom prst="pie">
                            <a:avLst/>
                          </a:prstGeom>
                          <a:solidFill>
                            <a:srgbClr val="969696"/>
                          </a:solidFill>
                          <a:ln w="936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9" name="Freeform 123"/>
                          <p:cNvSpPr/>
                          <p:nvPr/>
                        </p:nvSpPr>
                        <p:spPr>
                          <a:xfrm rot="21481200">
                            <a:off x="2118960" y="3333960"/>
                            <a:ext cx="196200" cy="176040"/>
                          </a:xfrm>
                          <a:prstGeom prst="pie">
                            <a:avLst/>
                          </a:prstGeom>
                          <a:solidFill>
                            <a:srgbClr val="969696"/>
                          </a:solidFill>
                          <a:ln w="936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0" name="Freeform 124"/>
                          <p:cNvSpPr/>
                          <p:nvPr/>
                        </p:nvSpPr>
                        <p:spPr>
                          <a:xfrm rot="10681200">
                            <a:off x="1941480" y="3312360"/>
                            <a:ext cx="196200" cy="176040"/>
                          </a:xfrm>
                          <a:prstGeom prst="pie">
                            <a:avLst/>
                          </a:prstGeom>
                          <a:solidFill>
                            <a:srgbClr val="969696"/>
                          </a:solidFill>
                          <a:ln w="936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591" name="Group 125"/>
                        <p:cNvGrpSpPr/>
                        <p:nvPr/>
                      </p:nvGrpSpPr>
                      <p:grpSpPr>
                        <a:xfrm>
                          <a:off x="2286360" y="3197520"/>
                          <a:ext cx="502920" cy="358920"/>
                          <a:chOff x="2286360" y="3197520"/>
                          <a:chExt cx="502920" cy="358920"/>
                        </a:xfrm>
                      </p:grpSpPr>
                      <p:sp>
                        <p:nvSpPr>
                          <p:cNvPr id="592" name="Freeform 126"/>
                          <p:cNvSpPr/>
                          <p:nvPr/>
                        </p:nvSpPr>
                        <p:spPr>
                          <a:xfrm rot="10681200">
                            <a:off x="2325240" y="3200760"/>
                            <a:ext cx="196200" cy="176040"/>
                          </a:xfrm>
                          <a:prstGeom prst="pie">
                            <a:avLst/>
                          </a:prstGeom>
                          <a:solidFill>
                            <a:srgbClr val="969696"/>
                          </a:solidFill>
                          <a:ln w="936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3" name="Freeform 127"/>
                          <p:cNvSpPr/>
                          <p:nvPr/>
                        </p:nvSpPr>
                        <p:spPr>
                          <a:xfrm rot="19336200">
                            <a:off x="2496600" y="3259440"/>
                            <a:ext cx="196200" cy="175680"/>
                          </a:xfrm>
                          <a:prstGeom prst="pie">
                            <a:avLst/>
                          </a:prstGeom>
                          <a:solidFill>
                            <a:srgbClr val="969696"/>
                          </a:solidFill>
                          <a:ln w="936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4" name="Freeform 128"/>
                          <p:cNvSpPr/>
                          <p:nvPr/>
                        </p:nvSpPr>
                        <p:spPr>
                          <a:xfrm rot="3791400">
                            <a:off x="2542680" y="3344040"/>
                            <a:ext cx="256680" cy="134640"/>
                          </a:xfrm>
                          <a:prstGeom prst="pie">
                            <a:avLst/>
                          </a:prstGeom>
                          <a:solidFill>
                            <a:srgbClr val="969696"/>
                          </a:solidFill>
                          <a:ln w="936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5" name="Freeform 129"/>
                          <p:cNvSpPr/>
                          <p:nvPr/>
                        </p:nvSpPr>
                        <p:spPr>
                          <a:xfrm rot="21481200">
                            <a:off x="2415240" y="3213360"/>
                            <a:ext cx="196200" cy="176040"/>
                          </a:xfrm>
                          <a:prstGeom prst="pie">
                            <a:avLst/>
                          </a:prstGeom>
                          <a:solidFill>
                            <a:srgbClr val="969696"/>
                          </a:solidFill>
                          <a:ln w="936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6" name="Freeform 130"/>
                          <p:cNvSpPr/>
                          <p:nvPr/>
                        </p:nvSpPr>
                        <p:spPr>
                          <a:xfrm rot="12168600">
                            <a:off x="2391120" y="3305520"/>
                            <a:ext cx="196200" cy="176040"/>
                          </a:xfrm>
                          <a:prstGeom prst="pie">
                            <a:avLst/>
                          </a:prstGeom>
                          <a:solidFill>
                            <a:srgbClr val="969696"/>
                          </a:solidFill>
                          <a:ln w="936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7" name="Freeform 131"/>
                          <p:cNvSpPr/>
                          <p:nvPr/>
                        </p:nvSpPr>
                        <p:spPr>
                          <a:xfrm rot="21481200">
                            <a:off x="2466720" y="3347640"/>
                            <a:ext cx="196200" cy="176040"/>
                          </a:xfrm>
                          <a:prstGeom prst="pie">
                            <a:avLst/>
                          </a:prstGeom>
                          <a:solidFill>
                            <a:srgbClr val="969696"/>
                          </a:solidFill>
                          <a:ln w="936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8" name="Freeform 132"/>
                          <p:cNvSpPr/>
                          <p:nvPr/>
                        </p:nvSpPr>
                        <p:spPr>
                          <a:xfrm rot="10681200">
                            <a:off x="2289240" y="3326040"/>
                            <a:ext cx="196200" cy="176040"/>
                          </a:xfrm>
                          <a:prstGeom prst="pie">
                            <a:avLst/>
                          </a:prstGeom>
                          <a:solidFill>
                            <a:srgbClr val="969696"/>
                          </a:solidFill>
                          <a:ln w="936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599" name="Group 133"/>
                        <p:cNvGrpSpPr/>
                        <p:nvPr/>
                      </p:nvGrpSpPr>
                      <p:grpSpPr>
                        <a:xfrm>
                          <a:off x="1505160" y="3161160"/>
                          <a:ext cx="502920" cy="358920"/>
                          <a:chOff x="1505160" y="3161160"/>
                          <a:chExt cx="502920" cy="358920"/>
                        </a:xfrm>
                      </p:grpSpPr>
                      <p:sp>
                        <p:nvSpPr>
                          <p:cNvPr id="600" name="Freeform 134"/>
                          <p:cNvSpPr/>
                          <p:nvPr/>
                        </p:nvSpPr>
                        <p:spPr>
                          <a:xfrm rot="21481200">
                            <a:off x="1772640" y="3340440"/>
                            <a:ext cx="196200" cy="176040"/>
                          </a:xfrm>
                          <a:prstGeom prst="pie">
                            <a:avLst/>
                          </a:prstGeom>
                          <a:solidFill>
                            <a:srgbClr val="969696"/>
                          </a:solidFill>
                          <a:ln w="936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1" name="Freeform 135"/>
                          <p:cNvSpPr/>
                          <p:nvPr/>
                        </p:nvSpPr>
                        <p:spPr>
                          <a:xfrm rot="8536200">
                            <a:off x="1601280" y="3282120"/>
                            <a:ext cx="196200" cy="175680"/>
                          </a:xfrm>
                          <a:prstGeom prst="pie">
                            <a:avLst/>
                          </a:prstGeom>
                          <a:solidFill>
                            <a:srgbClr val="969696"/>
                          </a:solidFill>
                          <a:ln w="936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2" name="Freeform 136"/>
                          <p:cNvSpPr/>
                          <p:nvPr/>
                        </p:nvSpPr>
                        <p:spPr>
                          <a:xfrm rot="14592000">
                            <a:off x="1494720" y="3238560"/>
                            <a:ext cx="256680" cy="134640"/>
                          </a:xfrm>
                          <a:prstGeom prst="pie">
                            <a:avLst/>
                          </a:prstGeom>
                          <a:solidFill>
                            <a:srgbClr val="969696"/>
                          </a:solidFill>
                          <a:ln w="936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3" name="Freeform 137"/>
                          <p:cNvSpPr/>
                          <p:nvPr/>
                        </p:nvSpPr>
                        <p:spPr>
                          <a:xfrm rot="10681200">
                            <a:off x="1682640" y="3327840"/>
                            <a:ext cx="196200" cy="176040"/>
                          </a:xfrm>
                          <a:prstGeom prst="pie">
                            <a:avLst/>
                          </a:prstGeom>
                          <a:solidFill>
                            <a:srgbClr val="969696"/>
                          </a:solidFill>
                          <a:ln w="936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4" name="Freeform 138"/>
                          <p:cNvSpPr/>
                          <p:nvPr/>
                        </p:nvSpPr>
                        <p:spPr>
                          <a:xfrm rot="1368000">
                            <a:off x="1706760" y="3235680"/>
                            <a:ext cx="196200" cy="176040"/>
                          </a:xfrm>
                          <a:prstGeom prst="pie">
                            <a:avLst/>
                          </a:prstGeom>
                          <a:solidFill>
                            <a:srgbClr val="969696"/>
                          </a:solidFill>
                          <a:ln w="936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5" name="Freeform 139"/>
                          <p:cNvSpPr/>
                          <p:nvPr/>
                        </p:nvSpPr>
                        <p:spPr>
                          <a:xfrm rot="10681200">
                            <a:off x="1631160" y="3193560"/>
                            <a:ext cx="196200" cy="176040"/>
                          </a:xfrm>
                          <a:prstGeom prst="pie">
                            <a:avLst/>
                          </a:prstGeom>
                          <a:solidFill>
                            <a:srgbClr val="969696"/>
                          </a:solidFill>
                          <a:ln w="936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6" name="Freeform 140"/>
                          <p:cNvSpPr/>
                          <p:nvPr/>
                        </p:nvSpPr>
                        <p:spPr>
                          <a:xfrm rot="21481200">
                            <a:off x="1808640" y="3215160"/>
                            <a:ext cx="196200" cy="176040"/>
                          </a:xfrm>
                          <a:prstGeom prst="pie">
                            <a:avLst/>
                          </a:prstGeom>
                          <a:solidFill>
                            <a:srgbClr val="969696"/>
                          </a:solidFill>
                          <a:ln w="936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607" name="Group 141"/>
                      <p:cNvGrpSpPr/>
                      <p:nvPr/>
                    </p:nvGrpSpPr>
                    <p:grpSpPr>
                      <a:xfrm>
                        <a:off x="2389320" y="3165120"/>
                        <a:ext cx="1285200" cy="396720"/>
                        <a:chOff x="2389320" y="3165120"/>
                        <a:chExt cx="1285200" cy="396720"/>
                      </a:xfrm>
                    </p:grpSpPr>
                    <p:grpSp>
                      <p:nvGrpSpPr>
                        <p:cNvPr id="608" name="Group 142"/>
                        <p:cNvGrpSpPr/>
                        <p:nvPr/>
                      </p:nvGrpSpPr>
                      <p:grpSpPr>
                        <a:xfrm>
                          <a:off x="2737080" y="3187800"/>
                          <a:ext cx="503280" cy="359280"/>
                          <a:chOff x="2737080" y="3187800"/>
                          <a:chExt cx="503280" cy="359280"/>
                        </a:xfrm>
                      </p:grpSpPr>
                      <p:sp>
                        <p:nvSpPr>
                          <p:cNvPr id="609" name="Freeform 143"/>
                          <p:cNvSpPr/>
                          <p:nvPr/>
                        </p:nvSpPr>
                        <p:spPr>
                          <a:xfrm flipH="1" rot="10918800">
                            <a:off x="3003840" y="3191040"/>
                            <a:ext cx="196560" cy="176040"/>
                          </a:xfrm>
                          <a:prstGeom prst="pie">
                            <a:avLst/>
                          </a:prstGeom>
                          <a:solidFill>
                            <a:srgbClr val="969696"/>
                          </a:solidFill>
                          <a:ln w="936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0" name="Freeform 144"/>
                          <p:cNvSpPr/>
                          <p:nvPr/>
                        </p:nvSpPr>
                        <p:spPr>
                          <a:xfrm flipH="1" rot="2263800">
                            <a:off x="2833560" y="3250080"/>
                            <a:ext cx="196560" cy="175680"/>
                          </a:xfrm>
                          <a:prstGeom prst="pie">
                            <a:avLst/>
                          </a:prstGeom>
                          <a:solidFill>
                            <a:srgbClr val="969696"/>
                          </a:solidFill>
                          <a:ln w="936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1" name="Freeform 145"/>
                          <p:cNvSpPr/>
                          <p:nvPr/>
                        </p:nvSpPr>
                        <p:spPr>
                          <a:xfrm flipH="1" rot="17808600">
                            <a:off x="2726640" y="3334680"/>
                            <a:ext cx="256680" cy="134640"/>
                          </a:xfrm>
                          <a:prstGeom prst="pie">
                            <a:avLst/>
                          </a:prstGeom>
                          <a:solidFill>
                            <a:srgbClr val="969696"/>
                          </a:solidFill>
                          <a:ln w="936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2" name="Freeform 146"/>
                          <p:cNvSpPr/>
                          <p:nvPr/>
                        </p:nvSpPr>
                        <p:spPr>
                          <a:xfrm flipH="1" rot="118800">
                            <a:off x="2914920" y="3204000"/>
                            <a:ext cx="196200" cy="176040"/>
                          </a:xfrm>
                          <a:prstGeom prst="pie">
                            <a:avLst/>
                          </a:prstGeom>
                          <a:solidFill>
                            <a:srgbClr val="969696"/>
                          </a:solidFill>
                          <a:ln w="936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3" name="Freeform 147"/>
                          <p:cNvSpPr/>
                          <p:nvPr/>
                        </p:nvSpPr>
                        <p:spPr>
                          <a:xfrm flipH="1" rot="9431400">
                            <a:off x="2939040" y="3295800"/>
                            <a:ext cx="196200" cy="176040"/>
                          </a:xfrm>
                          <a:prstGeom prst="pie">
                            <a:avLst/>
                          </a:prstGeom>
                          <a:solidFill>
                            <a:srgbClr val="969696"/>
                          </a:solidFill>
                          <a:ln w="936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4" name="Freeform 148"/>
                          <p:cNvSpPr/>
                          <p:nvPr/>
                        </p:nvSpPr>
                        <p:spPr>
                          <a:xfrm flipH="1" rot="118800">
                            <a:off x="2863440" y="3337920"/>
                            <a:ext cx="196200" cy="176040"/>
                          </a:xfrm>
                          <a:prstGeom prst="pie">
                            <a:avLst/>
                          </a:prstGeom>
                          <a:solidFill>
                            <a:srgbClr val="969696"/>
                          </a:solidFill>
                          <a:ln w="936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5" name="Freeform 149"/>
                          <p:cNvSpPr/>
                          <p:nvPr/>
                        </p:nvSpPr>
                        <p:spPr>
                          <a:xfrm flipH="1" rot="10918800">
                            <a:off x="3040920" y="3316320"/>
                            <a:ext cx="196200" cy="176040"/>
                          </a:xfrm>
                          <a:prstGeom prst="pie">
                            <a:avLst/>
                          </a:prstGeom>
                          <a:solidFill>
                            <a:srgbClr val="969696"/>
                          </a:solidFill>
                          <a:ln w="936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616" name="Group 150"/>
                        <p:cNvGrpSpPr/>
                        <p:nvPr/>
                      </p:nvGrpSpPr>
                      <p:grpSpPr>
                        <a:xfrm>
                          <a:off x="2389320" y="3202920"/>
                          <a:ext cx="503280" cy="358920"/>
                          <a:chOff x="2389320" y="3202920"/>
                          <a:chExt cx="503280" cy="358920"/>
                        </a:xfrm>
                      </p:grpSpPr>
                      <p:sp>
                        <p:nvSpPr>
                          <p:cNvPr id="617" name="Freeform 151"/>
                          <p:cNvSpPr/>
                          <p:nvPr/>
                        </p:nvSpPr>
                        <p:spPr>
                          <a:xfrm flipH="1" rot="10918800">
                            <a:off x="2656080" y="3206160"/>
                            <a:ext cx="196560" cy="176040"/>
                          </a:xfrm>
                          <a:prstGeom prst="pie">
                            <a:avLst/>
                          </a:prstGeom>
                          <a:solidFill>
                            <a:srgbClr val="969696"/>
                          </a:solidFill>
                          <a:ln w="936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8" name="Freeform 152"/>
                          <p:cNvSpPr/>
                          <p:nvPr/>
                        </p:nvSpPr>
                        <p:spPr>
                          <a:xfrm flipH="1" rot="2263800">
                            <a:off x="2485800" y="3265200"/>
                            <a:ext cx="196560" cy="175680"/>
                          </a:xfrm>
                          <a:prstGeom prst="pie">
                            <a:avLst/>
                          </a:prstGeom>
                          <a:solidFill>
                            <a:srgbClr val="969696"/>
                          </a:solidFill>
                          <a:ln w="936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9" name="Freeform 153"/>
                          <p:cNvSpPr/>
                          <p:nvPr/>
                        </p:nvSpPr>
                        <p:spPr>
                          <a:xfrm flipH="1" rot="17808600">
                            <a:off x="2378880" y="3349440"/>
                            <a:ext cx="256680" cy="134640"/>
                          </a:xfrm>
                          <a:prstGeom prst="pie">
                            <a:avLst/>
                          </a:prstGeom>
                          <a:solidFill>
                            <a:srgbClr val="969696"/>
                          </a:solidFill>
                          <a:ln w="936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20" name="Freeform 154"/>
                          <p:cNvSpPr/>
                          <p:nvPr/>
                        </p:nvSpPr>
                        <p:spPr>
                          <a:xfrm flipH="1" rot="118800">
                            <a:off x="2567160" y="3218760"/>
                            <a:ext cx="196200" cy="176040"/>
                          </a:xfrm>
                          <a:prstGeom prst="pie">
                            <a:avLst/>
                          </a:prstGeom>
                          <a:solidFill>
                            <a:srgbClr val="969696"/>
                          </a:solidFill>
                          <a:ln w="936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21" name="Freeform 155"/>
                          <p:cNvSpPr/>
                          <p:nvPr/>
                        </p:nvSpPr>
                        <p:spPr>
                          <a:xfrm flipH="1" rot="9431400">
                            <a:off x="2591280" y="3310920"/>
                            <a:ext cx="196200" cy="176040"/>
                          </a:xfrm>
                          <a:prstGeom prst="pie">
                            <a:avLst/>
                          </a:prstGeom>
                          <a:solidFill>
                            <a:srgbClr val="969696"/>
                          </a:solidFill>
                          <a:ln w="936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22" name="Freeform 156"/>
                          <p:cNvSpPr/>
                          <p:nvPr/>
                        </p:nvSpPr>
                        <p:spPr>
                          <a:xfrm flipH="1" rot="118800">
                            <a:off x="2515680" y="3353040"/>
                            <a:ext cx="196200" cy="176040"/>
                          </a:xfrm>
                          <a:prstGeom prst="pie">
                            <a:avLst/>
                          </a:prstGeom>
                          <a:solidFill>
                            <a:srgbClr val="969696"/>
                          </a:solidFill>
                          <a:ln w="936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23" name="Freeform 157"/>
                          <p:cNvSpPr/>
                          <p:nvPr/>
                        </p:nvSpPr>
                        <p:spPr>
                          <a:xfrm flipH="1" rot="10918800">
                            <a:off x="2693160" y="3331080"/>
                            <a:ext cx="196200" cy="176040"/>
                          </a:xfrm>
                          <a:prstGeom prst="pie">
                            <a:avLst/>
                          </a:prstGeom>
                          <a:solidFill>
                            <a:srgbClr val="969696"/>
                          </a:solidFill>
                          <a:ln w="936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624" name="Group 158"/>
                        <p:cNvGrpSpPr/>
                        <p:nvPr/>
                      </p:nvGrpSpPr>
                      <p:grpSpPr>
                        <a:xfrm>
                          <a:off x="3171600" y="3165120"/>
                          <a:ext cx="502920" cy="358560"/>
                          <a:chOff x="3171600" y="3165120"/>
                          <a:chExt cx="502920" cy="358560"/>
                        </a:xfrm>
                      </p:grpSpPr>
                      <p:sp>
                        <p:nvSpPr>
                          <p:cNvPr id="625" name="Freeform 159"/>
                          <p:cNvSpPr/>
                          <p:nvPr/>
                        </p:nvSpPr>
                        <p:spPr>
                          <a:xfrm flipH="1" rot="118800">
                            <a:off x="3210480" y="3344040"/>
                            <a:ext cx="196560" cy="176040"/>
                          </a:xfrm>
                          <a:prstGeom prst="pie">
                            <a:avLst/>
                          </a:prstGeom>
                          <a:solidFill>
                            <a:srgbClr val="969696"/>
                          </a:solidFill>
                          <a:ln w="936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26" name="Freeform 160"/>
                          <p:cNvSpPr/>
                          <p:nvPr/>
                        </p:nvSpPr>
                        <p:spPr>
                          <a:xfrm flipH="1" rot="13063800">
                            <a:off x="3381480" y="3285360"/>
                            <a:ext cx="196560" cy="175680"/>
                          </a:xfrm>
                          <a:prstGeom prst="pie">
                            <a:avLst/>
                          </a:prstGeom>
                          <a:solidFill>
                            <a:srgbClr val="969696"/>
                          </a:solidFill>
                          <a:ln w="936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27" name="Freeform 161"/>
                          <p:cNvSpPr/>
                          <p:nvPr/>
                        </p:nvSpPr>
                        <p:spPr>
                          <a:xfrm flipH="1" rot="7008000">
                            <a:off x="3428640" y="3242520"/>
                            <a:ext cx="256320" cy="134280"/>
                          </a:xfrm>
                          <a:prstGeom prst="pie">
                            <a:avLst/>
                          </a:prstGeom>
                          <a:solidFill>
                            <a:srgbClr val="969696"/>
                          </a:solidFill>
                          <a:ln w="936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28" name="Freeform 162"/>
                          <p:cNvSpPr/>
                          <p:nvPr/>
                        </p:nvSpPr>
                        <p:spPr>
                          <a:xfrm flipH="1" rot="10918800">
                            <a:off x="3300480" y="3331440"/>
                            <a:ext cx="196200" cy="176040"/>
                          </a:xfrm>
                          <a:prstGeom prst="pie">
                            <a:avLst/>
                          </a:prstGeom>
                          <a:solidFill>
                            <a:srgbClr val="969696"/>
                          </a:solidFill>
                          <a:ln w="936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29" name="Freeform 163"/>
                          <p:cNvSpPr/>
                          <p:nvPr/>
                        </p:nvSpPr>
                        <p:spPr>
                          <a:xfrm flipH="1" rot="20232000">
                            <a:off x="3276360" y="3239280"/>
                            <a:ext cx="196200" cy="176040"/>
                          </a:xfrm>
                          <a:prstGeom prst="pie">
                            <a:avLst/>
                          </a:prstGeom>
                          <a:solidFill>
                            <a:srgbClr val="969696"/>
                          </a:solidFill>
                          <a:ln w="936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30" name="Freeform 164"/>
                          <p:cNvSpPr/>
                          <p:nvPr/>
                        </p:nvSpPr>
                        <p:spPr>
                          <a:xfrm flipH="1" rot="10918800">
                            <a:off x="3351960" y="3197160"/>
                            <a:ext cx="196200" cy="176040"/>
                          </a:xfrm>
                          <a:prstGeom prst="pie">
                            <a:avLst/>
                          </a:prstGeom>
                          <a:solidFill>
                            <a:srgbClr val="969696"/>
                          </a:solidFill>
                          <a:ln w="936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31" name="Freeform 165"/>
                          <p:cNvSpPr/>
                          <p:nvPr/>
                        </p:nvSpPr>
                        <p:spPr>
                          <a:xfrm flipH="1" rot="118800">
                            <a:off x="3174480" y="3219120"/>
                            <a:ext cx="196200" cy="176040"/>
                          </a:xfrm>
                          <a:prstGeom prst="pie">
                            <a:avLst/>
                          </a:prstGeom>
                          <a:solidFill>
                            <a:srgbClr val="969696"/>
                          </a:solidFill>
                          <a:ln w="936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</p:grpSp>
                <p:sp>
                  <p:nvSpPr>
                    <p:cNvPr id="632" name="Freeform 166"/>
                    <p:cNvSpPr/>
                    <p:nvPr/>
                  </p:nvSpPr>
                  <p:spPr>
                    <a:xfrm>
                      <a:off x="1042920" y="3007080"/>
                      <a:ext cx="3094200" cy="517680"/>
                    </a:xfrm>
                    <a:prstGeom prst="pie">
                      <a:avLst/>
                    </a:prstGeom>
                    <a:noFill/>
                    <a:ln w="381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633" name="Rectangle 167"/>
                  <p:cNvSpPr/>
                  <p:nvPr/>
                </p:nvSpPr>
                <p:spPr>
                  <a:xfrm>
                    <a:off x="1789920" y="2832120"/>
                    <a:ext cx="1600200" cy="3639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634" name="Group 168"/>
                  <p:cNvGrpSpPr/>
                  <p:nvPr/>
                </p:nvGrpSpPr>
                <p:grpSpPr>
                  <a:xfrm>
                    <a:off x="1941480" y="2546640"/>
                    <a:ext cx="145440" cy="273600"/>
                    <a:chOff x="1941480" y="2546640"/>
                    <a:chExt cx="145440" cy="273600"/>
                  </a:xfrm>
                </p:grpSpPr>
                <p:sp>
                  <p:nvSpPr>
                    <p:cNvPr id="635" name="Oval 169"/>
                    <p:cNvSpPr/>
                    <p:nvPr/>
                  </p:nvSpPr>
                  <p:spPr>
                    <a:xfrm>
                      <a:off x="1959840" y="2546640"/>
                      <a:ext cx="114840" cy="12888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4640" bIns="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36" name="Rectangle 170"/>
                    <p:cNvSpPr/>
                    <p:nvPr/>
                  </p:nvSpPr>
                  <p:spPr>
                    <a:xfrm>
                      <a:off x="1989720" y="2659320"/>
                      <a:ext cx="52200" cy="14472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37" name="Rectangle 171"/>
                    <p:cNvSpPr/>
                    <p:nvPr/>
                  </p:nvSpPr>
                  <p:spPr>
                    <a:xfrm>
                      <a:off x="1941480" y="2777040"/>
                      <a:ext cx="145440" cy="4320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600" bIns="-36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38" name="Group 172"/>
                  <p:cNvGrpSpPr/>
                  <p:nvPr/>
                </p:nvGrpSpPr>
                <p:grpSpPr>
                  <a:xfrm>
                    <a:off x="3097440" y="2544840"/>
                    <a:ext cx="145440" cy="273600"/>
                    <a:chOff x="3097440" y="2544840"/>
                    <a:chExt cx="145440" cy="273600"/>
                  </a:xfrm>
                </p:grpSpPr>
                <p:sp>
                  <p:nvSpPr>
                    <p:cNvPr id="639" name="Oval 173"/>
                    <p:cNvSpPr/>
                    <p:nvPr/>
                  </p:nvSpPr>
                  <p:spPr>
                    <a:xfrm>
                      <a:off x="3115800" y="2544840"/>
                      <a:ext cx="114840" cy="12888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4640" bIns="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0" name="Rectangle 174"/>
                    <p:cNvSpPr/>
                    <p:nvPr/>
                  </p:nvSpPr>
                  <p:spPr>
                    <a:xfrm>
                      <a:off x="3145680" y="2657520"/>
                      <a:ext cx="52200" cy="14472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1" name="Rectangle 175"/>
                    <p:cNvSpPr/>
                    <p:nvPr/>
                  </p:nvSpPr>
                  <p:spPr>
                    <a:xfrm>
                      <a:off x="3097440" y="2775240"/>
                      <a:ext cx="145440" cy="4320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600" bIns="-36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642" name="Line 176"/>
                <p:cNvSpPr/>
                <p:nvPr/>
              </p:nvSpPr>
              <p:spPr>
                <a:xfrm>
                  <a:off x="2021400" y="2145240"/>
                  <a:ext cx="0" cy="4111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3" name="Line 177"/>
                <p:cNvSpPr/>
                <p:nvPr/>
              </p:nvSpPr>
              <p:spPr>
                <a:xfrm>
                  <a:off x="3177000" y="2133720"/>
                  <a:ext cx="0" cy="4111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44" name="Group 178"/>
                <p:cNvGrpSpPr/>
                <p:nvPr/>
              </p:nvGrpSpPr>
              <p:grpSpPr>
                <a:xfrm>
                  <a:off x="1958040" y="2921040"/>
                  <a:ext cx="1262520" cy="285480"/>
                  <a:chOff x="1958040" y="2921040"/>
                  <a:chExt cx="1262520" cy="285480"/>
                </a:xfrm>
              </p:grpSpPr>
              <p:sp>
                <p:nvSpPr>
                  <p:cNvPr id="645" name="Line 179"/>
                  <p:cNvSpPr/>
                  <p:nvPr/>
                </p:nvSpPr>
                <p:spPr>
                  <a:xfrm>
                    <a:off x="1958040" y="2921040"/>
                    <a:ext cx="0" cy="27432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6" name="Line 180"/>
                  <p:cNvSpPr/>
                  <p:nvPr/>
                </p:nvSpPr>
                <p:spPr>
                  <a:xfrm>
                    <a:off x="2138400" y="2932200"/>
                    <a:ext cx="0" cy="27432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7" name="Line 181"/>
                  <p:cNvSpPr/>
                  <p:nvPr/>
                </p:nvSpPr>
                <p:spPr>
                  <a:xfrm>
                    <a:off x="2318760" y="2932200"/>
                    <a:ext cx="0" cy="27432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8" name="Line 182"/>
                  <p:cNvSpPr/>
                  <p:nvPr/>
                </p:nvSpPr>
                <p:spPr>
                  <a:xfrm>
                    <a:off x="2499120" y="2932200"/>
                    <a:ext cx="0" cy="27432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9" name="Line 183"/>
                  <p:cNvSpPr/>
                  <p:nvPr/>
                </p:nvSpPr>
                <p:spPr>
                  <a:xfrm>
                    <a:off x="2679480" y="2932200"/>
                    <a:ext cx="0" cy="27432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0" name="Line 184"/>
                  <p:cNvSpPr/>
                  <p:nvPr/>
                </p:nvSpPr>
                <p:spPr>
                  <a:xfrm>
                    <a:off x="2859840" y="2932200"/>
                    <a:ext cx="0" cy="27432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1" name="Line 185"/>
                  <p:cNvSpPr/>
                  <p:nvPr/>
                </p:nvSpPr>
                <p:spPr>
                  <a:xfrm>
                    <a:off x="3040200" y="2932200"/>
                    <a:ext cx="0" cy="27432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2" name="Line 186"/>
                  <p:cNvSpPr/>
                  <p:nvPr/>
                </p:nvSpPr>
                <p:spPr>
                  <a:xfrm>
                    <a:off x="3220560" y="2932200"/>
                    <a:ext cx="0" cy="27432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53" name="Arc 187"/>
                <p:cNvSpPr/>
                <p:nvPr/>
              </p:nvSpPr>
              <p:spPr>
                <a:xfrm flipH="1" rot="10800000">
                  <a:off x="1574640" y="3230280"/>
                  <a:ext cx="320760" cy="136800"/>
                </a:xfrm>
                <a:prstGeom prst="pie">
                  <a:avLst/>
                </a:prstGeom>
                <a:noFill/>
                <a:ln w="19080">
                  <a:solidFill>
                    <a:srgbClr val="ffff00"/>
                  </a:solidFill>
                  <a:round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4" name="Arc 188"/>
                <p:cNvSpPr/>
                <p:nvPr/>
              </p:nvSpPr>
              <p:spPr>
                <a:xfrm rot="10800000">
                  <a:off x="3283200" y="3230280"/>
                  <a:ext cx="320400" cy="136800"/>
                </a:xfrm>
                <a:prstGeom prst="pie">
                  <a:avLst/>
                </a:prstGeom>
                <a:noFill/>
                <a:ln w="19080">
                  <a:solidFill>
                    <a:srgbClr val="ffff00"/>
                  </a:solidFill>
                  <a:round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5" name="Arc 189"/>
                <p:cNvSpPr/>
                <p:nvPr/>
              </p:nvSpPr>
              <p:spPr>
                <a:xfrm flipH="1" rot="10800000">
                  <a:off x="2963160" y="3206520"/>
                  <a:ext cx="213840" cy="246600"/>
                </a:xfrm>
                <a:prstGeom prst="pie">
                  <a:avLst/>
                </a:prstGeom>
                <a:noFill/>
                <a:ln w="19080">
                  <a:solidFill>
                    <a:srgbClr val="ffff00"/>
                  </a:solidFill>
                  <a:round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6" name="Arc 190"/>
                <p:cNvSpPr/>
                <p:nvPr/>
              </p:nvSpPr>
              <p:spPr>
                <a:xfrm rot="10800000">
                  <a:off x="2002680" y="3230640"/>
                  <a:ext cx="213840" cy="230040"/>
                </a:xfrm>
                <a:prstGeom prst="pie">
                  <a:avLst/>
                </a:prstGeom>
                <a:noFill/>
                <a:ln w="19080">
                  <a:solidFill>
                    <a:srgbClr val="ffff00"/>
                  </a:solidFill>
                  <a:round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7" name="Line 191"/>
                <p:cNvSpPr/>
                <p:nvPr/>
              </p:nvSpPr>
              <p:spPr>
                <a:xfrm>
                  <a:off x="2581920" y="3230280"/>
                  <a:ext cx="0" cy="273600"/>
                </a:xfrm>
                <a:prstGeom prst="line">
                  <a:avLst/>
                </a:prstGeom>
                <a:ln w="1260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58" name="Text Box 192"/>
              <p:cNvSpPr/>
              <p:nvPr/>
            </p:nvSpPr>
            <p:spPr>
              <a:xfrm>
                <a:off x="2203200" y="2236680"/>
                <a:ext cx="773280" cy="41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200" spc="-1" strike="noStrike">
                    <a:solidFill>
                      <a:srgbClr val="000000"/>
                    </a:solidFill>
                    <a:latin typeface="Arial"/>
                  </a:rPr>
                  <a:t>Peso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Text Box 193"/>
              <p:cNvSpPr/>
              <p:nvPr/>
            </p:nvSpPr>
            <p:spPr>
              <a:xfrm>
                <a:off x="3557160" y="3161880"/>
                <a:ext cx="773640" cy="41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200" spc="-1" strike="noStrike">
                    <a:solidFill>
                      <a:srgbClr val="000000"/>
                    </a:solidFill>
                    <a:latin typeface="Arial"/>
                  </a:rPr>
                  <a:t>Agua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Line 194"/>
              <p:cNvSpPr/>
              <p:nvPr/>
            </p:nvSpPr>
            <p:spPr>
              <a:xfrm>
                <a:off x="1654200" y="3488040"/>
                <a:ext cx="2707920" cy="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1" name="Text Box 195"/>
          <p:cNvSpPr/>
          <p:nvPr/>
        </p:nvSpPr>
        <p:spPr>
          <a:xfrm>
            <a:off x="1187280" y="4076640"/>
            <a:ext cx="648036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El afirmado se fabrica de grava uniforme para permitir el escurrimiento de agu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El continuo viaje de trenes produce quiebre de la grava con el tiempo (mas fino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Con esto disminuye la resistencia del material al disminuir el tamaño y la degradación por menor permeabilidad de agu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3300"/>
                </a:solidFill>
                <a:latin typeface="Arial"/>
              </a:rPr>
              <a:t>Rie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3" name="Group 5"/>
          <p:cNvGrpSpPr/>
          <p:nvPr/>
        </p:nvGrpSpPr>
        <p:grpSpPr>
          <a:xfrm>
            <a:off x="6735600" y="1484280"/>
            <a:ext cx="1442880" cy="1336320"/>
            <a:chOff x="6735600" y="1484280"/>
            <a:chExt cx="1442880" cy="1336320"/>
          </a:xfrm>
        </p:grpSpPr>
        <p:sp>
          <p:nvSpPr>
            <p:cNvPr id="664" name="AutoShape 6"/>
            <p:cNvSpPr/>
            <p:nvPr/>
          </p:nvSpPr>
          <p:spPr>
            <a:xfrm>
              <a:off x="6915960" y="1484280"/>
              <a:ext cx="1082520" cy="540720"/>
            </a:xfrm>
            <a:prstGeom prst="roundRect">
              <a:avLst>
                <a:gd name="adj" fmla="val 3638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5" name="Group 7"/>
            <p:cNvGrpSpPr/>
            <p:nvPr/>
          </p:nvGrpSpPr>
          <p:grpSpPr>
            <a:xfrm>
              <a:off x="6735600" y="2460240"/>
              <a:ext cx="1442880" cy="360360"/>
              <a:chOff x="6735600" y="2460240"/>
              <a:chExt cx="1442880" cy="360360"/>
            </a:xfrm>
          </p:grpSpPr>
          <p:sp>
            <p:nvSpPr>
              <p:cNvPr id="666" name="Freeform 8"/>
              <p:cNvSpPr/>
              <p:nvPr/>
            </p:nvSpPr>
            <p:spPr>
              <a:xfrm>
                <a:off x="6735600" y="2460240"/>
                <a:ext cx="721440" cy="36036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Freeform 9"/>
              <p:cNvSpPr/>
              <p:nvPr/>
            </p:nvSpPr>
            <p:spPr>
              <a:xfrm flipH="1">
                <a:off x="7457040" y="2460240"/>
                <a:ext cx="721440" cy="36036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68" name="Rectangle 10"/>
            <p:cNvSpPr/>
            <p:nvPr/>
          </p:nvSpPr>
          <p:spPr>
            <a:xfrm>
              <a:off x="7186320" y="1934640"/>
              <a:ext cx="541080" cy="720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Line 11"/>
            <p:cNvSpPr/>
            <p:nvPr/>
          </p:nvSpPr>
          <p:spPr>
            <a:xfrm>
              <a:off x="7186320" y="2025000"/>
              <a:ext cx="720" cy="54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Line 12"/>
            <p:cNvSpPr/>
            <p:nvPr/>
          </p:nvSpPr>
          <p:spPr>
            <a:xfrm>
              <a:off x="7727040" y="2025000"/>
              <a:ext cx="360" cy="54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1" name="Line 13"/>
          <p:cNvSpPr/>
          <p:nvPr/>
        </p:nvSpPr>
        <p:spPr>
          <a:xfrm>
            <a:off x="6194520" y="1754280"/>
            <a:ext cx="126360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Line 14"/>
          <p:cNvSpPr/>
          <p:nvPr/>
        </p:nvSpPr>
        <p:spPr>
          <a:xfrm>
            <a:off x="6194520" y="2295360"/>
            <a:ext cx="126360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Freeform 15"/>
          <p:cNvSpPr/>
          <p:nvPr/>
        </p:nvSpPr>
        <p:spPr>
          <a:xfrm rot="18900000">
            <a:off x="6545160" y="2725560"/>
            <a:ext cx="827280" cy="374760"/>
          </a:xfrm>
          <a:prstGeom prst="pie">
            <a:avLst/>
          </a:prstGeom>
          <a:noFill/>
          <a:ln w="9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Text Box 16"/>
          <p:cNvSpPr/>
          <p:nvPr/>
        </p:nvSpPr>
        <p:spPr>
          <a:xfrm>
            <a:off x="5292720" y="1612800"/>
            <a:ext cx="1082520" cy="2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Cabez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100-130 kg/m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Text Box 17"/>
          <p:cNvSpPr/>
          <p:nvPr/>
        </p:nvSpPr>
        <p:spPr>
          <a:xfrm>
            <a:off x="5292720" y="2160720"/>
            <a:ext cx="10825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Alm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100-130 kg/m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Text Box 18"/>
          <p:cNvSpPr/>
          <p:nvPr/>
        </p:nvSpPr>
        <p:spPr>
          <a:xfrm>
            <a:off x="5867280" y="3068640"/>
            <a:ext cx="1082880" cy="2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Patín o Zap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50-60 kg/m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Text Box 19"/>
          <p:cNvSpPr/>
          <p:nvPr/>
        </p:nvSpPr>
        <p:spPr>
          <a:xfrm>
            <a:off x="611280" y="1916280"/>
            <a:ext cx="36734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 u="sng">
                <a:solidFill>
                  <a:srgbClr val="000000"/>
                </a:solidFill>
                <a:uFillTx/>
                <a:latin typeface="Arial"/>
              </a:rPr>
              <a:t>Durmientes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: tiene como objetivo trasmitir el peso del ferrocarril a la infraestructur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Los </a:t>
            </a:r>
            <a:r>
              <a:rPr b="0" lang="es-MX" sz="1800" spc="-1" strike="noStrike" u="sng">
                <a:solidFill>
                  <a:srgbClr val="000000"/>
                </a:solidFill>
                <a:uFillTx/>
                <a:latin typeface="Arial"/>
              </a:rPr>
              <a:t>rieles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tienen como objetivo mantener la dirección de movimiento del ferrocarri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Tienen radios de curvatura mínimos de 25-30 met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Peso lineal 14/24 kg/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Largo: 10-12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8" name="Group 20"/>
          <p:cNvGrpSpPr/>
          <p:nvPr/>
        </p:nvGrpSpPr>
        <p:grpSpPr>
          <a:xfrm>
            <a:off x="5435640" y="4076640"/>
            <a:ext cx="3247920" cy="1052280"/>
            <a:chOff x="5435640" y="4076640"/>
            <a:chExt cx="3247920" cy="1052280"/>
          </a:xfrm>
        </p:grpSpPr>
        <p:grpSp>
          <p:nvGrpSpPr>
            <p:cNvPr id="679" name="Group 21"/>
            <p:cNvGrpSpPr/>
            <p:nvPr/>
          </p:nvGrpSpPr>
          <p:grpSpPr>
            <a:xfrm>
              <a:off x="5435640" y="4437360"/>
              <a:ext cx="3247920" cy="691560"/>
              <a:chOff x="5435640" y="4437360"/>
              <a:chExt cx="3247920" cy="691560"/>
            </a:xfrm>
          </p:grpSpPr>
          <p:grpSp>
            <p:nvGrpSpPr>
              <p:cNvPr id="680" name="Group 22"/>
              <p:cNvGrpSpPr/>
              <p:nvPr/>
            </p:nvGrpSpPr>
            <p:grpSpPr>
              <a:xfrm>
                <a:off x="7983720" y="4437360"/>
                <a:ext cx="403200" cy="508680"/>
                <a:chOff x="7983720" y="4437360"/>
                <a:chExt cx="403200" cy="508680"/>
              </a:xfrm>
            </p:grpSpPr>
            <p:sp>
              <p:nvSpPr>
                <p:cNvPr id="681" name="Oval 23"/>
                <p:cNvSpPr/>
                <p:nvPr/>
              </p:nvSpPr>
              <p:spPr>
                <a:xfrm flipH="1">
                  <a:off x="8017200" y="4437360"/>
                  <a:ext cx="318240" cy="2394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2" name="Rectangle 24"/>
                <p:cNvSpPr/>
                <p:nvPr/>
              </p:nvSpPr>
              <p:spPr>
                <a:xfrm flipH="1">
                  <a:off x="8108640" y="4646880"/>
                  <a:ext cx="144360" cy="26928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3" name="Rectangle 25"/>
                <p:cNvSpPr/>
                <p:nvPr/>
              </p:nvSpPr>
              <p:spPr>
                <a:xfrm flipH="1">
                  <a:off x="7983720" y="4865760"/>
                  <a:ext cx="403200" cy="8028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480" bIns="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84" name="Group 26"/>
              <p:cNvGrpSpPr/>
              <p:nvPr/>
            </p:nvGrpSpPr>
            <p:grpSpPr>
              <a:xfrm>
                <a:off x="5760000" y="4437360"/>
                <a:ext cx="402480" cy="508680"/>
                <a:chOff x="5760000" y="4437360"/>
                <a:chExt cx="402480" cy="508680"/>
              </a:xfrm>
            </p:grpSpPr>
            <p:sp>
              <p:nvSpPr>
                <p:cNvPr id="685" name="Oval 27"/>
                <p:cNvSpPr/>
                <p:nvPr/>
              </p:nvSpPr>
              <p:spPr>
                <a:xfrm flipH="1">
                  <a:off x="5793480" y="4437360"/>
                  <a:ext cx="317520" cy="2394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6" name="Rectangle 28"/>
                <p:cNvSpPr/>
                <p:nvPr/>
              </p:nvSpPr>
              <p:spPr>
                <a:xfrm flipH="1">
                  <a:off x="5884560" y="4646880"/>
                  <a:ext cx="144360" cy="26928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7" name="Rectangle 29"/>
                <p:cNvSpPr/>
                <p:nvPr/>
              </p:nvSpPr>
              <p:spPr>
                <a:xfrm flipH="1">
                  <a:off x="5760000" y="4865760"/>
                  <a:ext cx="402480" cy="8028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480" bIns="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88" name="Freeform 30"/>
              <p:cNvSpPr/>
              <p:nvPr/>
            </p:nvSpPr>
            <p:spPr>
              <a:xfrm>
                <a:off x="5435640" y="4953600"/>
                <a:ext cx="3247920" cy="175320"/>
              </a:xfrm>
              <a:prstGeom prst="pie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89" name="Freeform 31"/>
            <p:cNvSpPr/>
            <p:nvPr/>
          </p:nvSpPr>
          <p:spPr>
            <a:xfrm>
              <a:off x="6120000" y="4196160"/>
              <a:ext cx="2880" cy="4003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Line 32"/>
            <p:cNvSpPr/>
            <p:nvPr/>
          </p:nvSpPr>
          <p:spPr>
            <a:xfrm>
              <a:off x="6117480" y="4257000"/>
              <a:ext cx="1909080" cy="7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Text Box 33"/>
            <p:cNvSpPr/>
            <p:nvPr/>
          </p:nvSpPr>
          <p:spPr>
            <a:xfrm>
              <a:off x="6698160" y="4076640"/>
              <a:ext cx="811440" cy="36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000000"/>
                  </a:solidFill>
                  <a:latin typeface="Arial"/>
                </a:rPr>
                <a:t>Troch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3300"/>
                </a:solidFill>
                <a:latin typeface="Arial"/>
              </a:rPr>
              <a:t>Capacidad del rie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3" name="Object 4"/>
              <p:cNvSpPr txBox="1"/>
              <p:nvPr/>
            </p:nvSpPr>
            <p:spPr>
              <a:xfrm>
                <a:off x="5580000" y="1700280"/>
                <a:ext cx="2448000" cy="163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eq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dPK</m:t>
                        </m:r>
                      </m:e>
                      <m:e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eq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Pd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94" name="Text Box 6"/>
          <p:cNvSpPr/>
          <p:nvPr/>
        </p:nvSpPr>
        <p:spPr>
          <a:xfrm>
            <a:off x="826920" y="1844640"/>
            <a:ext cx="4104000" cy="23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La capacidad del riel depende de la velocidad del ferrocarril, la distancia entre durmientes (d) y el peso por eje (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Se agrega esfuerzo dinámico por la  velocidad del tr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Se compara p</a:t>
            </a: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req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con p de diseñ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Text Box 7"/>
          <p:cNvSpPr/>
          <p:nvPr/>
        </p:nvSpPr>
        <p:spPr>
          <a:xfrm>
            <a:off x="826920" y="4653000"/>
            <a:ext cx="7560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Si el ferrocarril se tiene se adopta lo siguient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Carros menores a 5 Ton, T= 0,6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Carros mayores a 5 Ton,  T= 1,0 – 1,2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3300"/>
                </a:solidFill>
                <a:latin typeface="Arial"/>
              </a:rPr>
              <a:t>Rie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7" name="Group 4"/>
          <p:cNvGrpSpPr/>
          <p:nvPr/>
        </p:nvGrpSpPr>
        <p:grpSpPr>
          <a:xfrm>
            <a:off x="1332000" y="1916280"/>
            <a:ext cx="4417920" cy="1622160"/>
            <a:chOff x="1332000" y="1916280"/>
            <a:chExt cx="4417920" cy="1622160"/>
          </a:xfrm>
        </p:grpSpPr>
        <p:grpSp>
          <p:nvGrpSpPr>
            <p:cNvPr id="698" name="Group 5"/>
            <p:cNvGrpSpPr/>
            <p:nvPr/>
          </p:nvGrpSpPr>
          <p:grpSpPr>
            <a:xfrm>
              <a:off x="1332000" y="1916280"/>
              <a:ext cx="2073240" cy="1622160"/>
              <a:chOff x="1332000" y="1916280"/>
              <a:chExt cx="2073240" cy="1622160"/>
            </a:xfrm>
          </p:grpSpPr>
          <p:grpSp>
            <p:nvGrpSpPr>
              <p:cNvPr id="699" name="Group 6"/>
              <p:cNvGrpSpPr/>
              <p:nvPr/>
            </p:nvGrpSpPr>
            <p:grpSpPr>
              <a:xfrm>
                <a:off x="1782720" y="2186280"/>
                <a:ext cx="720360" cy="721080"/>
                <a:chOff x="1782720" y="2186280"/>
                <a:chExt cx="720360" cy="721080"/>
              </a:xfrm>
            </p:grpSpPr>
            <p:sp>
              <p:nvSpPr>
                <p:cNvPr id="700" name="AutoShape 7"/>
                <p:cNvSpPr/>
                <p:nvPr/>
              </p:nvSpPr>
              <p:spPr>
                <a:xfrm>
                  <a:off x="1872720" y="2186280"/>
                  <a:ext cx="540720" cy="291600"/>
                </a:xfrm>
                <a:prstGeom prst="roundRect">
                  <a:avLst>
                    <a:gd name="adj" fmla="val 36384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01" name="Group 8"/>
                <p:cNvGrpSpPr/>
                <p:nvPr/>
              </p:nvGrpSpPr>
              <p:grpSpPr>
                <a:xfrm>
                  <a:off x="1782720" y="2712960"/>
                  <a:ext cx="720360" cy="194400"/>
                  <a:chOff x="1782720" y="2712960"/>
                  <a:chExt cx="720360" cy="194400"/>
                </a:xfrm>
              </p:grpSpPr>
              <p:sp>
                <p:nvSpPr>
                  <p:cNvPr id="702" name="Freeform 9"/>
                  <p:cNvSpPr/>
                  <p:nvPr/>
                </p:nvSpPr>
                <p:spPr>
                  <a:xfrm>
                    <a:off x="1782720" y="2712960"/>
                    <a:ext cx="360360" cy="19440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3" name="Freeform 10"/>
                  <p:cNvSpPr/>
                  <p:nvPr/>
                </p:nvSpPr>
                <p:spPr>
                  <a:xfrm flipH="1">
                    <a:off x="2142360" y="2712960"/>
                    <a:ext cx="360360" cy="19440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04" name="Rectangle 11"/>
                <p:cNvSpPr/>
                <p:nvPr/>
              </p:nvSpPr>
              <p:spPr>
                <a:xfrm>
                  <a:off x="2008080" y="2429280"/>
                  <a:ext cx="270360" cy="3888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5" name="Line 12"/>
                <p:cNvSpPr/>
                <p:nvPr/>
              </p:nvSpPr>
              <p:spPr>
                <a:xfrm>
                  <a:off x="2008080" y="2477880"/>
                  <a:ext cx="360" cy="291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6" name="Line 13"/>
                <p:cNvSpPr/>
                <p:nvPr/>
              </p:nvSpPr>
              <p:spPr>
                <a:xfrm>
                  <a:off x="2278080" y="2477880"/>
                  <a:ext cx="0" cy="291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07" name="Line 14"/>
              <p:cNvSpPr/>
              <p:nvPr/>
            </p:nvSpPr>
            <p:spPr>
              <a:xfrm>
                <a:off x="2143440" y="2148480"/>
                <a:ext cx="360360" cy="5407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8" name="Text Box 15"/>
              <p:cNvSpPr/>
              <p:nvPr/>
            </p:nvSpPr>
            <p:spPr>
              <a:xfrm>
                <a:off x="1332000" y="1916280"/>
                <a:ext cx="1622880" cy="270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200" spc="-1" strike="noStrike">
                    <a:solidFill>
                      <a:srgbClr val="000000"/>
                    </a:solidFill>
                    <a:latin typeface="Arial"/>
                  </a:rPr>
                  <a:t>Clavos rielero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9" name="Freeform 16"/>
              <p:cNvSpPr/>
              <p:nvPr/>
            </p:nvSpPr>
            <p:spPr>
              <a:xfrm>
                <a:off x="1422000" y="2907720"/>
                <a:ext cx="1983240" cy="630720"/>
              </a:xfrm>
              <a:prstGeom prst="pi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10" name="Group 17"/>
              <p:cNvGrpSpPr/>
              <p:nvPr/>
            </p:nvGrpSpPr>
            <p:grpSpPr>
              <a:xfrm>
                <a:off x="2348640" y="2711520"/>
                <a:ext cx="313920" cy="580320"/>
                <a:chOff x="2348640" y="2711520"/>
                <a:chExt cx="313920" cy="580320"/>
              </a:xfrm>
            </p:grpSpPr>
            <p:sp>
              <p:nvSpPr>
                <p:cNvPr id="711" name="Freeform 18"/>
                <p:cNvSpPr/>
                <p:nvPr/>
              </p:nvSpPr>
              <p:spPr>
                <a:xfrm rot="1320000">
                  <a:off x="2383200" y="2758320"/>
                  <a:ext cx="270360" cy="101160"/>
                </a:xfrm>
                <a:prstGeom prst="pi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2" name="Freeform 19"/>
                <p:cNvSpPr/>
                <p:nvPr/>
              </p:nvSpPr>
              <p:spPr>
                <a:xfrm rot="1320000">
                  <a:off x="2428560" y="2856600"/>
                  <a:ext cx="60120" cy="439560"/>
                </a:xfrm>
                <a:prstGeom prst="pi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13" name="Group 20"/>
              <p:cNvGrpSpPr/>
              <p:nvPr/>
            </p:nvGrpSpPr>
            <p:grpSpPr>
              <a:xfrm>
                <a:off x="1623600" y="2711520"/>
                <a:ext cx="314640" cy="579960"/>
                <a:chOff x="1623600" y="2711520"/>
                <a:chExt cx="314640" cy="579960"/>
              </a:xfrm>
            </p:grpSpPr>
            <p:sp>
              <p:nvSpPr>
                <p:cNvPr id="714" name="Freeform 21"/>
                <p:cNvSpPr/>
                <p:nvPr/>
              </p:nvSpPr>
              <p:spPr>
                <a:xfrm flipH="1" rot="20280000">
                  <a:off x="1632960" y="2758320"/>
                  <a:ext cx="270360" cy="101160"/>
                </a:xfrm>
                <a:prstGeom prst="pi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5" name="Freeform 22"/>
                <p:cNvSpPr/>
                <p:nvPr/>
              </p:nvSpPr>
              <p:spPr>
                <a:xfrm flipH="1" rot="20280000">
                  <a:off x="1797120" y="2856600"/>
                  <a:ext cx="60120" cy="439560"/>
                </a:xfrm>
                <a:prstGeom prst="pi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16" name="Line 23"/>
              <p:cNvSpPr/>
              <p:nvPr/>
            </p:nvSpPr>
            <p:spPr>
              <a:xfrm flipH="1">
                <a:off x="1782360" y="2156040"/>
                <a:ext cx="360360" cy="5407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7" name="Group 24"/>
            <p:cNvGrpSpPr/>
            <p:nvPr/>
          </p:nvGrpSpPr>
          <p:grpSpPr>
            <a:xfrm>
              <a:off x="3676320" y="1916280"/>
              <a:ext cx="2073600" cy="1622160"/>
              <a:chOff x="3676320" y="1916280"/>
              <a:chExt cx="2073600" cy="1622160"/>
            </a:xfrm>
          </p:grpSpPr>
          <p:grpSp>
            <p:nvGrpSpPr>
              <p:cNvPr id="718" name="Group 25"/>
              <p:cNvGrpSpPr/>
              <p:nvPr/>
            </p:nvGrpSpPr>
            <p:grpSpPr>
              <a:xfrm>
                <a:off x="4127040" y="2186280"/>
                <a:ext cx="720360" cy="721080"/>
                <a:chOff x="4127040" y="2186280"/>
                <a:chExt cx="720360" cy="721080"/>
              </a:xfrm>
            </p:grpSpPr>
            <p:sp>
              <p:nvSpPr>
                <p:cNvPr id="719" name="AutoShape 26"/>
                <p:cNvSpPr/>
                <p:nvPr/>
              </p:nvSpPr>
              <p:spPr>
                <a:xfrm>
                  <a:off x="4217040" y="2186280"/>
                  <a:ext cx="540720" cy="291600"/>
                </a:xfrm>
                <a:prstGeom prst="roundRect">
                  <a:avLst>
                    <a:gd name="adj" fmla="val 36384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20" name="Group 27"/>
                <p:cNvGrpSpPr/>
                <p:nvPr/>
              </p:nvGrpSpPr>
              <p:grpSpPr>
                <a:xfrm>
                  <a:off x="4127040" y="2712960"/>
                  <a:ext cx="720360" cy="194400"/>
                  <a:chOff x="4127040" y="2712960"/>
                  <a:chExt cx="720360" cy="194400"/>
                </a:xfrm>
              </p:grpSpPr>
              <p:sp>
                <p:nvSpPr>
                  <p:cNvPr id="721" name="Freeform 28"/>
                  <p:cNvSpPr/>
                  <p:nvPr/>
                </p:nvSpPr>
                <p:spPr>
                  <a:xfrm>
                    <a:off x="4127040" y="2712960"/>
                    <a:ext cx="360360" cy="19440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2" name="Freeform 29"/>
                  <p:cNvSpPr/>
                  <p:nvPr/>
                </p:nvSpPr>
                <p:spPr>
                  <a:xfrm flipH="1">
                    <a:off x="4486680" y="2712960"/>
                    <a:ext cx="360360" cy="19440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23" name="Rectangle 30"/>
                <p:cNvSpPr/>
                <p:nvPr/>
              </p:nvSpPr>
              <p:spPr>
                <a:xfrm>
                  <a:off x="4352400" y="2429280"/>
                  <a:ext cx="270360" cy="3888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4" name="Line 31"/>
                <p:cNvSpPr/>
                <p:nvPr/>
              </p:nvSpPr>
              <p:spPr>
                <a:xfrm>
                  <a:off x="4352400" y="2477880"/>
                  <a:ext cx="360" cy="291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5" name="Line 32"/>
                <p:cNvSpPr/>
                <p:nvPr/>
              </p:nvSpPr>
              <p:spPr>
                <a:xfrm>
                  <a:off x="4622400" y="2477880"/>
                  <a:ext cx="0" cy="291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26" name="Line 33"/>
              <p:cNvSpPr/>
              <p:nvPr/>
            </p:nvSpPr>
            <p:spPr>
              <a:xfrm>
                <a:off x="4487760" y="2148480"/>
                <a:ext cx="360360" cy="5407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7" name="Text Box 34"/>
              <p:cNvSpPr/>
              <p:nvPr/>
            </p:nvSpPr>
            <p:spPr>
              <a:xfrm>
                <a:off x="3676320" y="1916280"/>
                <a:ext cx="1622880" cy="270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200" spc="-1" strike="noStrike">
                    <a:solidFill>
                      <a:srgbClr val="000000"/>
                    </a:solidFill>
                    <a:latin typeface="Arial"/>
                  </a:rPr>
                  <a:t>Pernos rielero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8" name="Freeform 35"/>
              <p:cNvSpPr/>
              <p:nvPr/>
            </p:nvSpPr>
            <p:spPr>
              <a:xfrm>
                <a:off x="3766320" y="2907720"/>
                <a:ext cx="1983600" cy="630720"/>
              </a:xfrm>
              <a:prstGeom prst="pi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9" name="Line 36"/>
              <p:cNvSpPr/>
              <p:nvPr/>
            </p:nvSpPr>
            <p:spPr>
              <a:xfrm flipH="1">
                <a:off x="4126680" y="2156040"/>
                <a:ext cx="360360" cy="5407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30" name="Group 37"/>
              <p:cNvGrpSpPr/>
              <p:nvPr/>
            </p:nvGrpSpPr>
            <p:grpSpPr>
              <a:xfrm>
                <a:off x="3961800" y="2727360"/>
                <a:ext cx="180360" cy="413640"/>
                <a:chOff x="3961800" y="2727360"/>
                <a:chExt cx="180360" cy="413640"/>
              </a:xfrm>
            </p:grpSpPr>
            <p:grpSp>
              <p:nvGrpSpPr>
                <p:cNvPr id="731" name="Group 38"/>
                <p:cNvGrpSpPr/>
                <p:nvPr/>
              </p:nvGrpSpPr>
              <p:grpSpPr>
                <a:xfrm>
                  <a:off x="4006080" y="2727360"/>
                  <a:ext cx="90000" cy="180000"/>
                  <a:chOff x="4006080" y="2727360"/>
                  <a:chExt cx="90000" cy="180000"/>
                </a:xfrm>
              </p:grpSpPr>
              <p:sp>
                <p:nvSpPr>
                  <p:cNvPr id="732" name="Freeform 39"/>
                  <p:cNvSpPr/>
                  <p:nvPr/>
                </p:nvSpPr>
                <p:spPr>
                  <a:xfrm>
                    <a:off x="4031640" y="2727360"/>
                    <a:ext cx="38520" cy="180000"/>
                  </a:xfrm>
                  <a:prstGeom prst="pi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3" name="Freeform 40"/>
                  <p:cNvSpPr/>
                  <p:nvPr/>
                </p:nvSpPr>
                <p:spPr>
                  <a:xfrm>
                    <a:off x="4006080" y="2737800"/>
                    <a:ext cx="90000" cy="31680"/>
                  </a:xfrm>
                  <a:prstGeom prst="pi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760" bIns="-147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4" name="Freeform 41"/>
                  <p:cNvSpPr/>
                  <p:nvPr/>
                </p:nvSpPr>
                <p:spPr>
                  <a:xfrm>
                    <a:off x="4006080" y="2769480"/>
                    <a:ext cx="90000" cy="31680"/>
                  </a:xfrm>
                  <a:prstGeom prst="pi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760" bIns="-147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5" name="Freeform 42"/>
                  <p:cNvSpPr/>
                  <p:nvPr/>
                </p:nvSpPr>
                <p:spPr>
                  <a:xfrm>
                    <a:off x="4006080" y="2801520"/>
                    <a:ext cx="90000" cy="31680"/>
                  </a:xfrm>
                  <a:prstGeom prst="pi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760" bIns="-147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6" name="Freeform 43"/>
                  <p:cNvSpPr/>
                  <p:nvPr/>
                </p:nvSpPr>
                <p:spPr>
                  <a:xfrm>
                    <a:off x="4006080" y="2833200"/>
                    <a:ext cx="90000" cy="31680"/>
                  </a:xfrm>
                  <a:prstGeom prst="pi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760" bIns="-147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7" name="Freeform 44"/>
                  <p:cNvSpPr/>
                  <p:nvPr/>
                </p:nvSpPr>
                <p:spPr>
                  <a:xfrm>
                    <a:off x="4006080" y="2865240"/>
                    <a:ext cx="90000" cy="31680"/>
                  </a:xfrm>
                  <a:prstGeom prst="pi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760" bIns="-147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38" name="Rectangle 45"/>
                <p:cNvSpPr/>
                <p:nvPr/>
              </p:nvSpPr>
              <p:spPr>
                <a:xfrm>
                  <a:off x="3961800" y="3051000"/>
                  <a:ext cx="180360" cy="9000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0" bIns="43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39" name="Group 46"/>
                <p:cNvGrpSpPr/>
                <p:nvPr/>
              </p:nvGrpSpPr>
              <p:grpSpPr>
                <a:xfrm>
                  <a:off x="4006080" y="2887200"/>
                  <a:ext cx="90000" cy="180000"/>
                  <a:chOff x="4006080" y="2887200"/>
                  <a:chExt cx="90000" cy="180000"/>
                </a:xfrm>
              </p:grpSpPr>
              <p:sp>
                <p:nvSpPr>
                  <p:cNvPr id="740" name="Freeform 47"/>
                  <p:cNvSpPr/>
                  <p:nvPr/>
                </p:nvSpPr>
                <p:spPr>
                  <a:xfrm>
                    <a:off x="4031640" y="2887200"/>
                    <a:ext cx="38520" cy="180000"/>
                  </a:xfrm>
                  <a:prstGeom prst="pi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1" name="Freeform 48"/>
                  <p:cNvSpPr/>
                  <p:nvPr/>
                </p:nvSpPr>
                <p:spPr>
                  <a:xfrm>
                    <a:off x="4006080" y="2897640"/>
                    <a:ext cx="90000" cy="31680"/>
                  </a:xfrm>
                  <a:prstGeom prst="pi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760" bIns="-147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2" name="Freeform 49"/>
                  <p:cNvSpPr/>
                  <p:nvPr/>
                </p:nvSpPr>
                <p:spPr>
                  <a:xfrm>
                    <a:off x="4006080" y="2929320"/>
                    <a:ext cx="90000" cy="31680"/>
                  </a:xfrm>
                  <a:prstGeom prst="pi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760" bIns="-147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3" name="Freeform 50"/>
                  <p:cNvSpPr/>
                  <p:nvPr/>
                </p:nvSpPr>
                <p:spPr>
                  <a:xfrm>
                    <a:off x="4006080" y="2961360"/>
                    <a:ext cx="90000" cy="31680"/>
                  </a:xfrm>
                  <a:prstGeom prst="pi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760" bIns="-147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4" name="Freeform 51"/>
                  <p:cNvSpPr/>
                  <p:nvPr/>
                </p:nvSpPr>
                <p:spPr>
                  <a:xfrm>
                    <a:off x="4006080" y="2993040"/>
                    <a:ext cx="90000" cy="31680"/>
                  </a:xfrm>
                  <a:prstGeom prst="pi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760" bIns="-147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5" name="Freeform 52"/>
                  <p:cNvSpPr/>
                  <p:nvPr/>
                </p:nvSpPr>
                <p:spPr>
                  <a:xfrm>
                    <a:off x="4006080" y="3025080"/>
                    <a:ext cx="90000" cy="31680"/>
                  </a:xfrm>
                  <a:prstGeom prst="pi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760" bIns="-147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46" name="Group 53"/>
              <p:cNvGrpSpPr/>
              <p:nvPr/>
            </p:nvGrpSpPr>
            <p:grpSpPr>
              <a:xfrm>
                <a:off x="4833000" y="2727360"/>
                <a:ext cx="180000" cy="413640"/>
                <a:chOff x="4833000" y="2727360"/>
                <a:chExt cx="180000" cy="413640"/>
              </a:xfrm>
            </p:grpSpPr>
            <p:grpSp>
              <p:nvGrpSpPr>
                <p:cNvPr id="747" name="Group 54"/>
                <p:cNvGrpSpPr/>
                <p:nvPr/>
              </p:nvGrpSpPr>
              <p:grpSpPr>
                <a:xfrm>
                  <a:off x="4877280" y="2727360"/>
                  <a:ext cx="90000" cy="180000"/>
                  <a:chOff x="4877280" y="2727360"/>
                  <a:chExt cx="90000" cy="180000"/>
                </a:xfrm>
              </p:grpSpPr>
              <p:sp>
                <p:nvSpPr>
                  <p:cNvPr id="748" name="Freeform 55"/>
                  <p:cNvSpPr/>
                  <p:nvPr/>
                </p:nvSpPr>
                <p:spPr>
                  <a:xfrm>
                    <a:off x="4902840" y="2727360"/>
                    <a:ext cx="38520" cy="180000"/>
                  </a:xfrm>
                  <a:prstGeom prst="pi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9" name="Freeform 56"/>
                  <p:cNvSpPr/>
                  <p:nvPr/>
                </p:nvSpPr>
                <p:spPr>
                  <a:xfrm>
                    <a:off x="4877280" y="2737800"/>
                    <a:ext cx="90000" cy="31680"/>
                  </a:xfrm>
                  <a:prstGeom prst="pi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760" bIns="-147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0" name="Freeform 57"/>
                  <p:cNvSpPr/>
                  <p:nvPr/>
                </p:nvSpPr>
                <p:spPr>
                  <a:xfrm>
                    <a:off x="4877280" y="2769480"/>
                    <a:ext cx="90000" cy="31680"/>
                  </a:xfrm>
                  <a:prstGeom prst="pi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760" bIns="-147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1" name="Freeform 58"/>
                  <p:cNvSpPr/>
                  <p:nvPr/>
                </p:nvSpPr>
                <p:spPr>
                  <a:xfrm>
                    <a:off x="4877280" y="2801520"/>
                    <a:ext cx="90000" cy="31680"/>
                  </a:xfrm>
                  <a:prstGeom prst="pi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760" bIns="-147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2" name="Freeform 59"/>
                  <p:cNvSpPr/>
                  <p:nvPr/>
                </p:nvSpPr>
                <p:spPr>
                  <a:xfrm>
                    <a:off x="4877280" y="2833200"/>
                    <a:ext cx="90000" cy="31680"/>
                  </a:xfrm>
                  <a:prstGeom prst="pi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760" bIns="-147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3" name="Freeform 60"/>
                  <p:cNvSpPr/>
                  <p:nvPr/>
                </p:nvSpPr>
                <p:spPr>
                  <a:xfrm>
                    <a:off x="4877280" y="2865240"/>
                    <a:ext cx="90000" cy="31680"/>
                  </a:xfrm>
                  <a:prstGeom prst="pi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760" bIns="-147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54" name="Rectangle 61"/>
                <p:cNvSpPr/>
                <p:nvPr/>
              </p:nvSpPr>
              <p:spPr>
                <a:xfrm>
                  <a:off x="4833000" y="3051000"/>
                  <a:ext cx="180000" cy="9000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0" bIns="43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55" name="Group 62"/>
                <p:cNvGrpSpPr/>
                <p:nvPr/>
              </p:nvGrpSpPr>
              <p:grpSpPr>
                <a:xfrm>
                  <a:off x="4877280" y="2887200"/>
                  <a:ext cx="90000" cy="180000"/>
                  <a:chOff x="4877280" y="2887200"/>
                  <a:chExt cx="90000" cy="180000"/>
                </a:xfrm>
              </p:grpSpPr>
              <p:sp>
                <p:nvSpPr>
                  <p:cNvPr id="756" name="Freeform 63"/>
                  <p:cNvSpPr/>
                  <p:nvPr/>
                </p:nvSpPr>
                <p:spPr>
                  <a:xfrm>
                    <a:off x="4902840" y="2887200"/>
                    <a:ext cx="38520" cy="180000"/>
                  </a:xfrm>
                  <a:prstGeom prst="pi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7" name="Freeform 64"/>
                  <p:cNvSpPr/>
                  <p:nvPr/>
                </p:nvSpPr>
                <p:spPr>
                  <a:xfrm>
                    <a:off x="4877280" y="2897640"/>
                    <a:ext cx="90000" cy="31680"/>
                  </a:xfrm>
                  <a:prstGeom prst="pi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760" bIns="-147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8" name="Freeform 65"/>
                  <p:cNvSpPr/>
                  <p:nvPr/>
                </p:nvSpPr>
                <p:spPr>
                  <a:xfrm>
                    <a:off x="4877280" y="2929320"/>
                    <a:ext cx="90000" cy="31680"/>
                  </a:xfrm>
                  <a:prstGeom prst="pi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760" bIns="-147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9" name="Freeform 66"/>
                  <p:cNvSpPr/>
                  <p:nvPr/>
                </p:nvSpPr>
                <p:spPr>
                  <a:xfrm>
                    <a:off x="4877280" y="2961360"/>
                    <a:ext cx="90000" cy="31680"/>
                  </a:xfrm>
                  <a:prstGeom prst="pi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760" bIns="-147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0" name="Freeform 67"/>
                  <p:cNvSpPr/>
                  <p:nvPr/>
                </p:nvSpPr>
                <p:spPr>
                  <a:xfrm>
                    <a:off x="4877280" y="2993040"/>
                    <a:ext cx="90000" cy="31680"/>
                  </a:xfrm>
                  <a:prstGeom prst="pi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760" bIns="-147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1" name="Freeform 68"/>
                  <p:cNvSpPr/>
                  <p:nvPr/>
                </p:nvSpPr>
                <p:spPr>
                  <a:xfrm>
                    <a:off x="4877280" y="3025080"/>
                    <a:ext cx="90000" cy="31680"/>
                  </a:xfrm>
                  <a:prstGeom prst="pi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760" bIns="-147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62" name="Group 69"/>
              <p:cNvGrpSpPr/>
              <p:nvPr/>
            </p:nvGrpSpPr>
            <p:grpSpPr>
              <a:xfrm>
                <a:off x="3931560" y="2748960"/>
                <a:ext cx="380880" cy="153000"/>
                <a:chOff x="3931560" y="2748960"/>
                <a:chExt cx="380880" cy="153000"/>
              </a:xfrm>
            </p:grpSpPr>
            <p:sp>
              <p:nvSpPr>
                <p:cNvPr id="763" name="Freeform 70"/>
                <p:cNvSpPr/>
                <p:nvPr/>
              </p:nvSpPr>
              <p:spPr>
                <a:xfrm>
                  <a:off x="3931560" y="2757600"/>
                  <a:ext cx="380880" cy="144360"/>
                </a:xfrm>
                <a:prstGeom prst="pie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64" name="Group 71"/>
                <p:cNvGrpSpPr/>
                <p:nvPr/>
              </p:nvGrpSpPr>
              <p:grpSpPr>
                <a:xfrm>
                  <a:off x="3961800" y="2748960"/>
                  <a:ext cx="180360" cy="90000"/>
                  <a:chOff x="3961800" y="2748960"/>
                  <a:chExt cx="180360" cy="90000"/>
                </a:xfrm>
              </p:grpSpPr>
              <p:sp>
                <p:nvSpPr>
                  <p:cNvPr id="765" name="Rectangle 72"/>
                  <p:cNvSpPr/>
                  <p:nvPr/>
                </p:nvSpPr>
                <p:spPr>
                  <a:xfrm>
                    <a:off x="3961800" y="2748960"/>
                    <a:ext cx="45000" cy="900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200" bIns="432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6" name="Rectangle 73"/>
                  <p:cNvSpPr/>
                  <p:nvPr/>
                </p:nvSpPr>
                <p:spPr>
                  <a:xfrm>
                    <a:off x="4097160" y="2748960"/>
                    <a:ext cx="45000" cy="900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200" bIns="432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7" name="Rectangle 74"/>
                  <p:cNvSpPr/>
                  <p:nvPr/>
                </p:nvSpPr>
                <p:spPr>
                  <a:xfrm>
                    <a:off x="4006800" y="2748960"/>
                    <a:ext cx="90000" cy="900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200" bIns="432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68" name="Group 75"/>
              <p:cNvGrpSpPr/>
              <p:nvPr/>
            </p:nvGrpSpPr>
            <p:grpSpPr>
              <a:xfrm>
                <a:off x="4660200" y="2754000"/>
                <a:ext cx="380880" cy="153000"/>
                <a:chOff x="4660200" y="2754000"/>
                <a:chExt cx="380880" cy="153000"/>
              </a:xfrm>
            </p:grpSpPr>
            <p:sp>
              <p:nvSpPr>
                <p:cNvPr id="769" name="Freeform 76"/>
                <p:cNvSpPr/>
                <p:nvPr/>
              </p:nvSpPr>
              <p:spPr>
                <a:xfrm flipH="1">
                  <a:off x="4660200" y="2762640"/>
                  <a:ext cx="380880" cy="144360"/>
                </a:xfrm>
                <a:prstGeom prst="pie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70" name="Group 77"/>
                <p:cNvGrpSpPr/>
                <p:nvPr/>
              </p:nvGrpSpPr>
              <p:grpSpPr>
                <a:xfrm>
                  <a:off x="4830480" y="2754000"/>
                  <a:ext cx="180360" cy="90000"/>
                  <a:chOff x="4830480" y="2754000"/>
                  <a:chExt cx="180360" cy="90000"/>
                </a:xfrm>
              </p:grpSpPr>
              <p:sp>
                <p:nvSpPr>
                  <p:cNvPr id="771" name="Rectangle 78"/>
                  <p:cNvSpPr/>
                  <p:nvPr/>
                </p:nvSpPr>
                <p:spPr>
                  <a:xfrm flipH="1">
                    <a:off x="4965480" y="2754000"/>
                    <a:ext cx="45000" cy="900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200" bIns="432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2" name="Rectangle 79"/>
                  <p:cNvSpPr/>
                  <p:nvPr/>
                </p:nvSpPr>
                <p:spPr>
                  <a:xfrm flipH="1">
                    <a:off x="4830120" y="2754000"/>
                    <a:ext cx="45000" cy="900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200" bIns="432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3" name="Rectangle 80"/>
                  <p:cNvSpPr/>
                  <p:nvPr/>
                </p:nvSpPr>
                <p:spPr>
                  <a:xfrm flipH="1">
                    <a:off x="4875840" y="2754000"/>
                    <a:ext cx="90000" cy="900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200" bIns="432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774" name="Group 81"/>
          <p:cNvGrpSpPr/>
          <p:nvPr/>
        </p:nvGrpSpPr>
        <p:grpSpPr>
          <a:xfrm>
            <a:off x="1332000" y="4292640"/>
            <a:ext cx="5410080" cy="901800"/>
            <a:chOff x="1332000" y="4292640"/>
            <a:chExt cx="5410080" cy="901800"/>
          </a:xfrm>
        </p:grpSpPr>
        <p:grpSp>
          <p:nvGrpSpPr>
            <p:cNvPr id="775" name="Group 82"/>
            <p:cNvGrpSpPr/>
            <p:nvPr/>
          </p:nvGrpSpPr>
          <p:grpSpPr>
            <a:xfrm>
              <a:off x="1332000" y="4292640"/>
              <a:ext cx="5410080" cy="901800"/>
              <a:chOff x="1332000" y="4292640"/>
              <a:chExt cx="5410080" cy="901800"/>
            </a:xfrm>
          </p:grpSpPr>
          <p:grpSp>
            <p:nvGrpSpPr>
              <p:cNvPr id="776" name="Group 83"/>
              <p:cNvGrpSpPr/>
              <p:nvPr/>
            </p:nvGrpSpPr>
            <p:grpSpPr>
              <a:xfrm>
                <a:off x="1332000" y="4292640"/>
                <a:ext cx="2795040" cy="541080"/>
                <a:chOff x="1332000" y="4292640"/>
                <a:chExt cx="2795040" cy="541080"/>
              </a:xfrm>
            </p:grpSpPr>
            <p:sp>
              <p:nvSpPr>
                <p:cNvPr id="777" name="Freeform 84"/>
                <p:cNvSpPr/>
                <p:nvPr/>
              </p:nvSpPr>
              <p:spPr>
                <a:xfrm>
                  <a:off x="1332000" y="4292640"/>
                  <a:ext cx="2795040" cy="180360"/>
                </a:xfrm>
                <a:prstGeom prst="pi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8" name="Freeform 85"/>
                <p:cNvSpPr/>
                <p:nvPr/>
              </p:nvSpPr>
              <p:spPr>
                <a:xfrm>
                  <a:off x="1332000" y="4471560"/>
                  <a:ext cx="2795040" cy="270720"/>
                </a:xfrm>
                <a:prstGeom prst="pi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9" name="Freeform 86"/>
                <p:cNvSpPr/>
                <p:nvPr/>
              </p:nvSpPr>
              <p:spPr>
                <a:xfrm>
                  <a:off x="1332000" y="4743720"/>
                  <a:ext cx="2795040" cy="90000"/>
                </a:xfrm>
                <a:prstGeom prst="pi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0" bIns="43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80" name="Group 87"/>
              <p:cNvGrpSpPr/>
              <p:nvPr/>
            </p:nvGrpSpPr>
            <p:grpSpPr>
              <a:xfrm>
                <a:off x="4148640" y="4292640"/>
                <a:ext cx="2593440" cy="541080"/>
                <a:chOff x="4148640" y="4292640"/>
                <a:chExt cx="2593440" cy="541080"/>
              </a:xfrm>
            </p:grpSpPr>
            <p:sp>
              <p:nvSpPr>
                <p:cNvPr id="781" name="Freeform 88"/>
                <p:cNvSpPr/>
                <p:nvPr/>
              </p:nvSpPr>
              <p:spPr>
                <a:xfrm>
                  <a:off x="4148640" y="4292640"/>
                  <a:ext cx="2593440" cy="180360"/>
                </a:xfrm>
                <a:prstGeom prst="pi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2" name="Freeform 89"/>
                <p:cNvSpPr/>
                <p:nvPr/>
              </p:nvSpPr>
              <p:spPr>
                <a:xfrm>
                  <a:off x="4148640" y="4471560"/>
                  <a:ext cx="2593440" cy="270720"/>
                </a:xfrm>
                <a:prstGeom prst="pi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3" name="Freeform 90"/>
                <p:cNvSpPr/>
                <p:nvPr/>
              </p:nvSpPr>
              <p:spPr>
                <a:xfrm>
                  <a:off x="4148640" y="4743720"/>
                  <a:ext cx="2593440" cy="90000"/>
                </a:xfrm>
                <a:prstGeom prst="pi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0" bIns="43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84" name="Rectangle 91"/>
              <p:cNvSpPr/>
              <p:nvPr/>
            </p:nvSpPr>
            <p:spPr>
              <a:xfrm>
                <a:off x="3375360" y="4518720"/>
                <a:ext cx="1532880" cy="180360"/>
              </a:xfrm>
              <a:prstGeom prst="rect">
                <a:avLst/>
              </a:prstGeom>
              <a:solidFill>
                <a:srgbClr val="c0c0c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5" name="Oval 92"/>
              <p:cNvSpPr/>
              <p:nvPr/>
            </p:nvSpPr>
            <p:spPr>
              <a:xfrm>
                <a:off x="3405600" y="4563000"/>
                <a:ext cx="90000" cy="90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" name="Oval 93"/>
              <p:cNvSpPr/>
              <p:nvPr/>
            </p:nvSpPr>
            <p:spPr>
              <a:xfrm>
                <a:off x="3558240" y="4563000"/>
                <a:ext cx="90000" cy="90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" name="Oval 94"/>
              <p:cNvSpPr/>
              <p:nvPr/>
            </p:nvSpPr>
            <p:spPr>
              <a:xfrm>
                <a:off x="3710520" y="4563000"/>
                <a:ext cx="90000" cy="90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8" name="Oval 95"/>
              <p:cNvSpPr/>
              <p:nvPr/>
            </p:nvSpPr>
            <p:spPr>
              <a:xfrm>
                <a:off x="4788720" y="4563000"/>
                <a:ext cx="90000" cy="90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Oval 96"/>
              <p:cNvSpPr/>
              <p:nvPr/>
            </p:nvSpPr>
            <p:spPr>
              <a:xfrm>
                <a:off x="4487760" y="4563000"/>
                <a:ext cx="90000" cy="90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" name="Oval 97"/>
              <p:cNvSpPr/>
              <p:nvPr/>
            </p:nvSpPr>
            <p:spPr>
              <a:xfrm>
                <a:off x="4640040" y="4563000"/>
                <a:ext cx="90000" cy="90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1" name="Group 98"/>
              <p:cNvGrpSpPr/>
              <p:nvPr/>
            </p:nvGrpSpPr>
            <p:grpSpPr>
              <a:xfrm>
                <a:off x="2684160" y="4660920"/>
                <a:ext cx="434160" cy="180000"/>
                <a:chOff x="2684160" y="4660920"/>
                <a:chExt cx="434160" cy="180000"/>
              </a:xfrm>
            </p:grpSpPr>
            <p:grpSp>
              <p:nvGrpSpPr>
                <p:cNvPr id="792" name="Group 99"/>
                <p:cNvGrpSpPr/>
                <p:nvPr/>
              </p:nvGrpSpPr>
              <p:grpSpPr>
                <a:xfrm>
                  <a:off x="2937960" y="4660920"/>
                  <a:ext cx="180360" cy="180000"/>
                  <a:chOff x="2937960" y="4660920"/>
                  <a:chExt cx="180360" cy="180000"/>
                </a:xfrm>
              </p:grpSpPr>
              <p:sp>
                <p:nvSpPr>
                  <p:cNvPr id="793" name="Freeform 100"/>
                  <p:cNvSpPr/>
                  <p:nvPr/>
                </p:nvSpPr>
                <p:spPr>
                  <a:xfrm>
                    <a:off x="2937960" y="4660920"/>
                    <a:ext cx="180360" cy="90000"/>
                  </a:xfrm>
                  <a:prstGeom prst="pi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560" bIns="435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4" name="Rectangle 101"/>
                  <p:cNvSpPr/>
                  <p:nvPr/>
                </p:nvSpPr>
                <p:spPr>
                  <a:xfrm>
                    <a:off x="2986920" y="4750920"/>
                    <a:ext cx="78840" cy="9000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200" bIns="432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95" name="Group 102"/>
                <p:cNvGrpSpPr/>
                <p:nvPr/>
              </p:nvGrpSpPr>
              <p:grpSpPr>
                <a:xfrm>
                  <a:off x="2684160" y="4660920"/>
                  <a:ext cx="180360" cy="180000"/>
                  <a:chOff x="2684160" y="4660920"/>
                  <a:chExt cx="180360" cy="180000"/>
                </a:xfrm>
              </p:grpSpPr>
              <p:sp>
                <p:nvSpPr>
                  <p:cNvPr id="796" name="Freeform 103"/>
                  <p:cNvSpPr/>
                  <p:nvPr/>
                </p:nvSpPr>
                <p:spPr>
                  <a:xfrm>
                    <a:off x="2684160" y="4660920"/>
                    <a:ext cx="180360" cy="90000"/>
                  </a:xfrm>
                  <a:prstGeom prst="pie">
                    <a:avLst/>
                  </a:prstGeom>
                  <a:noFill/>
                  <a:ln cap="rnd" w="12600">
                    <a:solidFill>
                      <a:srgbClr val="000000"/>
                    </a:solidFill>
                    <a:custDash>
                      <a:ds d="100000" sp="1000"/>
                    </a:custDash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560" bIns="435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7" name="Rectangle 104"/>
                  <p:cNvSpPr/>
                  <p:nvPr/>
                </p:nvSpPr>
                <p:spPr>
                  <a:xfrm>
                    <a:off x="2733120" y="4750920"/>
                    <a:ext cx="78840" cy="90000"/>
                  </a:xfrm>
                  <a:prstGeom prst="rect">
                    <a:avLst/>
                  </a:prstGeom>
                  <a:noFill/>
                  <a:ln cap="rnd" w="12600">
                    <a:solidFill>
                      <a:srgbClr val="000000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200" bIns="432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98" name="Group 105"/>
              <p:cNvGrpSpPr/>
              <p:nvPr/>
            </p:nvGrpSpPr>
            <p:grpSpPr>
              <a:xfrm>
                <a:off x="5135400" y="4653360"/>
                <a:ext cx="433800" cy="180000"/>
                <a:chOff x="5135400" y="4653360"/>
                <a:chExt cx="433800" cy="180000"/>
              </a:xfrm>
            </p:grpSpPr>
            <p:grpSp>
              <p:nvGrpSpPr>
                <p:cNvPr id="799" name="Group 106"/>
                <p:cNvGrpSpPr/>
                <p:nvPr/>
              </p:nvGrpSpPr>
              <p:grpSpPr>
                <a:xfrm>
                  <a:off x="5389200" y="4653360"/>
                  <a:ext cx="180000" cy="180000"/>
                  <a:chOff x="5389200" y="4653360"/>
                  <a:chExt cx="180000" cy="180000"/>
                </a:xfrm>
              </p:grpSpPr>
              <p:sp>
                <p:nvSpPr>
                  <p:cNvPr id="800" name="Freeform 107"/>
                  <p:cNvSpPr/>
                  <p:nvPr/>
                </p:nvSpPr>
                <p:spPr>
                  <a:xfrm>
                    <a:off x="5389200" y="4653360"/>
                    <a:ext cx="180000" cy="90000"/>
                  </a:xfrm>
                  <a:prstGeom prst="pi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560" bIns="435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1" name="Rectangle 108"/>
                  <p:cNvSpPr/>
                  <p:nvPr/>
                </p:nvSpPr>
                <p:spPr>
                  <a:xfrm>
                    <a:off x="5437800" y="4743360"/>
                    <a:ext cx="78480" cy="9000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200" bIns="432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02" name="Group 109"/>
                <p:cNvGrpSpPr/>
                <p:nvPr/>
              </p:nvGrpSpPr>
              <p:grpSpPr>
                <a:xfrm>
                  <a:off x="5135400" y="4653360"/>
                  <a:ext cx="180000" cy="180000"/>
                  <a:chOff x="5135400" y="4653360"/>
                  <a:chExt cx="180000" cy="180000"/>
                </a:xfrm>
              </p:grpSpPr>
              <p:sp>
                <p:nvSpPr>
                  <p:cNvPr id="803" name="Freeform 110"/>
                  <p:cNvSpPr/>
                  <p:nvPr/>
                </p:nvSpPr>
                <p:spPr>
                  <a:xfrm>
                    <a:off x="5135400" y="4653360"/>
                    <a:ext cx="180000" cy="90000"/>
                  </a:xfrm>
                  <a:prstGeom prst="pie">
                    <a:avLst/>
                  </a:prstGeom>
                  <a:noFill/>
                  <a:ln cap="rnd" w="12600">
                    <a:solidFill>
                      <a:srgbClr val="000000"/>
                    </a:solidFill>
                    <a:custDash>
                      <a:ds d="100000" sp="1000"/>
                    </a:custDash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560" bIns="435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4" name="Rectangle 111"/>
                  <p:cNvSpPr/>
                  <p:nvPr/>
                </p:nvSpPr>
                <p:spPr>
                  <a:xfrm>
                    <a:off x="5184000" y="4743360"/>
                    <a:ext cx="78480" cy="90000"/>
                  </a:xfrm>
                  <a:prstGeom prst="rect">
                    <a:avLst/>
                  </a:prstGeom>
                  <a:noFill/>
                  <a:ln cap="rnd" w="12600">
                    <a:solidFill>
                      <a:srgbClr val="000000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200" bIns="432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805" name="Rectangle 112"/>
              <p:cNvSpPr/>
              <p:nvPr/>
            </p:nvSpPr>
            <p:spPr>
              <a:xfrm>
                <a:off x="2398680" y="4833720"/>
                <a:ext cx="991800" cy="3607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6" name="Rectangle 113"/>
              <p:cNvSpPr/>
              <p:nvPr/>
            </p:nvSpPr>
            <p:spPr>
              <a:xfrm>
                <a:off x="4848480" y="4833720"/>
                <a:ext cx="991800" cy="3607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7" name="Text Box 114"/>
            <p:cNvSpPr/>
            <p:nvPr/>
          </p:nvSpPr>
          <p:spPr>
            <a:xfrm>
              <a:off x="3585960" y="4924080"/>
              <a:ext cx="1081800" cy="27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Arial"/>
                </a:rPr>
                <a:t>Eclis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Freeform 115"/>
            <p:cNvSpPr/>
            <p:nvPr/>
          </p:nvSpPr>
          <p:spPr>
            <a:xfrm>
              <a:off x="3926520" y="4615200"/>
              <a:ext cx="213120" cy="365760"/>
            </a:xfrm>
            <a:prstGeom prst="pie">
              <a:avLst/>
            </a:prstGeom>
            <a:noFill/>
            <a:ln w="1260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9" name="Text Box 116"/>
          <p:cNvSpPr/>
          <p:nvPr/>
        </p:nvSpPr>
        <p:spPr>
          <a:xfrm>
            <a:off x="6516720" y="1268280"/>
            <a:ext cx="2448000" cy="28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Rieles se unen a durmientes por medio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clavos rieleros (durmientes de mader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Pernos rieleros (durmientes de concreto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Text Box 117"/>
          <p:cNvSpPr/>
          <p:nvPr/>
        </p:nvSpPr>
        <p:spPr>
          <a:xfrm>
            <a:off x="1403280" y="5734080"/>
            <a:ext cx="4681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Rieles se unen por medio de eclisas, el orificio de este es ovalado para evitar corte de los pernos por cizallami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3300"/>
                </a:solidFill>
                <a:latin typeface="Arial"/>
              </a:rPr>
              <a:t>Peral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Se construyen peraltes para contra-restar las fuerzas centrifugas en curv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3" name="Group 4"/>
          <p:cNvGrpSpPr/>
          <p:nvPr/>
        </p:nvGrpSpPr>
        <p:grpSpPr>
          <a:xfrm>
            <a:off x="1042920" y="3261600"/>
            <a:ext cx="2141640" cy="2350080"/>
            <a:chOff x="1042920" y="3261600"/>
            <a:chExt cx="2141640" cy="2350080"/>
          </a:xfrm>
        </p:grpSpPr>
        <p:sp>
          <p:nvSpPr>
            <p:cNvPr id="814" name="Text Box 5"/>
            <p:cNvSpPr/>
            <p:nvPr/>
          </p:nvSpPr>
          <p:spPr>
            <a:xfrm>
              <a:off x="2643480" y="4199400"/>
              <a:ext cx="541080" cy="45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000000"/>
                  </a:solidFill>
                  <a:latin typeface="Arial"/>
                </a:rPr>
                <a:t>h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Freeform 6"/>
            <p:cNvSpPr/>
            <p:nvPr/>
          </p:nvSpPr>
          <p:spPr>
            <a:xfrm>
              <a:off x="1042920" y="4033080"/>
              <a:ext cx="1893960" cy="722520"/>
            </a:xfrm>
            <a:prstGeom prst="pie">
              <a:avLst/>
            </a:prstGeom>
            <a:noFill/>
            <a:ln w="1260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16" name="Group 7"/>
            <p:cNvGrpSpPr/>
            <p:nvPr/>
          </p:nvGrpSpPr>
          <p:grpSpPr>
            <a:xfrm>
              <a:off x="1218960" y="3261600"/>
              <a:ext cx="1195560" cy="1303560"/>
              <a:chOff x="1218960" y="3261600"/>
              <a:chExt cx="1195560" cy="1303560"/>
            </a:xfrm>
          </p:grpSpPr>
          <p:sp>
            <p:nvSpPr>
              <p:cNvPr id="817" name="Freeform 8"/>
              <p:cNvSpPr/>
              <p:nvPr/>
            </p:nvSpPr>
            <p:spPr>
              <a:xfrm rot="20202000">
                <a:off x="1251360" y="3389400"/>
                <a:ext cx="669960" cy="107280"/>
              </a:xfrm>
              <a:prstGeom prst="pie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18" name="Group 9"/>
              <p:cNvGrpSpPr/>
              <p:nvPr/>
            </p:nvGrpSpPr>
            <p:grpSpPr>
              <a:xfrm>
                <a:off x="1469520" y="4011480"/>
                <a:ext cx="945000" cy="553680"/>
                <a:chOff x="1469520" y="4011480"/>
                <a:chExt cx="945000" cy="553680"/>
              </a:xfrm>
            </p:grpSpPr>
            <p:grpSp>
              <p:nvGrpSpPr>
                <p:cNvPr id="819" name="Group 10"/>
                <p:cNvGrpSpPr/>
                <p:nvPr/>
              </p:nvGrpSpPr>
              <p:grpSpPr>
                <a:xfrm>
                  <a:off x="1499400" y="4260600"/>
                  <a:ext cx="165960" cy="209160"/>
                  <a:chOff x="1499400" y="4260600"/>
                  <a:chExt cx="165960" cy="209160"/>
                </a:xfrm>
              </p:grpSpPr>
              <p:sp>
                <p:nvSpPr>
                  <p:cNvPr id="820" name="Oval 11"/>
                  <p:cNvSpPr/>
                  <p:nvPr/>
                </p:nvSpPr>
                <p:spPr>
                  <a:xfrm rot="20310000">
                    <a:off x="1511280" y="4275360"/>
                    <a:ext cx="97200" cy="846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320" bIns="133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1" name="Rectangle 12"/>
                  <p:cNvSpPr/>
                  <p:nvPr/>
                </p:nvSpPr>
                <p:spPr>
                  <a:xfrm rot="20310000">
                    <a:off x="1565640" y="4344480"/>
                    <a:ext cx="43920" cy="9540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2" name="Rectangle 13"/>
                  <p:cNvSpPr/>
                  <p:nvPr/>
                </p:nvSpPr>
                <p:spPr>
                  <a:xfrm rot="20310000">
                    <a:off x="1541160" y="4419360"/>
                    <a:ext cx="123120" cy="2844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360" bIns="-183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23" name="Group 14"/>
                <p:cNvGrpSpPr/>
                <p:nvPr/>
              </p:nvGrpSpPr>
              <p:grpSpPr>
                <a:xfrm>
                  <a:off x="2131560" y="4011480"/>
                  <a:ext cx="166320" cy="209160"/>
                  <a:chOff x="2131560" y="4011480"/>
                  <a:chExt cx="166320" cy="209160"/>
                </a:xfrm>
              </p:grpSpPr>
              <p:sp>
                <p:nvSpPr>
                  <p:cNvPr id="824" name="Oval 15"/>
                  <p:cNvSpPr/>
                  <p:nvPr/>
                </p:nvSpPr>
                <p:spPr>
                  <a:xfrm rot="20310000">
                    <a:off x="2143440" y="4026240"/>
                    <a:ext cx="97200" cy="846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320" bIns="133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5" name="Rectangle 16"/>
                  <p:cNvSpPr/>
                  <p:nvPr/>
                </p:nvSpPr>
                <p:spPr>
                  <a:xfrm rot="20310000">
                    <a:off x="2198160" y="4095360"/>
                    <a:ext cx="43920" cy="9540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6" name="Rectangle 17"/>
                  <p:cNvSpPr/>
                  <p:nvPr/>
                </p:nvSpPr>
                <p:spPr>
                  <a:xfrm rot="20310000">
                    <a:off x="2173680" y="4170240"/>
                    <a:ext cx="123120" cy="2844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360" bIns="-183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27" name="Freeform 18"/>
                <p:cNvSpPr/>
                <p:nvPr/>
              </p:nvSpPr>
              <p:spPr>
                <a:xfrm rot="20310000">
                  <a:off x="1446120" y="4324680"/>
                  <a:ext cx="991800" cy="60840"/>
                </a:xfrm>
                <a:prstGeom prst="pie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28" name="Group 19"/>
              <p:cNvGrpSpPr/>
              <p:nvPr/>
            </p:nvGrpSpPr>
            <p:grpSpPr>
              <a:xfrm>
                <a:off x="1480680" y="3862080"/>
                <a:ext cx="704880" cy="424440"/>
                <a:chOff x="1480680" y="3862080"/>
                <a:chExt cx="704880" cy="424440"/>
              </a:xfrm>
            </p:grpSpPr>
            <p:sp>
              <p:nvSpPr>
                <p:cNvPr id="829" name="Rectangle 20"/>
                <p:cNvSpPr/>
                <p:nvPr/>
              </p:nvSpPr>
              <p:spPr>
                <a:xfrm rot="9510000">
                  <a:off x="2144880" y="3906720"/>
                  <a:ext cx="28080" cy="723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30" name="Group 21"/>
                <p:cNvGrpSpPr/>
                <p:nvPr/>
              </p:nvGrpSpPr>
              <p:grpSpPr>
                <a:xfrm>
                  <a:off x="2032560" y="3862080"/>
                  <a:ext cx="146160" cy="229320"/>
                  <a:chOff x="2032560" y="3862080"/>
                  <a:chExt cx="146160" cy="229320"/>
                </a:xfrm>
              </p:grpSpPr>
              <p:grpSp>
                <p:nvGrpSpPr>
                  <p:cNvPr id="831" name="Group 22"/>
                  <p:cNvGrpSpPr/>
                  <p:nvPr/>
                </p:nvGrpSpPr>
                <p:grpSpPr>
                  <a:xfrm>
                    <a:off x="2032560" y="3862080"/>
                    <a:ext cx="146160" cy="227880"/>
                    <a:chOff x="2032560" y="3862080"/>
                    <a:chExt cx="146160" cy="227880"/>
                  </a:xfrm>
                </p:grpSpPr>
                <p:sp>
                  <p:nvSpPr>
                    <p:cNvPr id="832" name="Freeform 23"/>
                    <p:cNvSpPr/>
                    <p:nvPr/>
                  </p:nvSpPr>
                  <p:spPr>
                    <a:xfrm rot="9510000">
                      <a:off x="2097000" y="3873240"/>
                      <a:ext cx="51840" cy="172440"/>
                    </a:xfrm>
                    <a:prstGeom prst="pi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33" name="Freeform 24"/>
                    <p:cNvSpPr/>
                    <p:nvPr/>
                  </p:nvSpPr>
                  <p:spPr>
                    <a:xfrm rot="9510000">
                      <a:off x="2111400" y="4052520"/>
                      <a:ext cx="25920" cy="3384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600" bIns="-126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34" name="Freeform 25"/>
                    <p:cNvSpPr/>
                    <p:nvPr/>
                  </p:nvSpPr>
                  <p:spPr>
                    <a:xfrm flipV="1" rot="9510000">
                      <a:off x="2037600" y="3864960"/>
                      <a:ext cx="25920" cy="3384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600" bIns="-126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35" name="Freeform 26"/>
                  <p:cNvSpPr/>
                  <p:nvPr/>
                </p:nvSpPr>
                <p:spPr>
                  <a:xfrm rot="9510000">
                    <a:off x="2075400" y="3863520"/>
                    <a:ext cx="360" cy="23616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6" name="Group 27"/>
                <p:cNvGrpSpPr/>
                <p:nvPr/>
              </p:nvGrpSpPr>
              <p:grpSpPr>
                <a:xfrm>
                  <a:off x="1486440" y="4058280"/>
                  <a:ext cx="148680" cy="228240"/>
                  <a:chOff x="1486440" y="4058280"/>
                  <a:chExt cx="148680" cy="228240"/>
                </a:xfrm>
              </p:grpSpPr>
              <p:grpSp>
                <p:nvGrpSpPr>
                  <p:cNvPr id="837" name="Group 28"/>
                  <p:cNvGrpSpPr/>
                  <p:nvPr/>
                </p:nvGrpSpPr>
                <p:grpSpPr>
                  <a:xfrm>
                    <a:off x="1486440" y="4058640"/>
                    <a:ext cx="147960" cy="227880"/>
                    <a:chOff x="1486440" y="4058640"/>
                    <a:chExt cx="147960" cy="227880"/>
                  </a:xfrm>
                </p:grpSpPr>
                <p:sp>
                  <p:nvSpPr>
                    <p:cNvPr id="838" name="Freeform 29"/>
                    <p:cNvSpPr/>
                    <p:nvPr/>
                  </p:nvSpPr>
                  <p:spPr>
                    <a:xfrm flipH="1" rot="9510000">
                      <a:off x="1515960" y="4098240"/>
                      <a:ext cx="51840" cy="172440"/>
                    </a:xfrm>
                    <a:prstGeom prst="pi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39" name="Freeform 30"/>
                    <p:cNvSpPr/>
                    <p:nvPr/>
                  </p:nvSpPr>
                  <p:spPr>
                    <a:xfrm flipH="1" rot="9510000">
                      <a:off x="1602720" y="4249080"/>
                      <a:ext cx="25920" cy="3384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600" bIns="-126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40" name="Freeform 31"/>
                    <p:cNvSpPr/>
                    <p:nvPr/>
                  </p:nvSpPr>
                  <p:spPr>
                    <a:xfrm flipH="1" flipV="1" rot="9510000">
                      <a:off x="1528920" y="4061520"/>
                      <a:ext cx="25920" cy="3384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600" bIns="-126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41" name="Freeform 32"/>
                  <p:cNvSpPr/>
                  <p:nvPr/>
                </p:nvSpPr>
                <p:spPr>
                  <a:xfrm flipH="1" rot="9510000">
                    <a:off x="1591200" y="4049640"/>
                    <a:ext cx="360" cy="23616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42" name="Rectangle 33"/>
                <p:cNvSpPr/>
                <p:nvPr/>
              </p:nvSpPr>
              <p:spPr>
                <a:xfrm rot="9510000">
                  <a:off x="1572840" y="4035240"/>
                  <a:ext cx="519120" cy="723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3" name="Rectangle 34"/>
                <p:cNvSpPr/>
                <p:nvPr/>
              </p:nvSpPr>
              <p:spPr>
                <a:xfrm rot="9510000">
                  <a:off x="1492920" y="4163760"/>
                  <a:ext cx="25920" cy="723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44" name="Rectangle 35"/>
              <p:cNvSpPr/>
              <p:nvPr/>
            </p:nvSpPr>
            <p:spPr>
              <a:xfrm rot="20310000">
                <a:off x="1273320" y="3462480"/>
                <a:ext cx="811440" cy="450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45" name="Arc 36"/>
            <p:cNvSpPr/>
            <p:nvPr/>
          </p:nvSpPr>
          <p:spPr>
            <a:xfrm>
              <a:off x="1463400" y="4560840"/>
              <a:ext cx="172440" cy="295920"/>
            </a:xfrm>
            <a:prstGeom prst="pie">
              <a:avLst/>
            </a:prstGeom>
            <a:noFill/>
            <a:ln w="9360">
              <a:solidFill>
                <a:srgbClr val="333399"/>
              </a:solidFill>
              <a:round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Text Box 37"/>
            <p:cNvSpPr/>
            <p:nvPr/>
          </p:nvSpPr>
          <p:spPr>
            <a:xfrm>
              <a:off x="1169640" y="4545000"/>
              <a:ext cx="541080" cy="45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Line 38"/>
            <p:cNvSpPr/>
            <p:nvPr/>
          </p:nvSpPr>
          <p:spPr>
            <a:xfrm>
              <a:off x="1674360" y="3658680"/>
              <a:ext cx="541080" cy="1442520"/>
            </a:xfrm>
            <a:prstGeom prst="line">
              <a:avLst/>
            </a:prstGeom>
            <a:ln w="28440">
              <a:solidFill>
                <a:srgbClr val="00808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Freeform 39"/>
            <p:cNvSpPr/>
            <p:nvPr/>
          </p:nvSpPr>
          <p:spPr>
            <a:xfrm flipV="1">
              <a:off x="1674360" y="3674880"/>
              <a:ext cx="541080" cy="1426320"/>
            </a:xfrm>
            <a:prstGeom prst="pie">
              <a:avLst/>
            </a:prstGeom>
            <a:noFill/>
            <a:ln w="9360">
              <a:solidFill>
                <a:srgbClr val="ff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Freeform 40"/>
            <p:cNvSpPr/>
            <p:nvPr/>
          </p:nvSpPr>
          <p:spPr>
            <a:xfrm flipH="1">
              <a:off x="1673640" y="3658680"/>
              <a:ext cx="541080" cy="1425960"/>
            </a:xfrm>
            <a:prstGeom prst="pie">
              <a:avLst/>
            </a:prstGeom>
            <a:noFill/>
            <a:ln cap="rnd" w="9360">
              <a:solidFill>
                <a:srgbClr val="ff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Text Box 41"/>
            <p:cNvSpPr/>
            <p:nvPr/>
          </p:nvSpPr>
          <p:spPr>
            <a:xfrm>
              <a:off x="1239480" y="4920840"/>
              <a:ext cx="541080" cy="45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Text Box 42"/>
            <p:cNvSpPr/>
            <p:nvPr/>
          </p:nvSpPr>
          <p:spPr>
            <a:xfrm>
              <a:off x="2034720" y="3508560"/>
              <a:ext cx="541080" cy="45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r>
                <a:rPr b="1" lang="es-CL" sz="1200" spc="-1" strike="noStrike" baseline="-25000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Line 43"/>
            <p:cNvSpPr/>
            <p:nvPr/>
          </p:nvSpPr>
          <p:spPr>
            <a:xfrm>
              <a:off x="1576440" y="4440960"/>
              <a:ext cx="1172160" cy="36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Line 44"/>
            <p:cNvSpPr/>
            <p:nvPr/>
          </p:nvSpPr>
          <p:spPr>
            <a:xfrm>
              <a:off x="2215440" y="4207320"/>
              <a:ext cx="54108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Freeform 45"/>
            <p:cNvSpPr/>
            <p:nvPr/>
          </p:nvSpPr>
          <p:spPr>
            <a:xfrm>
              <a:off x="2731680" y="4214880"/>
              <a:ext cx="1800" cy="217080"/>
            </a:xfrm>
            <a:prstGeom prst="pie">
              <a:avLst/>
            </a:prstGeom>
            <a:noFill/>
            <a:ln w="9360">
              <a:solidFill>
                <a:srgbClr val="ff0000"/>
              </a:solidFill>
              <a:round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Line 46"/>
            <p:cNvSpPr/>
            <p:nvPr/>
          </p:nvSpPr>
          <p:spPr>
            <a:xfrm>
              <a:off x="1614600" y="4446360"/>
              <a:ext cx="330120" cy="89460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Line 47"/>
            <p:cNvSpPr/>
            <p:nvPr/>
          </p:nvSpPr>
          <p:spPr>
            <a:xfrm>
              <a:off x="2244600" y="4191840"/>
              <a:ext cx="330120" cy="89460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Freeform 48"/>
            <p:cNvSpPr/>
            <p:nvPr/>
          </p:nvSpPr>
          <p:spPr>
            <a:xfrm>
              <a:off x="1933200" y="5030280"/>
              <a:ext cx="609480" cy="236160"/>
            </a:xfrm>
            <a:prstGeom prst="pie">
              <a:avLst/>
            </a:prstGeom>
            <a:noFill/>
            <a:ln w="9360">
              <a:solidFill>
                <a:srgbClr val="ff0000"/>
              </a:solidFill>
              <a:round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Text Box 49"/>
            <p:cNvSpPr/>
            <p:nvPr/>
          </p:nvSpPr>
          <p:spPr>
            <a:xfrm>
              <a:off x="2034720" y="5160960"/>
              <a:ext cx="541080" cy="45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859" name="Object 50"/>
              <p:cNvSpPr txBox="1"/>
              <p:nvPr/>
            </p:nvSpPr>
            <p:spPr>
              <a:xfrm>
                <a:off x="5148360" y="1052640"/>
                <a:ext cx="1895400" cy="331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W</m:t>
                            </m:r>
                            <m:r>
                              <m:t xml:space="preserve">⋅</m:t>
                            </m:r>
                            <m:sSup>
                              <m:e>
                                <m:r>
                                  <m:t xml:space="preserve">V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gR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  <m:r>
                          <m:t xml:space="preserve">(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W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r>
                          <m:t xml:space="preserve">(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  <m:r>
                          <m:t xml:space="preserve">(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  <m:r>
                          <m:t xml:space="preserve">(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V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gR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60" name="Text Box 52"/>
          <p:cNvSpPr/>
          <p:nvPr/>
        </p:nvSpPr>
        <p:spPr>
          <a:xfrm>
            <a:off x="4211640" y="4724280"/>
            <a:ext cx="424800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R= radio de curvat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V = velocidad del ferrocarr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Ht= altura pera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Fc= fuerza centrifuga, W peso del conju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3300"/>
                </a:solidFill>
                <a:latin typeface="Arial"/>
              </a:rPr>
              <a:t>Empalmes y cru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2" name="Group 4"/>
          <p:cNvGrpSpPr/>
          <p:nvPr/>
        </p:nvGrpSpPr>
        <p:grpSpPr>
          <a:xfrm>
            <a:off x="1113480" y="1832040"/>
            <a:ext cx="3533760" cy="1596960"/>
            <a:chOff x="1113480" y="1832040"/>
            <a:chExt cx="3533760" cy="1596960"/>
          </a:xfrm>
        </p:grpSpPr>
        <p:grpSp>
          <p:nvGrpSpPr>
            <p:cNvPr id="863" name="Group 5"/>
            <p:cNvGrpSpPr/>
            <p:nvPr/>
          </p:nvGrpSpPr>
          <p:grpSpPr>
            <a:xfrm>
              <a:off x="1113480" y="1832040"/>
              <a:ext cx="3533760" cy="1596960"/>
              <a:chOff x="1113480" y="1832040"/>
              <a:chExt cx="3533760" cy="1596960"/>
            </a:xfrm>
          </p:grpSpPr>
          <p:grpSp>
            <p:nvGrpSpPr>
              <p:cNvPr id="864" name="Group 6"/>
              <p:cNvGrpSpPr/>
              <p:nvPr/>
            </p:nvGrpSpPr>
            <p:grpSpPr>
              <a:xfrm>
                <a:off x="1113480" y="1832400"/>
                <a:ext cx="1609560" cy="1596600"/>
                <a:chOff x="1113480" y="1832400"/>
                <a:chExt cx="1609560" cy="1596600"/>
              </a:xfrm>
            </p:grpSpPr>
            <p:grpSp>
              <p:nvGrpSpPr>
                <p:cNvPr id="865" name="Group 7"/>
                <p:cNvGrpSpPr/>
                <p:nvPr/>
              </p:nvGrpSpPr>
              <p:grpSpPr>
                <a:xfrm>
                  <a:off x="1113480" y="1832400"/>
                  <a:ext cx="1609560" cy="1596600"/>
                  <a:chOff x="1113480" y="1832400"/>
                  <a:chExt cx="1609560" cy="1596600"/>
                </a:xfrm>
              </p:grpSpPr>
              <p:sp>
                <p:nvSpPr>
                  <p:cNvPr id="866" name="Arc 8"/>
                  <p:cNvSpPr/>
                  <p:nvPr/>
                </p:nvSpPr>
                <p:spPr>
                  <a:xfrm flipV="1" rot="5372400">
                    <a:off x="1678320" y="2218320"/>
                    <a:ext cx="1028160" cy="1052640"/>
                  </a:xfrm>
                  <a:prstGeom prst="pie">
                    <a:avLst/>
                  </a:prstGeom>
                  <a:noFill/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67" name="Group 9"/>
                  <p:cNvGrpSpPr/>
                  <p:nvPr/>
                </p:nvGrpSpPr>
                <p:grpSpPr>
                  <a:xfrm>
                    <a:off x="1113480" y="1832400"/>
                    <a:ext cx="1296720" cy="1596600"/>
                    <a:chOff x="1113480" y="1832400"/>
                    <a:chExt cx="1296720" cy="1596600"/>
                  </a:xfrm>
                </p:grpSpPr>
                <p:sp>
                  <p:nvSpPr>
                    <p:cNvPr id="868" name="Rectangle 10"/>
                    <p:cNvSpPr/>
                    <p:nvPr/>
                  </p:nvSpPr>
                  <p:spPr>
                    <a:xfrm flipH="1" rot="255000">
                      <a:off x="1972080" y="1854720"/>
                      <a:ext cx="430560" cy="7884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2040" bIns="320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69" name="Rectangle 11"/>
                    <p:cNvSpPr/>
                    <p:nvPr/>
                  </p:nvSpPr>
                  <p:spPr>
                    <a:xfrm flipH="1">
                      <a:off x="1426680" y="2877840"/>
                      <a:ext cx="430560" cy="7884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2040" bIns="320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70" name="Rectangle 12"/>
                    <p:cNvSpPr/>
                    <p:nvPr/>
                  </p:nvSpPr>
                  <p:spPr>
                    <a:xfrm flipH="1">
                      <a:off x="1378800" y="2720520"/>
                      <a:ext cx="525960" cy="784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1680" bIns="316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71" name="Rectangle 13"/>
                    <p:cNvSpPr/>
                    <p:nvPr/>
                  </p:nvSpPr>
                  <p:spPr>
                    <a:xfrm flipH="1" rot="924600">
                      <a:off x="1953360" y="2011680"/>
                      <a:ext cx="430200" cy="7884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2040" bIns="320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72" name="Rectangle 14"/>
                    <p:cNvSpPr/>
                    <p:nvPr/>
                  </p:nvSpPr>
                  <p:spPr>
                    <a:xfrm flipH="1" rot="20820000">
                      <a:off x="1186920" y="2282760"/>
                      <a:ext cx="430200" cy="784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1680" bIns="316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73" name="Rectangle 15"/>
                    <p:cNvSpPr/>
                    <p:nvPr/>
                  </p:nvSpPr>
                  <p:spPr>
                    <a:xfrm flipH="1" rot="21402600">
                      <a:off x="1114920" y="1844640"/>
                      <a:ext cx="430560" cy="78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1320" bIns="313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874" name="Group 16"/>
                    <p:cNvGrpSpPr/>
                    <p:nvPr/>
                  </p:nvGrpSpPr>
                  <p:grpSpPr>
                    <a:xfrm>
                      <a:off x="1425960" y="2995560"/>
                      <a:ext cx="430200" cy="433440"/>
                      <a:chOff x="1425960" y="2995560"/>
                      <a:chExt cx="430200" cy="433440"/>
                    </a:xfrm>
                  </p:grpSpPr>
                  <p:sp>
                    <p:nvSpPr>
                      <p:cNvPr id="875" name="Line 17"/>
                      <p:cNvSpPr/>
                      <p:nvPr/>
                    </p:nvSpPr>
                    <p:spPr>
                      <a:xfrm flipV="1">
                        <a:off x="1474560" y="2995560"/>
                        <a:ext cx="0" cy="433080"/>
                      </a:xfrm>
                      <a:prstGeom prst="line">
                        <a:avLst/>
                      </a:prstGeom>
                      <a:ln w="381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76" name="Rectangle 18"/>
                      <p:cNvSpPr/>
                      <p:nvPr/>
                    </p:nvSpPr>
                    <p:spPr>
                      <a:xfrm flipH="1" rot="10800000">
                        <a:off x="1425600" y="3350520"/>
                        <a:ext cx="430200" cy="78480"/>
                      </a:xfrm>
                      <a:prstGeom prst="rect">
                        <a:avLst/>
                      </a:prstGeom>
                      <a:noFill/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1680" bIns="3168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77" name="Rectangle 19"/>
                      <p:cNvSpPr/>
                      <p:nvPr/>
                    </p:nvSpPr>
                    <p:spPr>
                      <a:xfrm flipH="1" rot="10800000">
                        <a:off x="1425600" y="3192840"/>
                        <a:ext cx="430200" cy="78480"/>
                      </a:xfrm>
                      <a:prstGeom prst="rect">
                        <a:avLst/>
                      </a:prstGeom>
                      <a:noFill/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1680" bIns="3168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78" name="Rectangle 20"/>
                      <p:cNvSpPr/>
                      <p:nvPr/>
                    </p:nvSpPr>
                    <p:spPr>
                      <a:xfrm flipH="1" rot="10800000">
                        <a:off x="1425600" y="3034800"/>
                        <a:ext cx="430200" cy="78840"/>
                      </a:xfrm>
                      <a:prstGeom prst="rect">
                        <a:avLst/>
                      </a:prstGeom>
                      <a:noFill/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2040" bIns="3204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79" name="Line 21"/>
                      <p:cNvSpPr/>
                      <p:nvPr/>
                    </p:nvSpPr>
                    <p:spPr>
                      <a:xfrm flipV="1">
                        <a:off x="1805400" y="2995560"/>
                        <a:ext cx="0" cy="433080"/>
                      </a:xfrm>
                      <a:prstGeom prst="line">
                        <a:avLst/>
                      </a:prstGeom>
                      <a:ln w="381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880" name="Group 22"/>
                    <p:cNvGrpSpPr/>
                    <p:nvPr/>
                  </p:nvGrpSpPr>
                  <p:grpSpPr>
                    <a:xfrm>
                      <a:off x="1144440" y="1872720"/>
                      <a:ext cx="368640" cy="1163880"/>
                      <a:chOff x="1144440" y="1872720"/>
                      <a:chExt cx="368640" cy="1163880"/>
                    </a:xfrm>
                  </p:grpSpPr>
                  <p:sp>
                    <p:nvSpPr>
                      <p:cNvPr id="881" name="Arc 23"/>
                      <p:cNvSpPr/>
                      <p:nvPr/>
                    </p:nvSpPr>
                    <p:spPr>
                      <a:xfrm flipH="1" flipV="1" rot="16227600">
                        <a:off x="1023120" y="2576880"/>
                        <a:ext cx="581040" cy="334800"/>
                      </a:xfrm>
                      <a:prstGeom prst="pie">
                        <a:avLst/>
                      </a:prstGeom>
                      <a:noFill/>
                      <a:ln w="381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82" name="Arc 24"/>
                      <p:cNvSpPr/>
                      <p:nvPr/>
                    </p:nvSpPr>
                    <p:spPr>
                      <a:xfrm rot="16227600">
                        <a:off x="1052640" y="1996920"/>
                        <a:ext cx="581040" cy="334800"/>
                      </a:xfrm>
                      <a:prstGeom prst="pie">
                        <a:avLst/>
                      </a:prstGeom>
                      <a:noFill/>
                      <a:ln w="381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883" name="Arc 25"/>
                    <p:cNvSpPr/>
                    <p:nvPr/>
                  </p:nvSpPr>
                  <p:spPr>
                    <a:xfrm flipV="1" rot="5372400">
                      <a:off x="1815840" y="2410920"/>
                      <a:ext cx="580680" cy="603000"/>
                    </a:xfrm>
                    <a:prstGeom prst="pie">
                      <a:avLst/>
                    </a:prstGeom>
                    <a:noFill/>
                    <a:ln w="381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84" name="Arc 26"/>
                    <p:cNvSpPr/>
                    <p:nvPr/>
                  </p:nvSpPr>
                  <p:spPr>
                    <a:xfrm flipH="1" rot="5372400">
                      <a:off x="1762920" y="1837080"/>
                      <a:ext cx="581040" cy="602640"/>
                    </a:xfrm>
                    <a:prstGeom prst="pie">
                      <a:avLst/>
                    </a:prstGeom>
                    <a:noFill/>
                    <a:ln w="381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85" name="Arc 27"/>
                    <p:cNvSpPr/>
                    <p:nvPr/>
                  </p:nvSpPr>
                  <p:spPr>
                    <a:xfrm flipH="1" rot="5372400">
                      <a:off x="1432440" y="1647360"/>
                      <a:ext cx="383040" cy="798840"/>
                    </a:xfrm>
                    <a:prstGeom prst="pie">
                      <a:avLst/>
                    </a:prstGeom>
                    <a:noFill/>
                    <a:ln w="381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86" name="Arc 28"/>
                    <p:cNvSpPr/>
                    <p:nvPr/>
                  </p:nvSpPr>
                  <p:spPr>
                    <a:xfrm rot="16227600">
                      <a:off x="1326960" y="2011680"/>
                      <a:ext cx="629640" cy="334080"/>
                    </a:xfrm>
                    <a:prstGeom prst="pie">
                      <a:avLst/>
                    </a:prstGeom>
                    <a:noFill/>
                    <a:ln w="381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87" name="Arc 29"/>
                    <p:cNvSpPr/>
                    <p:nvPr/>
                  </p:nvSpPr>
                  <p:spPr>
                    <a:xfrm flipH="1" flipV="1" rot="16227600">
                      <a:off x="1380600" y="2679480"/>
                      <a:ext cx="539280" cy="236520"/>
                    </a:xfrm>
                    <a:prstGeom prst="pie">
                      <a:avLst/>
                    </a:prstGeom>
                    <a:noFill/>
                    <a:ln w="2844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88" name="Arc 30"/>
                    <p:cNvSpPr/>
                    <p:nvPr/>
                  </p:nvSpPr>
                  <p:spPr>
                    <a:xfrm flipV="1" rot="5372400">
                      <a:off x="1448640" y="2559960"/>
                      <a:ext cx="542160" cy="476280"/>
                    </a:xfrm>
                    <a:prstGeom prst="pie">
                      <a:avLst/>
                    </a:prstGeom>
                    <a:noFill/>
                    <a:ln w="2844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89" name="Rectangle 31"/>
                    <p:cNvSpPr/>
                    <p:nvPr/>
                  </p:nvSpPr>
                  <p:spPr>
                    <a:xfrm flipH="1" rot="21285600">
                      <a:off x="1126440" y="1982520"/>
                      <a:ext cx="430560" cy="784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1680" bIns="316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90" name="Rectangle 32"/>
                    <p:cNvSpPr/>
                    <p:nvPr/>
                  </p:nvSpPr>
                  <p:spPr>
                    <a:xfrm flipH="1" rot="21132000">
                      <a:off x="1146960" y="2129760"/>
                      <a:ext cx="430560" cy="784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1680" bIns="316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91" name="Rectangle 33"/>
                    <p:cNvSpPr/>
                    <p:nvPr/>
                  </p:nvSpPr>
                  <p:spPr>
                    <a:xfrm flipH="1" rot="1372200">
                      <a:off x="1871640" y="2169000"/>
                      <a:ext cx="430560" cy="784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1680" bIns="316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92" name="Rectangle 34"/>
                    <p:cNvSpPr/>
                    <p:nvPr/>
                  </p:nvSpPr>
                  <p:spPr>
                    <a:xfrm flipH="1" rot="2076600">
                      <a:off x="1775160" y="2304360"/>
                      <a:ext cx="430560" cy="784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1680" bIns="316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93" name="Freeform 35"/>
                    <p:cNvSpPr/>
                    <p:nvPr/>
                  </p:nvSpPr>
                  <p:spPr>
                    <a:xfrm flipH="1">
                      <a:off x="1187280" y="2326680"/>
                      <a:ext cx="909000" cy="31500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894" name="Line 36"/>
                <p:cNvSpPr/>
                <p:nvPr/>
              </p:nvSpPr>
              <p:spPr>
                <a:xfrm flipV="1">
                  <a:off x="1647000" y="2907360"/>
                  <a:ext cx="0" cy="393840"/>
                </a:xfrm>
                <a:prstGeom prst="line">
                  <a:avLst/>
                </a:prstGeom>
                <a:ln w="38160">
                  <a:solidFill>
                    <a:srgbClr val="333399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5" name="Line 37"/>
                <p:cNvSpPr/>
                <p:nvPr/>
              </p:nvSpPr>
              <p:spPr>
                <a:xfrm flipV="1">
                  <a:off x="1810080" y="2277360"/>
                  <a:ext cx="191160" cy="275400"/>
                </a:xfrm>
                <a:prstGeom prst="line">
                  <a:avLst/>
                </a:prstGeom>
                <a:ln w="38160">
                  <a:solidFill>
                    <a:srgbClr val="333399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96" name="Group 38"/>
              <p:cNvGrpSpPr/>
              <p:nvPr/>
            </p:nvGrpSpPr>
            <p:grpSpPr>
              <a:xfrm>
                <a:off x="2996640" y="1832040"/>
                <a:ext cx="1650600" cy="1596600"/>
                <a:chOff x="2996640" y="1832040"/>
                <a:chExt cx="1650600" cy="1596600"/>
              </a:xfrm>
            </p:grpSpPr>
            <p:grpSp>
              <p:nvGrpSpPr>
                <p:cNvPr id="897" name="Group 39"/>
                <p:cNvGrpSpPr/>
                <p:nvPr/>
              </p:nvGrpSpPr>
              <p:grpSpPr>
                <a:xfrm>
                  <a:off x="2996640" y="1832040"/>
                  <a:ext cx="1650600" cy="1596600"/>
                  <a:chOff x="2996640" y="1832040"/>
                  <a:chExt cx="1650600" cy="1596600"/>
                </a:xfrm>
              </p:grpSpPr>
              <p:sp>
                <p:nvSpPr>
                  <p:cNvPr id="898" name="Arc 40"/>
                  <p:cNvSpPr/>
                  <p:nvPr/>
                </p:nvSpPr>
                <p:spPr>
                  <a:xfrm flipV="1" rot="5372400">
                    <a:off x="3589200" y="2206080"/>
                    <a:ext cx="1028160" cy="1079280"/>
                  </a:xfrm>
                  <a:prstGeom prst="pie">
                    <a:avLst/>
                  </a:prstGeom>
                  <a:noFill/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99" name="Group 41"/>
                  <p:cNvGrpSpPr/>
                  <p:nvPr/>
                </p:nvGrpSpPr>
                <p:grpSpPr>
                  <a:xfrm>
                    <a:off x="2996640" y="1832040"/>
                    <a:ext cx="1329480" cy="1596600"/>
                    <a:chOff x="2996640" y="1832040"/>
                    <a:chExt cx="1329480" cy="1596600"/>
                  </a:xfrm>
                </p:grpSpPr>
                <p:sp>
                  <p:nvSpPr>
                    <p:cNvPr id="900" name="Rectangle 42"/>
                    <p:cNvSpPr/>
                    <p:nvPr/>
                  </p:nvSpPr>
                  <p:spPr>
                    <a:xfrm flipH="1" rot="255000">
                      <a:off x="3877200" y="1854720"/>
                      <a:ext cx="441360" cy="7884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2040" bIns="320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01" name="Rectangle 43"/>
                    <p:cNvSpPr/>
                    <p:nvPr/>
                  </p:nvSpPr>
                  <p:spPr>
                    <a:xfrm flipH="1">
                      <a:off x="3318120" y="2877840"/>
                      <a:ext cx="441360" cy="784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1680" bIns="316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02" name="Rectangle 44"/>
                    <p:cNvSpPr/>
                    <p:nvPr/>
                  </p:nvSpPr>
                  <p:spPr>
                    <a:xfrm flipH="1">
                      <a:off x="3268800" y="2720160"/>
                      <a:ext cx="538920" cy="7884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2040" bIns="320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03" name="Rectangle 45"/>
                    <p:cNvSpPr/>
                    <p:nvPr/>
                  </p:nvSpPr>
                  <p:spPr>
                    <a:xfrm flipH="1" rot="924600">
                      <a:off x="3857400" y="2011680"/>
                      <a:ext cx="441360" cy="784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1680" bIns="316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04" name="Rectangle 46"/>
                    <p:cNvSpPr/>
                    <p:nvPr/>
                  </p:nvSpPr>
                  <p:spPr>
                    <a:xfrm flipH="1" rot="20820000">
                      <a:off x="3072240" y="2283120"/>
                      <a:ext cx="441360" cy="784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1680" bIns="316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05" name="Rectangle 47"/>
                    <p:cNvSpPr/>
                    <p:nvPr/>
                  </p:nvSpPr>
                  <p:spPr>
                    <a:xfrm flipH="1" rot="21402600">
                      <a:off x="2998080" y="1844280"/>
                      <a:ext cx="441360" cy="784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1680" bIns="316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906" name="Group 48"/>
                    <p:cNvGrpSpPr/>
                    <p:nvPr/>
                  </p:nvGrpSpPr>
                  <p:grpSpPr>
                    <a:xfrm>
                      <a:off x="3318120" y="2995920"/>
                      <a:ext cx="441360" cy="432720"/>
                      <a:chOff x="3318120" y="2995920"/>
                      <a:chExt cx="441360" cy="432720"/>
                    </a:xfrm>
                  </p:grpSpPr>
                  <p:sp>
                    <p:nvSpPr>
                      <p:cNvPr id="907" name="Line 49"/>
                      <p:cNvSpPr/>
                      <p:nvPr/>
                    </p:nvSpPr>
                    <p:spPr>
                      <a:xfrm flipV="1">
                        <a:off x="3367080" y="2995920"/>
                        <a:ext cx="0" cy="432720"/>
                      </a:xfrm>
                      <a:prstGeom prst="line">
                        <a:avLst/>
                      </a:prstGeom>
                      <a:ln w="381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908" name="Rectangle 50"/>
                      <p:cNvSpPr/>
                      <p:nvPr/>
                    </p:nvSpPr>
                    <p:spPr>
                      <a:xfrm flipH="1" rot="10800000">
                        <a:off x="3318120" y="3350160"/>
                        <a:ext cx="441360" cy="78480"/>
                      </a:xfrm>
                      <a:prstGeom prst="rect">
                        <a:avLst/>
                      </a:prstGeom>
                      <a:noFill/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1680" bIns="3168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909" name="Rectangle 51"/>
                      <p:cNvSpPr/>
                      <p:nvPr/>
                    </p:nvSpPr>
                    <p:spPr>
                      <a:xfrm flipH="1" rot="10800000">
                        <a:off x="3318120" y="3192120"/>
                        <a:ext cx="441360" cy="78840"/>
                      </a:xfrm>
                      <a:prstGeom prst="rect">
                        <a:avLst/>
                      </a:prstGeom>
                      <a:noFill/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2040" bIns="3204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910" name="Rectangle 52"/>
                      <p:cNvSpPr/>
                      <p:nvPr/>
                    </p:nvSpPr>
                    <p:spPr>
                      <a:xfrm flipH="1" rot="10800000">
                        <a:off x="3318120" y="3035160"/>
                        <a:ext cx="441360" cy="78480"/>
                      </a:xfrm>
                      <a:prstGeom prst="rect">
                        <a:avLst/>
                      </a:prstGeom>
                      <a:noFill/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1680" bIns="3168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911" name="Line 53"/>
                      <p:cNvSpPr/>
                      <p:nvPr/>
                    </p:nvSpPr>
                    <p:spPr>
                      <a:xfrm flipV="1">
                        <a:off x="3706920" y="2995920"/>
                        <a:ext cx="0" cy="432720"/>
                      </a:xfrm>
                      <a:prstGeom prst="line">
                        <a:avLst/>
                      </a:prstGeom>
                      <a:ln w="381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912" name="Group 54"/>
                    <p:cNvGrpSpPr/>
                    <p:nvPr/>
                  </p:nvGrpSpPr>
                  <p:grpSpPr>
                    <a:xfrm>
                      <a:off x="3028320" y="1872360"/>
                      <a:ext cx="377640" cy="1163880"/>
                      <a:chOff x="3028320" y="1872360"/>
                      <a:chExt cx="377640" cy="1163880"/>
                    </a:xfrm>
                  </p:grpSpPr>
                  <p:sp>
                    <p:nvSpPr>
                      <p:cNvPr id="913" name="Arc 55"/>
                      <p:cNvSpPr/>
                      <p:nvPr/>
                    </p:nvSpPr>
                    <p:spPr>
                      <a:xfrm flipH="1" flipV="1" rot="16227600">
                        <a:off x="2911680" y="2572200"/>
                        <a:ext cx="580680" cy="343080"/>
                      </a:xfrm>
                      <a:prstGeom prst="pie">
                        <a:avLst/>
                      </a:prstGeom>
                      <a:noFill/>
                      <a:ln w="381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914" name="Arc 56"/>
                      <p:cNvSpPr/>
                      <p:nvPr/>
                    </p:nvSpPr>
                    <p:spPr>
                      <a:xfrm rot="16227600">
                        <a:off x="2941560" y="1992240"/>
                        <a:ext cx="580680" cy="343080"/>
                      </a:xfrm>
                      <a:prstGeom prst="pie">
                        <a:avLst/>
                      </a:prstGeom>
                      <a:noFill/>
                      <a:ln w="381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915" name="Arc 57"/>
                    <p:cNvSpPr/>
                    <p:nvPr/>
                  </p:nvSpPr>
                  <p:spPr>
                    <a:xfrm flipV="1" rot="5372400">
                      <a:off x="3723840" y="2403720"/>
                      <a:ext cx="581040" cy="618120"/>
                    </a:xfrm>
                    <a:prstGeom prst="pie">
                      <a:avLst/>
                    </a:prstGeom>
                    <a:noFill/>
                    <a:ln w="381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16" name="Arc 58"/>
                    <p:cNvSpPr/>
                    <p:nvPr/>
                  </p:nvSpPr>
                  <p:spPr>
                    <a:xfrm flipH="1" rot="5372400">
                      <a:off x="3670560" y="1828800"/>
                      <a:ext cx="580680" cy="618120"/>
                    </a:xfrm>
                    <a:prstGeom prst="pie">
                      <a:avLst/>
                    </a:prstGeom>
                    <a:noFill/>
                    <a:ln w="381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17" name="Arc 59"/>
                    <p:cNvSpPr/>
                    <p:nvPr/>
                  </p:nvSpPr>
                  <p:spPr>
                    <a:xfrm flipH="1" rot="5372400">
                      <a:off x="3328560" y="1636920"/>
                      <a:ext cx="382680" cy="819360"/>
                    </a:xfrm>
                    <a:prstGeom prst="pie">
                      <a:avLst/>
                    </a:prstGeom>
                    <a:noFill/>
                    <a:ln w="381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18" name="Arc 60"/>
                    <p:cNvSpPr/>
                    <p:nvPr/>
                  </p:nvSpPr>
                  <p:spPr>
                    <a:xfrm rot="16227600">
                      <a:off x="3223440" y="2007360"/>
                      <a:ext cx="629640" cy="342720"/>
                    </a:xfrm>
                    <a:prstGeom prst="pie">
                      <a:avLst/>
                    </a:prstGeom>
                    <a:noFill/>
                    <a:ln w="381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19" name="Rectangle 61"/>
                    <p:cNvSpPr/>
                    <p:nvPr/>
                  </p:nvSpPr>
                  <p:spPr>
                    <a:xfrm flipH="1" rot="21285600">
                      <a:off x="3010680" y="1982160"/>
                      <a:ext cx="441360" cy="784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1680" bIns="316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20" name="Rectangle 62"/>
                    <p:cNvSpPr/>
                    <p:nvPr/>
                  </p:nvSpPr>
                  <p:spPr>
                    <a:xfrm flipH="1" rot="21132000">
                      <a:off x="3031200" y="2129400"/>
                      <a:ext cx="441360" cy="7884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2040" bIns="320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21" name="Rectangle 63"/>
                    <p:cNvSpPr/>
                    <p:nvPr/>
                  </p:nvSpPr>
                  <p:spPr>
                    <a:xfrm flipH="1" rot="1372200">
                      <a:off x="3774600" y="2169360"/>
                      <a:ext cx="441360" cy="78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1320" bIns="313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22" name="Rectangle 64"/>
                    <p:cNvSpPr/>
                    <p:nvPr/>
                  </p:nvSpPr>
                  <p:spPr>
                    <a:xfrm flipH="1" rot="2076600">
                      <a:off x="3674520" y="2303640"/>
                      <a:ext cx="441360" cy="784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1680" bIns="316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23" name="Freeform 65"/>
                    <p:cNvSpPr/>
                    <p:nvPr/>
                  </p:nvSpPr>
                  <p:spPr>
                    <a:xfrm flipH="1">
                      <a:off x="3072240" y="2326680"/>
                      <a:ext cx="932040" cy="31464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24" name="Arc 66"/>
                  <p:cNvSpPr/>
                  <p:nvPr/>
                </p:nvSpPr>
                <p:spPr>
                  <a:xfrm flipV="1" rot="5236200">
                    <a:off x="3352680" y="2580120"/>
                    <a:ext cx="552240" cy="440280"/>
                  </a:xfrm>
                  <a:prstGeom prst="pie">
                    <a:avLst/>
                  </a:pr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5" name="Arc 67"/>
                  <p:cNvSpPr/>
                  <p:nvPr/>
                </p:nvSpPr>
                <p:spPr>
                  <a:xfrm flipH="1" flipV="1" rot="16092000">
                    <a:off x="3302640" y="2671560"/>
                    <a:ext cx="538920" cy="243720"/>
                  </a:xfrm>
                  <a:prstGeom prst="pie">
                    <a:avLst/>
                  </a:pr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26" name="Line 68"/>
                <p:cNvSpPr/>
                <p:nvPr/>
              </p:nvSpPr>
              <p:spPr>
                <a:xfrm flipH="1" flipV="1">
                  <a:off x="3269160" y="2248200"/>
                  <a:ext cx="146520" cy="314640"/>
                </a:xfrm>
                <a:prstGeom prst="line">
                  <a:avLst/>
                </a:prstGeom>
                <a:ln w="38160">
                  <a:solidFill>
                    <a:srgbClr val="333399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7" name="Line 69"/>
                <p:cNvSpPr/>
                <p:nvPr/>
              </p:nvSpPr>
              <p:spPr>
                <a:xfrm flipV="1">
                  <a:off x="3535560" y="2907000"/>
                  <a:ext cx="0" cy="393840"/>
                </a:xfrm>
                <a:prstGeom prst="line">
                  <a:avLst/>
                </a:prstGeom>
                <a:ln w="38160">
                  <a:solidFill>
                    <a:srgbClr val="333399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28" name="Text Box 70"/>
            <p:cNvSpPr/>
            <p:nvPr/>
          </p:nvSpPr>
          <p:spPr>
            <a:xfrm>
              <a:off x="2158200" y="2533320"/>
              <a:ext cx="881640" cy="48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Arial"/>
                </a:rPr>
                <a:t>Empalme de vía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9" name="Group 71"/>
          <p:cNvGrpSpPr/>
          <p:nvPr/>
        </p:nvGrpSpPr>
        <p:grpSpPr>
          <a:xfrm>
            <a:off x="3132000" y="4005360"/>
            <a:ext cx="4336920" cy="1832040"/>
            <a:chOff x="3132000" y="4005360"/>
            <a:chExt cx="4336920" cy="1832040"/>
          </a:xfrm>
        </p:grpSpPr>
        <p:grpSp>
          <p:nvGrpSpPr>
            <p:cNvPr id="930" name="Group 72"/>
            <p:cNvGrpSpPr/>
            <p:nvPr/>
          </p:nvGrpSpPr>
          <p:grpSpPr>
            <a:xfrm>
              <a:off x="3673080" y="4005360"/>
              <a:ext cx="3795840" cy="1832040"/>
              <a:chOff x="3673080" y="4005360"/>
              <a:chExt cx="3795840" cy="1832040"/>
            </a:xfrm>
          </p:grpSpPr>
          <p:grpSp>
            <p:nvGrpSpPr>
              <p:cNvPr id="931" name="Group 73"/>
              <p:cNvGrpSpPr/>
              <p:nvPr/>
            </p:nvGrpSpPr>
            <p:grpSpPr>
              <a:xfrm>
                <a:off x="3673080" y="4005360"/>
                <a:ext cx="3171600" cy="1767240"/>
                <a:chOff x="3673080" y="4005360"/>
                <a:chExt cx="3171600" cy="1767240"/>
              </a:xfrm>
            </p:grpSpPr>
            <p:sp>
              <p:nvSpPr>
                <p:cNvPr id="932" name="Freeform 74"/>
                <p:cNvSpPr/>
                <p:nvPr/>
              </p:nvSpPr>
              <p:spPr>
                <a:xfrm>
                  <a:off x="3685680" y="5245920"/>
                  <a:ext cx="1976760" cy="526680"/>
                </a:xfrm>
                <a:prstGeom prst="pie">
                  <a:avLst/>
                </a:prstGeom>
                <a:noFill/>
                <a:ln w="57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3" name="Freeform 75"/>
                <p:cNvSpPr/>
                <p:nvPr/>
              </p:nvSpPr>
              <p:spPr>
                <a:xfrm>
                  <a:off x="5487120" y="4599360"/>
                  <a:ext cx="1317960" cy="572760"/>
                </a:xfrm>
                <a:prstGeom prst="pie">
                  <a:avLst/>
                </a:prstGeom>
                <a:noFill/>
                <a:ln w="57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4" name="Freeform 76"/>
                <p:cNvSpPr/>
                <p:nvPr/>
              </p:nvSpPr>
              <p:spPr>
                <a:xfrm>
                  <a:off x="4229280" y="4180320"/>
                  <a:ext cx="1076040" cy="330480"/>
                </a:xfrm>
                <a:prstGeom prst="pie">
                  <a:avLst/>
                </a:prstGeom>
                <a:noFill/>
                <a:ln w="57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5" name="Freeform 77"/>
                <p:cNvSpPr/>
                <p:nvPr/>
              </p:nvSpPr>
              <p:spPr>
                <a:xfrm>
                  <a:off x="3673080" y="4005360"/>
                  <a:ext cx="749520" cy="483120"/>
                </a:xfrm>
                <a:prstGeom prst="pie">
                  <a:avLst/>
                </a:prstGeom>
                <a:noFill/>
                <a:ln w="57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6" name="Freeform 78"/>
                <p:cNvSpPr/>
                <p:nvPr/>
              </p:nvSpPr>
              <p:spPr>
                <a:xfrm>
                  <a:off x="3733200" y="4568400"/>
                  <a:ext cx="1343880" cy="592200"/>
                </a:xfrm>
                <a:prstGeom prst="pie">
                  <a:avLst/>
                </a:prstGeom>
                <a:noFill/>
                <a:ln w="57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7" name="Freeform 79"/>
                <p:cNvSpPr/>
                <p:nvPr/>
              </p:nvSpPr>
              <p:spPr>
                <a:xfrm>
                  <a:off x="4915440" y="4012920"/>
                  <a:ext cx="1918080" cy="505800"/>
                </a:xfrm>
                <a:prstGeom prst="pie">
                  <a:avLst/>
                </a:prstGeom>
                <a:noFill/>
                <a:ln w="57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8" name="Freeform 80"/>
                <p:cNvSpPr/>
                <p:nvPr/>
              </p:nvSpPr>
              <p:spPr>
                <a:xfrm rot="10800000">
                  <a:off x="5247360" y="5256000"/>
                  <a:ext cx="1095480" cy="343440"/>
                </a:xfrm>
                <a:prstGeom prst="pie">
                  <a:avLst/>
                </a:prstGeom>
                <a:noFill/>
                <a:ln w="57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9" name="Freeform 81"/>
                <p:cNvSpPr/>
                <p:nvPr/>
              </p:nvSpPr>
              <p:spPr>
                <a:xfrm>
                  <a:off x="6095160" y="5244840"/>
                  <a:ext cx="749520" cy="505080"/>
                </a:xfrm>
                <a:prstGeom prst="pie">
                  <a:avLst/>
                </a:prstGeom>
                <a:noFill/>
                <a:ln w="57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0" name="Freeform 82"/>
                <p:cNvSpPr/>
                <p:nvPr/>
              </p:nvSpPr>
              <p:spPr>
                <a:xfrm>
                  <a:off x="5571000" y="4935240"/>
                  <a:ext cx="381600" cy="243720"/>
                </a:xfrm>
                <a:prstGeom prst="pie">
                  <a:avLst/>
                </a:prstGeom>
                <a:noFill/>
                <a:ln w="57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1" name="Freeform 83"/>
                <p:cNvSpPr/>
                <p:nvPr/>
              </p:nvSpPr>
              <p:spPr>
                <a:xfrm rot="10800000">
                  <a:off x="4610520" y="4583160"/>
                  <a:ext cx="381600" cy="244440"/>
                </a:xfrm>
                <a:prstGeom prst="pie">
                  <a:avLst/>
                </a:prstGeom>
                <a:noFill/>
                <a:ln w="57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2" name="Line 84"/>
                <p:cNvSpPr/>
                <p:nvPr/>
              </p:nvSpPr>
              <p:spPr>
                <a:xfrm>
                  <a:off x="4806360" y="5163480"/>
                  <a:ext cx="28836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3" name="Line 85"/>
                <p:cNvSpPr/>
                <p:nvPr/>
              </p:nvSpPr>
              <p:spPr>
                <a:xfrm>
                  <a:off x="5482080" y="4596840"/>
                  <a:ext cx="287640" cy="36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44" name="Oval 86"/>
              <p:cNvSpPr/>
              <p:nvPr/>
            </p:nvSpPr>
            <p:spPr>
              <a:xfrm>
                <a:off x="5484600" y="4665600"/>
                <a:ext cx="1172520" cy="1171800"/>
              </a:xfrm>
              <a:prstGeom prst="ellipse">
                <a:avLst/>
              </a:prstGeom>
              <a:noFill/>
              <a:ln w="12600">
                <a:solidFill>
                  <a:srgbClr val="3333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5" name="Text Box 87"/>
              <p:cNvSpPr/>
              <p:nvPr/>
            </p:nvSpPr>
            <p:spPr>
              <a:xfrm>
                <a:off x="6567120" y="4635000"/>
                <a:ext cx="901800" cy="36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CL" sz="1200" spc="-1" strike="noStrike">
                    <a:solidFill>
                      <a:srgbClr val="000000"/>
                    </a:solidFill>
                    <a:latin typeface="Arial"/>
                  </a:rPr>
                  <a:t>Sapo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6" name="Line 88"/>
              <p:cNvSpPr/>
              <p:nvPr/>
            </p:nvSpPr>
            <p:spPr>
              <a:xfrm flipH="1">
                <a:off x="6477120" y="4755600"/>
                <a:ext cx="360720" cy="9000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47" name="Text Box 89"/>
            <p:cNvSpPr/>
            <p:nvPr/>
          </p:nvSpPr>
          <p:spPr>
            <a:xfrm>
              <a:off x="3132000" y="4807800"/>
              <a:ext cx="1262880" cy="45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Arial"/>
                </a:rPr>
                <a:t>Cruce de vía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8" name="Text Box 90"/>
          <p:cNvSpPr/>
          <p:nvPr/>
        </p:nvSpPr>
        <p:spPr>
          <a:xfrm>
            <a:off x="5003640" y="1989000"/>
            <a:ext cx="2089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Para el empalme de vías se utilizan aguj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Text Box 91"/>
          <p:cNvSpPr/>
          <p:nvPr/>
        </p:nvSpPr>
        <p:spPr>
          <a:xfrm>
            <a:off x="826920" y="4581360"/>
            <a:ext cx="2089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Para el cruce de vías se utilizan sap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3300"/>
                </a:solidFill>
                <a:latin typeface="Arial"/>
              </a:rPr>
              <a:t>Locomotor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1" name="Picture 4" descr="kiruna6"/>
          <p:cNvPicPr/>
          <p:nvPr/>
        </p:nvPicPr>
        <p:blipFill>
          <a:blip r:embed="rId1"/>
          <a:stretch/>
        </p:blipFill>
        <p:spPr>
          <a:xfrm>
            <a:off x="468360" y="1557360"/>
            <a:ext cx="3672000" cy="2335320"/>
          </a:xfrm>
          <a:prstGeom prst="rect">
            <a:avLst/>
          </a:prstGeom>
          <a:ln w="0">
            <a:noFill/>
          </a:ln>
        </p:spPr>
      </p:pic>
      <p:pic>
        <p:nvPicPr>
          <p:cNvPr id="952" name="Picture 6" descr="ELÉCTRICO1"/>
          <p:cNvPicPr/>
          <p:nvPr/>
        </p:nvPicPr>
        <p:blipFill>
          <a:blip r:embed="rId2"/>
          <a:stretch/>
        </p:blipFill>
        <p:spPr>
          <a:xfrm>
            <a:off x="4788000" y="3933720"/>
            <a:ext cx="3591000" cy="2581560"/>
          </a:xfrm>
          <a:prstGeom prst="rect">
            <a:avLst/>
          </a:prstGeom>
          <a:ln w="0">
            <a:noFill/>
          </a:ln>
        </p:spPr>
      </p:pic>
      <p:sp>
        <p:nvSpPr>
          <p:cNvPr id="953" name="Text Box 8"/>
          <p:cNvSpPr/>
          <p:nvPr/>
        </p:nvSpPr>
        <p:spPr>
          <a:xfrm>
            <a:off x="684360" y="4437000"/>
            <a:ext cx="280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3300"/>
                </a:solidFill>
                <a:latin typeface="Arial"/>
              </a:rPr>
              <a:t>Conteni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Descripción del sistema de ferrocarr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Descripción general de compone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Carros y sistemas de descarga/descarg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Vias y rie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mpalmes y cru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Locomotor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Diseño sistema de ferrocarr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Automatización sistema de ferrocarr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899640" y="476280"/>
            <a:ext cx="5464440" cy="96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Arial"/>
              </a:rPr>
              <a:t>Locomotor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755640" y="170028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30000"/>
              </a:lnSpc>
              <a:spcBef>
                <a:spcPts val="451"/>
              </a:spcBef>
              <a:buClr>
                <a:srgbClr val="00007d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Las locomotoras van equipadas con dos motores eléctricos, cuya posición es paralela a los ejes de las ruedas motrices, efectuándose la transmisión por medio de un sistema de piñones y engranaj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30000"/>
              </a:lnSpc>
              <a:spcBef>
                <a:spcPts val="451"/>
              </a:spcBef>
              <a:buClr>
                <a:srgbClr val="00007d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Los motores se montan en una suspensión elástica, con lo que se consigue un trabajo sin vibracio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30000"/>
              </a:lnSpc>
              <a:spcBef>
                <a:spcPts val="451"/>
              </a:spcBef>
              <a:buClr>
                <a:srgbClr val="00007d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ara poner en movimiento el convoy, los motores se acoplan en serie, con lo que se consigue un gran torque de partid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30000"/>
              </a:lnSpc>
              <a:spcBef>
                <a:spcPts val="451"/>
              </a:spcBef>
              <a:buClr>
                <a:srgbClr val="00007d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Una vez en marcha, cuando se ha vencido la inercia del reposo, los motores se acoplan en paralelo con lo cual se obtiene una mayor velocida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3300"/>
                </a:solidFill>
                <a:latin typeface="Arial"/>
              </a:rPr>
              <a:t>Tipos de locomotor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7" name=""/>
          <p:cNvGraphicFramePr/>
          <p:nvPr/>
        </p:nvGraphicFramePr>
        <p:xfrm>
          <a:off x="611280" y="1413000"/>
          <a:ext cx="8229600" cy="46018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comotoras Diesel-Eléctric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comotoras Eléctric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buClr>
                          <a:srgbClr val="00007d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nor poder de arrastre/pes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00007d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0-3600 h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00007d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ponibilidad 8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00007d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nor costo capi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00007d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da útil 15-20 añ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buClr>
                          <a:srgbClr val="00007d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enen mas poder de arrastre /pes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00007d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yor adhe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00007d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-6 ej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00007d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-50 kV, 60 H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00007d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00 H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00007d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yor costo capi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00007d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yor vida util (dobl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00007d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yor disponibilidad (95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00007d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nor costo mantención (1/2 a ¼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00007d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hay almacenaje de Diesel y problemas de congelamiento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00007d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ración es limpia y sin contaminaci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Arial"/>
              </a:rPr>
              <a:t>Circuito de Corriente y Conducción</a:t>
            </a:r>
            <a:br>
              <a:rPr sz="2800"/>
            </a:br>
            <a:r>
              <a:rPr b="0" lang="es-ES_tradnl" sz="2800" spc="-1" strike="noStrike">
                <a:solidFill>
                  <a:srgbClr val="ff3300"/>
                </a:solidFill>
                <a:latin typeface="Arial"/>
              </a:rPr>
              <a:t> de la Electric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 circulación de C.C. para accionar los motores de la locomotora se efectúa por dos conductores.  El del polo positivo corresponde a un cable aéreo y el negativo son los rieles que se unen entre ellos por los cables de cob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be estudiarse la pérdida de voltaje en la transmisión de corri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No debe permitirse una pérdida de voltaje superior al 5% en la líne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609480" y="54936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Arial"/>
              </a:rPr>
              <a:t>Toma de Corri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539280" y="1844640"/>
            <a:ext cx="80629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 algn="just">
              <a:lnSpc>
                <a:spcPct val="130000"/>
              </a:lnSpc>
              <a:spcBef>
                <a:spcPts val="601"/>
              </a:spcBef>
              <a:buClr>
                <a:srgbClr val="00007d"/>
              </a:buClr>
              <a:buSzPct val="150000"/>
              <a:buFont typeface="Arial"/>
              <a:buChar char="•"/>
              <a:tabLst>
                <a:tab algn="l" pos="762120"/>
                <a:tab algn="l" pos="1238400"/>
                <a:tab algn="l" pos="1333440"/>
                <a:tab algn="l" pos="2000160"/>
                <a:tab algn="l" pos="2666880"/>
                <a:tab algn="l" pos="3333600"/>
                <a:tab algn="l" pos="4000680"/>
                <a:tab algn="l" pos="4667400"/>
                <a:tab algn="l" pos="5334120"/>
                <a:tab algn="l" pos="6000840"/>
                <a:tab algn="l" pos="6667560"/>
                <a:tab algn="l" pos="7334280"/>
                <a:tab algn="l" pos="8001000"/>
                <a:tab algn="l" pos="8667720"/>
                <a:tab algn="l" pos="9334440"/>
                <a:tab algn="l" pos="1000116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 toma de corriente para una locomotora desde el cable aéreo se realiza por medio de un “colector de corriente” o “toma de corriente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 algn="just">
              <a:lnSpc>
                <a:spcPct val="130000"/>
              </a:lnSpc>
              <a:spcBef>
                <a:spcPts val="601"/>
              </a:spcBef>
              <a:buClr>
                <a:srgbClr val="00007d"/>
              </a:buClr>
              <a:buSzPct val="150000"/>
              <a:buFont typeface="Arial"/>
              <a:buChar char="•"/>
              <a:tabLst>
                <a:tab algn="l" pos="762120"/>
                <a:tab algn="l" pos="1238400"/>
                <a:tab algn="l" pos="1333440"/>
                <a:tab algn="l" pos="2000160"/>
                <a:tab algn="l" pos="2666880"/>
                <a:tab algn="l" pos="3333600"/>
                <a:tab algn="l" pos="4000680"/>
                <a:tab algn="l" pos="4667400"/>
                <a:tab algn="l" pos="5334120"/>
                <a:tab algn="l" pos="6000840"/>
                <a:tab algn="l" pos="6667560"/>
                <a:tab algn="l" pos="7334280"/>
                <a:tab algn="l" pos="8001000"/>
                <a:tab algn="l" pos="8667720"/>
                <a:tab algn="l" pos="9334440"/>
                <a:tab algn="l" pos="1000116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polo negativo se hace llegar al motor por medio de las ruedas que lo toma desde los rie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 algn="just">
              <a:lnSpc>
                <a:spcPct val="130000"/>
              </a:lnSpc>
              <a:spcBef>
                <a:spcPts val="601"/>
              </a:spcBef>
              <a:buClr>
                <a:srgbClr val="00007d"/>
              </a:buClr>
              <a:buSzPct val="150000"/>
              <a:buFont typeface="Arial"/>
              <a:buChar char="•"/>
              <a:tabLst>
                <a:tab algn="l" pos="762120"/>
                <a:tab algn="l" pos="1238400"/>
                <a:tab algn="l" pos="1333440"/>
                <a:tab algn="l" pos="2000160"/>
                <a:tab algn="l" pos="2666880"/>
                <a:tab algn="l" pos="3333600"/>
                <a:tab algn="l" pos="4000680"/>
                <a:tab algn="l" pos="4667400"/>
                <a:tab algn="l" pos="5334120"/>
                <a:tab algn="l" pos="6000840"/>
                <a:tab algn="l" pos="6667560"/>
                <a:tab algn="l" pos="7334280"/>
                <a:tab algn="l" pos="8001000"/>
                <a:tab algn="l" pos="8667720"/>
                <a:tab algn="l" pos="9334440"/>
                <a:tab algn="l" pos="1000116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colector toma la corriente desde el trolley por medio de :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lu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0" algn="just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238400"/>
                <a:tab algn="l" pos="1333440"/>
                <a:tab algn="l" pos="2000160"/>
                <a:tab algn="l" pos="2666880"/>
                <a:tab algn="l" pos="3333600"/>
                <a:tab algn="l" pos="4000680"/>
                <a:tab algn="l" pos="4667400"/>
                <a:tab algn="l" pos="5334120"/>
                <a:tab algn="l" pos="6000840"/>
                <a:tab algn="l" pos="6667560"/>
                <a:tab algn="l" pos="7334280"/>
                <a:tab algn="l" pos="8001000"/>
                <a:tab algn="l" pos="8667720"/>
                <a:tab algn="l" pos="9334440"/>
                <a:tab algn="l" pos="1000116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antógraf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0" algn="just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238400"/>
                <a:tab algn="l" pos="1333440"/>
                <a:tab algn="l" pos="2000160"/>
                <a:tab algn="l" pos="2666880"/>
                <a:tab algn="l" pos="3333600"/>
                <a:tab algn="l" pos="4000680"/>
                <a:tab algn="l" pos="4667400"/>
                <a:tab algn="l" pos="5334120"/>
                <a:tab algn="l" pos="6000840"/>
                <a:tab algn="l" pos="6667560"/>
                <a:tab algn="l" pos="7334280"/>
                <a:tab algn="l" pos="8001000"/>
                <a:tab algn="l" pos="8667720"/>
                <a:tab algn="l" pos="9334440"/>
                <a:tab algn="l" pos="1000116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Bobina desenrrollador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26600" indent="0" algn="just">
              <a:lnSpc>
                <a:spcPct val="130000"/>
              </a:lnSpc>
              <a:spcBef>
                <a:spcPts val="550"/>
              </a:spcBef>
              <a:buNone/>
              <a:tabLst>
                <a:tab algn="l" pos="0"/>
                <a:tab algn="l" pos="762120"/>
                <a:tab algn="l" pos="1238400"/>
                <a:tab algn="l" pos="1333440"/>
                <a:tab algn="l" pos="2000160"/>
                <a:tab algn="l" pos="2666880"/>
                <a:tab algn="l" pos="3333600"/>
                <a:tab algn="l" pos="4000680"/>
                <a:tab algn="l" pos="4667400"/>
                <a:tab algn="l" pos="5334120"/>
                <a:tab algn="l" pos="6000840"/>
                <a:tab algn="l" pos="6667560"/>
                <a:tab algn="l" pos="7334280"/>
                <a:tab algn="l" pos="8001000"/>
                <a:tab algn="l" pos="8667720"/>
                <a:tab algn="l" pos="9334440"/>
                <a:tab algn="l" pos="10001160"/>
                <a:tab algn="l" pos="1066788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4320" indent="0" algn="just">
              <a:spcBef>
                <a:spcPts val="601"/>
              </a:spcBef>
              <a:buNone/>
              <a:tabLst>
                <a:tab algn="l" pos="0"/>
                <a:tab algn="l" pos="762120"/>
                <a:tab algn="l" pos="1238400"/>
                <a:tab algn="l" pos="1333440"/>
                <a:tab algn="l" pos="2000160"/>
                <a:tab algn="l" pos="2666880"/>
                <a:tab algn="l" pos="3333600"/>
                <a:tab algn="l" pos="4000680"/>
                <a:tab algn="l" pos="4667400"/>
                <a:tab algn="l" pos="5334120"/>
                <a:tab algn="l" pos="6000840"/>
                <a:tab algn="l" pos="6667560"/>
                <a:tab algn="l" pos="7334280"/>
                <a:tab algn="l" pos="8001000"/>
                <a:tab algn="l" pos="8667720"/>
                <a:tab algn="l" pos="9334440"/>
                <a:tab algn="l" pos="1000116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0" algn="just">
              <a:spcBef>
                <a:spcPts val="601"/>
              </a:spcBef>
              <a:buNone/>
              <a:tabLst>
                <a:tab algn="l" pos="0"/>
                <a:tab algn="l" pos="762120"/>
                <a:tab algn="l" pos="1238400"/>
                <a:tab algn="l" pos="1333440"/>
                <a:tab algn="l" pos="2000160"/>
                <a:tab algn="l" pos="2666880"/>
                <a:tab algn="l" pos="3333600"/>
                <a:tab algn="l" pos="4000680"/>
                <a:tab algn="l" pos="4667400"/>
                <a:tab algn="l" pos="5334120"/>
                <a:tab algn="l" pos="6000840"/>
                <a:tab algn="l" pos="6667560"/>
                <a:tab algn="l" pos="7334280"/>
                <a:tab algn="l" pos="8001000"/>
                <a:tab algn="l" pos="8667720"/>
                <a:tab algn="l" pos="9334440"/>
                <a:tab algn="l" pos="1000116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0" algn="just">
              <a:spcBef>
                <a:spcPts val="601"/>
              </a:spcBef>
              <a:buNone/>
              <a:tabLst>
                <a:tab algn="l" pos="0"/>
                <a:tab algn="l" pos="762120"/>
                <a:tab algn="l" pos="1238400"/>
                <a:tab algn="l" pos="1333440"/>
                <a:tab algn="l" pos="2000160"/>
                <a:tab algn="l" pos="2666880"/>
                <a:tab algn="l" pos="3333600"/>
                <a:tab algn="l" pos="4000680"/>
                <a:tab algn="l" pos="4667400"/>
                <a:tab algn="l" pos="5334120"/>
                <a:tab algn="l" pos="6000840"/>
                <a:tab algn="l" pos="6667560"/>
                <a:tab algn="l" pos="7334280"/>
                <a:tab algn="l" pos="8001000"/>
                <a:tab algn="l" pos="8667720"/>
                <a:tab algn="l" pos="9334440"/>
                <a:tab algn="l" pos="1000116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238400"/>
                <a:tab algn="l" pos="1333440"/>
                <a:tab algn="l" pos="2000160"/>
                <a:tab algn="l" pos="2666880"/>
                <a:tab algn="l" pos="3333600"/>
                <a:tab algn="l" pos="4000680"/>
                <a:tab algn="l" pos="4667400"/>
                <a:tab algn="l" pos="5334120"/>
                <a:tab algn="l" pos="6000840"/>
                <a:tab algn="l" pos="6667560"/>
                <a:tab algn="l" pos="7334280"/>
                <a:tab algn="l" pos="8001000"/>
                <a:tab algn="l" pos="8667720"/>
                <a:tab algn="l" pos="9334440"/>
                <a:tab algn="l" pos="1000116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antógrafo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238400"/>
                <a:tab algn="l" pos="1333440"/>
                <a:tab algn="l" pos="2000160"/>
                <a:tab algn="l" pos="2666880"/>
                <a:tab algn="l" pos="3333600"/>
                <a:tab algn="l" pos="4000680"/>
                <a:tab algn="l" pos="4667400"/>
                <a:tab algn="l" pos="5334120"/>
                <a:tab algn="l" pos="6000840"/>
                <a:tab algn="l" pos="6667560"/>
                <a:tab algn="l" pos="7334280"/>
                <a:tab algn="l" pos="8001000"/>
                <a:tab algn="l" pos="8667720"/>
                <a:tab algn="l" pos="9334440"/>
                <a:tab algn="l" pos="1000116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 lo más generaliz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130000"/>
              </a:lnSpc>
              <a:spcBef>
                <a:spcPts val="601"/>
              </a:spcBef>
              <a:buClr>
                <a:srgbClr val="00007d"/>
              </a:buClr>
              <a:buSzPct val="150000"/>
              <a:buFont typeface="Arial"/>
              <a:buChar char="•"/>
              <a:tabLst>
                <a:tab algn="l" pos="762120"/>
                <a:tab algn="l" pos="1238400"/>
                <a:tab algn="l" pos="1333440"/>
                <a:tab algn="l" pos="2000160"/>
                <a:tab algn="l" pos="2666880"/>
                <a:tab algn="l" pos="3333600"/>
                <a:tab algn="l" pos="4000680"/>
                <a:tab algn="l" pos="4667400"/>
                <a:tab algn="l" pos="5334120"/>
                <a:tab algn="l" pos="6000840"/>
                <a:tab algn="l" pos="6667560"/>
                <a:tab algn="l" pos="7334280"/>
                <a:tab algn="l" pos="8001000"/>
                <a:tab algn="l" pos="8667720"/>
                <a:tab algn="l" pos="9334440"/>
                <a:tab algn="l" pos="1000116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 un paralelógramo articulado que ejerce una presión adecuada sobre el trolley y la parte que va en contacto con el cable aéreo corresponde a dos barras paralelas que corren perpendicular a és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150000"/>
              <a:buFont typeface="Arial"/>
              <a:buChar char="•"/>
              <a:tabLst>
                <a:tab algn="l" pos="762120"/>
                <a:tab algn="l" pos="1238400"/>
                <a:tab algn="l" pos="1333440"/>
                <a:tab algn="l" pos="2000160"/>
                <a:tab algn="l" pos="2666880"/>
                <a:tab algn="l" pos="3333600"/>
                <a:tab algn="l" pos="4000680"/>
                <a:tab algn="l" pos="4667400"/>
                <a:tab algn="l" pos="5334120"/>
                <a:tab algn="l" pos="6000840"/>
                <a:tab algn="l" pos="6667560"/>
                <a:tab algn="l" pos="7334280"/>
                <a:tab algn="l" pos="8001000"/>
                <a:tab algn="l" pos="8667720"/>
                <a:tab algn="l" pos="9334440"/>
                <a:tab algn="l" pos="1000116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e puede subir y bajar desde la cabina del conduct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spcBef>
                <a:spcPts val="601"/>
              </a:spcBef>
              <a:buNone/>
              <a:tabLst>
                <a:tab algn="l" pos="0"/>
                <a:tab algn="l" pos="762120"/>
                <a:tab algn="l" pos="1238400"/>
                <a:tab algn="l" pos="1333440"/>
                <a:tab algn="l" pos="2000160"/>
                <a:tab algn="l" pos="2666880"/>
                <a:tab algn="l" pos="3333600"/>
                <a:tab algn="l" pos="4000680"/>
                <a:tab algn="l" pos="4667400"/>
                <a:tab algn="l" pos="5334120"/>
                <a:tab algn="l" pos="6000840"/>
                <a:tab algn="l" pos="6667560"/>
                <a:tab algn="l" pos="7334280"/>
                <a:tab algn="l" pos="8001000"/>
                <a:tab algn="l" pos="8667720"/>
                <a:tab algn="l" pos="9334440"/>
                <a:tab algn="l" pos="1000116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spcBef>
                <a:spcPts val="601"/>
              </a:spcBef>
              <a:buNone/>
              <a:tabLst>
                <a:tab algn="l" pos="0"/>
                <a:tab algn="l" pos="762120"/>
                <a:tab algn="l" pos="1238400"/>
                <a:tab algn="l" pos="1333440"/>
                <a:tab algn="l" pos="2000160"/>
                <a:tab algn="l" pos="2666880"/>
                <a:tab algn="l" pos="3333600"/>
                <a:tab algn="l" pos="4000680"/>
                <a:tab algn="l" pos="4667400"/>
                <a:tab algn="l" pos="5334120"/>
                <a:tab algn="l" pos="6000840"/>
                <a:tab algn="l" pos="6667560"/>
                <a:tab algn="l" pos="7334280"/>
                <a:tab algn="l" pos="8001000"/>
                <a:tab algn="l" pos="8667720"/>
                <a:tab algn="l" pos="9334440"/>
                <a:tab algn="l" pos="1000116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Rectangle 4"/>
          <p:cNvSpPr/>
          <p:nvPr/>
        </p:nvSpPr>
        <p:spPr>
          <a:xfrm>
            <a:off x="609480" y="549360"/>
            <a:ext cx="7772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Arial Black"/>
              </a:rPr>
              <a:t>Toma de Corri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687240" y="42696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Arial"/>
              </a:rPr>
              <a:t>Fuentes de Energía de Corriente Continu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238400"/>
                <a:tab algn="l" pos="1333440"/>
                <a:tab algn="l" pos="2000160"/>
                <a:tab algn="l" pos="2666880"/>
                <a:tab algn="l" pos="3333600"/>
                <a:tab algn="l" pos="4000680"/>
                <a:tab algn="l" pos="4667400"/>
                <a:tab algn="l" pos="5334120"/>
                <a:tab algn="l" pos="6000840"/>
                <a:tab algn="l" pos="6667560"/>
                <a:tab algn="l" pos="7334280"/>
                <a:tab algn="l" pos="8001000"/>
                <a:tab algn="l" pos="8667720"/>
                <a:tab algn="l" pos="9334440"/>
                <a:tab algn="l" pos="1000116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150000"/>
              <a:buFont typeface="Arial"/>
              <a:buChar char="•"/>
              <a:tabLst>
                <a:tab algn="l" pos="762120"/>
                <a:tab algn="l" pos="1238400"/>
                <a:tab algn="l" pos="1333440"/>
                <a:tab algn="l" pos="2000160"/>
                <a:tab algn="l" pos="2666880"/>
                <a:tab algn="l" pos="3333600"/>
                <a:tab algn="l" pos="4000680"/>
                <a:tab algn="l" pos="4667400"/>
                <a:tab algn="l" pos="5334120"/>
                <a:tab algn="l" pos="6000840"/>
                <a:tab algn="l" pos="6667560"/>
                <a:tab algn="l" pos="7334280"/>
                <a:tab algn="l" pos="8001000"/>
                <a:tab algn="l" pos="8667720"/>
                <a:tab algn="l" pos="9334440"/>
                <a:tab algn="l" pos="1000116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ara evitar importantes pérdidas de voltaje se lleva corriente alterna trifásica hasta las estaciones de alimentación y allí se transforman en corriente continua, con un rectificador estátic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33520"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762120"/>
                <a:tab algn="l" pos="1238400"/>
                <a:tab algn="l" pos="1333440"/>
                <a:tab algn="l" pos="2000160"/>
                <a:tab algn="l" pos="2666880"/>
                <a:tab algn="l" pos="3333600"/>
                <a:tab algn="l" pos="4000680"/>
                <a:tab algn="l" pos="4667400"/>
                <a:tab algn="l" pos="5334120"/>
                <a:tab algn="l" pos="6000840"/>
                <a:tab algn="l" pos="6667560"/>
                <a:tab algn="l" pos="7334280"/>
                <a:tab algn="l" pos="8001000"/>
                <a:tab algn="l" pos="8667720"/>
                <a:tab algn="l" pos="9334440"/>
                <a:tab algn="l" pos="1000116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33520" algn="just">
              <a:lnSpc>
                <a:spcPct val="11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Monotype Sorts" charset="2"/>
              <a:buChar char=""/>
              <a:tabLst>
                <a:tab algn="l" pos="762120"/>
                <a:tab algn="l" pos="1238400"/>
                <a:tab algn="l" pos="1333440"/>
                <a:tab algn="l" pos="2000160"/>
                <a:tab algn="l" pos="2666880"/>
                <a:tab algn="l" pos="3333600"/>
                <a:tab algn="l" pos="4000680"/>
                <a:tab algn="l" pos="4667400"/>
                <a:tab algn="l" pos="5334120"/>
                <a:tab algn="l" pos="6000840"/>
                <a:tab algn="l" pos="6667560"/>
                <a:tab algn="l" pos="7334280"/>
                <a:tab algn="l" pos="8001000"/>
                <a:tab algn="l" pos="8667720"/>
                <a:tab algn="l" pos="9334440"/>
                <a:tab algn="l" pos="1000116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ueden ser de mercurio o de selen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762120"/>
                <a:tab algn="l" pos="1238400"/>
                <a:tab algn="l" pos="1333440"/>
                <a:tab algn="l" pos="2000160"/>
                <a:tab algn="l" pos="2666880"/>
                <a:tab algn="l" pos="3333600"/>
                <a:tab algn="l" pos="4000680"/>
                <a:tab algn="l" pos="4667400"/>
                <a:tab algn="l" pos="5334120"/>
                <a:tab algn="l" pos="6000840"/>
                <a:tab algn="l" pos="6667560"/>
                <a:tab algn="l" pos="7334280"/>
                <a:tab algn="l" pos="8001000"/>
                <a:tab algn="l" pos="8667720"/>
                <a:tab algn="l" pos="9334440"/>
                <a:tab algn="l" pos="1000116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238400"/>
                <a:tab algn="l" pos="1333440"/>
                <a:tab algn="l" pos="2000160"/>
                <a:tab algn="l" pos="2666880"/>
                <a:tab algn="l" pos="3333600"/>
                <a:tab algn="l" pos="4000680"/>
                <a:tab algn="l" pos="4667400"/>
                <a:tab algn="l" pos="5334120"/>
                <a:tab algn="l" pos="6000840"/>
                <a:tab algn="l" pos="6667560"/>
                <a:tab algn="l" pos="7334280"/>
                <a:tab algn="l" pos="8001000"/>
                <a:tab algn="l" pos="8667720"/>
                <a:tab algn="l" pos="9334440"/>
                <a:tab algn="l" pos="1000116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238400"/>
                <a:tab algn="l" pos="1333440"/>
                <a:tab algn="l" pos="2000160"/>
                <a:tab algn="l" pos="2666880"/>
                <a:tab algn="l" pos="3333600"/>
                <a:tab algn="l" pos="4000680"/>
                <a:tab algn="l" pos="4667400"/>
                <a:tab algn="l" pos="5334120"/>
                <a:tab algn="l" pos="6000840"/>
                <a:tab algn="l" pos="6667560"/>
                <a:tab algn="l" pos="7334280"/>
                <a:tab algn="l" pos="8001000"/>
                <a:tab algn="l" pos="8667720"/>
                <a:tab algn="l" pos="9334440"/>
                <a:tab algn="l" pos="1000116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760320" y="661680"/>
            <a:ext cx="7772400" cy="463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Arial"/>
              </a:rPr>
              <a:t>Riesgos del Uso de Trolle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685800" y="14130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762120"/>
                <a:tab algn="l" pos="1238400"/>
                <a:tab algn="l" pos="1333440"/>
                <a:tab algn="l" pos="2000160"/>
                <a:tab algn="l" pos="2666880"/>
                <a:tab algn="l" pos="3333600"/>
                <a:tab algn="l" pos="4000680"/>
                <a:tab algn="l" pos="4667400"/>
                <a:tab algn="l" pos="5334120"/>
                <a:tab algn="l" pos="6000840"/>
                <a:tab algn="l" pos="6667560"/>
                <a:tab algn="l" pos="7334280"/>
                <a:tab algn="l" pos="8001000"/>
                <a:tab algn="l" pos="8667720"/>
                <a:tab algn="l" pos="9334440"/>
                <a:tab algn="l" pos="1000116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150000"/>
              <a:buFont typeface="Arial"/>
              <a:buChar char="•"/>
              <a:tabLst>
                <a:tab algn="l" pos="762120"/>
                <a:tab algn="l" pos="1238400"/>
                <a:tab algn="l" pos="1333440"/>
                <a:tab algn="l" pos="2000160"/>
                <a:tab algn="l" pos="2666880"/>
                <a:tab algn="l" pos="3333600"/>
                <a:tab algn="l" pos="4000680"/>
                <a:tab algn="l" pos="4667400"/>
                <a:tab algn="l" pos="5334120"/>
                <a:tab algn="l" pos="6000840"/>
                <a:tab algn="l" pos="6667560"/>
                <a:tab algn="l" pos="7334280"/>
                <a:tab algn="l" pos="8001000"/>
                <a:tab algn="l" pos="8667720"/>
                <a:tab algn="l" pos="9334440"/>
                <a:tab algn="l" pos="1000116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a producción de chispas es inevita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33520" algn="just">
              <a:lnSpc>
                <a:spcPct val="130000"/>
              </a:lnSpc>
              <a:spcBef>
                <a:spcPts val="575"/>
              </a:spcBef>
              <a:buClr>
                <a:srgbClr val="9999cc"/>
              </a:buClr>
              <a:buSzPct val="80000"/>
              <a:buFont typeface="Monotype Sorts" charset="2"/>
              <a:buChar char=""/>
              <a:tabLst>
                <a:tab algn="l" pos="762120"/>
                <a:tab algn="l" pos="1238400"/>
                <a:tab algn="l" pos="1333440"/>
                <a:tab algn="l" pos="2000160"/>
                <a:tab algn="l" pos="2666880"/>
                <a:tab algn="l" pos="3333600"/>
                <a:tab algn="l" pos="4000680"/>
                <a:tab algn="l" pos="4667400"/>
                <a:tab algn="l" pos="5334120"/>
                <a:tab algn="l" pos="6000840"/>
                <a:tab algn="l" pos="6667560"/>
                <a:tab algn="l" pos="7334280"/>
                <a:tab algn="l" pos="8001000"/>
                <a:tab algn="l" pos="8667720"/>
                <a:tab algn="l" pos="9334440"/>
                <a:tab algn="l" pos="10001160"/>
                <a:tab algn="l" pos="1066788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Arial"/>
              </a:rPr>
              <a:t>Inflamación y explosiones de grisú en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inas</a:t>
            </a:r>
            <a:r>
              <a:rPr b="0" lang="es-ES_tradnl" sz="2300" spc="-1" strike="noStrike">
                <a:solidFill>
                  <a:srgbClr val="000000"/>
                </a:solidFill>
                <a:latin typeface="Arial"/>
              </a:rPr>
              <a:t> de carbón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533520" algn="just">
              <a:lnSpc>
                <a:spcPct val="130000"/>
              </a:lnSpc>
              <a:spcBef>
                <a:spcPts val="575"/>
              </a:spcBef>
              <a:buClr>
                <a:srgbClr val="9999cc"/>
              </a:buClr>
              <a:buSzPct val="80000"/>
              <a:buFont typeface="Monotype Sorts" charset="2"/>
              <a:buChar char=""/>
              <a:tabLst>
                <a:tab algn="l" pos="762120"/>
                <a:tab algn="l" pos="1238400"/>
                <a:tab algn="l" pos="1333440"/>
                <a:tab algn="l" pos="2000160"/>
                <a:tab algn="l" pos="2666880"/>
                <a:tab algn="l" pos="3333600"/>
                <a:tab algn="l" pos="4000680"/>
                <a:tab algn="l" pos="4667400"/>
                <a:tab algn="l" pos="5334120"/>
                <a:tab algn="l" pos="6000840"/>
                <a:tab algn="l" pos="6667560"/>
                <a:tab algn="l" pos="7334280"/>
                <a:tab algn="l" pos="8001000"/>
                <a:tab algn="l" pos="8667720"/>
                <a:tab algn="l" pos="9334440"/>
                <a:tab algn="l" pos="10001160"/>
                <a:tab algn="l" pos="1066788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Arial"/>
              </a:rPr>
              <a:t>Incendio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533520" algn="just">
              <a:lnSpc>
                <a:spcPct val="130000"/>
              </a:lnSpc>
              <a:spcBef>
                <a:spcPts val="575"/>
              </a:spcBef>
              <a:buClr>
                <a:srgbClr val="9999cc"/>
              </a:buClr>
              <a:buSzPct val="80000"/>
              <a:buFont typeface="Monotype Sorts" charset="2"/>
              <a:buChar char=""/>
              <a:tabLst>
                <a:tab algn="l" pos="762120"/>
                <a:tab algn="l" pos="1238400"/>
                <a:tab algn="l" pos="1333440"/>
                <a:tab algn="l" pos="2000160"/>
                <a:tab algn="l" pos="2666880"/>
                <a:tab algn="l" pos="3333600"/>
                <a:tab algn="l" pos="4000680"/>
                <a:tab algn="l" pos="4667400"/>
                <a:tab algn="l" pos="5334120"/>
                <a:tab algn="l" pos="6000840"/>
                <a:tab algn="l" pos="6667560"/>
                <a:tab algn="l" pos="7334280"/>
                <a:tab algn="l" pos="8001000"/>
                <a:tab algn="l" pos="8667720"/>
                <a:tab algn="l" pos="9334440"/>
                <a:tab algn="l" pos="10001160"/>
                <a:tab algn="l" pos="1066788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Arial"/>
              </a:rPr>
              <a:t>electrocucion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533520" algn="just">
              <a:lnSpc>
                <a:spcPct val="130000"/>
              </a:lnSpc>
              <a:spcBef>
                <a:spcPts val="575"/>
              </a:spcBef>
              <a:buClr>
                <a:srgbClr val="9999cc"/>
              </a:buClr>
              <a:buSzPct val="80000"/>
              <a:buFont typeface="Monotype Sorts" charset="2"/>
              <a:buChar char=""/>
              <a:tabLst>
                <a:tab algn="l" pos="762120"/>
                <a:tab algn="l" pos="1238400"/>
                <a:tab algn="l" pos="1333440"/>
                <a:tab algn="l" pos="2000160"/>
                <a:tab algn="l" pos="2666880"/>
                <a:tab algn="l" pos="3333600"/>
                <a:tab algn="l" pos="4000680"/>
                <a:tab algn="l" pos="4667400"/>
                <a:tab algn="l" pos="5334120"/>
                <a:tab algn="l" pos="6000840"/>
                <a:tab algn="l" pos="6667560"/>
                <a:tab algn="l" pos="7334280"/>
                <a:tab algn="l" pos="8001000"/>
                <a:tab algn="l" pos="8667720"/>
                <a:tab algn="l" pos="9334440"/>
                <a:tab algn="l" pos="10001160"/>
                <a:tab algn="l" pos="1066788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Arial"/>
              </a:rPr>
              <a:t>Corriente vagabunda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238400"/>
                <a:tab algn="l" pos="1333440"/>
                <a:tab algn="l" pos="2000160"/>
                <a:tab algn="l" pos="2666880"/>
                <a:tab algn="l" pos="3333600"/>
                <a:tab algn="l" pos="4000680"/>
                <a:tab algn="l" pos="4667400"/>
                <a:tab algn="l" pos="5334120"/>
                <a:tab algn="l" pos="6000840"/>
                <a:tab algn="l" pos="6667560"/>
                <a:tab algn="l" pos="7334280"/>
                <a:tab algn="l" pos="8001000"/>
                <a:tab algn="l" pos="8667720"/>
                <a:tab algn="l" pos="9334440"/>
                <a:tab algn="l" pos="1000116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ffffff"/>
                </a:solidFill>
                <a:latin typeface="Arial"/>
              </a:rPr>
              <a:t>Elementos de Diseño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609480" y="54936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Arial"/>
              </a:rPr>
              <a:t>Diseño de locomotor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Char char="•"/>
              <a:tabLst>
                <a:tab algn="l" pos="1076400"/>
                <a:tab algn="l" pos="1333440"/>
                <a:tab algn="l" pos="2000160"/>
                <a:tab algn="l" pos="2666880"/>
                <a:tab algn="l" pos="3333600"/>
                <a:tab algn="l" pos="4000680"/>
                <a:tab algn="l" pos="4667400"/>
                <a:tab algn="l" pos="5334120"/>
                <a:tab algn="l" pos="6000840"/>
                <a:tab algn="l" pos="6667560"/>
                <a:tab algn="l" pos="7334280"/>
                <a:tab algn="l" pos="8001000"/>
                <a:tab algn="l" pos="8667720"/>
                <a:tab algn="l" pos="9334440"/>
                <a:tab algn="l" pos="1000116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diseño de locomotoras esta dado por definir el tonelaje de la locomotora (ton) y la potencia requeri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1076400"/>
                <a:tab algn="l" pos="1333440"/>
                <a:tab algn="l" pos="2000160"/>
                <a:tab algn="l" pos="2666880"/>
                <a:tab algn="l" pos="3333600"/>
                <a:tab algn="l" pos="4000680"/>
                <a:tab algn="l" pos="4667400"/>
                <a:tab algn="l" pos="5334120"/>
                <a:tab algn="l" pos="6000840"/>
                <a:tab algn="l" pos="6667560"/>
                <a:tab algn="l" pos="7334280"/>
                <a:tab algn="l" pos="8001000"/>
                <a:tab algn="l" pos="8667720"/>
                <a:tab algn="l" pos="9334440"/>
                <a:tab algn="l" pos="1000116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Char char="•"/>
              <a:tabLst>
                <a:tab algn="l" pos="1076400"/>
                <a:tab algn="l" pos="1333440"/>
                <a:tab algn="l" pos="2000160"/>
                <a:tab algn="l" pos="2666880"/>
                <a:tab algn="l" pos="3333600"/>
                <a:tab algn="l" pos="4000680"/>
                <a:tab algn="l" pos="4667400"/>
                <a:tab algn="l" pos="5334120"/>
                <a:tab algn="l" pos="6000840"/>
                <a:tab algn="l" pos="6667560"/>
                <a:tab algn="l" pos="7334280"/>
                <a:tab algn="l" pos="8001000"/>
                <a:tab algn="l" pos="8667720"/>
                <a:tab algn="l" pos="9334440"/>
                <a:tab algn="l" pos="1000116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e deben calcular las fuerzas que actúan contrarios y a favor de la dirección de movimiento de la locomotora y carros (llenos y vací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Fuerzas en un tr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3" name="Picture 4" descr=""/>
          <p:cNvPicPr/>
          <p:nvPr/>
        </p:nvPicPr>
        <p:blipFill>
          <a:blip r:embed="rId1"/>
          <a:stretch/>
        </p:blipFill>
        <p:spPr>
          <a:xfrm>
            <a:off x="971640" y="2133720"/>
            <a:ext cx="7127640" cy="30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3300"/>
                </a:solidFill>
                <a:latin typeface="Arial"/>
              </a:rPr>
              <a:t>Sistema de transporte por ferrocarr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38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80000"/>
              </a:lnSpc>
              <a:spcBef>
                <a:spcPts val="3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Este sistema se emplea para el transporte horizontal  (0-2% pendiente ) en minas de alta capacidad productiva, distancias de transporte considerab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3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A diferencia de camiones tiene un camino fij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3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Compite con correa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3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Se ha usado como transporte principal e intermed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3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 u="sng">
                <a:solidFill>
                  <a:srgbClr val="000000"/>
                </a:solidFill>
                <a:uFillTx/>
                <a:latin typeface="Arial"/>
              </a:rPr>
              <a:t>Ventajas del sistema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3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Alta productivi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3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Confiabili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3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Seguri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3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Bajo costo operacional y de manten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3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Es posible usar el sistema como transporte de mineral y como suplidor de insum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3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 u="sng">
                <a:solidFill>
                  <a:srgbClr val="000000"/>
                </a:solidFill>
                <a:uFillTx/>
                <a:latin typeface="Arial"/>
              </a:rPr>
              <a:t>Desventajas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3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Alta inversión inic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3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Altos costos de instal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3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Se requieren talleres de mantención especializad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3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Flexibili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3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 u="sng">
                <a:solidFill>
                  <a:srgbClr val="000000"/>
                </a:solidFill>
                <a:uFillTx/>
                <a:latin typeface="Arial"/>
              </a:rPr>
              <a:t>Tipos de ferrocarri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3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Eléctrico o Dies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3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Sistemas automos (sin conductor) (e.g El Teniente, LKAB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3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Ejemplos de uso de trenes en faenas subterránea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lnSpc>
                <a:spcPct val="80000"/>
              </a:lnSpc>
              <a:spcBef>
                <a:spcPts val="3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Mina El Teniente (Chile) – Esmeralda 400 t- Tte 8 1200 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lnSpc>
                <a:spcPct val="80000"/>
              </a:lnSpc>
              <a:spcBef>
                <a:spcPts val="3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Mina LKAB (Suecia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lnSpc>
                <a:spcPct val="80000"/>
              </a:lnSpc>
              <a:spcBef>
                <a:spcPts val="3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Henderson (USA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/>
          </p:nvPr>
        </p:nvSpPr>
        <p:spPr>
          <a:xfrm>
            <a:off x="755640" y="1844280"/>
            <a:ext cx="7772400" cy="23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762120"/>
                <a:tab algn="l" pos="1238400"/>
                <a:tab algn="l" pos="1333440"/>
                <a:tab algn="l" pos="2000160"/>
                <a:tab algn="l" pos="2666880"/>
                <a:tab algn="l" pos="3333600"/>
                <a:tab algn="l" pos="4000680"/>
                <a:tab algn="l" pos="4667400"/>
                <a:tab algn="l" pos="5334120"/>
                <a:tab algn="l" pos="6000840"/>
                <a:tab algn="l" pos="6667560"/>
                <a:tab algn="l" pos="7334280"/>
                <a:tab algn="l" pos="8001000"/>
                <a:tab algn="l" pos="8667720"/>
                <a:tab algn="l" pos="9334440"/>
                <a:tab algn="l" pos="1000116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sistencia a la rodadu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762120"/>
                <a:tab algn="l" pos="1238400"/>
                <a:tab algn="l" pos="1333440"/>
                <a:tab algn="l" pos="2000160"/>
                <a:tab algn="l" pos="2666880"/>
                <a:tab algn="l" pos="3333600"/>
                <a:tab algn="l" pos="4000680"/>
                <a:tab algn="l" pos="4667400"/>
                <a:tab algn="l" pos="5334120"/>
                <a:tab algn="l" pos="6000840"/>
                <a:tab algn="l" pos="6667560"/>
                <a:tab algn="l" pos="7334280"/>
                <a:tab algn="l" pos="8001000"/>
                <a:tab algn="l" pos="8667720"/>
                <a:tab algn="l" pos="9334440"/>
                <a:tab algn="l" pos="1000116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sistencia a la curvatu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762120"/>
                <a:tab algn="l" pos="1238400"/>
                <a:tab algn="l" pos="1333440"/>
                <a:tab algn="l" pos="2000160"/>
                <a:tab algn="l" pos="2666880"/>
                <a:tab algn="l" pos="3333600"/>
                <a:tab algn="l" pos="4000680"/>
                <a:tab algn="l" pos="4667400"/>
                <a:tab algn="l" pos="5334120"/>
                <a:tab algn="l" pos="6000840"/>
                <a:tab algn="l" pos="6667560"/>
                <a:tab algn="l" pos="7334280"/>
                <a:tab algn="l" pos="8001000"/>
                <a:tab algn="l" pos="8667720"/>
                <a:tab algn="l" pos="9334440"/>
                <a:tab algn="l" pos="1000116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sistencia a la pendi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762120"/>
                <a:tab algn="l" pos="1238400"/>
                <a:tab algn="l" pos="1333440"/>
                <a:tab algn="l" pos="2000160"/>
                <a:tab algn="l" pos="2666880"/>
                <a:tab algn="l" pos="3333600"/>
                <a:tab algn="l" pos="4000680"/>
                <a:tab algn="l" pos="4667400"/>
                <a:tab algn="l" pos="5334120"/>
                <a:tab algn="l" pos="6000840"/>
                <a:tab algn="l" pos="6667560"/>
                <a:tab algn="l" pos="7334280"/>
                <a:tab algn="l" pos="8001000"/>
                <a:tab algn="l" pos="8667720"/>
                <a:tab algn="l" pos="9334440"/>
                <a:tab algn="l" pos="1000116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sistencia a la aceleración o fren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762120"/>
                <a:tab algn="l" pos="1238400"/>
                <a:tab algn="l" pos="1333440"/>
                <a:tab algn="l" pos="2000160"/>
                <a:tab algn="l" pos="2666880"/>
                <a:tab algn="l" pos="3333600"/>
                <a:tab algn="l" pos="4000680"/>
                <a:tab algn="l" pos="4667400"/>
                <a:tab algn="l" pos="5334120"/>
                <a:tab algn="l" pos="6000840"/>
                <a:tab algn="l" pos="6667560"/>
                <a:tab algn="l" pos="7334280"/>
                <a:tab algn="l" pos="8001000"/>
                <a:tab algn="l" pos="8667720"/>
                <a:tab algn="l" pos="9334440"/>
                <a:tab algn="l" pos="1000116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Rectangle 4"/>
          <p:cNvSpPr/>
          <p:nvPr/>
        </p:nvSpPr>
        <p:spPr>
          <a:xfrm>
            <a:off x="826920" y="836640"/>
            <a:ext cx="7772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3300"/>
                </a:solidFill>
                <a:latin typeface="Arial Unicode MS"/>
              </a:rPr>
              <a:t>Esfuerzos a Venc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684360" y="54936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Arial"/>
              </a:rPr>
              <a:t>Resistencia Friccional o a la Rodadura (R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30592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75240" indent="0" algn="just">
              <a:spcBef>
                <a:spcPts val="550"/>
              </a:spcBef>
              <a:buNone/>
              <a:tabLst>
                <a:tab algn="l" pos="0"/>
                <a:tab algn="l" pos="762120"/>
                <a:tab algn="l" pos="1238400"/>
                <a:tab algn="l" pos="1333440"/>
                <a:tab algn="l" pos="2000160"/>
                <a:tab algn="l" pos="2666880"/>
                <a:tab algn="l" pos="3333600"/>
                <a:tab algn="l" pos="4000680"/>
                <a:tab algn="l" pos="4667400"/>
                <a:tab algn="l" pos="5334120"/>
                <a:tab algn="l" pos="6000840"/>
                <a:tab algn="l" pos="6667560"/>
                <a:tab algn="l" pos="7334280"/>
                <a:tab algn="l" pos="8001000"/>
                <a:tab algn="l" pos="8667720"/>
                <a:tab algn="l" pos="9334440"/>
                <a:tab algn="l" pos="10001160"/>
                <a:tab algn="l" pos="1066788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La resistencia al movimiento de la locomotora y carros debido a las vías depende d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26680" indent="-300600" algn="just">
              <a:spcBef>
                <a:spcPts val="499"/>
              </a:spcBef>
              <a:buClr>
                <a:srgbClr val="9999cc"/>
              </a:buClr>
              <a:buSzPct val="80000"/>
              <a:buFont typeface="Monotype Sorts" charset="2"/>
              <a:buChar char=""/>
              <a:tabLst>
                <a:tab algn="l" pos="762120"/>
                <a:tab algn="l" pos="1238400"/>
                <a:tab algn="l" pos="1333440"/>
                <a:tab algn="l" pos="2000160"/>
                <a:tab algn="l" pos="2666880"/>
                <a:tab algn="l" pos="3333600"/>
                <a:tab algn="l" pos="4000680"/>
                <a:tab algn="l" pos="4667400"/>
                <a:tab algn="l" pos="5334120"/>
                <a:tab algn="l" pos="6000840"/>
                <a:tab algn="l" pos="6667560"/>
                <a:tab algn="l" pos="7334280"/>
                <a:tab algn="l" pos="8001000"/>
                <a:tab algn="l" pos="8667720"/>
                <a:tab algn="l" pos="9334440"/>
                <a:tab algn="l" pos="10001160"/>
                <a:tab algn="l" pos="1066788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ndición de las ví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26680" indent="-300600" algn="just">
              <a:spcBef>
                <a:spcPts val="499"/>
              </a:spcBef>
              <a:buClr>
                <a:srgbClr val="9999cc"/>
              </a:buClr>
              <a:buSzPct val="80000"/>
              <a:buFont typeface="Monotype Sorts" charset="2"/>
              <a:buChar char=""/>
              <a:tabLst>
                <a:tab algn="l" pos="762120"/>
                <a:tab algn="l" pos="1238400"/>
                <a:tab algn="l" pos="1333440"/>
                <a:tab algn="l" pos="2000160"/>
                <a:tab algn="l" pos="2666880"/>
                <a:tab algn="l" pos="3333600"/>
                <a:tab algn="l" pos="4000680"/>
                <a:tab algn="l" pos="4667400"/>
                <a:tab algn="l" pos="5334120"/>
                <a:tab algn="l" pos="6000840"/>
                <a:tab algn="l" pos="6667560"/>
                <a:tab algn="l" pos="7334280"/>
                <a:tab algn="l" pos="8001000"/>
                <a:tab algn="l" pos="8667720"/>
                <a:tab algn="l" pos="9334440"/>
                <a:tab algn="l" pos="10001160"/>
                <a:tab algn="l" pos="1066788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ipo de rodamiento y ruedas de carr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26680" indent="-300600" algn="just">
              <a:spcBef>
                <a:spcPts val="499"/>
              </a:spcBef>
              <a:buClr>
                <a:srgbClr val="9999cc"/>
              </a:buClr>
              <a:buSzPct val="80000"/>
              <a:buFont typeface="Monotype Sorts" charset="2"/>
              <a:buChar char=""/>
              <a:tabLst>
                <a:tab algn="l" pos="762120"/>
                <a:tab algn="l" pos="1238400"/>
                <a:tab algn="l" pos="1333440"/>
                <a:tab algn="l" pos="2000160"/>
                <a:tab algn="l" pos="2666880"/>
                <a:tab algn="l" pos="3333600"/>
                <a:tab algn="l" pos="4000680"/>
                <a:tab algn="l" pos="4667400"/>
                <a:tab algn="l" pos="5334120"/>
                <a:tab algn="l" pos="6000840"/>
                <a:tab algn="l" pos="6667560"/>
                <a:tab algn="l" pos="7334280"/>
                <a:tab algn="l" pos="8001000"/>
                <a:tab algn="l" pos="8667720"/>
                <a:tab algn="l" pos="9334440"/>
                <a:tab algn="l" pos="10001160"/>
                <a:tab algn="l" pos="1066788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Velocidad del t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26680" indent="-300600" algn="just">
              <a:spcBef>
                <a:spcPts val="499"/>
              </a:spcBef>
              <a:buClr>
                <a:srgbClr val="9999cc"/>
              </a:buClr>
              <a:buSzPct val="80000"/>
              <a:buFont typeface="Monotype Sorts" charset="2"/>
              <a:buChar char=""/>
              <a:tabLst>
                <a:tab algn="l" pos="762120"/>
                <a:tab algn="l" pos="1238400"/>
                <a:tab algn="l" pos="1333440"/>
                <a:tab algn="l" pos="2000160"/>
                <a:tab algn="l" pos="2666880"/>
                <a:tab algn="l" pos="3333600"/>
                <a:tab algn="l" pos="4000680"/>
                <a:tab algn="l" pos="4667400"/>
                <a:tab algn="l" pos="5334120"/>
                <a:tab algn="l" pos="6000840"/>
                <a:tab algn="l" pos="6667560"/>
                <a:tab algn="l" pos="7334280"/>
                <a:tab algn="l" pos="8001000"/>
                <a:tab algn="l" pos="8667720"/>
                <a:tab algn="l" pos="9334440"/>
                <a:tab algn="l" pos="10001160"/>
                <a:tab algn="l" pos="1066788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Uniones entre ví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8" name="Object 4"/>
          <p:cNvGraphicFramePr/>
          <p:nvPr/>
        </p:nvGraphicFramePr>
        <p:xfrm>
          <a:off x="512640" y="4086360"/>
          <a:ext cx="4016520" cy="1969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2640" y="4086360"/>
                    <a:ext cx="4016520" cy="196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0" name="Text Box 5"/>
          <p:cNvSpPr/>
          <p:nvPr/>
        </p:nvSpPr>
        <p:spPr>
          <a:xfrm>
            <a:off x="1403280" y="623736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3300"/>
                </a:solidFill>
                <a:latin typeface="Arial"/>
              </a:rPr>
              <a:t>locomoto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1" name="Object 6"/>
          <p:cNvGraphicFramePr/>
          <p:nvPr/>
        </p:nvGraphicFramePr>
        <p:xfrm>
          <a:off x="4761000" y="4159080"/>
          <a:ext cx="4128840" cy="1970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82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61000" y="4159080"/>
                    <a:ext cx="4128840" cy="197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3" name="Text Box 7"/>
          <p:cNvSpPr/>
          <p:nvPr/>
        </p:nvSpPr>
        <p:spPr>
          <a:xfrm>
            <a:off x="5940360" y="630864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3300"/>
                </a:solidFill>
                <a:latin typeface="Arial"/>
              </a:rPr>
              <a:t>vag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Line 8"/>
          <p:cNvSpPr/>
          <p:nvPr/>
        </p:nvSpPr>
        <p:spPr>
          <a:xfrm>
            <a:off x="4643280" y="429264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/>
          </p:nvPr>
        </p:nvSpPr>
        <p:spPr>
          <a:xfrm>
            <a:off x="250560" y="1412640"/>
            <a:ext cx="86598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lvl="1" marL="646560" indent="0" algn="just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285840"/>
                <a:tab algn="l" pos="762120"/>
                <a:tab algn="l" pos="1238400"/>
                <a:tab algn="l" pos="1333440"/>
                <a:tab algn="l" pos="2000160"/>
                <a:tab algn="l" pos="2666880"/>
                <a:tab algn="l" pos="3333600"/>
                <a:tab algn="l" pos="4000680"/>
                <a:tab algn="l" pos="4667400"/>
                <a:tab algn="l" pos="5334120"/>
                <a:tab algn="l" pos="6000840"/>
                <a:tab algn="l" pos="6667560"/>
                <a:tab algn="l" pos="7334280"/>
                <a:tab algn="l" pos="8001000"/>
                <a:tab algn="l" pos="8667720"/>
                <a:tab algn="l" pos="9334440"/>
                <a:tab algn="l" pos="10001160"/>
                <a:tab algn="l" pos="10667880"/>
              </a:tabLst>
            </a:pPr>
            <a:r>
              <a:rPr b="1" lang="es-ES_tradnl" sz="2200" spc="-1" strike="noStrike">
                <a:solidFill>
                  <a:srgbClr val="000099"/>
                </a:solidFill>
                <a:latin typeface="Arial"/>
              </a:rPr>
              <a:t>Rf (kg/ton)</a:t>
            </a:r>
            <a:r>
              <a:rPr b="1" lang="es-ES_tradnl" sz="2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s-ES_tradnl" sz="2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s-ES_tradnl" sz="2200" spc="-1" strike="noStrike">
                <a:solidFill>
                  <a:srgbClr val="000099"/>
                </a:solidFill>
                <a:latin typeface="Arial"/>
              </a:rPr>
              <a:t>     Tipo de carro</a:t>
            </a:r>
            <a:r>
              <a:rPr b="1" lang="es-ES_tradnl" sz="2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s-ES_tradnl" sz="2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s-ES_tradnl" sz="2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s-ES_tradnl" sz="2200" spc="-1" strike="noStrike">
                <a:solidFill>
                  <a:srgbClr val="000099"/>
                </a:solidFill>
                <a:latin typeface="Arial"/>
              </a:rPr>
              <a:t>Condiciones de Ví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46560" indent="0" algn="just">
              <a:lnSpc>
                <a:spcPct val="110000"/>
              </a:lnSpc>
              <a:spcBef>
                <a:spcPts val="275"/>
              </a:spcBef>
              <a:buNone/>
              <a:tabLst>
                <a:tab algn="l" pos="0"/>
                <a:tab algn="l" pos="285840"/>
                <a:tab algn="l" pos="762120"/>
                <a:tab algn="l" pos="1238400"/>
                <a:tab algn="l" pos="1333440"/>
                <a:tab algn="l" pos="2000160"/>
                <a:tab algn="l" pos="2666880"/>
                <a:tab algn="l" pos="3333600"/>
                <a:tab algn="l" pos="4000680"/>
                <a:tab algn="l" pos="4667400"/>
                <a:tab algn="l" pos="5334120"/>
                <a:tab algn="l" pos="6000840"/>
                <a:tab algn="l" pos="6667560"/>
                <a:tab algn="l" pos="7334280"/>
                <a:tab algn="l" pos="8001000"/>
                <a:tab algn="l" pos="8667720"/>
                <a:tab algn="l" pos="9334440"/>
                <a:tab algn="l" pos="10001160"/>
                <a:tab algn="l" pos="1066788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6560" indent="0" algn="just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285840"/>
                <a:tab algn="l" pos="762120"/>
                <a:tab algn="l" pos="1238400"/>
                <a:tab algn="l" pos="1333440"/>
                <a:tab algn="l" pos="2000160"/>
                <a:tab algn="l" pos="2666880"/>
                <a:tab algn="l" pos="3333600"/>
                <a:tab algn="l" pos="4000680"/>
                <a:tab algn="l" pos="4667400"/>
                <a:tab algn="l" pos="5334120"/>
                <a:tab algn="l" pos="6000840"/>
                <a:tab algn="l" pos="6667560"/>
                <a:tab algn="l" pos="7334280"/>
                <a:tab algn="l" pos="8001000"/>
                <a:tab algn="l" pos="8667720"/>
                <a:tab algn="l" pos="9334440"/>
                <a:tab algn="l" pos="10001160"/>
                <a:tab algn="l" pos="1066788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 Narrow"/>
              </a:rPr>
              <a:t>3,0</a:t>
            </a:r>
            <a:r>
              <a:rPr b="1" lang="es-ES_tradnl" sz="2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s-ES_tradnl" sz="2200" spc="-1" strike="noStrike">
                <a:solidFill>
                  <a:srgbClr val="000000"/>
                </a:solidFill>
                <a:latin typeface="Arial Narrow"/>
              </a:rPr>
              <a:t>-</a:t>
            </a:r>
            <a:r>
              <a:rPr b="1" lang="es-ES_tradnl" sz="2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s-ES_tradnl" sz="2200" spc="-1" strike="noStrike">
                <a:solidFill>
                  <a:srgbClr val="000000"/>
                </a:solidFill>
                <a:latin typeface="Arial Narrow"/>
              </a:rPr>
              <a:t> 4,5</a:t>
            </a:r>
            <a:r>
              <a:rPr b="1" lang="es-ES_tradnl" sz="2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s-ES_tradnl" sz="2200" spc="-1" strike="noStrike">
                <a:solidFill>
                  <a:srgbClr val="000000"/>
                </a:solidFill>
                <a:latin typeface="Arial Narrow"/>
              </a:rPr>
              <a:t>Grande (&gt;30 ton) con</a:t>
            </a:r>
            <a:r>
              <a:rPr b="1" lang="es-ES_tradnl" sz="2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s-ES_tradnl" sz="2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s-ES_tradnl" sz="2200" spc="-1" strike="noStrike">
                <a:solidFill>
                  <a:srgbClr val="000000"/>
                </a:solidFill>
                <a:latin typeface="Arial Narrow"/>
              </a:rPr>
              <a:t>         Excelente</a:t>
            </a:r>
            <a:r>
              <a:rPr b="1" lang="es-ES_tradnl" sz="2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s-ES_tradnl" sz="2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s-ES_tradnl" sz="2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s-ES_tradnl" sz="2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s-ES_tradnl" sz="2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s-ES_tradnl" sz="2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s-ES_tradnl" sz="2200" spc="-1" strike="noStrike">
                <a:solidFill>
                  <a:srgbClr val="000000"/>
                </a:solidFill>
                <a:latin typeface="Arial Narrow"/>
              </a:rPr>
              <a:t>       descanso de primera calida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46560" indent="0" algn="just">
              <a:lnSpc>
                <a:spcPct val="110000"/>
              </a:lnSpc>
              <a:spcBef>
                <a:spcPts val="275"/>
              </a:spcBef>
              <a:buNone/>
              <a:tabLst>
                <a:tab algn="l" pos="0"/>
                <a:tab algn="l" pos="285840"/>
                <a:tab algn="l" pos="762120"/>
                <a:tab algn="l" pos="1238400"/>
                <a:tab algn="l" pos="1333440"/>
                <a:tab algn="l" pos="2000160"/>
                <a:tab algn="l" pos="2666880"/>
                <a:tab algn="l" pos="3333600"/>
                <a:tab algn="l" pos="4000680"/>
                <a:tab algn="l" pos="4667400"/>
                <a:tab algn="l" pos="5334120"/>
                <a:tab algn="l" pos="6000840"/>
                <a:tab algn="l" pos="6667560"/>
                <a:tab algn="l" pos="7334280"/>
                <a:tab algn="l" pos="8001000"/>
                <a:tab algn="l" pos="8667720"/>
                <a:tab algn="l" pos="9334440"/>
                <a:tab algn="l" pos="10001160"/>
                <a:tab algn="l" pos="1066788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6560" indent="0" algn="just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285840"/>
                <a:tab algn="l" pos="762120"/>
                <a:tab algn="l" pos="1238400"/>
                <a:tab algn="l" pos="1333440"/>
                <a:tab algn="l" pos="2000160"/>
                <a:tab algn="l" pos="2666880"/>
                <a:tab algn="l" pos="3333600"/>
                <a:tab algn="l" pos="4000680"/>
                <a:tab algn="l" pos="4667400"/>
                <a:tab algn="l" pos="5334120"/>
                <a:tab algn="l" pos="6000840"/>
                <a:tab algn="l" pos="6667560"/>
                <a:tab algn="l" pos="7334280"/>
                <a:tab algn="l" pos="8001000"/>
                <a:tab algn="l" pos="8667720"/>
                <a:tab algn="l" pos="9334440"/>
                <a:tab algn="l" pos="10001160"/>
                <a:tab algn="l" pos="1066788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 Narrow"/>
              </a:rPr>
              <a:t>4,5</a:t>
            </a:r>
            <a:r>
              <a:rPr b="1" lang="es-ES_tradnl" sz="2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s-ES_tradnl" sz="2200" spc="-1" strike="noStrike">
                <a:solidFill>
                  <a:srgbClr val="000000"/>
                </a:solidFill>
                <a:latin typeface="Arial Narrow"/>
              </a:rPr>
              <a:t> -  7,0 </a:t>
            </a:r>
            <a:r>
              <a:rPr b="1" lang="es-ES_tradnl" sz="2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s-ES_tradnl" sz="2200" spc="-1" strike="noStrike">
                <a:solidFill>
                  <a:srgbClr val="000000"/>
                </a:solidFill>
                <a:latin typeface="Arial Narrow"/>
              </a:rPr>
              <a:t>                   15 a 30 ton, buenos descansos             Buen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46560" indent="0" algn="just">
              <a:lnSpc>
                <a:spcPct val="110000"/>
              </a:lnSpc>
              <a:spcBef>
                <a:spcPts val="275"/>
              </a:spcBef>
              <a:buNone/>
              <a:tabLst>
                <a:tab algn="l" pos="0"/>
                <a:tab algn="l" pos="285840"/>
                <a:tab algn="l" pos="762120"/>
                <a:tab algn="l" pos="1238400"/>
                <a:tab algn="l" pos="1333440"/>
                <a:tab algn="l" pos="2000160"/>
                <a:tab algn="l" pos="2666880"/>
                <a:tab algn="l" pos="3333600"/>
                <a:tab algn="l" pos="4000680"/>
                <a:tab algn="l" pos="4667400"/>
                <a:tab algn="l" pos="5334120"/>
                <a:tab algn="l" pos="6000840"/>
                <a:tab algn="l" pos="6667560"/>
                <a:tab algn="l" pos="7334280"/>
                <a:tab algn="l" pos="8001000"/>
                <a:tab algn="l" pos="8667720"/>
                <a:tab algn="l" pos="9334440"/>
                <a:tab algn="l" pos="10001160"/>
                <a:tab algn="l" pos="1066788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6560" indent="0" algn="just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285840"/>
                <a:tab algn="l" pos="762120"/>
                <a:tab algn="l" pos="1238400"/>
                <a:tab algn="l" pos="1333440"/>
                <a:tab algn="l" pos="2000160"/>
                <a:tab algn="l" pos="2666880"/>
                <a:tab algn="l" pos="3333600"/>
                <a:tab algn="l" pos="4000680"/>
                <a:tab algn="l" pos="4667400"/>
                <a:tab algn="l" pos="5334120"/>
                <a:tab algn="l" pos="6000840"/>
                <a:tab algn="l" pos="6667560"/>
                <a:tab algn="l" pos="7334280"/>
                <a:tab algn="l" pos="8001000"/>
                <a:tab algn="l" pos="8667720"/>
                <a:tab algn="l" pos="9334440"/>
                <a:tab algn="l" pos="10001160"/>
                <a:tab algn="l" pos="1066788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 Narrow"/>
              </a:rPr>
              <a:t>9,0</a:t>
            </a:r>
            <a:r>
              <a:rPr b="1" lang="es-ES_tradnl" sz="2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s-ES_tradnl" sz="2200" spc="-1" strike="noStrike">
                <a:solidFill>
                  <a:srgbClr val="000000"/>
                </a:solidFill>
                <a:latin typeface="Arial Narrow"/>
              </a:rPr>
              <a:t>-</a:t>
            </a:r>
            <a:r>
              <a:rPr b="1" lang="es-ES_tradnl" sz="2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s-ES_tradnl" sz="2200" spc="-1" strike="noStrike">
                <a:solidFill>
                  <a:srgbClr val="000000"/>
                </a:solidFill>
                <a:latin typeface="Arial Narrow"/>
              </a:rPr>
              <a:t> 11,0                     5 a 10 ton, descanso en </a:t>
            </a:r>
            <a:r>
              <a:rPr b="1" lang="es-ES_tradnl" sz="2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s-ES_tradnl" sz="2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s-ES_tradnl" sz="2200" spc="-1" strike="noStrike">
                <a:solidFill>
                  <a:srgbClr val="000000"/>
                </a:solidFill>
                <a:latin typeface="Arial Narrow"/>
              </a:rPr>
              <a:t>         Buena a acept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46560" indent="0" algn="just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285840"/>
                <a:tab algn="l" pos="762120"/>
                <a:tab algn="l" pos="1238400"/>
                <a:tab algn="l" pos="1333440"/>
                <a:tab algn="l" pos="2000160"/>
                <a:tab algn="l" pos="2666880"/>
                <a:tab algn="l" pos="3333600"/>
                <a:tab algn="l" pos="4000680"/>
                <a:tab algn="l" pos="4667400"/>
                <a:tab algn="l" pos="5334120"/>
                <a:tab algn="l" pos="6000840"/>
                <a:tab algn="l" pos="6667560"/>
                <a:tab algn="l" pos="7334280"/>
                <a:tab algn="l" pos="8001000"/>
                <a:tab algn="l" pos="8667720"/>
                <a:tab algn="l" pos="9334440"/>
                <a:tab algn="l" pos="10001160"/>
                <a:tab algn="l" pos="1066788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 Narrow"/>
              </a:rPr>
              <a:t>                                      </a:t>
            </a:r>
            <a:r>
              <a:rPr b="1" lang="es-ES_tradnl" sz="2200" spc="-1" strike="noStrike">
                <a:solidFill>
                  <a:srgbClr val="000000"/>
                </a:solidFill>
                <a:latin typeface="Arial Narrow"/>
              </a:rPr>
              <a:t>rodamient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46560" indent="0" algn="just">
              <a:lnSpc>
                <a:spcPct val="110000"/>
              </a:lnSpc>
              <a:spcBef>
                <a:spcPts val="275"/>
              </a:spcBef>
              <a:buNone/>
              <a:tabLst>
                <a:tab algn="l" pos="0"/>
                <a:tab algn="l" pos="285840"/>
                <a:tab algn="l" pos="762120"/>
                <a:tab algn="l" pos="1238400"/>
                <a:tab algn="l" pos="1333440"/>
                <a:tab algn="l" pos="2000160"/>
                <a:tab algn="l" pos="2666880"/>
                <a:tab algn="l" pos="3333600"/>
                <a:tab algn="l" pos="4000680"/>
                <a:tab algn="l" pos="4667400"/>
                <a:tab algn="l" pos="5334120"/>
                <a:tab algn="l" pos="6000840"/>
                <a:tab algn="l" pos="6667560"/>
                <a:tab algn="l" pos="7334280"/>
                <a:tab algn="l" pos="8001000"/>
                <a:tab algn="l" pos="8667720"/>
                <a:tab algn="l" pos="9334440"/>
                <a:tab algn="l" pos="10001160"/>
                <a:tab algn="l" pos="1066788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6560" indent="0" algn="just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285840"/>
                <a:tab algn="l" pos="762120"/>
                <a:tab algn="l" pos="1238400"/>
                <a:tab algn="l" pos="1333440"/>
                <a:tab algn="l" pos="2000160"/>
                <a:tab algn="l" pos="2666880"/>
                <a:tab algn="l" pos="3333600"/>
                <a:tab algn="l" pos="4000680"/>
                <a:tab algn="l" pos="4667400"/>
                <a:tab algn="l" pos="5334120"/>
                <a:tab algn="l" pos="6000840"/>
                <a:tab algn="l" pos="6667560"/>
                <a:tab algn="l" pos="7334280"/>
                <a:tab algn="l" pos="8001000"/>
                <a:tab algn="l" pos="8667720"/>
                <a:tab algn="l" pos="9334440"/>
                <a:tab algn="l" pos="10001160"/>
                <a:tab algn="l" pos="1066788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 Narrow"/>
              </a:rPr>
              <a:t>14,0</a:t>
            </a:r>
            <a:r>
              <a:rPr b="1" lang="es-ES_tradnl" sz="2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s-ES_tradnl" sz="2200" spc="-1" strike="noStrike">
                <a:solidFill>
                  <a:srgbClr val="000000"/>
                </a:solidFill>
                <a:latin typeface="Arial Narrow"/>
              </a:rPr>
              <a:t>- 16,0        </a:t>
            </a:r>
            <a:r>
              <a:rPr b="1" lang="es-ES_tradnl" sz="2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s-ES_tradnl" sz="2200" spc="-1" strike="noStrike">
                <a:solidFill>
                  <a:srgbClr val="000000"/>
                </a:solidFill>
                <a:latin typeface="Arial Narrow"/>
              </a:rPr>
              <a:t>       Bajo 5 ton, descansos en bujes </a:t>
            </a:r>
            <a:r>
              <a:rPr b="1" lang="es-ES_tradnl" sz="2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s-ES_tradnl" sz="2200" spc="-1" strike="noStrike">
                <a:solidFill>
                  <a:srgbClr val="000000"/>
                </a:solidFill>
                <a:latin typeface="Arial Narrow"/>
              </a:rPr>
              <a:t>        Pas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46560" indent="0" algn="just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285840"/>
                <a:tab algn="l" pos="762120"/>
                <a:tab algn="l" pos="1238400"/>
                <a:tab algn="l" pos="1333440"/>
                <a:tab algn="l" pos="2000160"/>
                <a:tab algn="l" pos="2666880"/>
                <a:tab algn="l" pos="3333600"/>
                <a:tab algn="l" pos="4000680"/>
                <a:tab algn="l" pos="4667400"/>
                <a:tab algn="l" pos="5334120"/>
                <a:tab algn="l" pos="6000840"/>
                <a:tab algn="l" pos="6667560"/>
                <a:tab algn="l" pos="7334280"/>
                <a:tab algn="l" pos="8001000"/>
                <a:tab algn="l" pos="8667720"/>
                <a:tab algn="l" pos="9334440"/>
                <a:tab algn="l" pos="10001160"/>
                <a:tab algn="l" pos="1066788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s-ES_tradnl" sz="2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s-ES_tradnl" sz="2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s-ES_tradnl" sz="2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s-ES_tradnl" sz="2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s-ES_tradnl" sz="2200" spc="-1" strike="noStrike">
                <a:solidFill>
                  <a:srgbClr val="000000"/>
                </a:solidFill>
                <a:latin typeface="Arial Narrow"/>
              </a:rPr>
              <a:t>       </a:t>
            </a:r>
            <a:r>
              <a:rPr b="1" lang="es-ES_tradnl" sz="2200" spc="-1" strike="noStrike">
                <a:solidFill>
                  <a:srgbClr val="000000"/>
                </a:solidFill>
                <a:latin typeface="Arial Narrow"/>
              </a:rPr>
              <a:t>de  Bro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Rectangle 4"/>
          <p:cNvSpPr/>
          <p:nvPr/>
        </p:nvSpPr>
        <p:spPr>
          <a:xfrm>
            <a:off x="611280" y="692280"/>
            <a:ext cx="777240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Arial Unicode MS"/>
              </a:rPr>
              <a:t>Resistencia Rodadura (Rr) - car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760320" y="533520"/>
            <a:ext cx="7772400" cy="591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Arial"/>
              </a:rPr>
              <a:t>Resistencia a Pendiente (R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468000" y="1628280"/>
            <a:ext cx="8381880" cy="310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66720" indent="-380880" algn="just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"/>
              <a:tabLst>
                <a:tab algn="l" pos="285840"/>
                <a:tab algn="l" pos="762120"/>
                <a:tab algn="l" pos="1238400"/>
                <a:tab algn="l" pos="1333440"/>
                <a:tab algn="l" pos="2000160"/>
                <a:tab algn="l" pos="2666880"/>
                <a:tab algn="l" pos="3333600"/>
                <a:tab algn="l" pos="4000680"/>
                <a:tab algn="l" pos="4667400"/>
                <a:tab algn="l" pos="5334120"/>
                <a:tab algn="l" pos="6000840"/>
                <a:tab algn="l" pos="6667560"/>
                <a:tab algn="l" pos="7334280"/>
                <a:tab algn="l" pos="8001000"/>
                <a:tab algn="l" pos="8667720"/>
                <a:tab algn="l" pos="9334440"/>
                <a:tab algn="l" pos="1000116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rresponde a la componente del peso del convoy, en la dirección contraria al movimiento, por lo que su valor será Rp = P sen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en que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es el ángulo de pendiente y  P el peso del convo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285840"/>
                <a:tab algn="l" pos="762120"/>
                <a:tab algn="l" pos="1238400"/>
                <a:tab algn="l" pos="1333440"/>
                <a:tab algn="l" pos="2000160"/>
                <a:tab algn="l" pos="2666880"/>
                <a:tab algn="l" pos="3333600"/>
                <a:tab algn="l" pos="4000680"/>
                <a:tab algn="l" pos="4667400"/>
                <a:tab algn="l" pos="5334120"/>
                <a:tab algn="l" pos="6000840"/>
                <a:tab algn="l" pos="6667560"/>
                <a:tab algn="l" pos="7334280"/>
                <a:tab algn="l" pos="8001000"/>
                <a:tab algn="l" pos="8667720"/>
                <a:tab algn="l" pos="9334440"/>
                <a:tab algn="l" pos="1000116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i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&lt; 5º entonces sen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≈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tg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, y como generalmente la pendiente se expresa como porcentaje, la formula se puede transformar 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9" name="Object 10"/>
              <p:cNvSpPr txBox="1"/>
              <p:nvPr/>
            </p:nvSpPr>
            <p:spPr>
              <a:xfrm>
                <a:off x="2916360" y="5013360"/>
                <a:ext cx="3573360" cy="98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Rp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b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ton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pendiente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760320" y="533520"/>
            <a:ext cx="7772400" cy="591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Arial"/>
              </a:rPr>
              <a:t>Resistencia a la curvatura (R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107640" y="1483920"/>
            <a:ext cx="5329080" cy="15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66720" indent="0" algn="just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285840"/>
                <a:tab algn="l" pos="762120"/>
                <a:tab algn="l" pos="1238400"/>
                <a:tab algn="l" pos="1333440"/>
                <a:tab algn="l" pos="2000160"/>
                <a:tab algn="l" pos="2666880"/>
                <a:tab algn="l" pos="3333600"/>
                <a:tab algn="l" pos="4000680"/>
                <a:tab algn="l" pos="4667400"/>
                <a:tab algn="l" pos="5334120"/>
                <a:tab algn="l" pos="6000840"/>
                <a:tab algn="l" pos="6667560"/>
                <a:tab algn="l" pos="7334280"/>
                <a:tab algn="l" pos="8001000"/>
                <a:tab algn="l" pos="8667720"/>
                <a:tab algn="l" pos="9334440"/>
                <a:tab algn="l" pos="1000116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La resistencia a la curvatura es debida 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34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285840"/>
                <a:tab algn="l" pos="762120"/>
                <a:tab algn="l" pos="1238400"/>
                <a:tab algn="l" pos="1333440"/>
                <a:tab algn="l" pos="2000160"/>
                <a:tab algn="l" pos="2666880"/>
                <a:tab algn="l" pos="3333600"/>
                <a:tab algn="l" pos="4000680"/>
                <a:tab algn="l" pos="4667400"/>
                <a:tab algn="l" pos="5334120"/>
                <a:tab algn="l" pos="6000840"/>
                <a:tab algn="l" pos="6667560"/>
                <a:tab algn="l" pos="7334280"/>
                <a:tab algn="l" pos="8001000"/>
                <a:tab algn="l" pos="8667720"/>
                <a:tab algn="l" pos="9334440"/>
                <a:tab algn="l" pos="10001160"/>
                <a:tab algn="l" pos="1066788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Patinaje de las rued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34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285840"/>
                <a:tab algn="l" pos="762120"/>
                <a:tab algn="l" pos="1238400"/>
                <a:tab algn="l" pos="1333440"/>
                <a:tab algn="l" pos="2000160"/>
                <a:tab algn="l" pos="2666880"/>
                <a:tab algn="l" pos="3333600"/>
                <a:tab algn="l" pos="4000680"/>
                <a:tab algn="l" pos="4667400"/>
                <a:tab algn="l" pos="5334120"/>
                <a:tab algn="l" pos="6000840"/>
                <a:tab algn="l" pos="6667560"/>
                <a:tab algn="l" pos="7334280"/>
                <a:tab algn="l" pos="8001000"/>
                <a:tab algn="l" pos="8667720"/>
                <a:tab algn="l" pos="9334440"/>
                <a:tab algn="l" pos="10001160"/>
                <a:tab algn="l" pos="1066788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Fricción entre pestañas y rie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34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285840"/>
                <a:tab algn="l" pos="762120"/>
                <a:tab algn="l" pos="1238400"/>
                <a:tab algn="l" pos="1333440"/>
                <a:tab algn="l" pos="2000160"/>
                <a:tab algn="l" pos="2666880"/>
                <a:tab algn="l" pos="3333600"/>
                <a:tab algn="l" pos="4000680"/>
                <a:tab algn="l" pos="4667400"/>
                <a:tab algn="l" pos="5334120"/>
                <a:tab algn="l" pos="6000840"/>
                <a:tab algn="l" pos="6667560"/>
                <a:tab algn="l" pos="7334280"/>
                <a:tab algn="l" pos="8001000"/>
                <a:tab algn="l" pos="8667720"/>
                <a:tab algn="l" pos="9334440"/>
                <a:tab algn="l" pos="10001160"/>
                <a:tab algn="l" pos="1066788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La diferencia entre el ancho de carros y troch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2" name="Object 10"/>
          <p:cNvGraphicFramePr/>
          <p:nvPr/>
        </p:nvGraphicFramePr>
        <p:xfrm>
          <a:off x="5580000" y="1844640"/>
          <a:ext cx="3117960" cy="1503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3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80000" y="1844640"/>
                    <a:ext cx="3117960" cy="150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4" name="Text Box 5"/>
          <p:cNvSpPr/>
          <p:nvPr/>
        </p:nvSpPr>
        <p:spPr>
          <a:xfrm>
            <a:off x="4427640" y="3933720"/>
            <a:ext cx="453528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Las curvas se pueden medir en grados. Una curva de un grado es una en la cual en 100´ es 1/360° de un circul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El radio de una curva que tiene 1° es 5730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5" name="Object 6"/>
          <p:cNvGraphicFramePr/>
          <p:nvPr/>
        </p:nvGraphicFramePr>
        <p:xfrm>
          <a:off x="971640" y="3944880"/>
          <a:ext cx="3093840" cy="166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6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71640" y="3944880"/>
                    <a:ext cx="3093840" cy="166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7" name="Text Box 7"/>
          <p:cNvSpPr/>
          <p:nvPr/>
        </p:nvSpPr>
        <p:spPr>
          <a:xfrm>
            <a:off x="1042920" y="350028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3300"/>
                </a:solidFill>
                <a:latin typeface="Arial"/>
              </a:rPr>
              <a:t>Formula empírica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Text Box 8"/>
          <p:cNvSpPr/>
          <p:nvPr/>
        </p:nvSpPr>
        <p:spPr>
          <a:xfrm>
            <a:off x="6227640" y="126828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3300"/>
                </a:solidFill>
                <a:latin typeface="Arial"/>
              </a:rPr>
              <a:t>Formula empírica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760320" y="430200"/>
            <a:ext cx="805968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Arial"/>
              </a:rPr>
              <a:t>Resistencia a la Aceleración y Frenado (Ra ó R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Text Box 4"/>
          <p:cNvSpPr/>
          <p:nvPr/>
        </p:nvSpPr>
        <p:spPr>
          <a:xfrm>
            <a:off x="826920" y="1557360"/>
            <a:ext cx="831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La fuerza para sobrepasar la inercia: F=m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1" name="Object 6"/>
              <p:cNvSpPr txBox="1"/>
              <p:nvPr/>
            </p:nvSpPr>
            <p:spPr>
              <a:xfrm>
                <a:off x="1763640" y="2060640"/>
                <a:ext cx="3294000" cy="117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m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ton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000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lb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ton</m:t>
                                </m:r>
                              </m:den>
                            </m:f>
                            <m:r>
                              <m:t xml:space="preserve">)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2</m:t>
                            </m:r>
                            <m:r>
                              <m:t xml:space="preserve">,</m:t>
                            </m:r>
                            <m:r>
                              <m:t xml:space="preserve">2</m:t>
                            </m:r>
                            <m:r>
                              <m:t xml:space="preserve">(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pies</m:t>
                                </m:r>
                              </m:num>
                              <m:den>
                                <m:sSup>
                                  <m:e>
                                    <m:r>
                                      <m:t xml:space="preserve">s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62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b</m:t>
                            </m:r>
                            <m:r>
                              <m:t xml:space="preserve">−</m:t>
                            </m:r>
                            <m:r>
                              <m:t xml:space="preserve">s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pies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>
                        <m:r>
                          <m:t xml:space="preserve">m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P</m:t>
                            </m:r>
                          </m:num>
                          <m:den>
                            <m:r>
                              <m:t xml:space="preserve">g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02" name="Text Box 7"/>
          <p:cNvSpPr/>
          <p:nvPr/>
        </p:nvSpPr>
        <p:spPr>
          <a:xfrm>
            <a:off x="755640" y="3357720"/>
            <a:ext cx="56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Aceleración lineal de 1 Ton a 1mp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3" name="Object 8"/>
              <p:cNvSpPr txBox="1"/>
              <p:nvPr/>
            </p:nvSpPr>
            <p:spPr>
              <a:xfrm>
                <a:off x="5003640" y="2852640"/>
                <a:ext cx="3313440" cy="145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illa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280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pies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milla</m:t>
                                </m:r>
                              </m:den>
                            </m:f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hr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600</m:t>
                            </m:r>
                            <m:f>
                              <m:num>
                                <m:r>
                                  <m:t xml:space="preserve">s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hr</m:t>
                                </m:r>
                              </m:den>
                            </m:f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47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pies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62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r>
                          <m:t xml:space="preserve">⋅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47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91</m:t>
                        </m:r>
                        <m:r>
                          <m:t xml:space="preserve">,</m:t>
                        </m:r>
                        <m:r>
                          <m:t xml:space="preserve">3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lb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04" name="Text Box 9"/>
          <p:cNvSpPr/>
          <p:nvPr/>
        </p:nvSpPr>
        <p:spPr>
          <a:xfrm>
            <a:off x="611280" y="4581360"/>
            <a:ext cx="74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Se aumenta un 5-10% para considerar aceleración por rotación (100 lb/t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5" name="Object 10"/>
              <p:cNvSpPr txBox="1"/>
              <p:nvPr/>
            </p:nvSpPr>
            <p:spPr>
              <a:xfrm>
                <a:off x="4427640" y="5229360"/>
                <a:ext cx="2727360" cy="12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rPr>
                            <m:lit/>
                            <m:nor/>
                          </m:rPr>
                          <m:t xml:space="preserve">aT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lb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T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eso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ren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Ton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celeración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ph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06" name="Text Box 11"/>
          <p:cNvSpPr/>
          <p:nvPr/>
        </p:nvSpPr>
        <p:spPr>
          <a:xfrm>
            <a:off x="1619280" y="522936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Fuerza requerid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3300"/>
                </a:solidFill>
                <a:latin typeface="Arial"/>
              </a:rPr>
              <a:t>Fuerza de arrastre locomotora &amp; Adhe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La adhesion o coeficiente de fricción es el link que existe entre las ruedas de la locomotora y la v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La fuerza de arrastre que la locomotora ejerce depende del coeficiente de fricción, el que depend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Del material de ruedas y v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Condición de las vías: humedo, seco, moj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Centro de gravedad de la locomoto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684360" y="6206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3300"/>
                </a:solidFill>
                <a:latin typeface="Arial"/>
              </a:rPr>
              <a:t>Adhes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0" name="Object 4"/>
          <p:cNvGraphicFramePr/>
          <p:nvPr/>
        </p:nvGraphicFramePr>
        <p:xfrm>
          <a:off x="2987640" y="1052640"/>
          <a:ext cx="5329440" cy="248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87640" y="1052640"/>
                    <a:ext cx="5329440" cy="248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12" name=""/>
          <p:cNvGraphicFramePr/>
          <p:nvPr/>
        </p:nvGraphicFramePr>
        <p:xfrm>
          <a:off x="2340000" y="3933720"/>
          <a:ext cx="5256360" cy="1981440"/>
        </p:xfrm>
        <a:graphic>
          <a:graphicData uri="http://schemas.openxmlformats.org/drawingml/2006/table">
            <a:tbl>
              <a:tblPr/>
              <a:tblGrid>
                <a:gridCol w="3678120"/>
                <a:gridCol w="15782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di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adhes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eles secos c/are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eles secos s/are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eles humed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eles mojad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-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539640" y="33336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3300"/>
                </a:solidFill>
                <a:latin typeface="Arial"/>
              </a:rPr>
              <a:t>Adhesión- Curva de desempeñ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4" name="Picture 7" descr=""/>
          <p:cNvPicPr/>
          <p:nvPr/>
        </p:nvPicPr>
        <p:blipFill>
          <a:blip r:embed="rId1"/>
          <a:stretch/>
        </p:blipFill>
        <p:spPr>
          <a:xfrm>
            <a:off x="1403280" y="1276200"/>
            <a:ext cx="6249960" cy="3795840"/>
          </a:xfrm>
          <a:prstGeom prst="rect">
            <a:avLst/>
          </a:prstGeom>
          <a:ln w="0">
            <a:noFill/>
          </a:ln>
        </p:spPr>
      </p:pic>
      <p:sp>
        <p:nvSpPr>
          <p:cNvPr id="1015" name="Text Box 9"/>
          <p:cNvSpPr/>
          <p:nvPr/>
        </p:nvSpPr>
        <p:spPr>
          <a:xfrm>
            <a:off x="785880" y="5214960"/>
            <a:ext cx="6553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Curva de fuerza de arrastre efectiva para distintas velocida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Locomotora de 45 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3300"/>
                </a:solidFill>
                <a:latin typeface="Arial"/>
              </a:rPr>
              <a:t>Formulas utiles para diseñ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7" name=""/>
          <p:cNvGraphicFramePr/>
          <p:nvPr/>
        </p:nvGraphicFramePr>
        <p:xfrm>
          <a:off x="395280" y="1557360"/>
          <a:ext cx="8229600" cy="4195800"/>
        </p:xfrm>
        <a:graphic>
          <a:graphicData uri="http://schemas.openxmlformats.org/drawingml/2006/table">
            <a:tbl>
              <a:tblPr/>
              <a:tblGrid>
                <a:gridCol w="3745080"/>
                <a:gridCol w="44845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e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mul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eleración (mph/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erza arrastre (lb) /100 x peso tren (ton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empo al cual se asume aceleración cte (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mbio velocidad (mph) /aceleración (mph/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ia recorrida (pie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467x vel media (mph) x tiempo (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erza de empuje convoy (lb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Fuerza arrastre (lb) /resistencia total (lb/ton))-peso locomotora (ton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tencia tren (HP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Fuerza arrastre x velocidad)/3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tencia requerida generad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Potencia tren)/eficienc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tencia total a la maqui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tencia en el generador + otr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dio de la caj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ero de dientes en caja/numero dientes en piñon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tor (rpm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6 x veloc. X GP/diámetro de rued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3300"/>
                </a:solidFill>
                <a:latin typeface="Arial"/>
              </a:rPr>
              <a:t>Componentes sistemas de ferrocarr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Locomoto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Carros (convoy de carro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Sistema de descarga de car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Ví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Empalmes y cruc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Sistemas de 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Equipos de apoy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Locomotora de servic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Locomotora de limpiez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Locomotora de limpieza de ví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Taller manten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/>
          </p:nvPr>
        </p:nvSpPr>
        <p:spPr>
          <a:xfrm>
            <a:off x="539640" y="1413000"/>
            <a:ext cx="750888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1055520" indent="-533160" algn="just">
              <a:lnSpc>
                <a:spcPct val="11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Arial"/>
              <a:buChar char="•"/>
              <a:tabLst>
                <a:tab algn="l" pos="538200"/>
                <a:tab algn="l" pos="762120"/>
                <a:tab algn="l" pos="1238400"/>
                <a:tab algn="l" pos="1333440"/>
                <a:tab algn="l" pos="2000160"/>
                <a:tab algn="l" pos="2666880"/>
                <a:tab algn="l" pos="3333600"/>
                <a:tab algn="l" pos="4000680"/>
                <a:tab algn="l" pos="4667400"/>
                <a:tab algn="l" pos="5334120"/>
                <a:tab algn="l" pos="6000840"/>
                <a:tab algn="l" pos="6667560"/>
                <a:tab algn="l" pos="7334280"/>
                <a:tab algn="l" pos="8001000"/>
                <a:tab algn="l" pos="8667720"/>
                <a:tab algn="l" pos="9334440"/>
                <a:tab algn="l" pos="1000116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e requiere saber la capacidad de la locomotora a fren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55520" indent="-533160" algn="just">
              <a:lnSpc>
                <a:spcPct val="11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Arial"/>
              <a:buChar char="•"/>
              <a:tabLst>
                <a:tab algn="l" pos="538200"/>
                <a:tab algn="l" pos="762120"/>
                <a:tab algn="l" pos="1238400"/>
                <a:tab algn="l" pos="1333440"/>
                <a:tab algn="l" pos="2000160"/>
                <a:tab algn="l" pos="2666880"/>
                <a:tab algn="l" pos="3333600"/>
                <a:tab algn="l" pos="4000680"/>
                <a:tab algn="l" pos="4667400"/>
                <a:tab algn="l" pos="5334120"/>
                <a:tab algn="l" pos="6000840"/>
                <a:tab algn="l" pos="6667560"/>
                <a:tab algn="l" pos="7334280"/>
                <a:tab algn="l" pos="8001000"/>
                <a:tab algn="l" pos="8667720"/>
                <a:tab algn="l" pos="9334440"/>
                <a:tab algn="l" pos="1000116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ndiciones favorables: toda la energía cinética es consumi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55520" indent="-533160" algn="just">
              <a:lnSpc>
                <a:spcPct val="11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Arial"/>
              <a:buChar char="•"/>
              <a:tabLst>
                <a:tab algn="l" pos="538200"/>
                <a:tab algn="l" pos="762120"/>
                <a:tab algn="l" pos="1238400"/>
                <a:tab algn="l" pos="1333440"/>
                <a:tab algn="l" pos="2000160"/>
                <a:tab algn="l" pos="2666880"/>
                <a:tab algn="l" pos="3333600"/>
                <a:tab algn="l" pos="4000680"/>
                <a:tab algn="l" pos="4667400"/>
                <a:tab algn="l" pos="5334120"/>
                <a:tab algn="l" pos="6000840"/>
                <a:tab algn="l" pos="6667560"/>
                <a:tab algn="l" pos="7334280"/>
                <a:tab algn="l" pos="8001000"/>
                <a:tab algn="l" pos="8667720"/>
                <a:tab algn="l" pos="9334440"/>
                <a:tab algn="l" pos="1000116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ndiciones desfavorables: baj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55520" indent="-533160" algn="just">
              <a:lnSpc>
                <a:spcPct val="11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Arial"/>
              <a:buChar char="•"/>
              <a:tabLst>
                <a:tab algn="l" pos="538200"/>
                <a:tab algn="l" pos="762120"/>
                <a:tab algn="l" pos="1238400"/>
                <a:tab algn="l" pos="1333440"/>
                <a:tab algn="l" pos="2000160"/>
                <a:tab algn="l" pos="2666880"/>
                <a:tab algn="l" pos="3333600"/>
                <a:tab algn="l" pos="4000680"/>
                <a:tab algn="l" pos="4667400"/>
                <a:tab algn="l" pos="5334120"/>
                <a:tab algn="l" pos="6000840"/>
                <a:tab algn="l" pos="6667560"/>
                <a:tab algn="l" pos="7334280"/>
                <a:tab algn="l" pos="8001000"/>
                <a:tab algn="l" pos="8667720"/>
                <a:tab algn="l" pos="9334440"/>
                <a:tab algn="l" pos="1000116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valor de la adhesión durante el frenado es un 80% de la adhesión durante acarreo, por lo que la fuerza de frenado es también un 80% el esfuerzo de arrast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Rectangle 4"/>
          <p:cNvSpPr/>
          <p:nvPr/>
        </p:nvSpPr>
        <p:spPr>
          <a:xfrm>
            <a:off x="755640" y="260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Arial Unicode MS"/>
              </a:rPr>
              <a:t>Resistencia al Frenado (R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3300"/>
                </a:solidFill>
                <a:latin typeface="Arial"/>
              </a:rPr>
              <a:t>Ejemplo de diseño trenes y costos de transpor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611280" y="1773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Cálculo tamaño locomot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Cálculo número de carros para una determinada locomot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Determinación de costos de transpor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3300"/>
                </a:solidFill>
                <a:latin typeface="Arial"/>
              </a:rPr>
              <a:t>Car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Los carros se componen de la caja, chasis y sistema de roda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Características a considera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Capacidad- dimensiones (18-50 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stabil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Sistema de descarg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Radios de curvatura mínim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esos (tara- cargad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Características de las rued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3300"/>
                </a:solidFill>
                <a:latin typeface="Arial"/>
              </a:rPr>
              <a:t>Car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539280" y="1844280"/>
            <a:ext cx="3529080" cy="218772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6"/>
          <p:cNvSpPr/>
          <p:nvPr/>
        </p:nvSpPr>
        <p:spPr>
          <a:xfrm>
            <a:off x="5508720" y="1484280"/>
            <a:ext cx="3025800" cy="25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Se construyen de planchas de acero 5-10 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Alta capacidad (18-50 ton/carr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7"/>
          <p:cNvSpPr/>
          <p:nvPr/>
        </p:nvSpPr>
        <p:spPr>
          <a:xfrm>
            <a:off x="900000" y="5013360"/>
            <a:ext cx="331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Convoy: conjunto de car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8"/>
          <p:cNvSpPr/>
          <p:nvPr/>
        </p:nvSpPr>
        <p:spPr>
          <a:xfrm>
            <a:off x="4356000" y="3860640"/>
            <a:ext cx="1079640" cy="503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rue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9"/>
          <p:cNvSpPr/>
          <p:nvPr/>
        </p:nvSpPr>
        <p:spPr>
          <a:xfrm>
            <a:off x="900000" y="1989000"/>
            <a:ext cx="1079640" cy="503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tol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0"/>
          <p:cNvSpPr/>
          <p:nvPr/>
        </p:nvSpPr>
        <p:spPr>
          <a:xfrm>
            <a:off x="1979640" y="2205000"/>
            <a:ext cx="6476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1"/>
          <p:cNvSpPr/>
          <p:nvPr/>
        </p:nvSpPr>
        <p:spPr>
          <a:xfrm flipH="1" flipV="1">
            <a:off x="4067280" y="3715920"/>
            <a:ext cx="28872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2"/>
          <p:cNvSpPr/>
          <p:nvPr/>
        </p:nvSpPr>
        <p:spPr>
          <a:xfrm>
            <a:off x="611280" y="3573360"/>
            <a:ext cx="1079280" cy="360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cha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3"/>
          <p:cNvSpPr/>
          <p:nvPr/>
        </p:nvSpPr>
        <p:spPr>
          <a:xfrm flipV="1">
            <a:off x="1692360" y="3357720"/>
            <a:ext cx="50328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3300"/>
                </a:solidFill>
                <a:latin typeface="Arial"/>
              </a:rPr>
              <a:t>Dimensiones de car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Altura, ancho y longitud de car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Dada por capacidades de transporte requeri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Dimensiones determinan radio de curvatu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Se ha tendido a mayor capacidad de carros (50 t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Capacidad de convoy (320 ton- 1200 t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Rued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Se fabrican en acero fundi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Distancia entre ej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3300"/>
                </a:solidFill>
                <a:latin typeface="Arial"/>
              </a:rPr>
              <a:t>Rued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00720" y="2204640"/>
            <a:ext cx="4402080" cy="23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La llanta es cónica para evitar el movimiento lateral del tr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La rueda se debe mover sobre las llant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La pestaña debe actuar solo en las curvas, agujas en vias y peligro de descarrilamien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Group 4"/>
          <p:cNvGrpSpPr/>
          <p:nvPr/>
        </p:nvGrpSpPr>
        <p:grpSpPr>
          <a:xfrm>
            <a:off x="611280" y="2565360"/>
            <a:ext cx="3246480" cy="1998720"/>
            <a:chOff x="611280" y="2565360"/>
            <a:chExt cx="3246480" cy="1998720"/>
          </a:xfrm>
        </p:grpSpPr>
        <p:sp>
          <p:nvSpPr>
            <p:cNvPr id="131" name="Arc 5"/>
            <p:cNvSpPr/>
            <p:nvPr/>
          </p:nvSpPr>
          <p:spPr>
            <a:xfrm flipV="1">
              <a:off x="1904760" y="2796840"/>
              <a:ext cx="360000" cy="1803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Arc 6"/>
            <p:cNvSpPr/>
            <p:nvPr/>
          </p:nvSpPr>
          <p:spPr>
            <a:xfrm>
              <a:off x="1904400" y="4150080"/>
              <a:ext cx="360000" cy="1800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7"/>
            <p:cNvSpPr/>
            <p:nvPr/>
          </p:nvSpPr>
          <p:spPr>
            <a:xfrm>
              <a:off x="1904400" y="2939760"/>
              <a:ext cx="360" cy="1262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8"/>
            <p:cNvSpPr/>
            <p:nvPr/>
          </p:nvSpPr>
          <p:spPr>
            <a:xfrm>
              <a:off x="2264760" y="2580480"/>
              <a:ext cx="90000" cy="19836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9"/>
            <p:cNvSpPr/>
            <p:nvPr/>
          </p:nvSpPr>
          <p:spPr>
            <a:xfrm>
              <a:off x="1783440" y="3338640"/>
              <a:ext cx="90000" cy="4762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0"/>
            <p:cNvSpPr/>
            <p:nvPr/>
          </p:nvSpPr>
          <p:spPr>
            <a:xfrm>
              <a:off x="1852200" y="2910600"/>
              <a:ext cx="53280" cy="13028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1"/>
            <p:cNvSpPr/>
            <p:nvPr/>
          </p:nvSpPr>
          <p:spPr>
            <a:xfrm>
              <a:off x="2355120" y="3343680"/>
              <a:ext cx="1412280" cy="4759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Line 12"/>
            <p:cNvSpPr/>
            <p:nvPr/>
          </p:nvSpPr>
          <p:spPr>
            <a:xfrm>
              <a:off x="1332000" y="3668760"/>
              <a:ext cx="6310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Line 13"/>
            <p:cNvSpPr/>
            <p:nvPr/>
          </p:nvSpPr>
          <p:spPr>
            <a:xfrm flipH="1">
              <a:off x="2324160" y="2669760"/>
              <a:ext cx="901800" cy="2703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Line 14"/>
            <p:cNvSpPr/>
            <p:nvPr/>
          </p:nvSpPr>
          <p:spPr>
            <a:xfrm>
              <a:off x="1241640" y="2760120"/>
              <a:ext cx="631080" cy="2703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15"/>
            <p:cNvSpPr/>
            <p:nvPr/>
          </p:nvSpPr>
          <p:spPr>
            <a:xfrm flipH="1">
              <a:off x="2775240" y="3106080"/>
              <a:ext cx="631080" cy="4658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Text Box 16"/>
            <p:cNvSpPr/>
            <p:nvPr/>
          </p:nvSpPr>
          <p:spPr>
            <a:xfrm>
              <a:off x="3136320" y="2925720"/>
              <a:ext cx="721440" cy="54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Arial"/>
                </a:rPr>
                <a:t>Ej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Text Box 17"/>
            <p:cNvSpPr/>
            <p:nvPr/>
          </p:nvSpPr>
          <p:spPr>
            <a:xfrm>
              <a:off x="3045960" y="2565360"/>
              <a:ext cx="721440" cy="54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Arial"/>
                </a:rPr>
                <a:t>Mas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Text Box 18"/>
            <p:cNvSpPr/>
            <p:nvPr/>
          </p:nvSpPr>
          <p:spPr>
            <a:xfrm>
              <a:off x="776160" y="3543120"/>
              <a:ext cx="721080" cy="54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Arial"/>
                </a:rPr>
                <a:t>Llan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Text Box 19"/>
            <p:cNvSpPr/>
            <p:nvPr/>
          </p:nvSpPr>
          <p:spPr>
            <a:xfrm>
              <a:off x="611280" y="2580480"/>
              <a:ext cx="721440" cy="54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000000"/>
                  </a:solidFill>
                  <a:latin typeface="Arial"/>
                </a:rPr>
                <a:t>Pestañ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Text Box 20"/>
            <p:cNvSpPr/>
            <p:nvPr/>
          </p:nvSpPr>
          <p:spPr>
            <a:xfrm>
              <a:off x="2324520" y="3827520"/>
              <a:ext cx="721080" cy="54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Arial"/>
                </a:rPr>
                <a:t>Diámetro rueda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Arial"/>
                </a:rPr>
                <a:t>6 a 14 cm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1"/>
            <p:cNvSpPr/>
            <p:nvPr/>
          </p:nvSpPr>
          <p:spPr>
            <a:xfrm flipH="1">
              <a:off x="1955520" y="3000600"/>
              <a:ext cx="120600" cy="1121400"/>
            </a:xfrm>
            <a:prstGeom prst="pie">
              <a:avLst/>
            </a:prstGeom>
            <a:noFill/>
            <a:ln w="9360">
              <a:solidFill>
                <a:srgbClr val="ff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3300"/>
                </a:solidFill>
                <a:latin typeface="Arial"/>
              </a:rPr>
              <a:t>Sistema de descarga de car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7" descr="volteador03"/>
          <p:cNvPicPr/>
          <p:nvPr/>
        </p:nvPicPr>
        <p:blipFill>
          <a:blip r:embed="rId1"/>
          <a:stretch/>
        </p:blipFill>
        <p:spPr>
          <a:xfrm>
            <a:off x="755640" y="2573280"/>
            <a:ext cx="2952720" cy="237024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4"/>
          <p:cNvSpPr/>
          <p:nvPr/>
        </p:nvSpPr>
        <p:spPr>
          <a:xfrm>
            <a:off x="684360" y="177336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Sistema rígi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9" descr="ffcc5"/>
          <p:cNvPicPr/>
          <p:nvPr/>
        </p:nvPicPr>
        <p:blipFill>
          <a:blip r:embed="rId2"/>
          <a:stretch/>
        </p:blipFill>
        <p:spPr>
          <a:xfrm>
            <a:off x="4859280" y="2637000"/>
            <a:ext cx="3668760" cy="23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2T23:17:45Z</dcterms:created>
  <dc:creator>Raul Castro</dc:creator>
  <dc:description/>
  <dc:language>en-US</dc:language>
  <cp:lastModifiedBy>Raul Castro</cp:lastModifiedBy>
  <dcterms:modified xsi:type="dcterms:W3CDTF">2009-05-07T21:52:14Z</dcterms:modified>
  <cp:revision>16</cp:revision>
  <dc:subject/>
  <dc:title>Ferrocarriles</dc:title>
</cp:coreProperties>
</file>