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BA3-C685-4453-8479-6A4D470C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99F-1080-4144-88AE-610EEFB5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DEA-C8BB-4EA9-94BD-A54BD7BD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120-5FB6-44C8-9961-22473723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1EA3-9419-4DCE-B050-A4C58C76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7AC0-D12A-419C-9BCF-5327684C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C9FC-2ED1-4632-A6E3-28FAE691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F452-63B5-4301-8CEB-671A32B2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0A93-13B0-43A8-9CFD-C5FF0B55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00DD-29B1-4936-BF48-9CAD9A64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EC57-1929-4FB5-BCDD-09A42EA4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560-E465-4A27-9654-493A1EF6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3B01-EBF3-46E9-BE20-F43CE84E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7907-73E1-4B8E-B38A-6124C62D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8F30-3704-4C5D-9ACF-697272AB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EB2E-8FF3-4F63-A97D-3856CC5A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F821-7B17-490D-AE36-E45FE7C3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54E-4EC2-4910-A394-3385D77E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842-5571-4C0A-B753-302F72E6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023-B621-4287-842B-B63F82CA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0ED-CB2D-4210-87D7-95E2C73F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F50-749C-4B3D-8BE1-4A2A1530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FC3-7047-4BAD-BE23-09C7D5C0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77A-256D-48A3-9D80-C9FE2A42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7E7A-EA19-4DF1-8B09-995472A4523D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EB57-F778-4762-9B0D-ED2E484D82CF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 Unicode MS"/>
              </a:rPr>
              <a:t>Verificación de model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al imponer una le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se incurre en alg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ú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n error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queremos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que el riesgo sea meno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definimos el nivel de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confia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probabilidad de que el modelo sea erróne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Modelo propu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743200" y="3809880"/>
            <a:ext cx="36576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La probabilidad de que una observación caiga en los grupos definidos en la tabla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24040" y="4191120"/>
            <a:ext cx="56959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de aceptació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1790640"/>
            <a:ext cx="9144000" cy="2933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315200" y="4114800"/>
            <a:ext cx="1828800" cy="838080"/>
          </a:xfrm>
          <a:prstGeom prst="ellipse">
            <a:avLst/>
          </a:prstGeom>
          <a:noFill/>
          <a:ln w="57240">
            <a:solidFill>
              <a:srgbClr val="4d4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n = 5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= 6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1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1 = 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tabla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2 entreg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4;0</a:t>
            </a: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95</a:t>
            </a: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)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= 9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en Matla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&gt;&gt; chi2inv(0.95,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2556000" y="3598920"/>
            <a:ext cx="1828800" cy="838080"/>
          </a:xfrm>
          <a:prstGeom prst="ellipse">
            <a:avLst/>
          </a:prstGeom>
          <a:noFill/>
          <a:ln w="57240">
            <a:solidFill>
              <a:srgbClr val="4d4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68920" y="36687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Unicode MS"/>
              </a:rPr>
              <a:t>Ver  tab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964720" cy="4616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372360" y="2212920"/>
            <a:ext cx="647640" cy="289080"/>
          </a:xfrm>
          <a:prstGeom prst="ellipse">
            <a:avLst/>
          </a:prstGeom>
          <a:noFill/>
          <a:ln w="38160">
            <a:solidFill>
              <a:srgbClr val="4d4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E &gt;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(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0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95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Se rechaza hipót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4c3aa"/>
                </a:solidFill>
                <a:latin typeface="Arial Unicode MS"/>
              </a:rPr>
              <a:t>Test Kolmogorov-Smirnov (KS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 puede aplicar para cualquier numero de observaciones 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i n es gran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mejor agrupar las observaciones 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u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r el test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2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KS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compa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la funci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ó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n de distribución experimental c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El modelo propuest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 us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valores absolutos de las diferencias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entre punto y pun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Kolmogorov-Smirnov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a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la distribución muestreada y F(t) la distribución propuest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La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discrepa</a:t>
            </a: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cia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para t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1371600" cy="784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438280" y="4648320"/>
            <a:ext cx="482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Kolmogorov-Smirnov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Puede demostrarse que la distribución 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n = max(Dn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i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epende solo de n; y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se puede escrib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085760" y="4572000"/>
            <a:ext cx="69724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</a:t>
            </a:r>
            <a:r>
              <a:rPr b="0" lang="es-E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ndi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al menos n = 50 observaci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 Unicode MS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Eviden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TBF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(días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23,16,56,71,4,25,51,3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Mode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Gaussia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media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34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esviación standard 22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Test con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= 5%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Probabilidad </a:t>
            </a:r>
            <a:br>
              <a:rPr sz="4400"/>
            </a:b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según población hipotétic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P(t &lt; 4) = P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((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4 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34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)/22)=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0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08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En Exc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=DISTR.NORM.ESTAND((4-34)/2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Kolmogorov-Smirnov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07440" y="57546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Dn = max(Dn</a:t>
            </a:r>
            <a:r>
              <a:rPr b="0" lang="es-ES" sz="1200" spc="-1" strike="noStrike">
                <a:solidFill>
                  <a:srgbClr val="ffffff"/>
                </a:solidFill>
                <a:latin typeface="Arial Unicode MS"/>
              </a:rPr>
              <a:t>i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428840" y="1411200"/>
            <a:ext cx="5200560" cy="4695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257800" y="5526000"/>
            <a:ext cx="1295280" cy="685800"/>
          </a:xfrm>
          <a:prstGeom prst="ellipse">
            <a:avLst/>
          </a:prstGeom>
          <a:noFill/>
          <a:ln w="57240">
            <a:solidFill>
              <a:srgbClr val="4d4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400800" y="3087720"/>
            <a:ext cx="27432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Kolmogorov-Smirnov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6891" t="0" r="0" b="0"/>
          <a:stretch/>
        </p:blipFill>
        <p:spPr>
          <a:xfrm>
            <a:off x="3946680" y="1484280"/>
            <a:ext cx="3500280" cy="4608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940360" y="3284640"/>
            <a:ext cx="719280" cy="110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Kolmogorov-Smirnov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gún la tab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= 0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12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Unicode MS"/>
              </a:rPr>
              <a:t>n,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para n = 8,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= 0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05 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</a:t>
            </a: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,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05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= 0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.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45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 acepta la hip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ó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tes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qué es esto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57200" y="1622520"/>
            <a:ext cx="82296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f(t)=Función de densidad probabilística para el tiempo de ocurrencia de la falla en función del tiempo 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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F(t)=Probabilidad de que un sistema falle antes de t unidades de tiempo (no-confiabilida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qué es esto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2590560" cy="1285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14670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qué es esto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987640" y="2854440"/>
            <a:ext cx="30956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i auto es súper confiable, hace tiempo que no me fal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(orientado a saber como es la curva de confiabilidad en función del tiempo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1. Se agrupan las observacion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ebe haber al menos 5 observaciones en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cada grup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Los intervalos para definir los grupos no son necesariamente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e la misma longitu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Siempre debo elegir el criterio de mantención que minimize el costo glob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Solo la demora del proceso produce el aumento de las col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n que casos conviene tener más de una cola para multiservidores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or que puedo dejar fijo beta y eta cuando estimo gamm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¿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Qué pasa cuando beta es menor que 1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</a:t>
            </a:r>
            <a:r>
              <a:rPr b="0" lang="es-E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El test se basa e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diferencias entr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nro de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 o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bservaciones en cada grupo 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nro 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pronosticado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por la ley seleccionad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</a:t>
            </a:r>
            <a:r>
              <a:rPr b="0" lang="es-E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 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533680" y="2743200"/>
            <a:ext cx="407664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89154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</a:t>
            </a:r>
            <a:r>
              <a:rPr b="0" lang="es-E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 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E tiene una distribución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2 con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 grados de liberta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= r 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k 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don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k = 1 para la ley exponencial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k = 2 para la ley normal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k = 3 para la ley de Weibu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Test </a:t>
            </a:r>
            <a:r>
              <a:rPr b="0" lang="es-ES" sz="4400" spc="-1" strike="noStrike">
                <a:solidFill>
                  <a:srgbClr val="c4c3aa"/>
                </a:solidFill>
                <a:latin typeface="Symbol"/>
                <a:ea typeface="Symbol"/>
              </a:rPr>
              <a:t></a:t>
            </a:r>
            <a:r>
              <a:rPr b="0" lang="es-ES" sz="4400" spc="-1" strike="noStrike">
                <a:solidFill>
                  <a:srgbClr val="c4c3aa"/>
                </a:solidFill>
                <a:latin typeface="Arial Unicode MS"/>
              </a:rPr>
              <a:t> 2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hip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ó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esi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bservaciones siguen modelo propuesto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s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rechazad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495600" y="5105520"/>
            <a:ext cx="2152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057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Supóngase que para un grupo de equipos similares se han observado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los sigu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entes TB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44964" t="14246" r="33882" b="73288"/>
          <a:stretch/>
        </p:blipFill>
        <p:spPr>
          <a:xfrm>
            <a:off x="4716360" y="170028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5790240" y="45813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n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Hip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ó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te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ley exponenci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tasa de fallas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= 1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/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1600 fallas/hor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 desea</a:t>
            </a: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realizar un tes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confianza 9</a:t>
            </a:r>
            <a:r>
              <a:rPr b="0" lang="es-ES_tradnl" sz="2800" spc="-1" strike="noStrike">
                <a:solidFill>
                  <a:srgbClr val="ffffff"/>
                </a:solidFill>
                <a:latin typeface="Arial Unicode MS"/>
              </a:rPr>
              <a:t>5%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0:39:54Z</dcterms:created>
  <dc:creator>laboratorio</dc:creator>
  <dc:description/>
  <dc:language>en-US</dc:language>
  <cp:lastModifiedBy>laboratorio</cp:lastModifiedBy>
  <dcterms:modified xsi:type="dcterms:W3CDTF">2010-06-03T16:48:54Z</dcterms:modified>
  <cp:revision>3</cp:revision>
  <dc:subject/>
  <dc:title>Diapositiva 1</dc:title>
</cp:coreProperties>
</file>