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1EF-DA8B-4AF9-8658-058C5BE4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60C-EB7D-4C9F-891D-C8207F5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768-2BFA-4C2A-81EA-46243028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2B8-AEF8-4DED-80C5-D71DC9E6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72E-ACDC-4AB4-8750-23F367CE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8880-3064-407D-B059-7601C457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EEBE-1544-48DA-9BCC-AD3CD20C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5FD6-3A97-459A-88AC-CF995680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EFB3-8DFF-44A1-93DC-CDB160CE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9D8A-9A4B-484B-9FE9-70F3D52F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B9A7-2F7E-4982-94C7-A9EA689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3F5-1DD2-40A3-B14A-E254B14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3E00-FFFC-4D10-A319-2CED88B4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E83C-3857-41E6-BBE3-EAE4850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732A-5AAE-4294-9DC0-FC7C62C5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479A-DE8E-403C-8165-56FD2A8B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B928-7710-460A-A0FE-BD847FDD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436-EF4B-4F02-83A6-A7DCD5AB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7E0-280B-41A7-BE82-6E2D3A2B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600-04C9-4AEF-BD18-70838085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F7B-1EE3-4AF9-9D2A-86EE7AA5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326-D7D0-4609-A2AC-5780E61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D11-C595-408A-A5D3-BCCCF404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A7D-C57D-4BA7-A068-26C379D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7572-09E5-4E2D-9997-113057FAC82F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C5A7-A553-4D86-8400-12820E8A5437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 Unicode MS"/>
              </a:rPr>
              <a:t>Verificación de model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al imponer una le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se incurre en alg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ú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n error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queremos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que el riesgo sea meno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definimos el nivel de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confia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probabilidad de que el modelo sea erróne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Modelo propu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3657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La probabilidad de que una observación caiga en los grupos definidos en la tabla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24040" y="4191120"/>
            <a:ext cx="56959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de aceptació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1790640"/>
            <a:ext cx="9144000" cy="2933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315200" y="4114800"/>
            <a:ext cx="1828800" cy="838080"/>
          </a:xfrm>
          <a:prstGeom prst="ellipse">
            <a:avLst/>
          </a:prstGeom>
          <a:noFill/>
          <a:ln w="57240">
            <a:solidFill>
              <a:srgbClr val="4d4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n = 5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= 6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1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1 = 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abla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2 entreg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4;0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95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)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= 9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n Matla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&gt;&gt; chi2inv(0.95,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2556000" y="3598920"/>
            <a:ext cx="1828800" cy="838080"/>
          </a:xfrm>
          <a:prstGeom prst="ellipse">
            <a:avLst/>
          </a:prstGeom>
          <a:noFill/>
          <a:ln w="57240">
            <a:solidFill>
              <a:srgbClr val="4d4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68920" y="36687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Ver  tab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964720" cy="4616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372360" y="2212920"/>
            <a:ext cx="647640" cy="289080"/>
          </a:xfrm>
          <a:prstGeom prst="ellipse">
            <a:avLst/>
          </a:prstGeom>
          <a:noFill/>
          <a:ln w="38160">
            <a:solidFill>
              <a:srgbClr val="4d4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 &gt;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(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95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Se rechaza hipót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4c3aa"/>
                </a:solidFill>
                <a:latin typeface="Arial Unicode MS"/>
              </a:rPr>
              <a:t>Test Kolmogorov-Smirnov (KS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 puede aplicar para cualquier numero de observaciones 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i n es gran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mejor agrupar las observaciones 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u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r el test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2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KS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compa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la funci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n de distribución experimental c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El modelo propuest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 us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valores absolutos de las diferencias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entre punto y pun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a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la distribución muestreada y F(t) la distribución propuest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La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discrepa</a:t>
            </a: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cia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para t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1371600" cy="784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38280" y="4648320"/>
            <a:ext cx="48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Puede demostrarse que la distribución 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n = max(Dn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i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epende solo de n; y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se puede escrib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085760" y="4572000"/>
            <a:ext cx="69724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ndi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al menos n = 50 observaci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 Unicode MS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Eviden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TBF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(días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23,16,56,71,4,25,51,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Mode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Gaussia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media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34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esviación standard 22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est con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= 5%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Probabilidad </a:t>
            </a:r>
            <a:br>
              <a:rPr sz="4400"/>
            </a:b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según población hipotétic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P(t &lt; 4) = P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((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4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34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)/22)=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0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08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En Exc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=DISTR.NORM.ESTAND((4-34)/2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07440" y="57546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Dn = max(Dn</a:t>
            </a:r>
            <a:r>
              <a:rPr b="0" lang="es-ES" sz="1200" spc="-1" strike="noStrike">
                <a:solidFill>
                  <a:srgbClr val="ffffff"/>
                </a:solidFill>
                <a:latin typeface="Arial Unicode MS"/>
              </a:rPr>
              <a:t>i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428840" y="1411200"/>
            <a:ext cx="5200560" cy="4695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257800" y="5526000"/>
            <a:ext cx="1295280" cy="685800"/>
          </a:xfrm>
          <a:prstGeom prst="ellipse">
            <a:avLst/>
          </a:prstGeom>
          <a:noFill/>
          <a:ln w="57240">
            <a:solidFill>
              <a:srgbClr val="4d4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400800" y="3087720"/>
            <a:ext cx="27432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6891" t="0" r="0" b="0"/>
          <a:stretch/>
        </p:blipFill>
        <p:spPr>
          <a:xfrm>
            <a:off x="3946680" y="1484280"/>
            <a:ext cx="3500280" cy="4608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940360" y="3284640"/>
            <a:ext cx="719280" cy="110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gún la tab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= 0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1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Unicode MS"/>
              </a:rPr>
              <a:t>n,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para n = 8,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= 0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05 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05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= 0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45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 acepta la hip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es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qué es esto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57200" y="1622520"/>
            <a:ext cx="82296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f(t)=Función de densidad probabilística para el tiempo de ocurrencia de la falla en función del tiempo 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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F(t)=Probabilidad de que un sistema falle antes de t unidades de tiempo (no-confiabilida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qué es esto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2590560" cy="1285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1467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qué es esto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987640" y="2854440"/>
            <a:ext cx="30956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i auto es súper confiable, hace tiempo que no me fal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(orientado a saber como es la curva de confiabilidad en función del tiempo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1. Se agrupan las observacion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ebe haber al menos 5 observaciones en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cada grup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Los intervalos para definir los grupos no son necesariamente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e la misma longitu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iempre debo elegir el criterio de mantención que minimize el costo glob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olo la demora del proceso produce el aumento de las col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n que casos conviene tener más de una cola para multiservidores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or que puedo dejar fijo beta y eta cuando estimo gamm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Qué pasa cuando beta es menor que 1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l test se basa e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iferencias entr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nro de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 o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bservaciones en cada grupo 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nro 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pronosticado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por la ley seleccionad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 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533680" y="2743200"/>
            <a:ext cx="407664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89154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 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 tiene una distribución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2 con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grados de liberta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= r 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k 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don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k = 1 para la ley exponencial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k = 2 para la ley normal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k = 3 para la ley de Weibu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 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hip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es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bservaciones siguen modelo propuesto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s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rechazad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495600" y="5105520"/>
            <a:ext cx="2152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057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Supóngase que para un grupo de equipos similares se han observado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los sigu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entes TB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44964" t="14246" r="33882" b="73288"/>
          <a:stretch/>
        </p:blipFill>
        <p:spPr>
          <a:xfrm>
            <a:off x="4716360" y="170028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5790240" y="45813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n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Hip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e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ley exponenci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tasa de fallas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= 1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/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1600 fallas/hor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 desea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realizar un te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confianza 9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5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0:39:54Z</dcterms:created>
  <dc:creator>laboratorio</dc:creator>
  <dc:description/>
  <dc:language>en-US</dc:language>
  <cp:lastModifiedBy>laboratorio</cp:lastModifiedBy>
  <dcterms:modified xsi:type="dcterms:W3CDTF">2010-06-03T16:48:54Z</dcterms:modified>
  <cp:revision>3</cp:revision>
  <dc:subject/>
  <dc:title>Diapositiva 1</dc:title>
</cp:coreProperties>
</file>