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26D2-1883-4F46-B4AC-733208B70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1B8E-23A5-4D62-9468-B49410E9B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BD3B-F000-427C-BCC0-DA4AA850F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CD48-3C63-4428-8B73-27CF233C6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BE41-17E9-4F2F-9CF7-4B04E0982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C8FB-2CE5-42DB-AEE6-5769528AA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1F60-FB07-4331-B7E7-66F511322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66D6-1ACE-4766-A03A-14DD0F40D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5BEA-93DD-464A-8304-4DAFF3025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1623-6E62-4517-97E8-CC5E3913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7C80-EFF6-42D7-9DA1-9ECDBA1D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FD2D-5606-4E95-B2C3-4CC09706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FF624-CBDA-4DF4-B678-894F9F94ECFA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549000"/>
            <a:ext cx="791676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SERIES DE TAYLOR Y DE LAURENT</a:t>
            </a:r>
            <a:br>
              <a:rPr sz="4400"/>
            </a:br>
            <a:br>
              <a:rPr sz="4400"/>
            </a:b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- CEROS  Y  POLOS           </a:t>
            </a: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800"/>
            </a:b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0755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CEROS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    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Un punto 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es un </a:t>
            </a: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cero de orden </a:t>
            </a:r>
            <a:r>
              <a:rPr b="0" i="1" lang="es-CL" sz="24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 de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una función holomorfa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si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f(z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) = f´(z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) = f´´(z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) = …= f</a:t>
            </a:r>
            <a:r>
              <a:rPr b="0" i="1" lang="es-CL" sz="2400" spc="-1" strike="noStrike" baseline="30000">
                <a:solidFill>
                  <a:srgbClr val="000000"/>
                </a:solidFill>
                <a:latin typeface="Arial"/>
              </a:rPr>
              <a:t>(m-1)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(z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) = 0,   f</a:t>
            </a:r>
            <a:r>
              <a:rPr b="0" i="1" lang="es-CL" sz="2400" spc="-1" strike="noStrike" baseline="30000">
                <a:solidFill>
                  <a:srgbClr val="000000"/>
                </a:solidFill>
                <a:latin typeface="Arial"/>
              </a:rPr>
              <a:t>(m)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(z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)   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    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Si  m=1,  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es un </a:t>
            </a: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cero si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jemplo: 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f(z) = z sen(z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z = 0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es un cero de orden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7236000" y="2781360"/>
                <a:ext cx="5029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3026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NGULARIDADES Y POL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836640"/>
            <a:ext cx="858024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78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- Un punto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es una </a:t>
            </a: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singularidad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aislada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de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f     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si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f 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es holomorfa en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 D –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, donde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 es una vecindad de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CL" sz="2800" spc="-1" strike="noStrike" baseline="-25000">
                <a:solidFill>
                  <a:srgbClr val="0099ff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8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8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- Una singularidad aislada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de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  es </a:t>
            </a: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reparable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si existe una función holomorfa 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g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en 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 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8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g(z) = f(z) ,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para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z   D –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(i.e., existe el limite de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en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8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-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es un </a:t>
            </a: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polo de orden </a:t>
            </a:r>
            <a:r>
              <a:rPr b="0" i="1" lang="es-CL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 de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ssi  existen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y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h 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holomorfas en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tales que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g(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)    0 ,  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es un cero de orden m de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y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 f(z) = g(z)/h(z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8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8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8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3492360" y="3789360"/>
                <a:ext cx="50328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6516720" y="5084640"/>
                <a:ext cx="504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PIE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362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es-ES" sz="2000" spc="-1" strike="noStrike" baseline="-25000">
                <a:solidFill>
                  <a:srgbClr val="000000"/>
                </a:solidFill>
                <a:latin typeface="Arial"/>
              </a:rPr>
              <a:t>0  </a:t>
            </a:r>
            <a:r>
              <a:rPr b="1" i="1" lang="es-ES" sz="20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es un polo de orden m de  </a:t>
            </a:r>
            <a:r>
              <a:rPr b="1" i="1" lang="es-E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ssi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lim (z – z</a:t>
            </a:r>
            <a:r>
              <a:rPr b="0" i="1" lang="es-E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s-ES" sz="20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f(z)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no existe para 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k = 1,…,m-1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y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lim (z – z</a:t>
            </a:r>
            <a:r>
              <a:rPr b="0" i="1" lang="es-E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s-ES" sz="20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f(z)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existe y es     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Sea 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  holomorfa  y 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es-E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 una singularidad aislada de 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 ,  y sea 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f(z) =      a</a:t>
            </a:r>
            <a:r>
              <a:rPr b="0" i="1" lang="es-E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(z – z</a:t>
            </a:r>
            <a:r>
              <a:rPr b="0" i="1" lang="es-E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s-ES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, la serie de Laurent de 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 en el anillo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A(z</a:t>
            </a:r>
            <a:r>
              <a:rPr b="0" i="1" lang="es-E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,0,r)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      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Ento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  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(i)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es-E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es singularidad reparable de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ssi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s-E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 = 0 ,  n &lt; 0 ,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i.e., la serie no tiene potencias negativas de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(z – z</a:t>
            </a:r>
            <a:r>
              <a:rPr b="0" i="1" lang="es-E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(ii)  z</a:t>
            </a:r>
            <a:r>
              <a:rPr b="0" i="1" lang="es-E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es polo de orden m de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ssi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s-ES" sz="2000" spc="-1" strike="noStrike" baseline="-25000">
                <a:solidFill>
                  <a:srgbClr val="000000"/>
                </a:solidFill>
                <a:latin typeface="Arial"/>
              </a:rPr>
              <a:t>-m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    0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y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s-E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 = 0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para 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n &lt; -m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iii)  z</a:t>
            </a:r>
            <a:r>
              <a:rPr b="0" i="1" lang="es-E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es una singularidad 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esencial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de</a:t>
            </a:r>
            <a:r>
              <a:rPr b="1" i="1" lang="es-ES" sz="20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s-ES" sz="2000" spc="-1" strike="noStrike">
                <a:solidFill>
                  <a:srgbClr val="0099ff"/>
                </a:solidFill>
                <a:latin typeface="Arial"/>
              </a:rPr>
              <a:t>ssi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s-E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    0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para  infinitos valores de 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= -1, -2, …,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i.e., la serie contiene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         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infinitas potencias negativas de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(z – z</a:t>
            </a:r>
            <a:r>
              <a:rPr b="0" i="1" lang="es-E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667200" y="2692080"/>
            <a:ext cx="360" cy="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6156360" y="4756320"/>
                <a:ext cx="5032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5148360" y="4149720"/>
                <a:ext cx="23004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619280" y="2565360"/>
                <a:ext cx="57456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796000" y="1773360"/>
                <a:ext cx="285840" cy="28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IMPORTA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24000" y="1483920"/>
            <a:ext cx="8496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99ff"/>
                </a:solidFill>
                <a:latin typeface="Arial"/>
              </a:rPr>
              <a:t>Caracterización equivalente de 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ceros</a:t>
            </a:r>
            <a:r>
              <a:rPr b="0" lang="es-ES" sz="2800" spc="-1" strike="noStrike">
                <a:solidFill>
                  <a:srgbClr val="0099ff"/>
                </a:solidFill>
                <a:latin typeface="Arial"/>
              </a:rPr>
              <a:t>  y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 po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800" spc="-1" strike="noStrike">
                <a:solidFill>
                  <a:srgbClr val="0099ff"/>
                </a:solidFill>
                <a:latin typeface="Arial"/>
              </a:rPr>
              <a:t>es un cero de orden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99ff"/>
                </a:solidFill>
                <a:latin typeface="Arial"/>
              </a:rPr>
              <a:t>de 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0" lang="es-ES" sz="2800" spc="-1" strike="noStrike">
                <a:solidFill>
                  <a:srgbClr val="0099ff"/>
                </a:solidFill>
                <a:latin typeface="Arial"/>
              </a:rPr>
              <a:t>si existe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s-ES" sz="28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99ff"/>
                </a:solidFill>
                <a:latin typeface="Arial"/>
              </a:rPr>
              <a:t> holomorfa en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E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800" spc="-1" strike="noStrike">
                <a:solidFill>
                  <a:srgbClr val="0099ff"/>
                </a:solidFill>
                <a:latin typeface="Arial"/>
              </a:rPr>
              <a:t>  tal que  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f(z)  =  (z-z</a:t>
            </a:r>
            <a:r>
              <a:rPr b="1" i="1" lang="es-E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es-ES" sz="2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g(z) ,  </a:t>
            </a:r>
            <a:r>
              <a:rPr b="0" lang="es-ES" sz="2800" spc="-1" strike="noStrike">
                <a:solidFill>
                  <a:srgbClr val="0099ff"/>
                </a:solidFill>
                <a:latin typeface="Arial"/>
              </a:rPr>
              <a:t>y 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g(z</a:t>
            </a:r>
            <a:r>
              <a:rPr b="1" i="1" lang="es-E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)     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8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800" spc="-1" strike="noStrike">
                <a:solidFill>
                  <a:srgbClr val="0099ff"/>
                </a:solidFill>
                <a:latin typeface="Arial"/>
              </a:rPr>
              <a:t>es un polo de orden</a:t>
            </a:r>
            <a:r>
              <a:rPr b="1" i="1" lang="es-ES" sz="28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s-ES" sz="2800" spc="-1" strike="noStrike">
                <a:solidFill>
                  <a:srgbClr val="0099ff"/>
                </a:solidFill>
                <a:latin typeface="Arial"/>
              </a:rPr>
              <a:t>de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 f  </a:t>
            </a:r>
            <a:r>
              <a:rPr b="0" lang="es-ES" sz="2800" spc="-1" strike="noStrike">
                <a:solidFill>
                  <a:srgbClr val="0099ff"/>
                </a:solidFill>
                <a:latin typeface="Arial"/>
              </a:rPr>
              <a:t>si existe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 h  </a:t>
            </a:r>
            <a:r>
              <a:rPr b="0" lang="es-ES" sz="2800" spc="-1" strike="noStrike">
                <a:solidFill>
                  <a:srgbClr val="0099ff"/>
                </a:solidFill>
                <a:latin typeface="Arial"/>
              </a:rPr>
              <a:t>holomorfa en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  z</a:t>
            </a:r>
            <a:r>
              <a:rPr b="1" i="1" lang="es-E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99ff"/>
                </a:solidFill>
                <a:latin typeface="Arial"/>
              </a:rPr>
              <a:t>tal que </a:t>
            </a:r>
            <a:r>
              <a:rPr b="1" lang="es-ES" sz="28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f(z) = (z-z</a:t>
            </a:r>
            <a:r>
              <a:rPr b="1" i="1" lang="es-E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es-ES" sz="2800" spc="-1" strike="noStrike" baseline="30000">
                <a:solidFill>
                  <a:srgbClr val="000000"/>
                </a:solidFill>
                <a:latin typeface="Arial"/>
              </a:rPr>
              <a:t>-p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h(z), </a:t>
            </a:r>
            <a:r>
              <a:rPr b="0" lang="es-ES" sz="2800" spc="-1" strike="noStrike">
                <a:solidFill>
                  <a:srgbClr val="0099ff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h(z</a:t>
            </a:r>
            <a:r>
              <a:rPr b="1" i="1" lang="es-E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)      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4932360" y="3500280"/>
                <a:ext cx="3589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5255640" y="50943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643280" y="5373720"/>
                <a:ext cx="3589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80755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907920"/>
            <a:ext cx="83516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Sea 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f(z) = zsen(z)/(1 – cos(z</a:t>
            </a:r>
            <a:r>
              <a:rPr b="1" i="1" lang="es-E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)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eros de f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z  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es cero de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 ssi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zsen(z) = 0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 y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-cos(z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zsen(z)=0  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ssi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z = 0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 o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z = k    ,  k  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entero.  Como            no es múltiplo entero de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                                 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si           ,  implicando que                      si               i.e.,         es un cero simple ya que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     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z = 0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 es una singularidad de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(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(0) = 0/0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).  Se determina si es o no reparable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         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Usando L’H :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im f(z)/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z=0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= [( sen(z) + zcos(z))/-2zsen(z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]/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z=0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= 0/0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,  y al aplicar otra vez L’H  resulta que el limite no existe, i.e.,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z = 0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 no es reparable. Para determinar si es un polo y su orden, se calcula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im zf(z)/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z=0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,  y se comprueba que tal limite no existe.  Se repite con el calculo de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im z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(z)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, el cual existe y es no-nulo, i.e.,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z = 0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es un polo de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de orden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      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Una manera alternativa es usar las series de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en(z)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 y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s(z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 en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z = 0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, resultand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 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(z) = [ z( z – z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/3! + … ) / ( 1 – (1 – z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/2! + …))] = ( 1 – z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/3! + …)/ z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 ½  + z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/4! - …)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     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i.e.,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(z) = z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h(z)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,  donde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h(z) = ( 1 – z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/3! + …)/( ½  + z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/4! - …)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, es holomorfa en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     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y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h(0) = 2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, lo que implica que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z = 0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 es un polo de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de orden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olos de f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z  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es cero de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 ssi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zsen(z)     0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 y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-cos(z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 = 0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-cos(z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 = 0  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ssi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z = z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=                  , k 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entero no-nulo (caso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z = 0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ya se consider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Como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k 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no es un múltiplo entero de      ,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sen(z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    0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  y por lo tanto,  z</a:t>
            </a:r>
            <a:r>
              <a:rPr b="0" lang="es-ES" sz="1600" spc="-1" strike="noStrike" baseline="-25000">
                <a:solidFill>
                  <a:srgbClr val="0099ff"/>
                </a:solidFill>
                <a:latin typeface="Arial"/>
              </a:rPr>
              <a:t>k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 es un polo de  f.   El  orden del polo es 1,  ya que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Arial"/>
              </a:rPr>
              <a:t>      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lim (z – z</a:t>
            </a:r>
            <a:r>
              <a:rPr b="0" lang="es-ES" sz="1600" spc="-1" strike="noStrike" baseline="-25000">
                <a:solidFill>
                  <a:srgbClr val="0099ff"/>
                </a:solidFill>
                <a:latin typeface="Arial"/>
              </a:rPr>
              <a:t>k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)f(z) = (L’H) lim [( zsen(z) + (z – z</a:t>
            </a:r>
            <a:r>
              <a:rPr b="0" lang="es-ES" sz="1600" spc="-1" strike="noStrike" baseline="-25000">
                <a:solidFill>
                  <a:srgbClr val="0099ff"/>
                </a:solidFill>
                <a:latin typeface="Arial"/>
              </a:rPr>
              <a:t>k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)(sen(z) + zcos(z)) / -2zsen(z</a:t>
            </a:r>
            <a:r>
              <a:rPr b="0" lang="es-ES" sz="1600" spc="-1" strike="noStrike" baseline="30000">
                <a:solidFill>
                  <a:srgbClr val="0099ff"/>
                </a:solidFill>
                <a:latin typeface="Arial"/>
              </a:rPr>
              <a:t>2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)]    0, en z</a:t>
            </a:r>
            <a:r>
              <a:rPr b="0" lang="es-ES" sz="1600" spc="-1" strike="noStrike" baseline="-25000">
                <a:solidFill>
                  <a:srgbClr val="0099ff"/>
                </a:solidFill>
                <a:latin typeface="Arial"/>
              </a:rPr>
              <a:t>k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300720" y="1268280"/>
                <a:ext cx="287280" cy="2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780000" y="1557360"/>
                <a:ext cx="28872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724360" y="1484280"/>
                <a:ext cx="622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kπ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8532720" y="1557360"/>
                <a:ext cx="28908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042920" y="1773360"/>
                <a:ext cx="129564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(</m:t>
                    </m:r>
                    <m:r>
                      <m:t xml:space="preserve">kπ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00360" y="1773360"/>
                <a:ext cx="57636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4859280" y="1779480"/>
                <a:ext cx="108108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kπ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6300720" y="1773360"/>
                <a:ext cx="576360" cy="28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7451640" y="1773360"/>
                <a:ext cx="360360" cy="29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843280" y="1989000"/>
                <a:ext cx="1152360" cy="3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kπ</m:t>
                    </m:r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859280" y="4508640"/>
                <a:ext cx="28908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419640" y="4724280"/>
                <a:ext cx="100800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kπ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500720" y="5013360"/>
                <a:ext cx="2872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5796000" y="5013360"/>
                <a:ext cx="28872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7740720" y="5445000"/>
                <a:ext cx="28872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915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RESIDUOS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 TEOREMA  DE  LOS  RESIDUOS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INTEGRALES  RE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560" y="1483920"/>
            <a:ext cx="8281800" cy="52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RESIDUOS</a:t>
            </a:r>
            <a:br>
              <a:rPr sz="3600"/>
            </a:br>
            <a:br>
              <a:rPr sz="3600"/>
            </a:b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Sea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una singularidad aislada de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holomorfa en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, y </a:t>
            </a:r>
            <a:br>
              <a:rPr sz="2400"/>
            </a:b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f(z) = </a:t>
            </a:r>
            <a:r>
              <a:rPr b="0" lang="es-ES" sz="3200" spc="-1" strike="noStrike">
                <a:solidFill>
                  <a:srgbClr val="0099ff"/>
                </a:solidFill>
                <a:latin typeface="Arial"/>
              </a:rPr>
              <a:t>                 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la serie de Laurent de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f.</a:t>
            </a:r>
            <a:r>
              <a:rPr b="0" lang="es-ES" sz="3200" spc="-1" strike="noStrike">
                <a:solidFill>
                  <a:srgbClr val="0099ff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El coeficiente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-1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se llama el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residuo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de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0" i="1" lang="es-ES" sz="2400" spc="-1" strike="noStrike">
                <a:solidFill>
                  <a:srgbClr val="0099ff"/>
                </a:solidFill>
                <a:latin typeface="Arial"/>
              </a:rPr>
              <a:t>en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z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i.e., 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Res(f, z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) =  a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-1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=                    ,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donde        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es una c.s.s.p.t.c. que encierra a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</a:t>
            </a:r>
            <a:br>
              <a:rPr sz="2400"/>
            </a:b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99ff"/>
                </a:solidFill>
                <a:latin typeface="Arial"/>
              </a:rPr>
              <a:t> </a:t>
            </a:r>
            <a:br>
              <a:rPr sz="32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050920" y="1700280"/>
                <a:ext cx="17290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219640" y="3357720"/>
                <a:ext cx="144936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i</m:t>
                        </m:r>
                      </m:den>
                    </m:f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979640" y="4221000"/>
                <a:ext cx="288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2340000" y="4292640"/>
                <a:ext cx="28728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⊂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528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ropiedad.   </a:t>
            </a:r>
            <a:r>
              <a:rPr b="0" lang="es-ES" sz="3200" spc="-1" strike="noStrike">
                <a:solidFill>
                  <a:srgbClr val="0099ff"/>
                </a:solidFill>
                <a:latin typeface="Arial"/>
              </a:rPr>
              <a:t>Si 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E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3200" spc="-1" strike="noStrike">
                <a:solidFill>
                  <a:srgbClr val="0099ff"/>
                </a:solidFill>
                <a:latin typeface="Arial"/>
              </a:rPr>
              <a:t>  es un polo de orden 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3200" spc="-1" strike="noStrike">
                <a:solidFill>
                  <a:srgbClr val="0099ff"/>
                </a:solidFill>
                <a:latin typeface="Arial"/>
              </a:rPr>
              <a:t> de  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3200" spc="-1" strike="noStrike">
                <a:solidFill>
                  <a:srgbClr val="0099ff"/>
                </a:solidFill>
                <a:latin typeface="Arial"/>
              </a:rPr>
              <a:t>  holomorfa en 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– {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E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s-ES" sz="3200" spc="-1" strike="noStrike">
                <a:solidFill>
                  <a:srgbClr val="0099ff"/>
                </a:solidFill>
                <a:latin typeface="Arial"/>
              </a:rPr>
              <a:t> , entonces el residuo de 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3200" spc="-1" strike="noStrike">
                <a:solidFill>
                  <a:srgbClr val="0099ff"/>
                </a:solidFill>
                <a:latin typeface="Arial"/>
              </a:rPr>
              <a:t>  en 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E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3200" spc="-1" strike="noStrike">
                <a:solidFill>
                  <a:srgbClr val="0099ff"/>
                </a:solidFill>
                <a:latin typeface="Arial"/>
              </a:rPr>
              <a:t>  es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Res(f, z</a:t>
            </a:r>
            <a:r>
              <a:rPr b="1" i="1" lang="es-E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) =                                            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987640" y="2637000"/>
                <a:ext cx="511344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  <m:sup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t xml:space="preserve">[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TEOREMA DE LOS RESIDU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50920" y="1628640"/>
            <a:ext cx="820872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Sea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holomorfa en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D -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                   , i.e.,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,…,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   son singularidades de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, (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s.c.).  Si     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es una       c.s.s.p.t.c. que  </a:t>
            </a: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encierra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los puntos 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s-CL" sz="2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, ento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4427640" y="1628640"/>
                <a:ext cx="18000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6300720" y="2205000"/>
                <a:ext cx="2761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6516720" y="2205000"/>
                <a:ext cx="36180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371680" y="3213000"/>
                <a:ext cx="439884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πi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  <m:r>
                              <m:t xml:space="preserve">s</m:t>
                            </m:r>
                            <m:r>
                              <m:t xml:space="preserve">(</m:t>
                            </m:r>
                            <m:r>
                              <m:t xml:space="preserve">f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INTEGRALES REA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4920" y="1600200"/>
            <a:ext cx="8280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aso I.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Integrales de funciones racionales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              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sen(  )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y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cos(  )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, i.e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donde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es una función racional de dos variables, por ejemp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y se identifican                         y                        .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627280" y="2133720"/>
                <a:ext cx="360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3924360" y="2133720"/>
                <a:ext cx="3585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195640" y="2565360"/>
                <a:ext cx="395100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</m:e>
                    </m:nary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,cos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d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2700360" y="4508640"/>
                <a:ext cx="295128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771640" y="5516640"/>
                <a:ext cx="1584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5292720" y="5445000"/>
                <a:ext cx="15843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RIES  DE  TAYL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71280" y="2133720"/>
            <a:ext cx="727380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Si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es holoforma en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, entonce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e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nalítica</a:t>
            </a: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 e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,  i.e.,  existe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r &gt; 0 </a:t>
            </a: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 y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{ 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 sucesión compleja  tales 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        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 z – 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,    z    D(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, r ) </a:t>
            </a: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do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     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     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3276720" y="3357720"/>
                <a:ext cx="4903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sub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5940360" y="3357720"/>
                <a:ext cx="15264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6012000" y="3500280"/>
                <a:ext cx="1008000" cy="2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4067280" y="4221000"/>
                <a:ext cx="100944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2124000" y="3357720"/>
                <a:ext cx="546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ALCULO DE LA INTEGRAL MEDIANTE TEOREMA DE LOS RESIDU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0647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Se usa la correspondencia de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[0, 2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]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con                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y        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ssi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x=cos(   ) </a:t>
            </a:r>
            <a:r>
              <a:rPr b="0" i="1" lang="es-ES" sz="2400" spc="-1" strike="noStrike">
                <a:solidFill>
                  <a:srgbClr val="0099ff"/>
                </a:solidFill>
                <a:latin typeface="Arial"/>
              </a:rPr>
              <a:t> y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  y=sen(   ),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donde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z = x + i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Estas relaciones implic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y por el T. de los residuos se tie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donde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I(  )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 es la región encerrada por     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5508720" y="1628640"/>
                <a:ext cx="28260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6588000" y="1484280"/>
                <a:ext cx="14414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: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042920" y="2060640"/>
                <a:ext cx="68256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∈</m:t>
                    </m:r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276720" y="1989000"/>
                <a:ext cx="2682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5219640" y="1989000"/>
                <a:ext cx="4176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826920" y="3141720"/>
                <a:ext cx="245448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</m:e>
                    </m: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3635280" y="3068640"/>
                <a:ext cx="235116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i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</m:e>
                    </m: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6443640" y="3141720"/>
                <a:ext cx="14414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z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d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611280" y="4653000"/>
                <a:ext cx="777708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cos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dθ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γ</m:t>
                            </m:r>
                          </m:sub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r>
                              <m:t xml:space="preserve">πi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∈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γ</m:t>
                                </m:r>
                                <m:r>
                                  <m:t xml:space="preserve">)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e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835280" y="6021360"/>
                <a:ext cx="23004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6012000" y="5950080"/>
                <a:ext cx="28404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77868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NUNCIADO  ALTERNA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   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Sea </a:t>
            </a:r>
            <a:r>
              <a:rPr b="1" i="1" lang="es-CL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es-CL" sz="24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continua en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D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abierto y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 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holomorfa en 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D – {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} . </a:t>
            </a:r>
            <a:r>
              <a:rPr b="1" i="1" lang="es-CL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Sea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 r &gt; 0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tal que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    (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, r )    D </a:t>
            </a:r>
            <a:r>
              <a:rPr b="1" i="1" lang="es-CL" sz="2400" spc="-1" strike="noStrike">
                <a:solidFill>
                  <a:srgbClr val="0099ff"/>
                </a:solidFill>
                <a:latin typeface="Arial"/>
              </a:rPr>
              <a:t>.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Entonces existe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{ a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}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sucesion compleja tal 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               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(z) =        a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(z – 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1" i="1" lang="es-CL" sz="2400" spc="-1" strike="noStrike" baseline="30000">
                <a:solidFill>
                  <a:srgbClr val="000000"/>
                </a:solidFill>
                <a:latin typeface="Arial"/>
              </a:rPr>
              <a:t>n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,   z   D(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, 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  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do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                        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i.e.,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es holomorfa en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ssi </a:t>
            </a:r>
            <a:r>
              <a:rPr b="1" i="1" lang="es-CL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es analitica en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6610320" y="25844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5148360" y="1989000"/>
                <a:ext cx="431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D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6516720" y="2133720"/>
                <a:ext cx="360360" cy="22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059280" y="3068640"/>
                <a:ext cx="65232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sub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5724360" y="3357720"/>
                <a:ext cx="43200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3564000" y="3860640"/>
                <a:ext cx="10080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916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814716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ECUENCIA  IMPORT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Si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es continua en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y  holomorfa en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 – {z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,z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,…,z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k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i="1" lang="en-US" sz="3200" spc="-1" strike="noStrike">
                <a:solidFill>
                  <a:srgbClr val="0099ff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entonce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 es holomorfa en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y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tiene derivada  de todo orden    en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300880" cy="91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DETERMINACION  DEL  DISCO  DE  CONVERGENCIA  DE  SERIES  DE  TAYLOR</a:t>
            </a:r>
            <a:br>
              <a:rPr sz="3200"/>
            </a:br>
            <a:br>
              <a:rPr sz="3200"/>
            </a:b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La serie de Taylor de 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en torno a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es una serie de potencias en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z – z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, y el correspondiente </a:t>
            </a: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disco de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convergencia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se determina encontrando el punto mas cercano a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en el cual 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no es holomorfa, i.e., si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400"/>
            </a:b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,...,z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, son los puntos en los cuales f no es holomorfa,</a:t>
            </a:r>
            <a:br>
              <a:rPr sz="2400"/>
            </a:b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el radio de convergencia es 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r = min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{I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 z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-z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Arial"/>
              </a:rPr>
              <a:t>k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}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y el disco</a:t>
            </a:r>
            <a:br>
              <a:rPr sz="2400"/>
            </a:b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de convergencia es 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,r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) = {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:  I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z – z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 &lt;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}           </a:t>
            </a: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920" y="-603360"/>
            <a:ext cx="8362800" cy="61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4527720" y="3333600"/>
                <a:ext cx="88560" cy="1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JEMPLO (serie de Taylor)                                               </a:t>
            </a: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864216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Determine la region de convergencia de la serie de Taylor de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en torno 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1)  z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 1+i ;  (2)  z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 -i :  (3)  z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 -3, 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y obtenga la</a:t>
            </a:r>
            <a:r>
              <a:rPr b="0" lang="es-CL" sz="18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correspondiente ser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olucion.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0" lang="es-CL" sz="1600" spc="-1" strike="noStrike">
                <a:solidFill>
                  <a:srgbClr val="0099ff"/>
                </a:solidFill>
                <a:latin typeface="Arial"/>
              </a:rPr>
              <a:t>Claramente, f no es holomorfa en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= 0, z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= i, y z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= -2.  r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min { Iz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– z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 }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aso (1):  r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1, </a:t>
            </a:r>
            <a:r>
              <a:rPr b="0" lang="es-CL" sz="1600" spc="-1" strike="noStrike">
                <a:solidFill>
                  <a:srgbClr val="0099ff"/>
                </a:solidFill>
                <a:latin typeface="Arial"/>
              </a:rPr>
              <a:t>y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D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= { z :  Iz – 1- i I &lt; 1 }  </a:t>
            </a:r>
            <a:r>
              <a:rPr b="0" lang="es-CL" sz="1600" spc="-1" strike="noStrike">
                <a:solidFill>
                  <a:srgbClr val="0099ff"/>
                </a:solidFill>
                <a:latin typeface="Arial"/>
              </a:rPr>
              <a:t>es la region de convergen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99ff"/>
                </a:solidFill>
                <a:latin typeface="Arial"/>
              </a:rPr>
              <a:t>Para obtener la S. de T. en torno a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=1+ i,</a:t>
            </a:r>
            <a:r>
              <a:rPr b="0" lang="es-CL" sz="1600" spc="-1" strike="noStrike">
                <a:solidFill>
                  <a:srgbClr val="0099ff"/>
                </a:solidFill>
                <a:latin typeface="Arial"/>
              </a:rPr>
              <a:t>  se descompone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1600" spc="-1" strike="noStrike">
                <a:solidFill>
                  <a:srgbClr val="0099ff"/>
                </a:solidFill>
                <a:latin typeface="Arial"/>
              </a:rPr>
              <a:t>  en fracciones parcia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99ff"/>
                </a:solidFill>
                <a:latin typeface="Arial"/>
              </a:rPr>
              <a:t>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                                                                                       </a:t>
            </a:r>
            <a:r>
              <a:rPr b="1" lang="es-CL" sz="1600" spc="-1" strike="noStrike">
                <a:solidFill>
                  <a:srgbClr val="0099ff"/>
                </a:solidFill>
                <a:latin typeface="Arial"/>
              </a:rPr>
              <a:t>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99ff"/>
                </a:solidFill>
                <a:latin typeface="Arial"/>
              </a:rPr>
              <a:t>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99ff"/>
                </a:solidFill>
                <a:latin typeface="Arial"/>
              </a:rPr>
              <a:t>                                         </a:t>
            </a:r>
            <a:r>
              <a:rPr b="1" lang="es-CL" sz="1600" spc="-1" strike="noStrike">
                <a:solidFill>
                  <a:srgbClr val="0099ff"/>
                </a:solidFill>
                <a:latin typeface="Arial"/>
              </a:rPr>
              <a:t>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99ff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99ff"/>
                </a:solidFill>
                <a:latin typeface="Arial"/>
              </a:rPr>
              <a:t>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2916360" y="1413000"/>
                <a:ext cx="18000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684360" y="2709720"/>
                <a:ext cx="237636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3708360" y="2852640"/>
                <a:ext cx="468000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i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i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i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157320" y="3284640"/>
                <a:ext cx="75834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z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r>
                                      <m:t xml:space="preserve">(</m:t>
                                    </m:r>
                                  </m:den>
                                </m:f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z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i</m:t>
                                    </m:r>
                                  </m:num>
                                  <m:den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i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i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812000" y="3500280"/>
                <a:ext cx="108108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&lt;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667640" y="3645000"/>
                <a:ext cx="130320" cy="17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250920" y="4005360"/>
                <a:ext cx="344160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i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3564000" y="4292640"/>
                <a:ext cx="109440" cy="1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4211640" y="4149720"/>
                <a:ext cx="1152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&lt;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50920" y="4653000"/>
                <a:ext cx="295272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sub>
                      <m:sup/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i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3492360" y="4797360"/>
                <a:ext cx="93528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250920" y="5229360"/>
                <a:ext cx="6121440" cy="59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z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r>
                                      <m:t xml:space="preserve">(</m:t>
                                    </m:r>
                                  </m:den>
                                </m:f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d>
                      </m:den>
                    </m:f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i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6769080" y="5300640"/>
                <a:ext cx="129528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&lt;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250920" y="6021360"/>
                <a:ext cx="184788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2700360" y="5950080"/>
                <a:ext cx="19922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i</m:t>
                        </m:r>
                      </m:den>
                    </m:f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4713120" y="5877000"/>
                <a:ext cx="410688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A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C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D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050920" y="6021360"/>
                <a:ext cx="68760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aso (2):  z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= -i,  r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1  </a:t>
            </a:r>
            <a:r>
              <a:rPr b="0" lang="es-CL" sz="1600" spc="-1" strike="noStrike">
                <a:solidFill>
                  <a:srgbClr val="0099ff"/>
                </a:solidFill>
                <a:latin typeface="Arial"/>
              </a:rPr>
              <a:t>y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D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= { z :  I z + i I &lt; 1 }  </a:t>
            </a:r>
            <a:r>
              <a:rPr b="0" lang="es-CL" sz="1600" spc="-1" strike="noStrike">
                <a:solidFill>
                  <a:srgbClr val="0099ff"/>
                </a:solidFill>
                <a:latin typeface="Arial"/>
              </a:rPr>
              <a:t>es la region de convergencia.</a:t>
            </a:r>
            <a:br>
              <a:rPr sz="1600"/>
            </a:br>
            <a:r>
              <a:rPr b="0" lang="es-CL" sz="1600" spc="-1" strike="noStrike">
                <a:solidFill>
                  <a:srgbClr val="0099ff"/>
                </a:solidFill>
                <a:latin typeface="Arial"/>
              </a:rPr>
              <a:t>Para obtener la S. de T. en torno a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i</a:t>
            </a:r>
            <a:r>
              <a:rPr b="0" lang="es-CL" sz="1600" spc="-1" strike="noStrike">
                <a:solidFill>
                  <a:srgbClr val="0099ff"/>
                </a:solidFill>
                <a:latin typeface="Arial"/>
              </a:rPr>
              <a:t>, se usa la descomposicion de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s-CL" sz="1600" spc="-1" strike="noStrike">
                <a:solidFill>
                  <a:srgbClr val="0099ff"/>
                </a:solidFill>
                <a:latin typeface="Arial"/>
              </a:rPr>
              <a:t>obtenida en el caso anterior.                                                                                                        </a:t>
            </a:r>
            <a:r>
              <a:rPr b="0" lang="es-CL" sz="700" spc="-1" strike="noStrike">
                <a:solidFill>
                  <a:srgbClr val="0099ff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362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99ff"/>
                </a:solidFill>
                <a:latin typeface="Arial"/>
              </a:rPr>
              <a:t>y reemplazando estas series en la descomposicion  de f  se obtiene la S. de T. pedi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99ff"/>
                </a:solidFill>
                <a:latin typeface="Arial"/>
              </a:rPr>
              <a:t>El caso (3) se desarrolla en forma simil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324000" y="1413000"/>
                <a:ext cx="67690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den>
                        </m:f>
                      </m:e>
                    </m:d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z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r>
                                      <m:t xml:space="preserve">−</m:t>
                                    </m:r>
                                    <m:r>
                                      <m:t xml:space="preserve">i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den>
                        </m:f>
                      </m:e>
                    </m:d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sub>
                      <m:sup/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z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</m:num>
                              <m:den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7451640" y="1484280"/>
                <a:ext cx="7923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347760" y="2133720"/>
                <a:ext cx="41288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</m:sub>
                      <m:sup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i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nary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+</m:t>
                    </m:r>
                    <m:r>
                      <m:t xml:space="preserve">i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95200" y="2924280"/>
                <a:ext cx="63928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den>
                        </m:f>
                      </m:e>
                    </m:d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z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r>
                                      <m:t xml:space="preserve">(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d>
                      </m:den>
                    </m:f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sub>
                      <m:sup/>
                      <m:e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50920" y="3716280"/>
                <a:ext cx="712944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den>
                        </m:f>
                      </m:e>
                    </m:d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z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r>
                                      <m:t xml:space="preserve">(</m:t>
                                    </m:r>
                                  </m:den>
                                </m:f>
                                <m:r>
                                  <m:t xml:space="preserve">2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d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den>
                        </m:f>
                      </m:e>
                    </m:d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+</m:t>
                    </m:r>
                    <m:r>
                      <m:t xml:space="preserve">i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4643280" y="2205000"/>
                <a:ext cx="7923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7020000" y="2997360"/>
                <a:ext cx="86508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7451640" y="3860640"/>
                <a:ext cx="1081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&lt;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RIES  DE  LAUREN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828036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Sea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holomorfa en el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nillo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centrado en z</a:t>
            </a:r>
            <a:r>
              <a:rPr b="0" lang="en-US" sz="2400" spc="-1" strike="noStrike" baseline="-25000">
                <a:solidFill>
                  <a:srgbClr val="0099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 y radios r</a:t>
            </a:r>
            <a:r>
              <a:rPr b="0" lang="en-US" sz="2400" spc="-1" strike="noStrike" baseline="-25000">
                <a:solidFill>
                  <a:srgbClr val="0099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, r</a:t>
            </a:r>
            <a:r>
              <a:rPr b="0" lang="en-US" sz="2400" spc="-1" strike="noStrike" baseline="-25000">
                <a:solidFill>
                  <a:srgbClr val="0099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( 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, 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, 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 = { z :  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z – 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}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Entonces, para cada</a:t>
            </a:r>
            <a:r>
              <a:rPr b="0" lang="en-US" sz="28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en el anillo se cumple 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(z) =    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( z – 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,  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               ,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=0,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,  2,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y      es cualquier circulo de centr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 y radio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&lt;    &lt; 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7740720" y="3573360"/>
                <a:ext cx="204840" cy="2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509920" y="2454120"/>
                <a:ext cx="233280" cy="43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427640" y="3500280"/>
                <a:ext cx="4316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788000" y="3357720"/>
                <a:ext cx="165564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900000" y="4437000"/>
                <a:ext cx="43200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6732720" y="4437000"/>
                <a:ext cx="26496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7667640" y="4437000"/>
                <a:ext cx="26496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332000" y="3357720"/>
                <a:ext cx="431640" cy="86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7308720" y="3573360"/>
                <a:ext cx="227160" cy="2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1700280"/>
            <a:ext cx="822960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EROS POLOS Y SINGULARIDADES ESENCI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530028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01:29:59Z</dcterms:created>
  <dc:creator>Jaime jr</dc:creator>
  <dc:description/>
  <dc:language>en-US</dc:language>
  <cp:lastModifiedBy>Jaime</cp:lastModifiedBy>
  <dcterms:modified xsi:type="dcterms:W3CDTF">2008-05-26T00:12:51Z</dcterms:modified>
  <cp:revision>27</cp:revision>
  <dc:subject/>
  <dc:title>TEOREMA DE CAUCHY CAUCHY-GOURSAT</dc:title>
</cp:coreProperties>
</file>