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F04-B95D-4F34-A1B4-14917612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7C4-3341-4AF4-B1F8-904B20B2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241-A585-41C5-AAC4-6E50B615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2CF-8D27-4878-B292-DD91961B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2D1-4AD5-43BF-A5A1-D231DD02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2F4-F91C-4ED7-9F87-CFA2E18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D17-90EB-4981-91D2-1BE2D6AB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BD1-E0AF-420C-B303-29D800C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8B9-12E7-43E8-92B4-2B5E291A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395-2BCB-4145-9AB2-4FC2F4C7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B08-673A-44F3-A96A-32425D1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0FC-C779-4DAB-A866-48751260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860B-DA0F-42CB-87BE-5EAAB10CEA6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C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COMPLEJA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26B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O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87280" y="3429000"/>
                <a:ext cx="6409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24000" y="1268280"/>
                <a:ext cx="1513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7672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2924280"/>
                <a:ext cx="1563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47640" y="422100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12920" y="4702320"/>
                <a:ext cx="169380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92360" y="162864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76360" y="2997360"/>
                <a:ext cx="57596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br>
              <a:rPr sz="44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AUCHY-GOURS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2781360"/>
            <a:ext cx="7274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ƒ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holomorfa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 D, D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mente conexo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(s.c.) en el plano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        es cualquier c.s.s.p.t. cerrada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58920" y="4005360"/>
                <a:ext cx="1128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987640" y="4869000"/>
                <a:ext cx="252108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71640" y="1413000"/>
                <a:ext cx="1439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64000" y="2708280"/>
                <a:ext cx="1656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35280" y="4365720"/>
                <a:ext cx="341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27640" y="4005360"/>
                <a:ext cx="2449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08000" y="2852640"/>
                <a:ext cx="1727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           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16000" y="1341360"/>
                <a:ext cx="165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24000" y="2781360"/>
                <a:ext cx="1511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867280" y="2637000"/>
                <a:ext cx="15829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08000" y="4292640"/>
                <a:ext cx="335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427640" y="4221000"/>
                <a:ext cx="9190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732720" y="3933720"/>
                <a:ext cx="1655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INDEPENDENCIA DE LA TRAYE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holomorfa en D, D s.c., y         y        son c.s.s.p.t. cerradas en D que unen dos puntos             en D 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isma orienta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)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XISTENCIA DE ANTIDE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es holomorfa en D, D s.c., existe     holomorfa en D tal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19280" y="1989000"/>
                <a:ext cx="37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92720" y="2060640"/>
                <a:ext cx="3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12000" y="20606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508720" y="2276640"/>
                <a:ext cx="792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4292640"/>
                <a:ext cx="322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580000" y="4292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03280" y="4869000"/>
                <a:ext cx="19447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03280" y="5661000"/>
                <a:ext cx="1944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92360" y="573408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64000" y="5661000"/>
                <a:ext cx="1008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71640" y="3068640"/>
                <a:ext cx="345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TEOREMA DE LA DE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D s.c.,      holomorf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y      son c.s.s.p.t. cerradas contenidos en D que encierran a      y                       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MPORTANTE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: Este resultado permite reemplazar el calculo de integrales sobre curvas por integrales sobr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IRCULOS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292720" y="2060640"/>
                <a:ext cx="100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35280" y="256536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2492280"/>
                <a:ext cx="284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35280" y="2852640"/>
                <a:ext cx="311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284720" y="2924280"/>
                <a:ext cx="1527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87640" y="3500280"/>
                <a:ext cx="2664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δ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1    Caso para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ea      holomorfa en D, D s.c., y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cualquier c.s.s.p.t. cerrada en 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35280" y="2924280"/>
                <a:ext cx="26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924280"/>
                <a:ext cx="792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92360" y="3357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0720" y="3213000"/>
                <a:ext cx="1800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11280" y="4365720"/>
                <a:ext cx="3095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2    Caso para derivadas de orde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     holomorfa en D, D s.c. y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ntonces      tien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rivadas de todo orden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y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             y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9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2060640"/>
                <a:ext cx="865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771640" y="2492280"/>
                <a:ext cx="3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67640" y="2492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3573360"/>
                <a:ext cx="42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40000" y="5373720"/>
                <a:ext cx="93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808440" y="5300640"/>
                <a:ext cx="1774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1413000"/>
                <a:ext cx="18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435640" y="170028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79640" y="2997360"/>
                <a:ext cx="216072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63640" y="4149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56000" y="4653000"/>
                <a:ext cx="143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49:14Z</dcterms:modified>
  <cp:revision>12</cp:revision>
  <dc:subject/>
  <dc:title>TEOREMA DE CAUCHY CAUCHY-GOURSAT</dc:title>
</cp:coreProperties>
</file>