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6E0A-4442-4ED8-B2ED-60699EDAE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B685-0977-4BA6-97C9-2EB95991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9311-2876-4E55-A798-8868AC14C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8AEA-22B0-4B62-8203-02086768A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9CB0-AE45-4525-8EF0-9CDC3504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0E52-8915-41E0-ACF6-8E38FD85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71CF-DA37-46A3-88E2-85DC9AB4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BDA4-8961-4A96-A354-BD98EE28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1BB0-A13F-4ACD-AB88-AFB194A3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635C-1B47-46DB-B2D7-27D42E01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DB9D-18C3-40C0-80BF-22A255D1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275A-9EF0-430A-83F5-55CEE0EC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5531-8B5F-4130-885F-90C1F53D2421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791676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RESIDUOS  Y  TEOREMA DE LOS RESIDUOS</a:t>
            </a:r>
            <a:br>
              <a:rPr sz="4400"/>
            </a:b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INTEGRALES REALES  </a:t>
            </a: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CULO DE LA INTEG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341360"/>
            <a:ext cx="814716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s-CL" sz="1800" spc="-1" strike="noStrike">
                <a:solidFill>
                  <a:srgbClr val="0099ff"/>
                </a:solidFill>
                <a:latin typeface="Arial"/>
              </a:rPr>
              <a:t>Se defin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f(z) = p(z)/q(z)  </a:t>
            </a:r>
            <a:r>
              <a:rPr b="0" lang="es-CL" sz="1800" spc="-1" strike="noStrike">
                <a:solidFill>
                  <a:srgbClr val="0099ff"/>
                </a:solidFill>
                <a:latin typeface="Arial"/>
              </a:rPr>
              <a:t>y se considera la 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CL" sz="1800" spc="-1" strike="noStrike">
                <a:solidFill>
                  <a:srgbClr val="0099ff"/>
                </a:solidFill>
                <a:latin typeface="Arial"/>
              </a:rPr>
              <a:t>  Se procede como el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Caso 2 </a:t>
            </a:r>
            <a:r>
              <a:rPr b="0" lang="es-CL" sz="1800" spc="-1" strike="noStrike">
                <a:solidFill>
                  <a:srgbClr val="0099ff"/>
                </a:solidFill>
                <a:latin typeface="Arial"/>
              </a:rPr>
              <a:t> y se obti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Las integrales resultan 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y  </a:t>
            </a:r>
            <a:r>
              <a:rPr b="0" lang="es-CL" sz="1400" spc="-1" strike="noStrike">
                <a:solidFill>
                  <a:srgbClr val="0099ff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059280" y="1844640"/>
                <a:ext cx="22320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αz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619280" y="2852640"/>
                <a:ext cx="54007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αx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i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αz</m:t>
                            </m:r>
                          </m:sup>
                        </m:sSup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i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826920" y="4221000"/>
                <a:ext cx="266544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572000" y="4149720"/>
                <a:ext cx="33130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IEDAD PREVIA AL CASO DE POLOS REALES SI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1989000"/>
            <a:ext cx="8064360" cy="40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opiedad.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ea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holomorfa en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D – {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},  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polo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simple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          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de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y      un arco de angulo     del circulo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                            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. Entonces se cu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492360" y="242100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372360" y="2565360"/>
                <a:ext cx="46656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627280" y="2852640"/>
                <a:ext cx="1081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700360" y="3500280"/>
                <a:ext cx="410508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ε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∫"/>
                        <m:supHide m:val="1"/>
                      </m:naryPr>
                      <m:sub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iα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IEDAD PREVIA AL CASO DE POLOS REALES SI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1989000"/>
            <a:ext cx="8064360" cy="40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opiedad.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ea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holomorfa en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D – {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},  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polo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simple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          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de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y      un arco de angulo     del circulo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                            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. Entonces se cu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492360" y="242100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372360" y="2565360"/>
                <a:ext cx="46656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627280" y="2852640"/>
                <a:ext cx="1081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700360" y="3500280"/>
                <a:ext cx="410508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ε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∫"/>
                        <m:supHide m:val="1"/>
                      </m:naryPr>
                      <m:sub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iα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o 4: </a:t>
            </a: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Integrales cuando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  tiene polos reale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imples</a:t>
            </a: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700280"/>
            <a:ext cx="8362800" cy="44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ropiedad.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  holomorfa en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D - A – B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, con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  a.s.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             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 = { 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:  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es polo simple de f },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             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B = { z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:  z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 es polo de f,  Im(z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)&gt;0 }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y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 B  </a:t>
            </a:r>
            <a:r>
              <a:rPr b="1" i="1" lang="es-CL" sz="2000" spc="-1" strike="noStrike">
                <a:solidFill>
                  <a:srgbClr val="ff0000"/>
                </a:solidFill>
                <a:latin typeface="Arial"/>
              </a:rPr>
              <a:t>finitos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Si existen ctes.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K&gt;0, M&gt;0, p&gt;1, 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tales 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                 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z)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K /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 ,   todo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z   Im(C)</a:t>
            </a:r>
            <a:r>
              <a:rPr b="1" i="1" lang="es-CL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y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 ,  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227640" y="3573360"/>
                <a:ext cx="28764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484360" y="3645000"/>
                <a:ext cx="287280" cy="24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572000" y="3645000"/>
                <a:ext cx="271440" cy="2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403280" y="4076640"/>
                <a:ext cx="65534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i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πi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483920"/>
            <a:ext cx="8281800" cy="52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RESIDUOS</a:t>
            </a:r>
            <a:br>
              <a:rPr sz="3600"/>
            </a:br>
            <a:br>
              <a:rPr sz="3600"/>
            </a:b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una singularidad aislada de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holomorfa en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, y 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f(z) = 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                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la serie de Laurent d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.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El coeficient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-1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e llama el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residuo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e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i="1" lang="es-ES" sz="2400" spc="-1" strike="noStrike">
                <a:solidFill>
                  <a:srgbClr val="0099ff"/>
                </a:solidFill>
                <a:latin typeface="Arial"/>
              </a:rPr>
              <a:t>en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i.e.,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Res(f, 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) =  a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-1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=                    ,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onde       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es una c.s.s.p.t.c. que encierra a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</a:t>
            </a:r>
            <a:br>
              <a:rPr sz="2400"/>
            </a:b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</a:t>
            </a: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050920" y="1700280"/>
                <a:ext cx="1729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219640" y="3357720"/>
                <a:ext cx="14493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i</m:t>
                        </m:r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979640" y="4221000"/>
                <a:ext cx="288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340000" y="4292640"/>
                <a:ext cx="2872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528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opiedad.   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Si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 es un polo de orden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de 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 holomorfa en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– {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, entonces el residuo de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 en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 es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Res(f, z</a:t>
            </a:r>
            <a:r>
              <a:rPr b="1" i="1" lang="es-E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) =                                 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987640" y="2637000"/>
                <a:ext cx="511344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  <m:sup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TEOREMA DE LOS RESIDU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50920" y="1628640"/>
            <a:ext cx="8208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holomorfa en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D -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                  , i.e.,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,…,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  son singularidades d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, (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s.c.).  Si     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es una       c.s.s.p.t.c. que  </a:t>
            </a: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encierra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los puntos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, ento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427640" y="1628640"/>
                <a:ext cx="1800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6300720" y="2205000"/>
                <a:ext cx="2761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516720" y="2205000"/>
                <a:ext cx="3618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371680" y="3213000"/>
                <a:ext cx="43988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i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NTEGRALES REA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4920" y="160020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so I.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Integrales de funciones racionales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sen(  )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y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cos(  )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, i.e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ond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es una función racional de dos variables, por ej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y se identifican                         y                        .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627280" y="213372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24360" y="2133720"/>
                <a:ext cx="3585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195640" y="2565360"/>
                <a:ext cx="39510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</m:e>
                    </m:nary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cos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d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700360" y="4508640"/>
                <a:ext cx="29512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771640" y="5516640"/>
                <a:ext cx="1584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292720" y="5445000"/>
                <a:ext cx="15843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ALCULO DE LA INTEGRAL MEDIANTE TEOREMA DE LOS RESID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064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e usa la correspondencia de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[0, 2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]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con                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y       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si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x=cos(   ) </a:t>
            </a:r>
            <a:r>
              <a:rPr b="0" i="1" lang="es-ES" sz="2400" spc="-1" strike="noStrike">
                <a:solidFill>
                  <a:srgbClr val="0099ff"/>
                </a:solidFill>
                <a:latin typeface="Arial"/>
              </a:rPr>
              <a:t> y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y=sen(   ),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ond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z = x + i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Estas relaciones implic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y por el T. de los residuos se tie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ond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I(  )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es la región encerrada por     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508720" y="1628640"/>
                <a:ext cx="28260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588000" y="1484280"/>
                <a:ext cx="14414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: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042920" y="2060640"/>
                <a:ext cx="68256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∈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276720" y="1989000"/>
                <a:ext cx="268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219640" y="1989000"/>
                <a:ext cx="4176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826920" y="3141720"/>
                <a:ext cx="24544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635280" y="3068640"/>
                <a:ext cx="23511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6443640" y="3141720"/>
                <a:ext cx="1441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11280" y="4653000"/>
                <a:ext cx="77770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cos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dθ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γ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πi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∈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835280" y="6021360"/>
                <a:ext cx="2300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6012000" y="5950080"/>
                <a:ext cx="28404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40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1484280"/>
            <a:ext cx="829152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o 2.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Integrales de la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                                   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Condiciones para la convergencia de la integ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                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,   para tod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y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q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no tienen factores comu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( ceros de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son los polos de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1" i="1" lang="en-US" sz="2400" spc="-1" strike="noStrike">
                <a:solidFill>
                  <a:srgbClr val="0099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284720" y="1989000"/>
                <a:ext cx="20160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826920" y="3573360"/>
                <a:ext cx="13687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826920" y="4292640"/>
                <a:ext cx="37450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ado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grado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763640" y="1989000"/>
                <a:ext cx="19447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91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O DE LA INTEGRA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1916280"/>
            <a:ext cx="8064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1.  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Se determinan las raices de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q(z) 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y sus     </a:t>
            </a:r>
            <a:r>
              <a:rPr b="1" lang="es-CL" sz="800" spc="-1" strike="noStrike">
                <a:solidFill>
                  <a:srgbClr val="0099ff"/>
                </a:solidFill>
                <a:latin typeface="Arial"/>
              </a:rPr>
              <a:t>.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correspondientes multiplicidades: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, y </a:t>
            </a:r>
            <a:r>
              <a:rPr b="1" i="1" lang="es-CL" sz="2400" spc="-1" strike="noStrike" baseline="-25000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(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es polo de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de orden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 )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Se calcula el </a:t>
            </a: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residuo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de cada polo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cuya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parte imaginaria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es positiva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El valor de la integral es:                               </a:t>
            </a:r>
            <a:r>
              <a:rPr b="1" lang="es-CL" sz="8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=                  .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403280" y="4581360"/>
                <a:ext cx="22320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284720" y="4797360"/>
                <a:ext cx="28083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i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836640"/>
            <a:ext cx="82915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aso 3:  </a:t>
            </a:r>
            <a:r>
              <a:rPr b="1" lang="es-CL" sz="2800" spc="-1" strike="noStrike">
                <a:solidFill>
                  <a:srgbClr val="0099ff"/>
                </a:solidFill>
                <a:latin typeface="Arial"/>
              </a:rPr>
              <a:t>Integrales de la forma 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CL" sz="2800" spc="-1" strike="noStrike">
                <a:solidFill>
                  <a:srgbClr val="0099ff"/>
                </a:solidFill>
                <a:latin typeface="Arial"/>
              </a:rPr>
              <a:t>Condiciones para la convergencia:</a:t>
            </a:r>
            <a:br>
              <a:rPr sz="2800"/>
            </a:br>
            <a:br>
              <a:rPr sz="2800"/>
            </a:br>
            <a:r>
              <a:rPr b="1" lang="es-CL" sz="2800" spc="-1" strike="noStrike">
                <a:solidFill>
                  <a:srgbClr val="0099ff"/>
                </a:solidFill>
                <a:latin typeface="Arial"/>
              </a:rPr>
              <a:t>-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q(x)     0                            </a:t>
            </a:r>
            <a:r>
              <a:rPr b="1" i="1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800"/>
            </a:b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s-CL" sz="2800" spc="-1" strike="noStrike">
                <a:solidFill>
                  <a:srgbClr val="0099ff"/>
                </a:solidFill>
                <a:latin typeface="Arial"/>
              </a:rPr>
              <a:t>-                                           .</a:t>
            </a:r>
            <a:br>
              <a:rPr sz="2800"/>
            </a:br>
            <a:r>
              <a:rPr b="1" lang="es-CL" sz="28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755640" y="763560"/>
                <a:ext cx="28796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932360" y="641520"/>
                <a:ext cx="2879640" cy="12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α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348000" y="3141720"/>
                <a:ext cx="4366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56000" y="3860640"/>
                <a:ext cx="432108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ado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grado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01:29:59Z</dcterms:created>
  <dc:creator>Jaime jr</dc:creator>
  <dc:description/>
  <dc:language>en-US</dc:language>
  <cp:lastModifiedBy>Jaime</cp:lastModifiedBy>
  <dcterms:modified xsi:type="dcterms:W3CDTF">2008-05-26T00:48:11Z</dcterms:modified>
  <cp:revision>31</cp:revision>
  <dc:subject/>
  <dc:title>TEOREMA DE CAUCHY CAUCHY-GOURSAT</dc:title>
</cp:coreProperties>
</file>