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7C3-F5CB-4C7C-9533-90FAB841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38A-8A47-40AE-BA71-273F9637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1BD-5D71-47FC-9F17-DDC4E916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4FB-A39F-46EA-89D9-A06676E9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73E-823F-44E6-BBBC-D611D7B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E67-7EE9-4D10-9863-6451184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A1C-D745-4849-B3D9-FF832372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75C-83B5-4D14-A17A-4C8A2B50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681-9754-483E-AB9B-16B20AAB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EA1-2B6C-4DE7-964D-D7BA9D4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CBB-B980-43CB-BC28-E0FAF20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566-6FC0-4448-B8FE-F63BB0F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FBA-F369-465D-8D01-BD825CB5D11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O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76360" y="299736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4292640"/>
                <a:ext cx="322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4292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9:14Z</dcterms:modified>
  <cp:revision>12</cp:revision>
  <dc:subject/>
  <dc:title>TEOREMA DE CAUCHY CAUCHY-GOURSAT</dc:title>
</cp:coreProperties>
</file>