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0B7-DE3B-4972-8E14-20C95DBC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C85-B503-4E00-BA09-75A59E5D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D29-6490-4C99-9E92-5D1E1DBC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E44-7FFB-4D07-8505-C9F4C762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A22-3866-477A-9718-E3F9F0B7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3F6-8CA1-40C1-9302-9602727F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487-20C5-48F7-8357-7B6A8EB0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28C-069E-4515-B8D1-BB3470B2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7F9-22EB-4D7D-82AB-E94EAE44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917-2DCC-4051-9BA0-9E27F4EF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5DC-AD81-4564-9637-8B9922C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D7B-E3B7-48C9-8E48-CFE1A5EF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4B26-E03B-43A2-8999-33E84C340C99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79167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RESIDUOS  Y  TEOREMA DE LOS RESIDUOS</a:t>
            </a: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INTEGRALES REALES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O DE LA INTEG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341360"/>
            <a:ext cx="81471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Se defin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(z) = p(z)/q(z) 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y se considera l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 Se procede como el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aso 2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y se ob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Las integrales resultan 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0" lang="es-CL" sz="1400" spc="-1" strike="noStrike">
                <a:solidFill>
                  <a:srgbClr val="0099ff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59280" y="1844640"/>
                <a:ext cx="2232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z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19280" y="2852640"/>
                <a:ext cx="5400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x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i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z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26920" y="4221000"/>
                <a:ext cx="26654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72000" y="4149720"/>
                <a:ext cx="3313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IEDAD PREVIA AL CASO DE POLOS REALES 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989000"/>
            <a:ext cx="806436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, 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polo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y      un arco de angulo     del circul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. Entonces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492360" y="24210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72360" y="2565360"/>
                <a:ext cx="4665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627280" y="2852640"/>
                <a:ext cx="108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00360" y="3500280"/>
                <a:ext cx="4105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iα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IEDAD PREVIA AL CASO DE POLOS REALES 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1989000"/>
            <a:ext cx="806436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, 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polo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y      un arco de angulo     del circul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. Entonces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492360" y="24210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72360" y="2565360"/>
                <a:ext cx="4665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627280" y="2852640"/>
                <a:ext cx="108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00360" y="3500280"/>
                <a:ext cx="4105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iα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o 4: 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Integrales cuand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  tiene polos real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ples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iedad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 - A – B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, co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a.s.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= { 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:  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es polo simple de f },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B = { 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:  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es polo de f,  Im(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&gt;0 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B  </a:t>
            </a:r>
            <a:r>
              <a:rPr b="1" i="1" lang="es-CL" sz="2000" spc="-1" strike="noStrike">
                <a:solidFill>
                  <a:srgbClr val="ff0000"/>
                </a:solidFill>
                <a:latin typeface="Arial"/>
              </a:rPr>
              <a:t>finitos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Si existen ctes.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&gt;0, M&gt;0, p&gt;1,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tales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 /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,   todo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z   Im(C)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,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227640" y="3573360"/>
                <a:ext cx="2876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484360" y="3645000"/>
                <a:ext cx="28728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72000" y="3645000"/>
                <a:ext cx="27144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403280" y="4076640"/>
                <a:ext cx="6553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483920"/>
            <a:ext cx="82818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3600"/>
            </a:br>
            <a:br>
              <a:rPr sz="36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una singularidad aislad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y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(z) =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l coeficient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llama el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residuo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 =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                   ,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c.s.s.p.t.c. que encierra 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0920" y="1700280"/>
                <a:ext cx="172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219640" y="3357720"/>
                <a:ext cx="1449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979640" y="4221000"/>
                <a:ext cx="288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340000" y="4292640"/>
                <a:ext cx="287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piedad.  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Si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 un polo de ord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– {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, entonces el residuo de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) =            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987640" y="2637000"/>
                <a:ext cx="5113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TEOREMA DE LOS RESI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holomorfa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 -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            , i.e.,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son singularidades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, (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.c.).  Si  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es una       c.s.s.p.t.c. que 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ncierr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los puntos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427640" y="1628640"/>
                <a:ext cx="180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300720" y="2205000"/>
                <a:ext cx="276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516720" y="2205000"/>
                <a:ext cx="361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371680" y="3213000"/>
                <a:ext cx="4398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EGRALES REA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 I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ntegrales de funciones racionale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en(  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cos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i.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función racional de dos variables, por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se identifican                         y                        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627280" y="213372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24360" y="2133720"/>
                <a:ext cx="358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195640" y="2565360"/>
                <a:ext cx="3951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700360" y="4508640"/>
                <a:ext cx="2951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71640" y="551664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292720" y="5445000"/>
                <a:ext cx="158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LCULO DE LA INTEGRAL MEDIANTE TEOREMA DE LOS RES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usa la correspondenci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[0, 2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=cos(   )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 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y=sen(   )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 = x + i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tas relaciones impli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por el T. de los residuos se 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es la región encerrada por     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08720" y="16286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588000" y="1484280"/>
                <a:ext cx="1441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2060640"/>
                <a:ext cx="6825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276720" y="1989000"/>
                <a:ext cx="268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219640" y="1989000"/>
                <a:ext cx="417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26920" y="3141720"/>
                <a:ext cx="24544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635280" y="3068640"/>
                <a:ext cx="235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443640" y="3141720"/>
                <a:ext cx="144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11280" y="4653000"/>
                <a:ext cx="777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835280" y="6021360"/>
                <a:ext cx="2300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12000" y="5950080"/>
                <a:ext cx="284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o 2.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Integrales de la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Condiciones para la convergencia de la integ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,   para to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q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no tienen factore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( ceros d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son los polos d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84720" y="1989000"/>
                <a:ext cx="2016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26920" y="3573360"/>
                <a:ext cx="1368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26920" y="4292640"/>
                <a:ext cx="3745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63640" y="1989000"/>
                <a:ext cx="194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O DE LA INTEGR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916280"/>
            <a:ext cx="8064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determinan las raices d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q(z)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y sus     </a:t>
            </a:r>
            <a:r>
              <a:rPr b="1" lang="es-CL" sz="800" spc="-1" strike="noStrike">
                <a:solidFill>
                  <a:srgbClr val="0099ff"/>
                </a:solidFill>
                <a:latin typeface="Arial"/>
              </a:rPr>
              <a:t>.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correspondientes multiplicidades: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, y </a:t>
            </a:r>
            <a:r>
              <a:rPr b="1" i="1" lang="es-CL" sz="24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(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es polo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de ord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calcula el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residuo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de cada pol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cuy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parte imaginari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s positiv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l valor de la integral es:                               </a:t>
            </a:r>
            <a:r>
              <a:rPr b="1" lang="es-CL" sz="8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=                  .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03280" y="4581360"/>
                <a:ext cx="2232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284720" y="4797360"/>
                <a:ext cx="2808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i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836640"/>
            <a:ext cx="82915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so 3:  </a:t>
            </a: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Integrales de la forma 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Condiciones para la convergencia:</a:t>
            </a: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-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q(x)     0                            </a:t>
            </a: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800"/>
            </a:b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-                                           .</a:t>
            </a: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55640" y="763560"/>
                <a:ext cx="287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932360" y="641520"/>
                <a:ext cx="287964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α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48000" y="3141720"/>
                <a:ext cx="4366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3860640"/>
                <a:ext cx="43210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Jaime</cp:lastModifiedBy>
  <dcterms:modified xsi:type="dcterms:W3CDTF">2008-05-26T00:48:11Z</dcterms:modified>
  <cp:revision>31</cp:revision>
  <dc:subject/>
  <dc:title>TEOREMA DE CAUCHY CAUCHY-GOURSAT</dc:title>
</cp:coreProperties>
</file>