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113-FB28-4328-B765-D193B832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0138-EEB1-4B52-907B-3423D76F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990-3F94-425D-A9C3-2558AD5F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FE9-459E-4AEF-8979-C0282548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9C9E-AB54-46C9-9F5B-45804832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BFB9-522B-4E89-9490-1882D520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7CBB-96EE-4BCA-8645-04F615B5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B4B3-5D25-4099-ADDD-EFCB7EF7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C8F-E51B-44E8-8DA4-B0C9F3A7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760-55A1-4E3B-8FCE-3AB90B5A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CC54-2BD6-41EE-BEB6-D62F4163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BDDC-E238-4D27-A12E-86454336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55F0-1D9B-4FEC-A0E2-8E418195ED36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791676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RESIDUOS  Y  TEOREMA DE LOS RESIDUOS</a:t>
            </a:r>
            <a:br>
              <a:rPr sz="4400"/>
            </a:b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INTEGRALES REALES 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O DE LA INTEG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341360"/>
            <a:ext cx="81471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Se defin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(z) = p(z)/q(z)  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y se considera l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  Se procede como el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aso 2 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 y se ob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Las integrales resultan 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y  </a:t>
            </a:r>
            <a:r>
              <a:rPr b="0" lang="es-CL" sz="1400" spc="-1" strike="noStrike">
                <a:solidFill>
                  <a:srgbClr val="0099ff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059280" y="1844640"/>
                <a:ext cx="2232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αz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19280" y="2852640"/>
                <a:ext cx="54007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αx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i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αz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826920" y="4221000"/>
                <a:ext cx="26654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72000" y="4149720"/>
                <a:ext cx="33130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IEDAD PREVIA AL CASO DE POLOS REALES SI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989000"/>
            <a:ext cx="806436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opiedad.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 – {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, 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polo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simple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y      un arco de angulo     del circul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          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. Entonces se cu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492360" y="242100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372360" y="2565360"/>
                <a:ext cx="4665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627280" y="2852640"/>
                <a:ext cx="1081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700360" y="3500280"/>
                <a:ext cx="4105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iα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IEDAD PREVIA AL CASO DE POLOS REALES SI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1989000"/>
            <a:ext cx="806436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opiedad.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 – {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, 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polo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simple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y      un arco de angulo     del circul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          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. Entonces se cu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492360" y="242100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372360" y="2565360"/>
                <a:ext cx="4665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627280" y="2852640"/>
                <a:ext cx="1081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700360" y="3500280"/>
                <a:ext cx="4105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iα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o 4: 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Integrales cuand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  tiene polos real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mples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700280"/>
            <a:ext cx="83628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piedad.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D - A – B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, co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a.s.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       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= { 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:  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es polo simple de f },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       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B = { z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:  z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es polo de f,  Im(z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&gt;0 }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B  </a:t>
            </a:r>
            <a:r>
              <a:rPr b="1" i="1" lang="es-CL" sz="2000" spc="-1" strike="noStrike">
                <a:solidFill>
                  <a:srgbClr val="ff0000"/>
                </a:solidFill>
                <a:latin typeface="Arial"/>
              </a:rPr>
              <a:t>finitos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Si existen ctes.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K&gt;0, M&gt;0, p&gt;1,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tales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             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z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K /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,   todo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z   Im(C)</a:t>
            </a:r>
            <a:r>
              <a:rPr b="1" i="1" lang="es-C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y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 ,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227640" y="3573360"/>
                <a:ext cx="28764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484360" y="3645000"/>
                <a:ext cx="287280" cy="24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572000" y="3645000"/>
                <a:ext cx="27144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403280" y="4076640"/>
                <a:ext cx="65534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i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πi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483920"/>
            <a:ext cx="828180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SIDUOS</a:t>
            </a:r>
            <a:br>
              <a:rPr sz="3600"/>
            </a:br>
            <a:br>
              <a:rPr sz="36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una singularidad aislada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y 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(z) =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la serie de Laurent 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l coeficient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1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 llama el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residuo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.e.,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es(f,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 =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1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=                    ,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s una c.s.s.p.t.c. que encierra a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50920" y="1700280"/>
                <a:ext cx="1729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219640" y="3357720"/>
                <a:ext cx="1449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979640" y="4221000"/>
                <a:ext cx="288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340000" y="4292640"/>
                <a:ext cx="2872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52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piedad.  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Si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s un polo de ord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de 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– {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, entonces el residuo de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Res(f, 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) =                            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987640" y="2637000"/>
                <a:ext cx="51134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TEOREMA DE LOS RESID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0920" y="1628640"/>
            <a:ext cx="8208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holomorfa 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 -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                , i.e.,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,…,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son singularidades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, (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s.c.).  Si    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es una       c.s.s.p.t.c. que 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ncierra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los puntos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, ento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427640" y="1628640"/>
                <a:ext cx="1800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300720" y="2205000"/>
                <a:ext cx="2761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516720" y="2205000"/>
                <a:ext cx="3618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371680" y="3213000"/>
                <a:ext cx="43988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i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TEGRALES REA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so I.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ntegrales de funciones racionales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en(  )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cos(  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i.e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s una función racional de dos variables, por 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se identifican                         y                        .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627280" y="213372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24360" y="2133720"/>
                <a:ext cx="358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195640" y="2565360"/>
                <a:ext cx="3951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700360" y="4508640"/>
                <a:ext cx="29512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771640" y="5516640"/>
                <a:ext cx="1584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292720" y="5445000"/>
                <a:ext cx="1584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LCULO DE LA INTEGRAL MEDIANTE TEOREMA DE LOS RESI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06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 usa la correspondencia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[0, 2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on           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si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x=cos(   )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 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y=sen(   ),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 = x + i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tas relaciones impli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por el T. de los residuos se tie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I(  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es la región encerrada por     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508720" y="1628640"/>
                <a:ext cx="2826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588000" y="1484280"/>
                <a:ext cx="1441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042920" y="2060640"/>
                <a:ext cx="6825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∈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276720" y="1989000"/>
                <a:ext cx="268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219640" y="1989000"/>
                <a:ext cx="417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26920" y="3141720"/>
                <a:ext cx="24544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635280" y="3068640"/>
                <a:ext cx="23511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443640" y="3141720"/>
                <a:ext cx="144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11280" y="4653000"/>
                <a:ext cx="7777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cos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γ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πi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835280" y="6021360"/>
                <a:ext cx="2300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012000" y="5950080"/>
                <a:ext cx="2840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484280"/>
            <a:ext cx="82915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o 2.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Integrales de la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                             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Condiciones para la convergencia de la integ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,   para to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q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no tienen factores com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( ceros de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son los polos de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i="1" lang="en-US" sz="2400" spc="-1" strike="noStrike">
                <a:solidFill>
                  <a:srgbClr val="0099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284720" y="1989000"/>
                <a:ext cx="2016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26920" y="3573360"/>
                <a:ext cx="1368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826920" y="4292640"/>
                <a:ext cx="37450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o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grado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63640" y="1989000"/>
                <a:ext cx="1944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O DE LA INTEGRA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916280"/>
            <a:ext cx="8064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 determinan las raices d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q(z)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y sus     </a:t>
            </a:r>
            <a:r>
              <a:rPr b="1" lang="es-CL" sz="800" spc="-1" strike="noStrike">
                <a:solidFill>
                  <a:srgbClr val="0099ff"/>
                </a:solidFill>
                <a:latin typeface="Arial"/>
              </a:rPr>
              <a:t>.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correspondientes multiplicidades: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, y </a:t>
            </a:r>
            <a:r>
              <a:rPr b="1" i="1" lang="es-CL" sz="24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(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es polo 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de ord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)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 calcula el 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residuo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de cada polo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cuya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parte imaginaria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es positiva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El valor de la integral es:                               </a:t>
            </a:r>
            <a:r>
              <a:rPr b="1" lang="es-CL" sz="8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=                  .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403280" y="4581360"/>
                <a:ext cx="2232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284720" y="4797360"/>
                <a:ext cx="2808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i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836640"/>
            <a:ext cx="82915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aso 3:  </a:t>
            </a:r>
            <a:r>
              <a:rPr b="1" lang="es-CL" sz="2800" spc="-1" strike="noStrike">
                <a:solidFill>
                  <a:srgbClr val="0099ff"/>
                </a:solidFill>
                <a:latin typeface="Arial"/>
              </a:rPr>
              <a:t>Integrales de la forma 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CL" sz="2800" spc="-1" strike="noStrike">
                <a:solidFill>
                  <a:srgbClr val="0099ff"/>
                </a:solidFill>
                <a:latin typeface="Arial"/>
              </a:rPr>
              <a:t>Condiciones para la convergencia:</a:t>
            </a:r>
            <a:br>
              <a:rPr sz="2800"/>
            </a:br>
            <a:br>
              <a:rPr sz="2800"/>
            </a:br>
            <a:r>
              <a:rPr b="1" lang="es-CL" sz="2800" spc="-1" strike="noStrike">
                <a:solidFill>
                  <a:srgbClr val="0099ff"/>
                </a:solidFill>
                <a:latin typeface="Arial"/>
              </a:rPr>
              <a:t>-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q(x)     0                            </a:t>
            </a:r>
            <a:r>
              <a:rPr b="1" i="1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800"/>
            </a:b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s-CL" sz="2800" spc="-1" strike="noStrike">
                <a:solidFill>
                  <a:srgbClr val="0099ff"/>
                </a:solidFill>
                <a:latin typeface="Arial"/>
              </a:rPr>
              <a:t>-                                           .</a:t>
            </a:r>
            <a:br>
              <a:rPr sz="2800"/>
            </a:br>
            <a:r>
              <a:rPr b="1" lang="es-CL" sz="28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55640" y="763560"/>
                <a:ext cx="287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932360" y="641520"/>
                <a:ext cx="287964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α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348000" y="3141720"/>
                <a:ext cx="4366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3860640"/>
                <a:ext cx="432108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o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grado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Jaime</cp:lastModifiedBy>
  <dcterms:modified xsi:type="dcterms:W3CDTF">2008-05-26T00:48:11Z</dcterms:modified>
  <cp:revision>31</cp:revision>
  <dc:subject/>
  <dc:title>TEOREMA DE CAUCHY CAUCHY-GOURSAT</dc:title>
</cp:coreProperties>
</file>