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A13-A480-449B-81A5-C6E225AE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036-0D63-49BF-8905-91C9E38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043-E358-43A1-947F-EA030701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304-B449-4F9F-8451-E4F88A3A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CA6-5CF8-440C-A21D-D7623912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0CF-0676-44EC-8A0D-D2CBC59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1D0-6EE0-444C-9410-DC16E709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33A-3BD1-4532-801E-19F1C4F5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191-6744-4BB3-809D-17B3D5B4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3DC-AF82-4FEF-B80C-DF8F8DB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2F5-2BEA-4D7F-8B62-7BB7DCE3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4C5-BF12-4783-AFB8-783375A4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CBA6-F30A-4C11-B05C-D1C9F4C9C1C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791676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RESIDUOS  Y  TEOREMA DE LOS RESIDUOS</a:t>
            </a: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INTEGRALES REALES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41360"/>
            <a:ext cx="8147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Se defin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(z) = p(z)/q(z) 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y se considera l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 Se procede como el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aso 2 </a:t>
            </a:r>
            <a:r>
              <a:rPr b="0" lang="es-CL" sz="1800" spc="-1" strike="noStrike">
                <a:solidFill>
                  <a:srgbClr val="0099ff"/>
                </a:solidFill>
                <a:latin typeface="Arial"/>
              </a:rPr>
              <a:t> y se ob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Las integrales resultan 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 </a:t>
            </a: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59280" y="1844640"/>
                <a:ext cx="2232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2852640"/>
                <a:ext cx="540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x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αz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26920" y="4221000"/>
                <a:ext cx="26654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72000" y="4149720"/>
                <a:ext cx="3313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IEDAD PREVIA AL CASO DE POLOS REALES SI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989000"/>
            <a:ext cx="806436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.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 – {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}, 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pol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simple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y      un arco de angulo     del circu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0" lang="es-CL" sz="2400" spc="-1" strike="noStrike">
                <a:solidFill>
                  <a:srgbClr val="0099ff"/>
                </a:solidFill>
                <a:latin typeface="Arial"/>
              </a:rPr>
              <a:t>. Entonces se cu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9236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72360" y="2565360"/>
                <a:ext cx="466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27280" y="2852640"/>
                <a:ext cx="108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00360" y="3500280"/>
                <a:ext cx="41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iα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o 4: 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Integrales cuand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 tiene polos real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ples</a:t>
            </a: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00280"/>
            <a:ext cx="8362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- A – B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, co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a.s.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= {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es polo simple de f },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 = {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:  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es polo de f,  Im(z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&gt;0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B  </a:t>
            </a: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finitos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Si existen ctes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&gt;0, M&gt;0, p&gt;1,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tales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z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 /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,   tod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   Im(C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,  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27640" y="3573360"/>
                <a:ext cx="287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484360" y="3645000"/>
                <a:ext cx="28728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3645000"/>
                <a:ext cx="271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03280" y="4076640"/>
                <a:ext cx="6553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28180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SIDUOS</a:t>
            </a:r>
            <a:br>
              <a:rPr sz="3600"/>
            </a:br>
            <a:br>
              <a:rPr sz="36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una singularidad aislad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y </a:t>
            </a:r>
            <a:br>
              <a:rPr sz="2400"/>
            </a:b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(z) =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la serie de Laurent 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l coeficient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llama el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residuo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.e.,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) =  a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=                    ,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c.s.s.p.t.c. que encierra 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br>
              <a:rPr sz="2400"/>
            </a:b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0920" y="1700280"/>
                <a:ext cx="172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219640" y="3357720"/>
                <a:ext cx="144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79640" y="4221000"/>
                <a:ext cx="288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340000" y="4292640"/>
                <a:ext cx="2872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piedad.   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Si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 un polo de ord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holomorfa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– {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, entonces el residuo d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3200" spc="-1" strike="noStrike">
                <a:solidFill>
                  <a:srgbClr val="0099ff"/>
                </a:solidFill>
                <a:latin typeface="Arial"/>
              </a:rPr>
              <a:t>  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Res(f, z</a:t>
            </a:r>
            <a:r>
              <a:rPr b="1" i="1" lang="es-E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) =   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987640" y="2637000"/>
                <a:ext cx="5113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TEOREMA DE LOS RESI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208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holomorfa en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 -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                , i.e.,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,…,z</a:t>
            </a:r>
            <a:r>
              <a:rPr b="1" i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   son singularidades de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, (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s.c.).  Si     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es una       c.s.s.p.t.c. que  </a:t>
            </a: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ncierra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 los puntos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99ff"/>
                </a:solidFill>
                <a:latin typeface="Arial"/>
              </a:rPr>
              <a:t>,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27640" y="1628640"/>
                <a:ext cx="180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300720" y="2205000"/>
                <a:ext cx="276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16720" y="220500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71680" y="3213000"/>
                <a:ext cx="4398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i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EGRALES RE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 I.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Integrales de funciones racionales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en(  )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cos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, i.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es una función racional de dos variables, por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se identifican                         y                        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27280" y="213372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24360" y="2133720"/>
                <a:ext cx="358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95640" y="2565360"/>
                <a:ext cx="3951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00360" y="450864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71640" y="5516640"/>
                <a:ext cx="1584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292720" y="5445000"/>
                <a:ext cx="1584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LCULO DE LA INTEGRAL MEDIANTE TEOREMA DE LOS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e usa la correspondencia d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[0, 2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con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s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=cos(   ) </a:t>
            </a:r>
            <a:r>
              <a:rPr b="0" i="1" lang="es-ES" sz="2400" spc="-1" strike="noStrike">
                <a:solidFill>
                  <a:srgbClr val="0099ff"/>
                </a:solidFill>
                <a:latin typeface="Arial"/>
              </a:rPr>
              <a:t> y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y=sen(   ),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z = x + 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Estas relaciones impli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y por el T. de los residuos se 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donde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I(  )</a:t>
            </a:r>
            <a:r>
              <a:rPr b="0" lang="es-ES" sz="2400" spc="-1" strike="noStrike">
                <a:solidFill>
                  <a:srgbClr val="0099ff"/>
                </a:solidFill>
                <a:latin typeface="Arial"/>
              </a:rPr>
              <a:t>   es la región encerrada por     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08720" y="1628640"/>
                <a:ext cx="2826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88000" y="1484280"/>
                <a:ext cx="14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: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2060640"/>
                <a:ext cx="6825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∈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276720" y="1989000"/>
                <a:ext cx="26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219640" y="1989000"/>
                <a:ext cx="417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6920" y="3141720"/>
                <a:ext cx="24544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35280" y="3068640"/>
                <a:ext cx="23511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43640" y="3141720"/>
                <a:ext cx="144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11280" y="4653000"/>
                <a:ext cx="7777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γ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835280" y="6021360"/>
                <a:ext cx="2300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12000" y="595008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o 2.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Integrales de l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Condiciones para la convergencia de la integ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  para to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q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no tienen factore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( cer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son los polos d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1989000"/>
                <a:ext cx="2016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26920" y="3573360"/>
                <a:ext cx="136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26920" y="4292640"/>
                <a:ext cx="3745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63640" y="198900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O DE LA INTEGR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16280"/>
            <a:ext cx="8064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eterminan las raices d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q(z)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sus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rrespondientes multiplicidades: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, y </a:t>
            </a:r>
            <a:r>
              <a:rPr b="1" i="1" lang="es-CL" sz="24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(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s polo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de ord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)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alcula el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siduo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de cada pol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cuy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parte imaginari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positiva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l valor de la integral es:                               </a:t>
            </a:r>
            <a:r>
              <a:rPr b="1" lang="es-CL" sz="8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=                  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03280" y="4581360"/>
                <a:ext cx="2232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84720" y="4797360"/>
                <a:ext cx="2808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i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836640"/>
            <a:ext cx="829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so 3:  </a:t>
            </a: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Integrales de la forma 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Condiciones para la convergencia:</a:t>
            </a:r>
            <a:br>
              <a:rPr sz="2800"/>
            </a:b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q(x)     0                            </a:t>
            </a: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800"/>
            </a:b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-                                           .</a:t>
            </a:r>
            <a:br>
              <a:rPr sz="2800"/>
            </a:br>
            <a:r>
              <a:rPr b="1" lang="es-CL" sz="28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55640" y="763560"/>
                <a:ext cx="287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32360" y="641520"/>
                <a:ext cx="287964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α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48000" y="3141720"/>
                <a:ext cx="436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3860640"/>
                <a:ext cx="43210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grado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Jaime</cp:lastModifiedBy>
  <dcterms:modified xsi:type="dcterms:W3CDTF">2008-05-26T00:48:11Z</dcterms:modified>
  <cp:revision>31</cp:revision>
  <dc:subject/>
  <dc:title>TEOREMA DE CAUCHY CAUCHY-GOURSAT</dc:title>
</cp:coreProperties>
</file>