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220-6EA8-4AAC-9A70-44C452E2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AFA-6A57-4780-904A-0B2DF419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8B9-1D96-4724-AAA2-7EEC2229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068-4BE3-4C68-BD9C-C8341717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AC6-31FC-4277-B066-263638E3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475-AA5D-454B-A1C4-36046DA3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B5C-D996-41F9-A002-4C59F8C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241-B201-45E4-9D0E-DF45D03D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04E5-24CA-40BC-9B48-833B5F66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574-D4A4-4E60-990A-19EB3624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B6B-A303-4BC8-AA99-352BE4F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892-E92D-4084-A302-B6B63A1E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5F2F-F7BC-4521-94AE-E33BF86C3D1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C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COMPLEJA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26B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OÑ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7280" y="3429000"/>
                <a:ext cx="640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268280"/>
                <a:ext cx="1513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720" y="162864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2924280"/>
                <a:ext cx="1563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47640" y="422100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12920" y="4702320"/>
                <a:ext cx="169380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2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cierra 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T. de Cauchy para funciones im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162864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76360" y="2997360"/>
                <a:ext cx="57596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br>
              <a:rPr sz="4400"/>
            </a:b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AUCHY-GOURS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781360"/>
            <a:ext cx="72741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  <a:ea typeface="Arial"/>
              </a:rPr>
              <a:t>ƒ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holomorfa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 D, D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mente conexo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(s.c.) en el plano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        es cualquier c.s.s.p.t. cerrada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005360"/>
                <a:ext cx="1128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987640" y="4869000"/>
                <a:ext cx="252108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71640" y="1413000"/>
                <a:ext cx="1439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64000" y="2708280"/>
                <a:ext cx="16560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35280" y="4365720"/>
                <a:ext cx="34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4005360"/>
                <a:ext cx="24494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2852640"/>
                <a:ext cx="17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, D = plano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                  , ento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i       no encierra a             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116000" y="1341360"/>
                <a:ext cx="16556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24000" y="2781360"/>
                <a:ext cx="1511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67280" y="2637000"/>
                <a:ext cx="15829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8000" y="4292640"/>
                <a:ext cx="335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27640" y="4221000"/>
                <a:ext cx="9190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732720" y="3933720"/>
                <a:ext cx="1655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INDEPENDENCIA DE LA TRAYE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holomorfa en D, D s.c., y         y        son c.s.s.p.t. cerradas en D que unen dos puntos             en D (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misma orienta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)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XISTENCIA DE ANTIDE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es holomorfa en D, D s.c., existe     holomorfa en D tal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19280" y="1989000"/>
                <a:ext cx="376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2060640"/>
                <a:ext cx="33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12000" y="20606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08720" y="2276640"/>
                <a:ext cx="7920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4292640"/>
                <a:ext cx="322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27720" y="3333600"/>
                <a:ext cx="885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580000" y="4292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03280" y="4869000"/>
                <a:ext cx="19447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03280" y="5661000"/>
                <a:ext cx="1944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92360" y="573408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64000" y="5661000"/>
                <a:ext cx="1008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1640" y="3068640"/>
                <a:ext cx="3456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CUENC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EMA DE CAU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0066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TEOREMA DE LA DE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D s.c.,      holomorf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i       y      son c.s.s.p.t. cerradas contenidos en D que encierran a      y                       ,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IMPORTANTE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: Este resultado permite reemplazar el calculo de integrales sobre curvas por integrales sobr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IRCULOS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292720" y="206064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35280" y="256536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84360" y="2492280"/>
                <a:ext cx="284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35280" y="2852640"/>
                <a:ext cx="311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284720" y="2924280"/>
                <a:ext cx="1527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87640" y="3500280"/>
                <a:ext cx="26640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δ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1    Caso para fu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ea      holomorfa en D, D s.c., y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Si      es cualquier c.s.s.p.t. cerrada en 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35280" y="2924280"/>
                <a:ext cx="26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924280"/>
                <a:ext cx="792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92360" y="3357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0720" y="3213000"/>
                <a:ext cx="1800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11280" y="4365720"/>
                <a:ext cx="30956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S DE LA INTEGRAL DE CAU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2    Caso para derivadas de orden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Sea      holomorfa en D, D s.c. y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Entonces      tiene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rivadas de todo orden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y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              y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20606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867280" y="2060640"/>
                <a:ext cx="865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771640" y="2492280"/>
                <a:ext cx="324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67640" y="2492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42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40000" y="5373720"/>
                <a:ext cx="936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8440" y="5300640"/>
                <a:ext cx="1774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Calcular                              para todo      c.s.s.p.t. cerrada que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pasa po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lucion.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Es holomorfa para todo z. Se consideran los siguientes c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 1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no encierra 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La funcion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          es holomorfa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66cc"/>
                </a:solidFill>
                <a:latin typeface="Arial"/>
              </a:rPr>
              <a:t>y por T. Cauchy resulta qu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1413000"/>
                <a:ext cx="1871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z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35640" y="1700280"/>
                <a:ext cx="277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79640" y="2997360"/>
                <a:ext cx="216072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z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63640" y="414972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56000" y="4653000"/>
                <a:ext cx="143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12000" y="4797360"/>
                <a:ext cx="1685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Inte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5445000"/>
                <a:ext cx="1512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9:14Z</dcterms:modified>
  <cp:revision>12</cp:revision>
  <dc:subject/>
  <dc:title>TEOREMA DE CAUCHY CAUCHY-GOURSAT</dc:title>
</cp:coreProperties>
</file>