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49F-395D-401D-A52E-1F63F4DE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72C-2213-4385-B6FF-B2FF8004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C8B-3389-4422-AD4F-64EECE04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A75-C9A4-4ED0-BD8A-7F1B89B3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26A-D409-4DC6-8609-5A048F0D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387-F48D-4116-A497-7BE9DCB7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ECF-13B3-4E84-8FC8-3536965F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0A6-A424-4F93-BAB3-05655AA8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F77-F6DC-4224-8815-D14AFB06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4C3-DB63-42BA-B9BE-B0FBD495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EA8-2576-4AF4-9F6E-597D7319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139-8B7F-4BCA-BEC4-1A012201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DF00-DD47-488C-8791-0922354B75C3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79167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SERIES DE TAYLOR Y DE LAURENT</a:t>
            </a: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- CEROS  Y  POLOS         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800"/>
            </a:b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EROS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 punto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de orden </a:t>
            </a:r>
            <a:r>
              <a:rPr b="0" i="1" lang="es-CL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 de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una función holomorfa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f´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f´´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…= f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(m-1)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= 0,   f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)   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i  m=1,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ero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: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(z) = z sen(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36000" y="2781360"/>
                <a:ext cx="502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3026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ULARIDADES Y PO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5802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 punto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singularida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aislada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f    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holomorfa en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D –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don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es una vecindad de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Una singularidad aislad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es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reparable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i existe una función holomorfa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(z) = f(z) ,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para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   D –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(i.e., existe el limite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-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olo de orden </a:t>
            </a:r>
            <a:r>
              <a:rPr b="0" i="1" lang="es-CL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si  exist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holomorfas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tales qu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g(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)    0 ,  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es un cero de orden m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 f(z) = g(z)/h(z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492360" y="3789360"/>
                <a:ext cx="5032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516720" y="5084640"/>
                <a:ext cx="504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  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un polo de orden m de  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im 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no existe par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k = 1,…,m-1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im 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xiste y es    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holomorfa  y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una singularidad aislada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,  y se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(z) =      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s-E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, la serie de Laurent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en el anillo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(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,0,r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singularidad reparable d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= 0 ,  n &lt; 0 ,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.e., la serie no tiene potencias negativas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ii) 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polo de orden m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para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 &lt; -m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iii) 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es una singularidad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sencial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0099ff"/>
                </a:solidFill>
                <a:latin typeface="Arial"/>
              </a:rPr>
              <a:t>ssi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   0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para  infinitos valores de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= -1, -2, …,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.e., la serie contien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infinitas potencias negativas de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(z – z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67200" y="269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156360" y="4756320"/>
                <a:ext cx="503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148360" y="4149720"/>
                <a:ext cx="2300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19280" y="2565360"/>
                <a:ext cx="574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1773360"/>
                <a:ext cx="2858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IMPOR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Caracterización equivalente de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eros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y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cero de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holomorfa 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  tal que 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 = 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) ,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g(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     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es un polo de orden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f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h 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holomorfa en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 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tal que </a:t>
            </a:r>
            <a:r>
              <a:rPr b="1" lang="es-E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f(z) = (z-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ES" sz="2800" spc="-1" strike="noStrike" baseline="30000">
                <a:solidFill>
                  <a:srgbClr val="000000"/>
                </a:solidFill>
                <a:latin typeface="Arial"/>
              </a:rPr>
              <a:t>-p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(z), </a:t>
            </a:r>
            <a:r>
              <a:rPr b="0" lang="es-ES" sz="2800" spc="-1" strike="noStrike">
                <a:solidFill>
                  <a:srgbClr val="0099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(z</a:t>
            </a:r>
            <a:r>
              <a:rPr b="1" i="1" lang="es-E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)     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932360" y="350028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255640" y="509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643280" y="537372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z) = zsen(z)/(1 – cos(z</a:t>
            </a:r>
            <a:r>
              <a:rPr b="1" i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ros de 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s cer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=0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si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o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k    ,  k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ntero.  Como            no es múltiplo entero de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              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i           ,  implicando que                      si               i.e.,         es un cero simple ya que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a singularidad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(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0) = 0/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).  Se determina si es o no reparab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Usando L’H :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f(z)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[( sen(z) + zcos(z))/-2zsen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]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0/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,  y al aplicar otra vez L’H  resulta que el limite no existe, 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no es reparable. Para determinar si es un polo y su orden, se calcula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zf(z)/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z=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 y se comprueba que tal limite no existe.  Se repite con el calcu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el cual existe y es no-nulo, 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es un po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de ord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Una manera alternativa es usar las series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n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resulta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 = [ z( z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 ) / ( 1 – (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2! + …))] = ( 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)/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 ½  +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4! - …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i.e.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(z) =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z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 don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z) = ( 1 –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3! + …)/( ½  + 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/4! - …)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, es holomorfa 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(0) = 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, lo que implica qu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 polo de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de ord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los de f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z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es cer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sen(z)    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= 0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-cos(z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= 0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                  , k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entero no-nulo (cas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 =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ya se consider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Com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no es un múltiplo entero de      ,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n(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   0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y por lo tanto, 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es un polo de  f.   El  orden del polo es 1,  ya qu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lim (z –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f(z) = (L’H) lim [( zsen(z) + (z –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(sen(z) + zcos(z)) / -2zsen(z</a:t>
            </a:r>
            <a:r>
              <a:rPr b="0" lang="es-ES" sz="1600" spc="-1" strike="noStrike" baseline="30000">
                <a:solidFill>
                  <a:srgbClr val="0099ff"/>
                </a:solidFill>
                <a:latin typeface="Arial"/>
              </a:rPr>
              <a:t>2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)]    0, en z</a:t>
            </a:r>
            <a:r>
              <a:rPr b="0" lang="es-ES" sz="1600" spc="-1" strike="noStrike" baseline="-25000">
                <a:solidFill>
                  <a:srgbClr val="0099ff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300720" y="1268280"/>
                <a:ext cx="2872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780000" y="155736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724360" y="1484280"/>
                <a:ext cx="622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532720" y="155736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42920" y="1773360"/>
                <a:ext cx="1295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kπ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00360" y="1773360"/>
                <a:ext cx="576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859280" y="177948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π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00720" y="1773360"/>
                <a:ext cx="57636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451640" y="1773360"/>
                <a:ext cx="3603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43280" y="1989000"/>
                <a:ext cx="115236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kπ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859280" y="4508640"/>
                <a:ext cx="289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19640" y="4724280"/>
                <a:ext cx="1008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kπ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00720" y="5013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796000" y="501336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740720" y="544500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TEOREMA  DE  LOS  RESIDUOS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TEGRALES  RE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2818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3600"/>
            </a:br>
            <a:br>
              <a:rPr sz="36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una singularidad aislad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y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(z) =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l coeficient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llama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sidu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 =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                   ,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c.s.s.p.t.c. que encierra 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1700280"/>
                <a:ext cx="17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19640" y="3357720"/>
                <a:ext cx="144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79640" y="4221000"/>
                <a:ext cx="28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40000" y="4292640"/>
                <a:ext cx="287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.  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Si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 un polo de ord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– {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, entonces el residuo d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) =   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87640" y="2637000"/>
                <a:ext cx="5113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TEOREMA DE LOS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holomorfa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 -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            , i.e.,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son singularidades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, (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.c.).  Si  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es una       c.s.s.p.t.c. que 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ncierr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los puntos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27640" y="1628640"/>
                <a:ext cx="180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300720" y="220500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516720" y="2205000"/>
                <a:ext cx="361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71680" y="3213000"/>
                <a:ext cx="4398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EGRALES RE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 I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ntegrales de funciones racionale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n(  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cos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i.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función racional de dos variables, por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se identifican                         y                        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27280" y="2133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24360" y="2133720"/>
                <a:ext cx="358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2565360"/>
                <a:ext cx="3951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700360" y="450864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71640" y="551664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292720" y="544500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TAY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280" y="2133720"/>
            <a:ext cx="72738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holoforma en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ento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alítica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 i.e.,  exist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 &gt; 0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sucesión compleja  tale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      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 z –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   z    D(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r )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76720" y="3357720"/>
                <a:ext cx="490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940360" y="3357720"/>
                <a:ext cx="152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012000" y="3500280"/>
                <a:ext cx="100800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67280" y="4221000"/>
                <a:ext cx="1009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124000" y="3357720"/>
                <a:ext cx="546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ULO DE LA INTEGRAL MEDIANTE TEOREMA DE LOS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usa la correspondenci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[0, 2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=cos(   )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 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y=sen(   )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 = x + i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tas relaciones impli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por el T. de los residuos se 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es la región encerrada por     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508720" y="16286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588000" y="1484280"/>
                <a:ext cx="14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2060640"/>
                <a:ext cx="682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989000"/>
                <a:ext cx="26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219640" y="1989000"/>
                <a:ext cx="417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26920" y="3141720"/>
                <a:ext cx="2454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35280" y="3068640"/>
                <a:ext cx="235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443640" y="314172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11280" y="4653000"/>
                <a:ext cx="777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35280" y="6021360"/>
                <a:ext cx="230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012000" y="5950080"/>
                <a:ext cx="28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77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UNCIADO  ALTERN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abierto y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holomorfa en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.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r &gt; 0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r )    D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{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ucesion compleja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z) =        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(z –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 baseline="30000">
                <a:solidFill>
                  <a:srgbClr val="000000"/>
                </a:solidFill>
                <a:latin typeface="Arial"/>
              </a:rPr>
              <a:t>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,   z   D(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,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i.e.,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es holomorf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si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es analitic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148360" y="1989000"/>
                <a:ext cx="431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516720" y="2133720"/>
                <a:ext cx="360360" cy="2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59280" y="3068640"/>
                <a:ext cx="652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724360" y="3357720"/>
                <a:ext cx="432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564000" y="3860640"/>
                <a:ext cx="100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14716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 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s continua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y  holomorfa e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,…,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3200" spc="-1" strike="noStrike">
                <a:solidFill>
                  <a:srgbClr val="0099ff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ntonc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 es holomorfa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iene derivada  de todo orden    e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00880" cy="91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ON  DEL  DISCO  DE  CONVERGENCIA  DE  SERIES  DE  TAYLOR</a:t>
            </a:r>
            <a:br>
              <a:rPr sz="3200"/>
            </a:br>
            <a:br>
              <a:rPr sz="32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La serie de Taylor de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n torno 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s una serie de potencias e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y el correspondient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isco d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onvergencia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se determina encontrando el punto mas cercano 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en el cual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no es holomorfa, i.e., si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,...,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, son los puntos en los cuales f no es holomorfa,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el radio de convergencia es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 = mi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I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-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}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y el disco</a:t>
            </a:r>
            <a:br>
              <a:rPr sz="2400"/>
            </a:b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convergencia es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,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= {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:  I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 – 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&lt;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}           </a:t>
            </a: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-603360"/>
            <a:ext cx="8362800" cy="615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JEMPLO (serie de Taylor)                                             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Determine la region de convergencia de la serie de Taylor de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n torn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1+i ;  (2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-i :  (3)  z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-3,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y obtenga la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correspondiente se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lucion.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Claramente, f no es holomorfa en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0,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i, y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-2.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min { I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–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so (1):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{ z :  Iz – 1- i I &lt; 1 }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s la region de converg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Para obtener la S. de T. en torno a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1+ i,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se descompone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en fracciones parcia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99ff"/>
                </a:solidFill>
                <a:latin typeface="Arial"/>
              </a:rPr>
              <a:t>                                         </a:t>
            </a: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99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916360" y="1413000"/>
                <a:ext cx="1800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4360" y="2709720"/>
                <a:ext cx="2376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708360" y="2852640"/>
                <a:ext cx="4680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7320" y="3284640"/>
                <a:ext cx="7583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812000" y="350028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67640" y="3645000"/>
                <a:ext cx="13032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0920" y="4005360"/>
                <a:ext cx="3441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564000" y="4292640"/>
                <a:ext cx="10944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211640" y="4149720"/>
                <a:ext cx="1152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0920" y="4653000"/>
                <a:ext cx="295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92360" y="4797360"/>
                <a:ext cx="935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0920" y="5229360"/>
                <a:ext cx="61214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769080" y="5300640"/>
                <a:ext cx="1295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50920" y="6021360"/>
                <a:ext cx="1847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700360" y="5950080"/>
                <a:ext cx="1992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13120" y="5877000"/>
                <a:ext cx="4106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50920" y="6021360"/>
                <a:ext cx="6876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so (2):  z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-i,  r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1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{ z :  I z + i I &lt; 1 } 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s la region de convergencia.</a:t>
            </a:r>
            <a:br>
              <a:rPr sz="1600"/>
            </a:b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Para obtener la S. de T. en torno a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i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, se usa la descomposicion de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obtenida en el caso anterior.                                                                                                        </a:t>
            </a:r>
            <a:r>
              <a:rPr b="0" lang="es-CL" sz="7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y reemplazando estas series en la descomposicion  de f  se obtiene la S. de T. ped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Arial"/>
              </a:rPr>
              <a:t>El caso (3) se desarrolla en forma simil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1413000"/>
                <a:ext cx="67690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451640" y="1484280"/>
                <a:ext cx="792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47760" y="2133720"/>
                <a:ext cx="4128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sub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5200" y="2924280"/>
                <a:ext cx="63928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0920" y="3716280"/>
                <a:ext cx="7129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43280" y="2205000"/>
                <a:ext cx="792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020000" y="2997360"/>
                <a:ext cx="8650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451640" y="3860640"/>
                <a:ext cx="1081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&l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ES  DE  LAUR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holomorfa en e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ill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centrado en z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radios r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(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,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= { z : 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z –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tonces, para cada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en el anillo se cumpl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z) =  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 z –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, 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=0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  2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y      es cualquier circulo de centr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 y radio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    &lt;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740720" y="3573360"/>
                <a:ext cx="2048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09920" y="2454120"/>
                <a:ext cx="23328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27640" y="3500280"/>
                <a:ext cx="43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788000" y="3357720"/>
                <a:ext cx="1655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00000" y="4437000"/>
                <a:ext cx="432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732720" y="4437000"/>
                <a:ext cx="264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67640" y="4437000"/>
                <a:ext cx="264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32000" y="3357720"/>
                <a:ext cx="4316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308720" y="3573360"/>
                <a:ext cx="2271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EROS POLOS Y SINGULARIDADES ES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12:51Z</dcterms:modified>
  <cp:revision>27</cp:revision>
  <dc:subject/>
  <dc:title>TEOREMA DE CAUCHY CAUCHY-GOURSAT</dc:title>
</cp:coreProperties>
</file>