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AD2-F679-4C93-B0EA-539708F0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EC6-A3E1-42C8-9F57-6F76BCE1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236-8DC0-44C6-90C4-FD76AE2F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609-8E1B-4F09-B3EA-B22ADB4A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B92-BE2B-4FF8-B97C-E001F2CD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F0-9D75-4E1B-95E7-7E2DFCC1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F42-FA77-43E9-8668-CE006B95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B5F-4C36-4DF3-A488-E5031CBC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A6B-4C65-4F26-9832-163BF439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C7F-C0B3-4CCB-8B0A-4011937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DD4-9C7B-448C-A825-51B7856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F34-BC8C-4BA8-89EA-8328C1D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B766-4957-44AD-AE92-1F44DD9C13B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O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76360" y="299736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4292640"/>
                <a:ext cx="322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4292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9:14Z</dcterms:modified>
  <cp:revision>12</cp:revision>
  <dc:subject/>
  <dc:title>TEOREMA DE CAUCHY CAUCHY-GOURSAT</dc:title>
</cp:coreProperties>
</file>