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0AC-0015-4D27-AE45-C81F86636F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538-8345-4626-BA06-01976373D6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867-263E-4A36-89F7-B68D421F94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CBE-EA27-4A04-8AEC-1547F8A19B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3249-ABCC-4118-A50B-EAE0662370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E5A6-9915-4E36-AC02-E84235A2E9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354-CD7C-4715-BE3F-EFD15149E4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836-56EE-4B04-88D4-2B8FA2BB68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D20-89BA-4CF4-9671-92FF9F1984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869-DB08-4691-8C95-D22E27AF7F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297C-811E-4173-B73E-1FEE3E38C6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1D79-3663-48E7-931C-B40B0ADC3F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6727-A6BC-49C5-9FEA-6B2EF2FE2A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76E-8302-4317-9E9F-EC990E67E2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1B1-72CF-4C72-84CE-C408CA4C90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89AA-EED8-49AF-B7E8-283EBF0FE1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91DA-9141-4F20-9304-37F21C5D1E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BD1-A01E-4CBC-B5BC-2DF9E2BDA3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8BE-2962-4FDC-B7AF-75C794E37D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0A7-D106-4302-ABB6-532F2E4104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820-41F6-4F47-B414-FBBA7EC036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0F1-EA29-4B3F-9572-FD6254B48B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BD3-5413-4667-88CF-7D1F7DCACE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4FA-F566-4055-898C-C9691FB2B4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8E86-0388-4D04-AD40-5EE76906D3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F23-E11C-4E3F-93F1-2A69F9D63B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B6D-43BD-49CE-8A80-E7B1738CE8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308-68A6-41D9-B418-C65EAF38B9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312-FD4A-4892-8FB7-36F9E58E6D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63D-71E8-4254-AB33-DF67494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A3D-B3A7-49BF-9AED-2637263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893-73B5-4AA6-BC87-E811201A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BAD-B755-4151-BB5E-1751E854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E98-21CB-4DD4-A590-FADC54E5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821-86B4-436A-AA9C-151383D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125-C7D9-4F30-8123-554786B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6E2-4882-4713-A53D-85517E2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EB1-F4A7-455F-A228-863C9CA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9C-AC4D-4441-BFF3-55AB77C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892-2354-4266-B6F3-D39E6D2F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9D4-56AE-4CC5-A46E-47A35D9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7BDA-76DA-4E99-B9FB-997A00757EDD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88A-B709-45B4-98E9-4869A36FB907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IQ66B/BT66C</a:t>
            </a: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Taller de Proyect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rofesores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icardo Bad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badilla@biosigm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rancisco G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A24-DDBA-4D01-83FC-F4F06A57B220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l método de reflex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empre que hayamos participado en toma de decisiones en la cual tomamos decisiones éticas, debemos revisar el caso posteriormente (individualmente o en grupos. (analisis ex – 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análisis debe ser prolijo y tomar en consider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La descripción detallad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nálisis de los datos y h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Recuento de la información fal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Las condiciones de borde y 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Las opciones desech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La estrategia utilizada en la toma la decisión que se hi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manentemente analizar las fortalezas y debilidades de nuestras propias estrategias para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396-496B-450A-BB40-E118BBA28C26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nálisis ex-p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Definici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definió bien el problema en el Grupo? Era un problema real que los resultados no fueran los esperados? Se pensó a priori que hacer con datos malos?  Cuál era el problema re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Explorar solucione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alternativas se exploraron? Pedir más tiempo, hacer de nuevo las pruebas, advertir a los usuarios que los datos no son seguros, escribir un informe detallado sobre las discrepancias ?  Qué otras ideas se barajar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Plan de Ac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elaboró un plan de acción por el Grupo? Qué se podría haber hecho en forma distin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El proceso de Ejecu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ejecutó bien el plan por parte del Gr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Mirando atrá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ubiera sido útil de que se conversaran las experiencias pasadas de los miembros del Grupo? Se discutieron las consecuencias de la decisión y la eficacia con la cual de actú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D0D-FB27-4B07-A3EF-AEC9B74C2061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s verdades camb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Times New Roman"/>
              </a:rPr>
              <a:t>Las dinámicas de grupo establecen que lo que hacemos está bien y los otros grupos están errados!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lealtad, orgullo familiar, responsabilidad, obediencia y lideraz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Times New Roman"/>
              </a:rPr>
              <a:t>Cuando empezamos nuestro trabajo, nos integramos a una organización formada, y adoptamos las dinámicas de los grupos existentes tal como ocurren en las familias, los países o el cole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Times New Roman"/>
              </a:rPr>
              <a:t>Debemos ser capaces de reconocer que las verdades cambian y filtrar las decisiones en base a nuestros principios éticos, mirando los asuntos con una óptica de alguien exte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La decisión sería distinta si trabajara yo en otra parte de la organización u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Como se ve el problema al otro lado de la rej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Qué haría si trabajara en una agencia regulatoria ambiental o de salud públ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Pida la opinión a otras personas. Explique el problema como si fuera externo, de modo de disminuir la influencia de la dinámica del Grupo en las respuestas que recib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9F1-B01A-4744-8930-9503EEC2ECB1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s responsabilidades no-profe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Tenemos responsabilidades con nuestra familia, los amigos, la comunidad a la cual pertenecemos y con nosotros mismos.  Estas responsabilidades cambiarán dramáticamente a lo largo de nuestr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Siempre es más fácil tomar decisiones éticas sobre uno mismo.  Algunas decisiones lo podrán dejar sin trabajo, serán socialmente costosas, lo podrán obligar a cambiar de casa y hasta salir del paí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Uno puede mitigar las consecuencias de nuestros actos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Pensamos anticipadamente sobre los efectos de las decisiones en nuestra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Incorporamos los posibles cambios en la situación de la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Conversamos extensamente con nuestra familia las decisiones antes de tomar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os caminos no son siempre fáciles, y marcarán nuestra vida y la forma en la que otros nos v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D11B-1431-48DD-A7E4-871C364E6785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sponsabilidades y Oblig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 siempre las responsabilidades y obligaciones que Ud. ha a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 también siempre las responsabilidades y obligaciones que Ud. </a:t>
            </a:r>
            <a:r>
              <a:rPr b="1" lang="es-ES_tradnl" sz="2400" spc="-1" strike="noStrike">
                <a:solidFill>
                  <a:srgbClr val="99ff66"/>
                </a:solidFill>
                <a:latin typeface="Times New Roman"/>
              </a:rPr>
              <a:t>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ha a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do una decisión está en conflicto con las responsabilidades y obligaciones que Ud. aceptó, haga una lista de ellas y establezca una escala de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d. elige una acción que viola una obligación o responsabilidad por Ud. aceptada, discuta siempre esa decisión siempre que sea posible antes de implementarla con quién Ud. definió sus compromisos y establezca claramente las consecuencias que la acción conlle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9324-7698-4918-BAF1-B8CF992647CB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sponsabilidades y Obligaciones....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usque siempre toda la información que pueda sobre una situación.  El problema puede ser más serio de lo que parece, o puede que no ex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a siempre honesto y abierto.  Eso es especialmente importante frente a personas que pueden desconfiar de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se cargo de las preocupaciones de otros, a pesar de que Ud. no las comp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 de que uno es todo lo ético que pueda aceptar. Ud. puede mejorar su capacidad de hacer lo adecuado si toma en cuenta las consecuencias de lo que hace y las acepta para el resto de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19E-68B7-4D81-B290-57A70F6E496A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ódigo de ética del Colegio de Ingenieros de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ff66"/>
                </a:solidFill>
                <a:latin typeface="Times New Roman"/>
              </a:rPr>
              <a:t>Art 2º 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Es imperativo de los ingenieros mantener una conducta moral y profesional del más alto nivel en defensa del prestigio y de los derechos de la profesión y velar por su correcto ejerci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ff66"/>
                </a:solidFill>
                <a:latin typeface="Times New Roman"/>
              </a:rPr>
              <a:t>Art 3º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El ingeniero debe tener siempre presente de que la sociedad delega en él una gran responsabilidad, encargándole la realización de sus más importantes  proyectos o bien designándolo en funciones relev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ff66"/>
                </a:solidFill>
                <a:latin typeface="Times New Roman"/>
              </a:rPr>
              <a:t>Art 4º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En el ejercicio de la ingeniería debe darse importancia a la seguridad, salud y bienestar de las personas y la protección del med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ff66"/>
                </a:solidFill>
                <a:latin typeface="Times New Roman"/>
              </a:rPr>
              <a:t>Art 6º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os ingenieros ejercerán su profesión únicamente en las áreas en que son competentes, observando cuidadosamente los principios, leyes y normas de ingeniería</a:t>
            </a:r>
            <a:r>
              <a:rPr b="0" lang="es-ES_tradnl" sz="22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F74F-B387-4C57-AC42-943FFD439B0B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ódigo de ética del Colegio de Ingenieros de Chile....con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rt 7º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ingenieros considerarán el impacto social y ambiental en los proyectos en todas las etapas de desarrollo, materialización y abandono, cuando correspo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rt 8º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s declaraciones de los ingenieros deben ser objetivas y veraces. Si tuvieran algún interés personal en algún asunto en que actuén, deberán manifestar es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rt 9º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s ingenieros deben informar a quién corresponde los riesgos a la seguridad, salud y bienestar de la comunidad que puedan derivarse de obras o decisiones ingenieriles, Cuando a juicio de un ingeniero existe un significativo riesgo público, debe denu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rt 10º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ingenieros deben comprometerse a estar actualizados en las disciplinas que aplican en su profesión y al perfeccionamiento profesional, así como a la difusión de estos principios y normas entre sus cole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Art 11º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s ingenieros deben promover la conducta ética en la enseñanza y ejercicio de la ingeniería.</a:t>
            </a: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BC5C-9751-43DD-8F5F-ED7382F6845F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ódigo de ética del Colegio de Ingenieros de Chile...con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Art 12º  Son actos contrarios a la Etica profes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tuar contra el decoro y el prestigio de la profesión y de la Institución o contra el respeto y la solidaridad que deben guardarse los ingenieros entre s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scribir estudios, proyectos, planos, especificaciones, informes, dictámenes y autorizaciones que no hayan sido ejecutados, estudiados o revisados apropia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r o recibir comisiones u otros beneficios no contractuales por la gestión, obtención u otorgamiento de designaciones de cualquier cará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tilizar directa o indirectamente, en su favor o un tercero, estudios, proyectos, planos, informes u otros documentos relacionados con la ingeniería, sin al autorización expresa de sus autores o propie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3892-E561-4F03-8D95-17C2FF10AE10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ódigo de ética del Colegio de Ingenieros de Chile...cont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Art 13º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ingenieros deben hacerse responsables de los trabajos ejecutados por ellos o bajo su supervisión y certificados con su firma. Pueden hacerse responsables y firmar trabajos hechos por otros, si éstos están bajo su dependencia jerárquica y después de que se hayan revisado y verificado apropiad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Art 14º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ingenieros pueden revisar proyectos o trabajos ejecutados por colegas informándolos previamente de ello, y dándoles oportunidad de complementar los antecedentes correspondientes y aclarar observaciones, salvo el caso en que el mandante exija confidenci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Art 16º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consideran actos contrarios a la ética profesional entre ingenieros princip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mitir opiniones que lesionen el prestigio profesional de un colega, salvo que existan razones fundadas para e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emplazar a un colega valiéndose de medios elegíti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 tramitación de propuestas, dar o solicitar cualquier información que signifique dejar en situación favorecida a un proponente en detrimento de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mular o coludirse en procesos de li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guardar la debida deferencia y corrección en la relación entre cole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D7E-35D2-4D5C-89C0-513B83886930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IQ66B/BT66C</a:t>
            </a: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Taller de Proye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357336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Q-FCFM-U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eniería Civil Química y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cardo Badilla Ohlb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Otoño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11280" y="1700280"/>
            <a:ext cx="82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 El ingeniero, ética y socie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2. Planes de Nego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4B0-8960-4583-A4AE-CEB300EFF26E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ódigo de ética del Colegio de Ingenieros de Chile...final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Art 17º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ingenieros deben asegurarse de que sus mandantes, clientes o jefes tengan clara conciencia del alcance de los estudios, y de las consecuencias de las decisiones o recomendaciones no respe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Art 2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consideran actos contrarios a la ética profes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eptar en beneficio propio comisiones, descuentos u otros beneficios indebidos derivados del ejercicio de un car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velar datos reservados de carácter técnico, financiero o personal sobre los intereses confiados a su estudio o custo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ovechar indebidamente el desempeño de un cargo para obtener beneficios partic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uar con parcialidad en al desempeñar la función de perito o árbitro, o al evaluar, interpretar o adjudicar contratos, propuestas o traba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B504-58FD-414D-AD92-F071C99F9B3E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Y recuerden siempre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7e8f9"/>
                </a:solidFill>
                <a:latin typeface="Times New Roman"/>
              </a:rPr>
              <a:t>La decisión correcta es aquella con la cual un ingeniero puede vivi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2050-293F-40E0-99DC-C5F0E1B1C18C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lanes de Nego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Es un documento en que se detalla la información relacionada con su empresa. El plan de negocio organiza la información y supone la plasmación en un documento escrito de las estrategias, políticas, objetivos y acciones que la empresa desarrollará en el futu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Supone utilizar información del pasado para decidir hoy lo que vamos a realizar en el futuro.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El plan debe incluir metas para la empresa, tanto a corto como a largo plazo, una descripción de los productos o servicios a ofrecer y de las oportunidades de mercado que anticipa para el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n "Plan de Negocios" (Business Plan, en inglés) debe entenderse como un estudio que, de una parte, incluye un análisis del mercado, del sector y de la competencia, y de otra, el plan desarrollado por la empresa para incursionar en el mercado con un producto y/o servicio, una estrategia, y un tipo de organización, tecnología, proyectando esta visión de conjunto a corto plazo, a través de la cuantificación de las cifras que permitan determinar el nivel de atractivo económico del negocio, y la factibilidad financiera de la iniciativa; y a largo plazo, mediante la definición de una visión empresarial clara y coherente</a:t>
            </a:r>
            <a:br>
              <a:rPr sz="2200"/>
            </a:b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2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F115-0F22-4303-9738-2C210BE6B757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"/>
          <p:cNvSpPr/>
          <p:nvPr/>
        </p:nvSpPr>
        <p:spPr>
          <a:xfrm>
            <a:off x="2916360" y="3573360"/>
            <a:ext cx="3240000" cy="3168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emanda, Regulacion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Medio Ambie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s Human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324000" y="44280"/>
            <a:ext cx="3240000" cy="3168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STION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RHH, Ingenierí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ción, Financ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5580000" y="692280"/>
            <a:ext cx="3240000" cy="31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Equipos, Serv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3131640" y="2276640"/>
            <a:ext cx="2735280" cy="1944360"/>
            <a:chOff x="3131640" y="2276640"/>
            <a:chExt cx="2735280" cy="1944360"/>
          </a:xfrm>
        </p:grpSpPr>
        <p:sp>
          <p:nvSpPr>
            <p:cNvPr id="142" name="Line 6"/>
            <p:cNvSpPr/>
            <p:nvPr/>
          </p:nvSpPr>
          <p:spPr>
            <a:xfrm flipH="1" flipV="1">
              <a:off x="3131640" y="2349360"/>
              <a:ext cx="116244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636440" y="2276640"/>
              <a:ext cx="1230480" cy="5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499640" y="313992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Oval 9"/>
          <p:cNvSpPr/>
          <p:nvPr/>
        </p:nvSpPr>
        <p:spPr>
          <a:xfrm>
            <a:off x="3635280" y="1628640"/>
            <a:ext cx="1728720" cy="180036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191120" y="182520"/>
            <a:ext cx="42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 DE NEG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13003 0.11551 E">
                                      <p:cBhvr>
                                        <p:cTn id="55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-0.00382 -0.22038 E">
                                      <p:cBhvr>
                                        <p:cTn id="56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-0.12986 0.10487 E">
                                      <p:cBhvr>
                                        <p:cTn id="56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5B4-AB8D-4B35-BF5F-5F5F392D1808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Trabajo a Desarrollar durante el Taller de Proyectos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   EL NEGOCIO PROPUESTO Y LA INDUSTRIA EN QUE SE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mpresa y 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erfil de la Industria relac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Qué y cómo lo h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 LOS PRODUCTOS O SERVICIOS QUE SE OFRE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terísticas Técnicas y Especificaciones de los productos (o Servicio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ómo funcionan los productos (o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spectos Legales, Ambientales y permisos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álisis Estratégico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rategia Propuesta para la Comercialización de los Productos (o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Perfil Competitivo de los 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31D5-E563-48BA-AE69-B5DDFFFBCDDD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4. TECNOLOGÍA E INGENIERÍA BÁSICA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ripción del Proceso. Como se hacen ? (Diagrama de Blo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agramas de Flujos o Arquitectura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agrama de Cañerías e Instr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mensionamiento y Especificaciones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imación de las Inversiones en Equipamiento 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s de Apoyo e Infra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5. ADMINISTRACIÓN Y ORGANIZA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dministración Superior y Personal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sonal y sistemas de 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vicios externalizado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Trabajo a Desarrollar durante el Taller de Proyectos 2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7C3-D97B-492C-98FB-53F8EB3DD7C6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6. ESTRUCTURA FINANCIER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dministración Superior y Personal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ersonal y sistemas d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ados de Resultados Proyectados (caso base) y Rentabilidad del Negocio (10 y 15% R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álisis de Sensibilidad (efectos de variables – utilice gráf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fecto de la Capacidad de producción y ventas en el %R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fecto de aumentos en Inversión en el % ROI (-25%,-15%, +15%, +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fecto del precio de venta (-25%,-15%, +15%) en VAN, IVAN, TIR y P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fecto de variaciones de costos en VAN, TIR, IVAN y P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ados de Flujo Efectivos Proy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7. 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Memorias de cálcul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Declar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spectos Regulato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Curricul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Trabajo a Desarrollar durante el Taller de Proyectos 3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C64-1F12-40B0-B2A8-8965B5079303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artera de Proyectos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Productos de Limpieza mediante planta multi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combustibles a partir de al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cuperación de Aluminio de Soluciones de refino de la industria mi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Plásticos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ceso de remoción de sulfato de aguas de m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ción de sulfhidra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C42-FE06-499D-8C63-518F2B1683EB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IQ66B/BT66C</a:t>
            </a: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Taller de Proyect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rofesores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icardo Bad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badilla@biosigm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rancisco G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D41-9395-4744-B12B-6ACF7B066DDE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Que es la ingeniería química o ingeniería en biotecnologí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14400" y="1828800"/>
            <a:ext cx="7788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66"/>
                </a:solidFill>
                <a:latin typeface="Times New Roman"/>
              </a:rPr>
              <a:t>American Institute of Chemical Engineers (AICh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ofesión en la cual los conocimientos de matemáticas, física, química, (biología), y otras ciencias obtenidas por el estudio, la experiencia y la práctica se utilizan en forma juiciosa para desarrollar en forma económica los materiales y la energía para el beneficio de la human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688-BE1A-4202-A1D0-C728CA467222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Factores de éxito en nuestro accionar como profe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del 1% de la población es ingeniero o científico (menos del 0.03% somos ingenieros químicos). Diseñamos y administramos una gran variedad de “negocios” esenciales para la humanidad como los combustibles, drogas, alimentos, fertilizantes, productos químicos, el agua limpi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stra eficacia (y nuestros logros) dependerá de las habilidade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Adquirir la experiencia y los conocimientos necesarios con pront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Obtener la confianza de la sociedad y de la gente que nos rodea en lo que hace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Asegurar de que los procesos y los productos que manejamos son seguros, con lo mejor de nuestros esfuerzos y capac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Ser capaces de explicar con claridad los riesgos al público y a todos los involucrados en nuestras actividades (empleadores, trabajadores, clientes, financista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Proteger el medio ambiente y el desarrollo “sustentable” de la vida en la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municarnos en forma efectiva a una gran variedad de audiencias, en forma oral y por 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448-A2C1-4EB9-8B15-C6C1FC346FB0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 ética y el profesion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mos siempre los responsables de desarrollar la estrategia para encontrar la “mejor” solución posible en una situación no siempre del todo conocida, o francamente incierta, con los recursos que contamos (casi siempre insuficientes). Aplicamos reglas heurísticas además de los conocimientos basados en la 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mos tener siempre conciencia de que las reglas heurísticas de la ingeniería que aplicamos pueden fallar y no siempre se pueden justificar. Más aú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No siempre nos garantizan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Pueden contradecir a otras reg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Reducen en buena parte los tiempos para solucionar un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66"/>
                </a:solidFill>
                <a:latin typeface="Times New Roman"/>
              </a:rPr>
              <a:t>Su uso depende de las circunstancias inmediatas y cambian rápidamente con el tiempo.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FB96-D89C-421F-8B5C-FA990E51D29C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l entorno de lo que hac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Todo los que hacemos en nuestra profesión impacta en la vida de algui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esarrollo de productos, diseño de procesos, gestión de procesos, plantas o empresas, desarrollo de mercados y venta de productos, transferencia de información a otros ingenieros, interacción con clientes, representar a las empresas en que participamos o trabajamos ante el Gobierno o el público, bancos o instituciones financiera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Las decisiones las hacemos utilizando nuestros propios principios morales, los requerimientos legales, y nuestros propios códigos ético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Enfrentados a una decisión</a:t>
            </a: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ejemplo elegir una ecuación para un cálculo entre dos posibles</a:t>
            </a:r>
            <a:r>
              <a:rPr b="0" lang="es-ES_tradnl" sz="1800" spc="-1" strike="noStrike">
                <a:solidFill>
                  <a:srgbClr val="99ff66"/>
                </a:solidFill>
                <a:latin typeface="Times New Roman"/>
              </a:rPr>
              <a:t>) </a:t>
            </a: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utilizamos nuestro código de ética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 ecuación mas simple tiene los coeficientes de seguridad suficientes para disminuir los riesgos a la empresa, sus trabajadores, clientes, público o financieros? Utilizamos mas tiempo para una cálculo más riguroso que cuesta más caro a nuestra empresa para una mejor respuesta?  Cómo decidir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D5E1-CAED-45F7-8D7B-3A6BE7A2F3D4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os códigos de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Las definiciones de lo que es bueno o es malo, provienen de nuestra educación y entor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conciencia, experiencia familiar, relig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El conjunto de principios no son siempre los mismos para todos, por lo que diferentes personas tomarán diferentes decisiones (</a:t>
            </a:r>
            <a:r>
              <a:rPr b="1" lang="es-ES_tradnl" sz="2400" spc="-1" strike="noStrike">
                <a:solidFill>
                  <a:srgbClr val="99ff66"/>
                </a:solidFill>
                <a:latin typeface="Times New Roman"/>
              </a:rPr>
              <a:t>tenemos autonomía moral</a:t>
            </a: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)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decisión correcta es consistente con los principios morales del que las toma, con los principios generalmente aceptados para las conductas de un ingeniero (asociaciones, colegios profesionales), con las obligaciones y los compromisos adquiridos, con la ley y los códigos de éticas aplicab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07e8f9"/>
                </a:solidFill>
                <a:latin typeface="Times New Roman"/>
              </a:rPr>
              <a:t>La decisión correcta es aquella con la cual un ingeniero puede vivir!</a:t>
            </a:r>
            <a:r>
              <a:rPr b="0" lang="es-ES_tradnl" sz="2800" spc="-1" strike="noStrike">
                <a:solidFill>
                  <a:srgbClr val="07e8f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Times New Roman"/>
              </a:rPr>
              <a:t>Es siempre posible que la decisión de una persona no sea aceptada por otr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3A2-EBEF-4A3A-A22F-097A9DCEB7F3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Un caso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l nuevo reglamento para las emisiones a las aguas continentales de Chile (año 2001), su empresa está obligada a hacer una declaración de los contenidos de sus riles.  Ud. advierte de que en la lista que preparó, cuando fue enviada por sus Jefes a las autoridades, se omitió un compuesto altamente tóxico para la vida acuática. El reglamento establece fuertes multas y hasta penas de presidio por el incumplimien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las dificultades de su empresa, Ud. sabe de que si señala el error a las autoridades, su carrera está en peligro a pesar de que tiene todos los respaldos legales del caso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99ff66"/>
                </a:solidFill>
                <a:latin typeface="Times New Roman"/>
              </a:rPr>
              <a:t>Qué ha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Marcador de pie de página"/>
          <p:cNvSpPr/>
          <p:nvPr/>
        </p:nvSpPr>
        <p:spPr>
          <a:xfrm>
            <a:off x="2627280" y="62485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Derechos Reservado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Ricardo Badilla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6E31-668E-4847-915B-0C3C3FD7CF25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Que pasó?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Ud. nunca pensó antes que le puede pasar una situación como la descrita, es muy difícil que pueda vivir con la decisión que tomó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seguro que si da vuelta atrás al caso, tomaría una decisión distinta, informando a las autoridades de la empresa, y si no tiene una respuesta satisfactoria, a las Autoridad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7e8f9"/>
                </a:solidFill>
                <a:latin typeface="Times New Roman"/>
              </a:rPr>
              <a:t>Ensayar situaciones y explorar sistemáticamente los escenarios posibles, es la mejor forma de tomar decisiones con las cuales podamos viv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rol de un profesional es analizar los escenarios posibles ante una situación que ocurra en el futuro y desarrollar la estrategia para obtener respuestas a un amplio rango de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sus carreras estarán enfrentados constantemente a dilemas éticos. La respuesta adecuadas a ellos es ensayar frecuentemente los escenarios y ensayar decisiones con las cuales puedan vivir posterior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10-03-23T15:46:20Z</dcterms:modified>
  <cp:revision>66</cp:revision>
  <dc:subject/>
  <dc:title>El ingeniero, etica y sociedad</dc:title>
</cp:coreProperties>
</file>