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9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49.wmf" ContentType="image/x-wmf"/>
  <Override PartName="/ppt/media/image100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0.wmf" ContentType="image/x-wmf"/>
  <Override PartName="/ppt/media/image83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png" ContentType="image/png"/>
  <Override PartName="/ppt/media/image32.wmf" ContentType="image/x-wmf"/>
  <Override PartName="/ppt/media/image30.wmf" ContentType="image/x-wmf"/>
  <Override PartName="/ppt/media/image12.png" ContentType="image/png"/>
  <Override PartName="/ppt/media/image52.png" ContentType="image/png"/>
  <Override PartName="/ppt/media/image13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17.wmf" ContentType="image/x-wmf"/>
  <Override PartName="/ppt/media/image82.wmf" ContentType="image/x-wmf"/>
  <Override PartName="/ppt/media/image47.wmf" ContentType="image/x-wmf"/>
  <Override PartName="/ppt/media/image10.wmf" ContentType="image/x-wmf"/>
  <Override PartName="/ppt/media/image29.wmf" ContentType="image/x-wmf"/>
  <Override PartName="/ppt/media/image71.wmf" ContentType="image/x-wmf"/>
  <Override PartName="/ppt/media/image1.png" ContentType="image/png"/>
  <Override PartName="/ppt/media/image60.wmf" ContentType="image/x-wmf"/>
  <Override PartName="/ppt/media/image97.wmf" ContentType="image/x-wmf"/>
  <Override PartName="/ppt/media/image18.wmf" ContentType="image/x-wmf"/>
  <Override PartName="/ppt/media/image20.png" ContentType="image/png"/>
  <Override PartName="/ppt/media/image63.png" ContentType="image/png"/>
  <Override PartName="/ppt/media/image24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3.jpeg" ContentType="image/jpeg"/>
  <Override PartName="/ppt/media/image69.wmf" ContentType="image/x-wmf"/>
  <Override PartName="/ppt/media/image72.wmf" ContentType="image/x-wmf"/>
  <Override PartName="/ppt/media/image26.wmf" ContentType="image/x-wmf"/>
  <Override PartName="/ppt/media/image98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96.jpeg" ContentType="image/jpeg"/>
  <Override PartName="/ppt/media/image79.wmf" ContentType="image/x-wmf"/>
  <Override PartName="/ppt/media/image7.jpeg" ContentType="image/jpeg"/>
  <Override PartName="/ppt/media/image81.png" ContentType="image/png"/>
  <Override PartName="/ppt/media/image73.wmf" ContentType="image/x-wmf"/>
  <Override PartName="/ppt/media/image90.png" ContentType="image/png"/>
  <Override PartName="/ppt/media/image78.wmf" ContentType="image/x-wmf"/>
  <Override PartName="/ppt/media/image41.wmf" ContentType="image/x-wmf"/>
  <Override PartName="/ppt/media/image95.png" ContentType="image/png"/>
  <Override PartName="/ppt/media/image74.wmf" ContentType="image/x-wmf"/>
  <Override PartName="/ppt/media/image91.png" ContentType="image/png"/>
  <Override PartName="/ppt/media/image77.wmf" ContentType="image/x-wmf"/>
  <Override PartName="/ppt/media/image76.wmf" ContentType="image/x-wmf"/>
  <Override PartName="/ppt/media/image92.png" ContentType="image/png"/>
  <Override PartName="/ppt/media/image75.wmf" ContentType="image/x-wmf"/>
  <Override PartName="/ppt/media/image66.png" ContentType="image/png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19.wmf" ContentType="image/x-wmf"/>
  <Override PartName="/ppt/media/image84.wmf" ContentType="image/x-wmf"/>
  <Override PartName="/ppt/media/image4.jpeg" ContentType="image/jpeg"/>
  <Override PartName="/ppt/media/image38.wmf" ContentType="image/x-wmf"/>
  <Override PartName="/ppt/media/image80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61.png" ContentType="image/png"/>
  <Override PartName="/ppt/media/image5.jpeg" ContentType="image/jpeg"/>
  <Override PartName="/ppt/media/image11.wmf" ContentType="image/x-wmf"/>
  <Override PartName="/ppt/media/image48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8C1-DCD0-4E38-8CAB-B5F149CF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BEB-DA1D-43BF-BDD3-09EE62DB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A25-9649-430D-9BAA-806D4728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4EB-DD4D-4572-8990-FBEE8652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2E2-8CDD-4E33-B94D-490D2DE3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24D-AABC-484E-908B-7A6E6E3B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120-B7FF-4C54-AD8D-B62D4F2E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F6D-3B9C-46D4-8F45-489A3222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4C3-A71D-41EA-BEB3-0E1D4CCC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426-A7D5-4BD2-9365-0CAB130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3C1-272B-4E1F-8F10-6AE7B14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AC3-F504-4D97-A5C7-F793003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06CF-D75E-499F-B3FE-F575E7CD9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3.png"/><Relationship Id="rId10" Type="http://schemas.openxmlformats.org/officeDocument/2006/relationships/image" Target="../media/image94.png"/><Relationship Id="rId11" Type="http://schemas.openxmlformats.org/officeDocument/2006/relationships/image" Target="../media/image95.png"/><Relationship Id="rId1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image" Target="../media/image10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63244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534520" cy="52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362320" cy="1024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0320" y="114300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ciones de equilib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3657600" cy="88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8160" y="236232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Hr &lt; 0  si T 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X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2286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8160" y="297180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Hr &gt; 0  si T 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X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543800" y="2971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80880" y="3581280"/>
            <a:ext cx="6400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772400" cy="3160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2296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4019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57600" y="3436920"/>
            <a:ext cx="53341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60958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086600" cy="4095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4720" y="569880"/>
            <a:ext cx="51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CIONES EXOTERMICAS DE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411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95440" y="56988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OR BAT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162560" cy="9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0920" y="10270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de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640" y="2322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lance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5334120" cy="79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46280" y="3846600"/>
            <a:ext cx="664524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= calor intercambiado =  q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área de intercambio de c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=  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)                si 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T  entra calor a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  T  sale calor a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2240" y="417600"/>
            <a:ext cx="36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 = 0          Sistema es Adiaba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0         Sistema no Adiaba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5720" y="1712880"/>
            <a:ext cx="41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emplazando la eacuacion BM en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5257800" cy="1155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47720" y="3313080"/>
            <a:ext cx="27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Adiabatico:    Q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5029200" cy="75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5480" y="4761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257800"/>
            <a:ext cx="54100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5486400" cy="8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560" y="1712880"/>
            <a:ext cx="59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áximo cambio de temperatura es cuando (X- X0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2849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 max = 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 ( -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Δ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r ) 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t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7760" y="316080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 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4114800" cy="1690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5360" y="53704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emplazar  T en la la constante cinética e integ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84960" y="6031080"/>
            <a:ext cx="26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 =  ko  exp (-E / R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0320" y="5698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   q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467480" cy="164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4640" y="3313080"/>
            <a:ext cx="348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Isotérmico   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er 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calcular el calor a intercamb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3657600" cy="34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1320" y="559908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a intercambiar varia en funcion del tiempo: 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Reactor Vessel , Heat Exchanger , Mineral Water Plant"/>
          <p:cNvPicPr/>
          <p:nvPr/>
        </p:nvPicPr>
        <p:blipFill>
          <a:blip r:embed="rId1"/>
          <a:stretch/>
        </p:blipFill>
        <p:spPr>
          <a:xfrm>
            <a:off x="1066680" y="7621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0360" y="341280"/>
            <a:ext cx="74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isotérmico, no adiab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deben resolver ambas ecuaciones diferenciales en forma simult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162560" cy="9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5715000" cy="1033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16292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93280" y="39204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ACTOR FLUJO PI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4533840" cy="2095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71400" y="33638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7772400" cy="45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1760" y="4278240"/>
            <a:ext cx="65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080" y="594360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emplazando BM en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4400" y="5181480"/>
            <a:ext cx="73152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752480" y="4343400"/>
            <a:ext cx="678204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82296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73560" y="1407960"/>
            <a:ext cx="29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el sistema es adiabát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248520" cy="254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6705360" cy="388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2400" y="5599080"/>
            <a:ext cx="57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ción:  reemplazar T en ecuación cinética y re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2120" y="533520"/>
            <a:ext cx="7315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99280" y="4176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  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37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696440" cy="363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3520" y="2819520"/>
            <a:ext cx="8762760" cy="414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9120" y="2398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33520" y="3657600"/>
            <a:ext cx="3352680" cy="71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276720" y="3733920"/>
            <a:ext cx="3200400" cy="33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3886200" cy="41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9880" y="53704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mplazando en BM y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324480" cy="699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6705360" cy="74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6934320" cy="766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7680" y="369396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r ambas ecuaciones en forma simultan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4582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5072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18760" y="3920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ACTOR CS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1400" y="11034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6172200" cy="379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1400" y="25509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6629400" cy="407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0240" y="36939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mplazando BM en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6629400" cy="815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6360" y="5370480"/>
            <a:ext cx="38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el sistema es adiabátic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64008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086600" cy="871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6477120" cy="797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703480" y="19414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or absorb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79800" y="24750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or gen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8112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578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040" y="354168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resolver:  Xs y Ts se de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olver ambas ecu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graficáramos ambas ecuaciones tendrí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620120" cy="3030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3546360"/>
            <a:ext cx="64767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9080" y="417600"/>
            <a:ext cx="79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E REACCION ENDOTERMICA  (ADIABATICA O NO ADIABA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334120" cy="3391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4572000" cy="1604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14800" y="28954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495680" y="1600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62320" y="15606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16960" y="2779560"/>
            <a:ext cx="28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0  o aumentado in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495320" y="60955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39440" y="6107040"/>
            <a:ext cx="21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= 0    o  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21280" y="49356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ción Exo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733920" cy="232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474880" y="1407960"/>
            <a:ext cx="28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genera baja co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genera alta co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971880" cy="2876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49760" y="4495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 3 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1080" y="507996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 C  son es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es in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5120" y="3294000"/>
            <a:ext cx="7086600" cy="338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63244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6096240" cy="4411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04320" y="476424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ción exotérmica 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6400800" cy="5627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7339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4956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90880" y="1890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OR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17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79250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Coils With Agitators"/>
          <p:cNvPicPr/>
          <p:nvPr/>
        </p:nvPicPr>
        <p:blipFill>
          <a:blip r:embed="rId1"/>
          <a:stretch/>
        </p:blipFill>
        <p:spPr>
          <a:xfrm>
            <a:off x="533520" y="533520"/>
            <a:ext cx="3962160" cy="297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LG reactor"/>
          <p:cNvPicPr/>
          <p:nvPr/>
        </p:nvPicPr>
        <p:blipFill>
          <a:blip r:embed="rId2"/>
          <a:stretch/>
        </p:blipFill>
        <p:spPr>
          <a:xfrm>
            <a:off x="4572000" y="3429000"/>
            <a:ext cx="42577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47720" y="46836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CIONES MULT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743200" cy="1708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809880" y="1752480"/>
            <a:ext cx="3733920" cy="766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3124080" cy="10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3276720" cy="747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93800" y="4989600"/>
            <a:ext cx="39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mbos casos seria conveniente 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yend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08640" y="61272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k = k0 exp (-E / 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3657600" cy="1663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73152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5562720" cy="1946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6553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606760" y="2835360"/>
          <a:ext cx="3930480" cy="1189080"/>
        </p:xfrm>
        <a:graphic>
          <a:graphicData uri="http://schemas.openxmlformats.org/drawingml/2006/table">
            <a:tbl>
              <a:tblPr/>
              <a:tblGrid>
                <a:gridCol w="1162080"/>
                <a:gridCol w="1295280"/>
                <a:gridCol w="147312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600200" cy="47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1676520" cy="569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791320" y="685800"/>
            <a:ext cx="1676160" cy="54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38080" y="1066680"/>
            <a:ext cx="1981440" cy="668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505320" y="1295280"/>
            <a:ext cx="1904760" cy="555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5867280" y="1295280"/>
            <a:ext cx="1600200" cy="47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523880" y="2362320"/>
            <a:ext cx="525312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2362320" y="3048120"/>
            <a:ext cx="2871720" cy="744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2438280" y="4038480"/>
            <a:ext cx="2819520" cy="924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6019920" cy="496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1"/>
          <a:stretch/>
        </p:blipFill>
        <p:spPr>
          <a:xfrm>
            <a:off x="1981080" y="5867280"/>
            <a:ext cx="4876920" cy="507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46400" y="18900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ciones en fase gaseosa en un R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6310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2874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4800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Heat Exchanger"/>
          <p:cNvPicPr/>
          <p:nvPr/>
        </p:nvPicPr>
        <p:blipFill>
          <a:blip r:embed="rId1"/>
          <a:stretch/>
        </p:blipFill>
        <p:spPr>
          <a:xfrm>
            <a:off x="457200" y="457200"/>
            <a:ext cx="41911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410080" cy="2318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60958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TPM_phong_1"/>
          <p:cNvPicPr/>
          <p:nvPr/>
        </p:nvPicPr>
        <p:blipFill>
          <a:blip r:embed="rId1"/>
          <a:stretch/>
        </p:blipFill>
        <p:spPr>
          <a:xfrm>
            <a:off x="762120" y="457200"/>
            <a:ext cx="3747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112" descr=""/>
          <p:cNvPicPr/>
          <p:nvPr/>
        </p:nvPicPr>
        <p:blipFill>
          <a:blip r:embed="rId1"/>
          <a:srcRect l="0" t="0" r="0" b="13397"/>
          <a:stretch/>
        </p:blipFill>
        <p:spPr>
          <a:xfrm>
            <a:off x="609480" y="533520"/>
            <a:ext cx="77724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640080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324480" cy="427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49240" y="12556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3:54:46Z</dcterms:created>
  <dc:creator>luis amestica</dc:creator>
  <dc:description/>
  <dc:language>en-US</dc:language>
  <cp:lastModifiedBy>luis amestica</cp:lastModifiedBy>
  <dcterms:modified xsi:type="dcterms:W3CDTF">2010-06-01T22:05:54Z</dcterms:modified>
  <cp:revision>12</cp:revision>
  <dc:subject/>
  <dc:title>Diapositiva 1</dc:title>
</cp:coreProperties>
</file>