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95C-AC91-483F-9B82-07DC4FBE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F6C-F1AB-4D9F-AA73-71AE3075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777-20A5-417C-ADC2-0E02B32A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AEC-AF9F-4F06-943E-0718645C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7D2-003D-4039-B392-C3D52483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B36-4081-42F8-89B2-7BAEDF4D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068-3528-4B88-B28B-EB58E07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109-0A1D-4163-B47C-168103D9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9F0-6434-48AF-A7D4-4D7937C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4A3-6BE3-4A63-9386-B874A84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DA0-40F0-4E39-8635-C499C5B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3C2-70B2-425C-BD82-2011B38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B45-711B-450D-B6E9-5F6E4F92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Pipe-PFR.sv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5276880" cy="3000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0"/>
            <a:ext cx="5867280" cy="390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6480" y="344520"/>
            <a:ext cx="359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UG FLOW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OR FLUJO 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4880" y="5116680"/>
            <a:ext cx="676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pues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 en régimen turbu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xiste dispersión o difusión de flujos en el sentido 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perfectamente mezclado en el sentido ra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5800" y="533520"/>
          <a:ext cx="6183360" cy="1734840"/>
        </p:xfrm>
        <a:graphic>
          <a:graphicData uri="http://schemas.openxmlformats.org/drawingml/2006/table">
            <a:tbl>
              <a:tblPr/>
              <a:tblGrid>
                <a:gridCol w="3031200"/>
                <a:gridCol w="2273400"/>
                <a:gridCol w="663120"/>
                <a:gridCol w="216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52280" y="2286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CION EN FASE GASEOSA ELEM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A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447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IMENTACION SOLO CONTIENE A,   Reactor sin caída de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0 = 0.2 mol/l    vo = 25 l/s     k = 10 l/mol-s    P0 = 8.2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828800" cy="98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2057400" cy="62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038480" y="4114800"/>
            <a:ext cx="2210040" cy="65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43000" y="5257800"/>
            <a:ext cx="1905120" cy="65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886200" y="4952880"/>
            <a:ext cx="2971800" cy="1211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9000" y="365760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n ≠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1552320" cy="654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3733560" cy="105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2819520"/>
            <a:ext cx="4848480" cy="83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295280" y="4876920"/>
            <a:ext cx="381024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143000" y="4038480"/>
          <a:ext cx="4178160" cy="342720"/>
        </p:xfrm>
        <a:graphic>
          <a:graphicData uri="http://schemas.openxmlformats.org/drawingml/2006/table">
            <a:tbl>
              <a:tblPr/>
              <a:tblGrid>
                <a:gridCol w="1200240"/>
                <a:gridCol w="2977920"/>
              </a:tblGrid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X = 0.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 45.3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1160" y="569880"/>
            <a:ext cx="458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VER EL MISMO PROBLEM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A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s = 0.8 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0 = 0.2 gmol/lt              k1= 2 lt/gmol-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c = 100 lt/gmol            FA0 = 5 gmo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e 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13320" y="133200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ON EN FASE GASEOSA CON PRESION 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 = 1      CA0 = 1 gmol/l    puro sin in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790560"/>
            <a:ext cx="72388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3360" y="646200"/>
            <a:ext cx="835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IDA DE PRESION EN REA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SE LIQUIDA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UEDE SER DESPREC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SE GASEOS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IMPORTANTE, SOBRE TODO EN EL CASO DE L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A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 = vo (ZO/Z) (1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X) (P0/P) (T/T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1148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   =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FA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FA0 (1 - X) 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=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CA0 (1 – X)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           v0 (1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X)  P0         (1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X) 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24280" y="3124080"/>
            <a:ext cx="3886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04920"/>
            <a:ext cx="74149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una cinética d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versión = f(tiempo de residencia en el re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 de residencia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olumen = 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</a:t>
            </a:r>
            <a:r>
              <a:rPr b="0" lang="es-MX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124080"/>
            <a:ext cx="3049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34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4572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867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911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8400" y="4853160"/>
            <a:ext cx="89679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régimen Turbulen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 &gt; 4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/D  &gt; 100   (asegura que el trama laminar del reactor es despreciab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50292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0360" y="257040"/>
            <a:ext cx="73342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BALANCE DE MASA DE A EN SECCION TUB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 = FA+dFA + (-rA)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:   FA = FA0 (1 –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FA = - FA0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emplazando y arregl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0 dX = -rA 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=   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A0          -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ndo en  0  ---  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Xe -- -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5511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0080" y="257040"/>
            <a:ext cx="4115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ONES EN GRAN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CIONES RAP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CIONES HOMOGEN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CIONES HETEROGEN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0080" y="2895480"/>
            <a:ext cx="6223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NTAJ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CONVERSION POR UNIDAD DE VOL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O COSTO DE 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Ó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ENA TRANSFERENCIA DE CALOR (AREA/VOLU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920" y="4648320"/>
            <a:ext cx="6468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E CONTROL DE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PIEZA PUEDE SER C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EDEN EXISTIR GRADIENTES TERMICOS INDES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181480" cy="3108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5257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610840" cy="333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6640" y="2649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DIGESTOR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59120" y="2335320"/>
            <a:ext cx="526248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ontinuous reactors"/>
          <p:cNvPicPr/>
          <p:nvPr/>
        </p:nvPicPr>
        <p:blipFill>
          <a:blip r:embed="rId1"/>
          <a:stretch/>
        </p:blipFill>
        <p:spPr>
          <a:xfrm>
            <a:off x="762120" y="304920"/>
            <a:ext cx="4762440" cy="2247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14800" y="228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oduccion de LDPE en Tubular 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66294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PFR Pipe Flocculator"/>
          <p:cNvPicPr/>
          <p:nvPr/>
        </p:nvPicPr>
        <p:blipFill>
          <a:blip r:embed="rId1"/>
          <a:stretch/>
        </p:blipFill>
        <p:spPr>
          <a:xfrm>
            <a:off x="533520" y="609480"/>
            <a:ext cx="5410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1480" y="431640"/>
            <a:ext cx="568944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eacciones gaseos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n qu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n ≠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=  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R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 v  =  Z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 = vo (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/Z) (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T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(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/P) (T/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T /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T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n (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)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 = vo (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/Z) (1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(P0/P) (T/T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(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/Z) =1             v = vo  (1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X) (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/P) (T/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P = cte       v = vo  (1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X) (T/T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Si además es isotérmico  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 = vo  (1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A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s-MX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s-MX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A0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(1 - X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=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s-MX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A0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(1 –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           v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1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X)             (1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8:51:57Z</dcterms:created>
  <dc:creator>luis amestica</dc:creator>
  <dc:description/>
  <dc:language>en-US</dc:language>
  <cp:lastModifiedBy>luis amestica</cp:lastModifiedBy>
  <dcterms:modified xsi:type="dcterms:W3CDTF">2010-04-21T14:03:23Z</dcterms:modified>
  <cp:revision>10</cp:revision>
  <dc:subject/>
  <dc:title>Diapositiva 1</dc:title>
</cp:coreProperties>
</file>