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5A6C-80B7-4956-A20D-2232B8000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D83C-881D-4C91-B370-769C0047A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1158-F586-4464-B4BC-B3A8F4BA5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21A4-ACDF-4188-8F3B-AE0FC6EF8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B789-4FEA-4867-829E-B529E0782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E265-7CF1-447B-BFF7-6973AB581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B367-0812-4265-A5BF-D7A6740A4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B9DE-FCA2-4900-9EB1-722DF3285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4BA-5805-48E4-ADA8-5FBB4E5E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D07D-0CFF-4D4C-B507-C38DDEBE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1364-44F3-4BD4-8CB9-9FFFD6FF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1F6-E040-4CF5-A0FE-B8615435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548-7412-46B1-9C49-519D4512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70E4-6FF3-4B0F-A5F1-DA053F5B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FA88-496A-4244-927B-C11A4088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50A7-2B47-409C-84E0-9479D51F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6051-08C1-4506-9FB6-1D497104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C51A-7749-4E26-AACA-9F3874B4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DC6D-2EE8-4F63-83D2-08522E24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0C3E-7B94-43F4-9745-458FF9D2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66F2-E5AD-4E6A-BCBC-68D404C834A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70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IQ3204 - Clase Auxiliar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47640"/>
            <a:ext cx="6400800" cy="175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898989"/>
                </a:solidFill>
                <a:latin typeface="Calibri"/>
              </a:rPr>
              <a:t>Profesores</a:t>
            </a:r>
            <a:r>
              <a:rPr b="0" lang="es-ES_tradnl" sz="2200" spc="-1" strike="noStrike">
                <a:solidFill>
                  <a:srgbClr val="898989"/>
                </a:solidFill>
                <a:latin typeface="Calibri"/>
              </a:rPr>
              <a:t>: </a:t>
            </a:r>
            <a:r>
              <a:rPr b="0" lang="es-ES_tradnl" sz="2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898989"/>
                </a:solidFill>
                <a:latin typeface="Calibri"/>
              </a:rPr>
              <a:t>Raúl Quijada, Teresa Velil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898989"/>
                </a:solidFill>
                <a:latin typeface="Calibri"/>
              </a:rPr>
              <a:t>Auxiliar</a:t>
            </a:r>
            <a:r>
              <a:rPr b="0" lang="es-ES_tradnl" sz="2200" spc="-1" strike="noStrike">
                <a:solidFill>
                  <a:srgbClr val="898989"/>
                </a:solidFill>
                <a:latin typeface="Calibri"/>
              </a:rPr>
              <a:t>: </a:t>
            </a:r>
            <a:r>
              <a:rPr b="0" lang="es-ES_tradnl" sz="2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898989"/>
                </a:solidFill>
                <a:latin typeface="Calibri"/>
              </a:rPr>
              <a:t>Óscar Ar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898989"/>
                </a:solidFill>
                <a:latin typeface="Calibri"/>
              </a:rPr>
              <a:t>- 5 de abril de 2010 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214280" y="357120"/>
            <a:ext cx="450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Departamento de Ingeniería Química y Biotecnologí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IQ3204- Química Orgán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400800" y="19080"/>
            <a:ext cx="2876400" cy="3479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fcfm"/>
          <p:cNvPicPr/>
          <p:nvPr/>
        </p:nvPicPr>
        <p:blipFill>
          <a:blip r:embed="rId2"/>
          <a:stretch/>
        </p:blipFill>
        <p:spPr>
          <a:xfrm>
            <a:off x="0" y="500040"/>
            <a:ext cx="12160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jemplos Nomencl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Imagen 210" descr="http://www.edured2000.net/fyq/formulacion/Image286.gif"/>
          <p:cNvPicPr/>
          <p:nvPr/>
        </p:nvPicPr>
        <p:blipFill>
          <a:blip r:embed="rId1"/>
          <a:stretch/>
        </p:blipFill>
        <p:spPr>
          <a:xfrm>
            <a:off x="928800" y="1714680"/>
            <a:ext cx="4557600" cy="1957320"/>
          </a:xfrm>
          <a:prstGeom prst="rect">
            <a:avLst/>
          </a:prstGeom>
          <a:ln w="0">
            <a:noFill/>
          </a:ln>
        </p:spPr>
      </p:pic>
      <p:pic>
        <p:nvPicPr>
          <p:cNvPr id="116" name="Imagen 211" descr="http://www.edured2000.net/fyq/formulacion/Image287.gif"/>
          <p:cNvPicPr/>
          <p:nvPr/>
        </p:nvPicPr>
        <p:blipFill>
          <a:blip r:embed="rId2"/>
          <a:stretch/>
        </p:blipFill>
        <p:spPr>
          <a:xfrm>
            <a:off x="500040" y="4071960"/>
            <a:ext cx="5072040" cy="18781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5643720" y="297648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,4 dicloro hexa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1357200" y="592920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 etil - 3 fluor - 4 propil - 1,4 pentadi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jemplos Nomencl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Imagen 212" descr="http://www.edured2000.net/fyq/formulacion/Image288.gif"/>
          <p:cNvPicPr/>
          <p:nvPr/>
        </p:nvPicPr>
        <p:blipFill>
          <a:blip r:embed="rId1"/>
          <a:stretch/>
        </p:blipFill>
        <p:spPr>
          <a:xfrm>
            <a:off x="714240" y="1428840"/>
            <a:ext cx="422136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236" descr="http://www.edured2000.net/fyq/formulacion/Image293.gif"/>
          <p:cNvPicPr/>
          <p:nvPr/>
        </p:nvPicPr>
        <p:blipFill>
          <a:blip r:embed="rId2"/>
          <a:stretch/>
        </p:blipFill>
        <p:spPr>
          <a:xfrm>
            <a:off x="1071720" y="4286160"/>
            <a:ext cx="2720880" cy="16430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786120" y="321480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,3 dibromo – 1 penten – 4 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214880" y="526248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 metil- butan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jemplos Nomencl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n 134" descr="http://www.edured2000.net/fyq/formulacion/Image237.gif"/>
          <p:cNvPicPr/>
          <p:nvPr/>
        </p:nvPicPr>
        <p:blipFill>
          <a:blip r:embed="rId1"/>
          <a:stretch/>
        </p:blipFill>
        <p:spPr>
          <a:xfrm>
            <a:off x="1928880" y="1857240"/>
            <a:ext cx="4986360" cy="2660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1977120" y="4786200"/>
            <a:ext cx="52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Calibri"/>
              </a:rPr>
              <a:t>3-etil,6-metil 1,3,5-octatrien-7-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jemplos Nomencl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85880" y="2214720"/>
            <a:ext cx="7572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DIBUJAR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1,2,4-triamino-2-metilbut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(2) 2-etil-2-buten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(3) 1,3,5HEXATRIE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(4) CLOROETILE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Imagen 33" descr="http://www.edured2000.net/fyq/formulacion/Image164.gif"/>
          <p:cNvPicPr/>
          <p:nvPr/>
        </p:nvPicPr>
        <p:blipFill>
          <a:blip r:embed="rId1"/>
          <a:stretch/>
        </p:blipFill>
        <p:spPr>
          <a:xfrm>
            <a:off x="6286680" y="1285920"/>
            <a:ext cx="2571480" cy="1143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3" descr="http://www.edured2000.net/fyq/formulacion/Image174.gif"/>
          <p:cNvPicPr/>
          <p:nvPr/>
        </p:nvPicPr>
        <p:blipFill>
          <a:blip r:embed="rId2"/>
          <a:stretch/>
        </p:blipFill>
        <p:spPr>
          <a:xfrm>
            <a:off x="6286680" y="2571840"/>
            <a:ext cx="2500200" cy="1357200"/>
          </a:xfrm>
          <a:prstGeom prst="rect">
            <a:avLst/>
          </a:prstGeom>
          <a:ln w="0">
            <a:noFill/>
          </a:ln>
        </p:spPr>
      </p:pic>
      <p:pic>
        <p:nvPicPr>
          <p:cNvPr id="131" name="Imagen 59" descr="http://www.edured2000.net/fyq/formulacion/Image192.gif"/>
          <p:cNvPicPr/>
          <p:nvPr/>
        </p:nvPicPr>
        <p:blipFill>
          <a:blip r:embed="rId3"/>
          <a:stretch/>
        </p:blipFill>
        <p:spPr>
          <a:xfrm>
            <a:off x="6429240" y="4143240"/>
            <a:ext cx="2357640" cy="1071720"/>
          </a:xfrm>
          <a:prstGeom prst="rect">
            <a:avLst/>
          </a:prstGeom>
          <a:ln w="0">
            <a:noFill/>
          </a:ln>
        </p:spPr>
      </p:pic>
      <p:pic>
        <p:nvPicPr>
          <p:cNvPr id="132" name="Imagen 67" descr="http://www.edured2000.net/fyq/formulacion/Image200.gif"/>
          <p:cNvPicPr/>
          <p:nvPr/>
        </p:nvPicPr>
        <p:blipFill>
          <a:blip r:embed="rId4"/>
          <a:stretch/>
        </p:blipFill>
        <p:spPr>
          <a:xfrm>
            <a:off x="2428920" y="4643280"/>
            <a:ext cx="5780160" cy="21434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8"/>
          <p:cNvSpPr/>
          <p:nvPr/>
        </p:nvSpPr>
        <p:spPr>
          <a:xfrm flipV="1">
            <a:off x="5143680" y="1999800"/>
            <a:ext cx="1143000" cy="714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10"/>
          <p:cNvSpPr/>
          <p:nvPr/>
        </p:nvSpPr>
        <p:spPr>
          <a:xfrm>
            <a:off x="3429000" y="3571920"/>
            <a:ext cx="2714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traight Connector 12"/>
          <p:cNvSpPr/>
          <p:nvPr/>
        </p:nvSpPr>
        <p:spPr>
          <a:xfrm>
            <a:off x="3571920" y="4286160"/>
            <a:ext cx="3857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traight Connector 14"/>
          <p:cNvSpPr/>
          <p:nvPr/>
        </p:nvSpPr>
        <p:spPr>
          <a:xfrm>
            <a:off x="3286080" y="5000760"/>
            <a:ext cx="1214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Nomenclatura Compuestos Orgánic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Regl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La cadena más larga es la cadena principal (si hay enlaces múltiples, debe escogerse la cadena más larga que los contenga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Numerar los átomos de la cadena, comenzando por el extremo que permita dar a los sustituyentes el número más baj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Identificar sustituye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jemplos Nomencl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n 195" descr="http://www.edured2000.net/fyq/formulacion/Image271.gif"/>
          <p:cNvPicPr/>
          <p:nvPr/>
        </p:nvPicPr>
        <p:blipFill>
          <a:blip r:embed="rId1"/>
          <a:stretch/>
        </p:blipFill>
        <p:spPr>
          <a:xfrm>
            <a:off x="1500120" y="1643040"/>
            <a:ext cx="6215040" cy="350064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4071960" y="54054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 Me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5143680" y="540540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Hexa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428920" y="540540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3,4 Die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143000" y="2857680"/>
            <a:ext cx="6786720" cy="1000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3000240" y="3929040"/>
            <a:ext cx="1071720" cy="857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4500720" y="4000680"/>
            <a:ext cx="2286000" cy="1071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2571840" y="1714680"/>
            <a:ext cx="2286000" cy="1071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11"/>
          <p:cNvSpPr/>
          <p:nvPr/>
        </p:nvSpPr>
        <p:spPr>
          <a:xfrm rot="2470200">
            <a:off x="1914120" y="2716200"/>
            <a:ext cx="5875560" cy="17193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3643200" y="597708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4 Isoprop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5143680" y="59770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Hexa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2286000" y="59770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f497d"/>
                </a:solidFill>
                <a:latin typeface="Calibri"/>
              </a:rPr>
              <a:t>3 E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6929280" y="5929200"/>
            <a:ext cx="192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n 196" descr="http://www.edured2000.net/fyq/formulacion/Image291.gif"/>
          <p:cNvPicPr/>
          <p:nvPr/>
        </p:nvPicPr>
        <p:blipFill>
          <a:blip r:embed="rId1"/>
          <a:stretch/>
        </p:blipFill>
        <p:spPr>
          <a:xfrm>
            <a:off x="1000080" y="2643120"/>
            <a:ext cx="6843600" cy="2363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jemplos Nomencl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4143240" y="540540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2,4 Heptadi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2571840" y="540540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6 Me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143000" y="2857680"/>
            <a:ext cx="6786720" cy="1000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5786280" y="4000680"/>
            <a:ext cx="1000440" cy="1071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Curved Connector 17"/>
          <p:cNvCxnSpPr/>
          <p:nvPr/>
        </p:nvCxnSpPr>
        <p:spPr>
          <a:xfrm flipH="1" flipV="1" rot="5400000">
            <a:off x="2820600" y="2178360"/>
            <a:ext cx="1357920" cy="85788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6" name="Curved Connector 19"/>
          <p:cNvCxnSpPr/>
          <p:nvPr/>
        </p:nvCxnSpPr>
        <p:spPr>
          <a:xfrm flipV="1" rot="16200000">
            <a:off x="3785760" y="2214000"/>
            <a:ext cx="1286640" cy="714960"/>
          </a:xfrm>
          <a:prstGeom prst="curvedConnector5">
            <a:avLst>
              <a:gd name="adj1" fmla="val 49986"/>
              <a:gd name="adj2" fmla="val 49974"/>
              <a:gd name="adj3" fmla="val 49986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" name="TextBox 21"/>
          <p:cNvSpPr/>
          <p:nvPr/>
        </p:nvSpPr>
        <p:spPr>
          <a:xfrm>
            <a:off x="2928960" y="14050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bri"/>
              </a:rPr>
              <a:t>Enlaces Dobl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n 197" descr="http://www.edured2000.net/fyq/formulacion/Image273.gif"/>
          <p:cNvPicPr/>
          <p:nvPr/>
        </p:nvPicPr>
        <p:blipFill>
          <a:blip r:embed="rId1"/>
          <a:stretch/>
        </p:blipFill>
        <p:spPr>
          <a:xfrm>
            <a:off x="1000080" y="2595600"/>
            <a:ext cx="6643800" cy="22143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jemplos Nomencl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3286080" y="521496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1 Hex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1143000" y="2952720"/>
            <a:ext cx="6786720" cy="1643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Curved Connector 19"/>
          <p:cNvCxnSpPr/>
          <p:nvPr/>
        </p:nvCxnSpPr>
        <p:spPr>
          <a:xfrm rot="10800000">
            <a:off x="5142960" y="2380680"/>
            <a:ext cx="1072080" cy="1000800"/>
          </a:xfrm>
          <a:prstGeom prst="curvedConnector5">
            <a:avLst>
              <a:gd name="adj1" fmla="val 49983"/>
              <a:gd name="adj2" fmla="val 49982"/>
              <a:gd name="adj3" fmla="val 49983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" name="TextBox 21"/>
          <p:cNvSpPr/>
          <p:nvPr/>
        </p:nvSpPr>
        <p:spPr>
          <a:xfrm>
            <a:off x="2928960" y="19288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bri"/>
              </a:rPr>
              <a:t>Enlace Tripl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n 198" descr="http://www.edured2000.net/fyq/formulacion/Image274.gif"/>
          <p:cNvPicPr/>
          <p:nvPr/>
        </p:nvPicPr>
        <p:blipFill>
          <a:blip r:embed="rId1"/>
          <a:stretch/>
        </p:blipFill>
        <p:spPr>
          <a:xfrm>
            <a:off x="1071720" y="2714760"/>
            <a:ext cx="6858000" cy="13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jemplos Nomencl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4143240" y="540540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1 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2071800" y="54054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4, 6 Octadi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143000" y="2857680"/>
            <a:ext cx="678672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Curved Connector 17"/>
          <p:cNvCxnSpPr/>
          <p:nvPr/>
        </p:nvCxnSpPr>
        <p:spPr>
          <a:xfrm flipH="1" flipV="1" rot="5400000">
            <a:off x="2821680" y="2321280"/>
            <a:ext cx="1215000" cy="714960"/>
          </a:xfrm>
          <a:prstGeom prst="curvedConnector5">
            <a:avLst>
              <a:gd name="adj1" fmla="val 50000"/>
              <a:gd name="adj2" fmla="val 49974"/>
              <a:gd name="adj3" fmla="val 50000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0" name="Curved Connector 19"/>
          <p:cNvCxnSpPr/>
          <p:nvPr/>
        </p:nvCxnSpPr>
        <p:spPr>
          <a:xfrm flipV="1" rot="16200000">
            <a:off x="3642840" y="2428560"/>
            <a:ext cx="1286640" cy="57204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1" name="TextBox 21"/>
          <p:cNvSpPr/>
          <p:nvPr/>
        </p:nvSpPr>
        <p:spPr>
          <a:xfrm>
            <a:off x="2928960" y="14050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bri"/>
              </a:rPr>
              <a:t>Enlaces Dobl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Curved Connector 15"/>
          <p:cNvCxnSpPr/>
          <p:nvPr/>
        </p:nvCxnSpPr>
        <p:spPr>
          <a:xfrm flipV="1" rot="16200000">
            <a:off x="6214320" y="2356920"/>
            <a:ext cx="857880" cy="572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3" name="TextBox 18"/>
          <p:cNvSpPr/>
          <p:nvPr/>
        </p:nvSpPr>
        <p:spPr>
          <a:xfrm>
            <a:off x="5357880" y="142884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bri"/>
              </a:rPr>
              <a:t>Enlace Tripl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n 199" descr="http://www.edured2000.net/fyq/formulacion/Image275.gif"/>
          <p:cNvPicPr/>
          <p:nvPr/>
        </p:nvPicPr>
        <p:blipFill>
          <a:blip r:embed="rId1"/>
          <a:stretch/>
        </p:blipFill>
        <p:spPr>
          <a:xfrm>
            <a:off x="1000080" y="2284560"/>
            <a:ext cx="7072200" cy="2930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jemplos Nomencl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143000" y="3000240"/>
            <a:ext cx="6786720" cy="1357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Curved Connector 19"/>
          <p:cNvCxnSpPr/>
          <p:nvPr/>
        </p:nvCxnSpPr>
        <p:spPr>
          <a:xfrm flipH="1" flipV="1" rot="5400000">
            <a:off x="6178320" y="2820960"/>
            <a:ext cx="1143720" cy="214920"/>
          </a:xfrm>
          <a:prstGeom prst="curvedConnector5">
            <a:avLst>
              <a:gd name="adj1" fmla="val 69993"/>
              <a:gd name="adj2" fmla="val 50000"/>
              <a:gd name="adj3" fmla="val 69993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8" name="TextBox 21"/>
          <p:cNvSpPr/>
          <p:nvPr/>
        </p:nvSpPr>
        <p:spPr>
          <a:xfrm>
            <a:off x="6000840" y="17146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alibri"/>
              </a:rPr>
              <a:t>Enlaces Dobl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4286160" y="4357800"/>
            <a:ext cx="1000080" cy="785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5143680" y="23572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" name="Curved Connector 12"/>
          <p:cNvCxnSpPr/>
          <p:nvPr/>
        </p:nvCxnSpPr>
        <p:spPr>
          <a:xfrm flipV="1">
            <a:off x="3214800" y="1928160"/>
            <a:ext cx="2929680" cy="1572120"/>
          </a:xfrm>
          <a:prstGeom prst="curvedConnector5">
            <a:avLst>
              <a:gd name="adj1" fmla="val 4583"/>
              <a:gd name="adj2" fmla="val 50000"/>
              <a:gd name="adj3" fmla="val 4583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2" name="TextBox 22"/>
          <p:cNvSpPr/>
          <p:nvPr/>
        </p:nvSpPr>
        <p:spPr>
          <a:xfrm>
            <a:off x="4286160" y="540540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1,5 Heptadi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4"/>
          <p:cNvSpPr/>
          <p:nvPr/>
        </p:nvSpPr>
        <p:spPr>
          <a:xfrm>
            <a:off x="2428920" y="540540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3,4 Dime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jemplos Nomencl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Imagen 200" descr="http://www.edured2000.net/fyq/formulacion/Image276.gif"/>
          <p:cNvPicPr/>
          <p:nvPr/>
        </p:nvPicPr>
        <p:blipFill>
          <a:blip r:embed="rId1"/>
          <a:stretch/>
        </p:blipFill>
        <p:spPr>
          <a:xfrm>
            <a:off x="1785960" y="1428840"/>
            <a:ext cx="5357880" cy="221436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201" descr="http://www.edured2000.net/fyq/formulacion/Image277.gif"/>
          <p:cNvPicPr/>
          <p:nvPr/>
        </p:nvPicPr>
        <p:blipFill>
          <a:blip r:embed="rId2"/>
          <a:stretch/>
        </p:blipFill>
        <p:spPr>
          <a:xfrm>
            <a:off x="2857680" y="4071960"/>
            <a:ext cx="3429000" cy="24606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5715000" y="297648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3 propil- 1 hex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5867280" y="4857840"/>
            <a:ext cx="31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1,2 dimetil- ciclopent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jemplos Nomencl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Imagen 202" descr="http://www.edured2000.net/fyq/formulacion/Image278.gif"/>
          <p:cNvPicPr/>
          <p:nvPr/>
        </p:nvPicPr>
        <p:blipFill>
          <a:blip r:embed="rId1"/>
          <a:stretch/>
        </p:blipFill>
        <p:spPr>
          <a:xfrm>
            <a:off x="1357200" y="1276200"/>
            <a:ext cx="2772000" cy="2295720"/>
          </a:xfrm>
          <a:prstGeom prst="rect">
            <a:avLst/>
          </a:prstGeom>
          <a:ln w="0">
            <a:noFill/>
          </a:ln>
        </p:spPr>
      </p:pic>
      <p:pic>
        <p:nvPicPr>
          <p:cNvPr id="111" name="Imagen 203" descr="http://www.edured2000.net/fyq/formulacion/Image279.gif"/>
          <p:cNvPicPr/>
          <p:nvPr/>
        </p:nvPicPr>
        <p:blipFill>
          <a:blip r:embed="rId2"/>
          <a:stretch/>
        </p:blipFill>
        <p:spPr>
          <a:xfrm>
            <a:off x="642960" y="3565440"/>
            <a:ext cx="3643200" cy="29210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4500720" y="219060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1,3 ciclohexadi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4500720" y="4476600"/>
            <a:ext cx="31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alibri"/>
              </a:rPr>
              <a:t>4,5 dimetil ciclohex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ur User Name</cp:lastModifiedBy>
  <dcterms:modified xsi:type="dcterms:W3CDTF">2010-04-10T03:15:47Z</dcterms:modified>
  <cp:revision>20</cp:revision>
  <dc:subject/>
  <dc:title>IQ3204 Clase Auxiliar #1</dc:title>
</cp:coreProperties>
</file>