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CDEA-8B7B-4BB8-AABC-35999A1BB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E47C-98B7-4273-9743-0442CF11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EC55-EE29-4D70-A189-2451FC1F4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0F0F-FCEB-4F2C-AB43-EFC076D19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F22E-578E-48F0-8A69-71569C3E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E4A5-9427-4880-9D9C-28FB8FFD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69F0-3280-4AA2-8C30-34AE1124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A544-48E6-4804-BD36-98CFD4E1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5C24-FBD8-4809-805D-64059E4D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008D-C3B9-425A-8D0D-B9722E6D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E55D-A7F7-4EB5-9EAA-171B7AB5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7C3B-D34D-4C84-9BD5-6335F273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144C-A20A-46DA-A50D-3B1F5EBD5A5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9640" y="2060280"/>
            <a:ext cx="7417080" cy="23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apítulo 4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ratamiento Contable de los Principales Activ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23640" y="1699920"/>
            <a:ext cx="84582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na empresa tiene cuentas por cobrar de $50.000. Por quiebra de un cliente no será posible recaudar $6.000.” Se debe reconocer un gasto, que se denomina castigo, contra una reducción en el valor del activo ‘deudores por venta’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Cuentas por Cobr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2997360"/>
            <a:ext cx="79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b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H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stigo incobrables (G)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udores por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292640"/>
            <a:ext cx="8458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l momento de preparar los estados financieros, se estima que $2.000 podrían no recuperarse.” Se reconoce un gasto por 2000, y se rebajan los activos usando una cuenta complement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22240" y="54817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b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H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imación incobrables (G)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cobrables (CA)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3120" y="1092240"/>
            <a:ext cx="21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188748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uenta complementaria del activo (CA): Cuenta que se comporta como un pasivo pero que se presenta en el balance general como un activo negativo, rebajando al activo que complemen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Cuentas por Cobr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"/>
          <p:cNvSpPr/>
          <p:nvPr/>
        </p:nvSpPr>
        <p:spPr>
          <a:xfrm>
            <a:off x="822240" y="40417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Deudores por ventas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4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incobrables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Book Antiqua"/>
              </a:rPr>
              <a:t>(2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Deudores por ventas (neto)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4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560" y="1483920"/>
            <a:ext cx="84582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logran recuperar $1.000 de la deuda previamente castigada”. Entonces, se vuelve a reconocer un ingreso y el correspondiente aumento del disponi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uentas por Cobr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304632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Debe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H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Disponible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Ingresos fuera de la explotación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6520" y="500364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s normas tributarias permiten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 rebajar como gasto los castigos, pero no las provi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999200" cy="92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loración de Existenci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47640" y="2781360"/>
            <a:ext cx="8245440" cy="374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stema Perpetuo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transacciones se registran a medida que ocurr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compras de mercaderías se registran en una cuenta “existencia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ndo se venden mercaderías se realizan dos asientos contables, uno para reconocer el ingreso y otro para reconocer el costo de la venta.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 decir, la cuenta existencias se mantiene permanentemente al d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4360" y="1125360"/>
            <a:ext cx="8001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stemas de Invent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5280" y="1700280"/>
            <a:ext cx="808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Hay dos enfoque que se utilizan para registrar las transacciones de mercaderí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999200" cy="92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loración de Existenci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7640" y="1915920"/>
            <a:ext cx="8245440" cy="46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stema Periódico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osto de ventas se determina periódicamente, generalmente a fin de añ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compras de mercaderías se registran en una cuenta “compra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ndo se venden mercaderías se reconoce el ingreso, pero no el costo de la venta.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 fin de año se hace un conteo físico y se calcula por diferencia el costo de las mercaderías vendidas durante el añ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4360" y="1125360"/>
            <a:ext cx="8001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stemas de Invent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74880" y="1989000"/>
            <a:ext cx="691020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ntario inic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pras del Períod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3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cadería Disponi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ventario Final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8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Explota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999200" cy="92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Existenci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1125360"/>
            <a:ext cx="8001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stemas de Invent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999200" cy="92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loración de Existenci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47640" y="1915920"/>
            <a:ext cx="8245440" cy="46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entario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el sistema perpetuo también se realiza un inventario físico, que permite detectar mermas y rob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la actualidad, los sistemas computacionales y códigos de barra permiten el uso generalizado del sistema perpetuo. El sistema periódico se utiliza principalmente en los pequeños comerc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1125360"/>
            <a:ext cx="8001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stemas de Invent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ongamos que una empresa ha realizado las siguientes compras de mercaderí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1.0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unidades a $10 cada 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unidades a $11 cada 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el 10.04 vende dos unidades ¿Cuál es el costo de venta? ¿$20, $22, el promedio ponderado, 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general, se debe hacer u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puesto de flujo de mercaderí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Existenci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1052640"/>
            <a:ext cx="8640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odos de contabilización de invent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000" y="1941120"/>
            <a:ext cx="8351640" cy="407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étodo de l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nidades Específic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one que es posible identificar en los registro contables el costo de cada unidad individual de mercadería que se ven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usa para activos de alto valor unitario con volúmenes de venta peque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 ejemplo, maquinarias de alto valor identificables mediante un número de ser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Existenci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1052640"/>
            <a:ext cx="8640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odos de contabilización de invent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24000" y="1701360"/>
            <a:ext cx="866448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étodo de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sto Promedio Pondera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valor del Inventario se calcula aplicando a cada artículo en existencias el costo de adquisición promedio ponderado, incluyendo el costo de adquisición de las existencias inici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a vez que ocurre una compra se calcula un nuevo promed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*10  +5*11)/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0,6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o de ven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*10,62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,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enci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*10,62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3,75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Existenci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1052640"/>
            <a:ext cx="8640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odos de contabilización de invent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CT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oración de A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entas por Cobr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étodos de Valoración de Exist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os Fij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os Intangi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os Financie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41080" y="1873080"/>
            <a:ext cx="80629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Método FIFO (o PEP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uesto de flujo: La mercadería que primero entra al inventario es la que primero se ven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 lo tanto, el inventario queda valorado a los costos de adquisición más reci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o de Venta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*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encia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+ 5*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Existenci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1052640"/>
            <a:ext cx="8640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odos de contabilización de invent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4360" y="1952640"/>
            <a:ext cx="7772400" cy="42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étodo LIFO (o UEP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uesto de flujo: La mercadería que ingresó al final es la primera que se ven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 lo tanto, el inventario queda valorado a los costos de adquisición más antigu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o de Venta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*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enci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*11 + 3*10 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Existenci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052640"/>
            <a:ext cx="8640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odos de contabilización de invent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99640" y="1952640"/>
            <a:ext cx="7704360" cy="42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existencias se deben valorar al mínimo entre el costo de adquisición y el valor neto realiz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IFRS sólo admiten usar FIFO y CP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fines tributarios tampoco se acepta LIF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Existenci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1052640"/>
            <a:ext cx="8640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odos de contabilización de invent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85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351640" cy="136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tiene un Inventario Inicial de 300 unidades a $0,95 c/u. Las compras y ventas del período son las siguie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76360" y="2457360"/>
            <a:ext cx="6408720" cy="42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8260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o de Ven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ste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F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ódic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3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8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5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petu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3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4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ntario Fin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ste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F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ódic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4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petu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5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6840" y="3284640"/>
            <a:ext cx="739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00000" y="537372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5840" y="429408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645336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333360"/>
            <a:ext cx="8351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ar el costo de venta usando FIFO, LIFO y CPP, combinados con los sistemas perpetuo y periód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66760" y="1666800"/>
            <a:ext cx="210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Resulta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06436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vos Fij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80560" y="1699920"/>
            <a:ext cx="7348680" cy="42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Activos Fijos son activos tangibles q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usan en la producción o suministro de bienes y servicios, para arrendarlos a terceros o para fines administrativos;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esperan usar durante más de un perío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9280" y="1341360"/>
            <a:ext cx="829944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odo elemento del activo fijo, al momento de su reconocimiento, se valora al costo, el cual comprend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precio de adquisición, incluidos los impuestos indirectos no recuperables y deducidas las rebajas del pre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costos relacionados con la ubicación del activo en el lugar y en las condiciones necesarias para que pueda operar de la forma prevista (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nsporte, instalaciones, comisiones, gastos notariale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gunos activos de bajo valor relativo se registran directamente como gastos (ej: repuestos, materiales de oficina, libros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7680" y="404640"/>
            <a:ext cx="792468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vos Fij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vos Fij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joras: Son cambios estructurales del activo (ampliación a adición de elementos). Son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activabl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, es decir, incrementan el valor del activo fi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paraciones y mantenimiento: Dejan al activo en condiciones normales de funcionamiento. No son  activables, es decir, se consideran un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gast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752480"/>
            <a:ext cx="9142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 Compra de Activo Fi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3400" y="1628280"/>
            <a:ext cx="8599320" cy="472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adquiere una propiedad que costó $50.000.000. Una tasación técnica indica lo sigui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ida U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erren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trucción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35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alacion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15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emás se incurrió en los siguientes gas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norarios del abogad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 0,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de Transferenci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 0,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notaria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 0,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 Compra de Activo Fi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2233080"/>
            <a:ext cx="8915400" cy="436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o Total = mm$50 + mm$0.15 = $50.15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siento Con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b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ren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.15*0.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cció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.15*0.58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lacion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.15*0.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.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3427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Act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483920"/>
            <a:ext cx="8588160" cy="501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en 4 métodos para valorar activ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histórico: monto pagado al momento de la adquisi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taja: Información objetiva y verifi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ventaja: No necesariamente coincide con valor de mer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corriente: lo que debería pagarse si se adquiriese el mismo activo en la actu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taja: es un valor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ventaja: No siempre es objetivo, no es único y no todos los activos se transan en el mer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99640" y="274320"/>
            <a:ext cx="7558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 Venta de Activo Fi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424720" cy="209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vende una máquina en $60.000, cuyo valor contable neto es el sigui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 Bru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5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reciación Acumulada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10.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 Fijo ne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4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9000" y="3860640"/>
            <a:ext cx="8775720" cy="265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reciación Acumulad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 Fijo Bru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greso Fuera de Explota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reci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806436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f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Distribución del costo del activo como gasto en los períodos en que presta sus servic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depreciación es consecuencia del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eterior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u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obsolescenci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del ac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depreciación es el principal gasto que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no es un flujo de efec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isten varios métodos de depreciación, los que se pueden clasificar en dos famil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preciación lin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preciación acele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reci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0920" y="1414440"/>
            <a:ext cx="806436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or Libro: es el valor que tiene un activo en la contabilidad, una vez deducidas la depreciación acumulada y las pérdidas por deterioro acumulad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da útil: período durante el cual el activo fijo será utilizado por la entidad; o el número de unidades de producción que se espera obtener del mis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or residual: monto estimado que una entidad podría obtener al vender el activo fijo al término de su vida út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reci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127008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alor a depreciar: costo del activo menos el valor resid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preciación: distribución sistemática del valor a depreciar de un activo a lo largo de su vida út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érdida por deterioro: monto en que excede el valor libro de un activo a su monto recuper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alor justo: monto por el cual podría ser intercambiado un activo, entre partes interesadas y debidamente informadas, en una transacción realizada en condiciones de independencia mutu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460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reciación Line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8160" y="1839600"/>
            <a:ext cx="46782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A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 : Costo de Adqui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r: Valor Resi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 : Años de Vida U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5040" y="4141800"/>
            <a:ext cx="3936960" cy="1879560"/>
          </a:xfrm>
          <a:prstGeom prst="rect">
            <a:avLst/>
          </a:prstGeom>
          <a:noFill/>
          <a:ln w="1015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preciación Anual =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-V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43600" y="283068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43600" y="564984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746200" y="578628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43600" y="496404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43600" y="3440160"/>
            <a:ext cx="2286000" cy="1523880"/>
          </a:xfrm>
          <a:prstGeom prst="line">
            <a:avLst/>
          </a:prstGeom>
          <a:ln w="50760">
            <a:solidFill>
              <a:srgbClr val="ff8a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46880" y="31971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17920" y="472140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985160" y="5786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29600" y="4964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99160" y="243540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244000" y="4941720"/>
            <a:ext cx="649080" cy="0"/>
          </a:xfrm>
          <a:prstGeom prst="line">
            <a:avLst/>
          </a:prstGeom>
          <a:ln w="50760">
            <a:solidFill>
              <a:srgbClr val="ff8a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90120" y="479520"/>
            <a:ext cx="7637400" cy="11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epreciación acelerada: el método de los saldos decrecien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0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 = Tasa anual de depreci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 = años de vida út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R = valor res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A = Depreciación acumul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5400" y="4502160"/>
            <a:ext cx="6384960" cy="1879560"/>
          </a:xfrm>
          <a:prstGeom prst="rect">
            <a:avLst/>
          </a:prstGeom>
          <a:noFill/>
          <a:ln w="1015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P –DA)*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aldo no depreciado - V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reciación Tributa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362800" cy="518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vidas útiles generalmente las fija la administración tributaria de cada paí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emás, es común que se establezcan incentivos a través de los métodos de depreci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 ejemplo, la LIR en Chile establece una depreciación acelerada, que consiste en depreciar el activo linealmente, considerando una vida útil igual a [1/3] de la vida útil norm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ene como objetivo incentivar la inversión en activo fijo, a través de la postergación del impuesto a la ren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90480" y="285840"/>
            <a:ext cx="748368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14360" y="2782800"/>
          <a:ext cx="857736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2782800"/>
                    <a:ext cx="8577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1203480" y="1203480"/>
            <a:ext cx="61610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0720" y="1254240"/>
            <a:ext cx="79376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tiene un AF por $100.000, vida útil 5 años y Vr = 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8360" y="2189160"/>
            <a:ext cx="3171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preciación Line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41520" y="2349360"/>
          <a:ext cx="8288280" cy="395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2349360"/>
                    <a:ext cx="828828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1278000" y="1397160"/>
            <a:ext cx="6761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preciación Acelerada (saldos decreciente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5760" y="325080"/>
            <a:ext cx="8140680" cy="61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1887480" y="2492280"/>
            <a:ext cx="210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´= [5/3]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0440" y="3238560"/>
            <a:ext cx="8913960" cy="2362320"/>
          </a:xfrm>
          <a:prstGeom prst="rect">
            <a:avLst/>
          </a:prstGeom>
          <a:noFill/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ñ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precia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prec.Acumulad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.F.N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100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99640" y="1484280"/>
            <a:ext cx="5212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preciación Tributaria Acelerad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8280" y="388800"/>
            <a:ext cx="7983720" cy="7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Act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77880" y="1485720"/>
            <a:ext cx="7926480" cy="48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 realizable: monto que se podría obtener de la venta no forzada del ac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taja: es un valor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ventaja: No siempre es objetivo, no es único y no todos los activos se transan en el mer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 Presente : Valor del activo es función de los flujos futu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taja: Es una buena estimación del precio de mer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ventaja: Se debe estimar flujos futuros, tasa de descuento y período de madurez del ac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75438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¿ Qué Ocurre con la Utilida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usar depreciación line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7960" y="3100320"/>
            <a:ext cx="8508960" cy="2489400"/>
          </a:xfrm>
          <a:prstGeom prst="rect">
            <a:avLst/>
          </a:prstGeom>
          <a:noFill/>
          <a:ln w="1015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20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1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1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1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1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1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8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3915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¿ Qué Ocurre con la Utilida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732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usar depreciación tributaria acele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4280" y="3098880"/>
            <a:ext cx="7899480" cy="2793960"/>
          </a:xfrm>
          <a:prstGeom prst="rect">
            <a:avLst/>
          </a:prstGeom>
          <a:noFill/>
          <a:ln w="1015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0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2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3,4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0,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0,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0,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0,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6,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,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,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,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,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ión posterior a la ini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362800" cy="518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IFRS permiten elegir ent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o de costos: costo de adquisición menos depreciación acumulada y menos pérdida por deterioro acumul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o de revalorización: valor justo al momento de la revalorización menos depreciación acumulada y pérdida por deterioro acumulada posteri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revalorización se debe efectuar para toda la categoría de activos (bienes similar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valor justo es un valor de mercado estimado mediante una tasación. Si no existe evidencia de mercado, se puede recurrir a otros métodos que tengan en cuenta los rendimientos del activo (valor presen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ión posterior a la ini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362800" cy="518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diferencias positivas entre la revalorización y la valorización inicial, se registran en una cuenta de reservas, en el patrimonio (no va a resultad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cambio, las diferencias negativas entre la revalorización y la valorización inicial, se registran como pérdidas en el estado de result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vos Intangib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 activos identificables, de carácter no monetario y sin sustancia fís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mente las empresas adquieren o desarrollan recursos intangibles, tales como: programas informáticos, patentes, derechos de autor, marcas, películas, listas de clientes, franquicias, licencias de pesca, concesiones de radiodifusión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todos estos recursos son necesariamente activos intangi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vos Intangib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que pueda ser reconocido como activo, el recurso deb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egar beneficios económicos futuros a la entidad que lo pos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 identificable: puede ser separado de la entidad y vendido, cedido, arrendado o intercambi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 controlable: la entidad tiene el poder de obtener los beneficios económicos futuros y restringir el acceso de terceros a tales benef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emás se requiere que su costo pueda ser medido de manera f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vos Intangib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 acuerdo con los PCG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activos intangibles se registran contablemente sólo cuando son adquiridos de terce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valoran al costo de adquisición menos la amortización acumul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Amortiza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Proceso a través del cual el valor de adquisición del intangible se convierte parcial y periódicamente en gas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étodo: Línea recta con VR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ida Util: Mín {Plazo del Contrato; Plazo estimado razonable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 intangible desarrollado internamente no puede ser registrado como ac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vos Intangib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 acuerdo con las IF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orización ini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s adquiridos de terceros: Se valora al costo, que incluye el precio de adquisición más los costos conex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quisición mediante una concesión gubernamental, sin costo o a muy bajo costo: se puede reconocer al valor justo o a un valor nominal simbó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s generados internam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deben identificar dos fases: investigación y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vos Intangib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 acuerdo con las IF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orización ini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s generados internam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 costos de la fase de investigación se consideran gastos del perí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activo surgido de la fase de desarrollo se puede reconocer como tal siempre que se cumplan una serie de requisitos que demuestren la existencia de beneficios futuros para la ent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 desembolsos para generación interna de marcas, listas de clientes, denominaciones editoriales y similares, no se reconocen como activos, pues son indistinguibles del costo de desarrollar la actividad empresarial en su conju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vos Intangib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 acuerdo con las IF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ización poste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 igual que con los activos fijos, se puede escoger entre el modelo de costo (costo menos amortización acumulada y pérdida de valor acumulada) y el modelo de revalorización (valor justo al momento de la revalorización menos amortización acumulada y pérdida de valor acumulada posterior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la práctica, existe dificultad para medir el valor justo, pues es poco común la existencia de un mercado activo para los intangi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600" y="1219320"/>
            <a:ext cx="87631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cepto de Valor Presente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 una persona invierte una cantidad P a una tasa r durante un período ¿qué cantidad tendrá al término del perío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1 = P (1+r) , que se conoce como el valor fut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Una persona recibirá una cantidad F1 al cabo de un año ¿qué cantidad hoy sería equivalente a F1 dentro de 1 añ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1 = X (1+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X = Valor Presente = VP1 = F1/(1+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8280" y="388800"/>
            <a:ext cx="7983720" cy="7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Act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vos Intangib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 acuerdo con las IF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da útil y amort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debe evaluar si la vida útil del intangible es finita o indefin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la vida útil es finita, el activo se amortiza con un método que refleje el patrón de consumo esperado de los beneficios del activo, y suponiendo en general un valor residual c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la vida útil es indefinida, el activo no se amortiza, pero se somete a evaluaciones periódicas de pérdida de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vos Intangib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 acuerdo con las IF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reconocen como gastos del períod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gastos de puesta en marc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gastos en capaci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gastos en publicidad y actividades promo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gastos de reubicación o reorganización de la ent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vos Intangib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Goodwil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el exceso de costo de un activo o empresa por sobre el valor comercial de las partes que lo componen. También se llama derecho de llave o fondo de comer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uando una empresa compra a otra, debe reconocer como activo el goodwill resultante, siendo este la diferencia positiva entre el monto pagado por la empresa adquirida y el valor de los activos netos que la componen (activos menos pasivo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e activo no se amortiza, pero se somete anualmente a una prueba de pérdida de val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vos Intangib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Goodwil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goodwill representa el pago realizado por el adquirente como anticipo de los beneficios económicos futuros de activos que no han podido ser identificados individual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el monto pagado por la empresa adquirida es menor que el valor de los activos netos que la componen, se debe reconocer un ingreso en el resultado del perío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6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ctivos Financier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344080" cy="443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rsión en un instrumento constitutivo de una obligación y emitido por un banco, empresa, o institución financie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l como : Bonos, Depósitos a Plazo, Pagarés, accion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. Financieros de corto plazo: Su objetivo es obtener rentabilidad de los excedentes de caj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. Financieros de largo plazo: Inversiones permanentes en otras socie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6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ctivos Financier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>
            <a:off x="137160" y="3411360"/>
            <a:ext cx="226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2514600" y="2360520"/>
            <a:ext cx="1447920" cy="1371600"/>
          </a:xfrm>
          <a:prstGeom prst="line">
            <a:avLst/>
          </a:prstGeom>
          <a:ln w="50760">
            <a:solidFill>
              <a:srgbClr val="ff8a3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14600" y="3732120"/>
            <a:ext cx="1523880" cy="1524240"/>
          </a:xfrm>
          <a:prstGeom prst="line">
            <a:avLst/>
          </a:prstGeom>
          <a:ln w="50760">
            <a:solidFill>
              <a:srgbClr val="ff8a3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96440" y="2039760"/>
            <a:ext cx="4848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o Plazo (Activo Circulante)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ispon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pósitos a 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Valores Negociables (accion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ectos de comercio, bonos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53040" y="4935600"/>
            <a:ext cx="4673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rgo Plazo (Otros Activo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Inv. en Empresas Relacion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Inv. en Otras Socie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44120" y="48528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.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ósito a Plaz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versión de fondos en bancos e instituciones financieras, a plazo fijo, que devengan intereses a una tasa conocida pagable al vencimiento de la invers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valorizan a su costo más los intereses y reajustes respectivos devengados a la fecha de cierre de los estados financieros correspond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6448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a empresa hace un depósito a plazo a 90 días por m$400 al 1.2% mensual. El cierre es a 60 días de hecho el depósi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Al momento de tomar el depósito, se debe reconocer un activo financiero por 40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ósito a Plazo (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onible (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4600" y="3886200"/>
            <a:ext cx="86644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190440" indent="1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) Al momento de preparar los estados financieros, se debe reconocer un mayor valor del activo equivalente al interés de 60 días, más un ingreso por igual mon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b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1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pósito a Plazo (A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9,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1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gresos Financieros (I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9,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696440" cy="10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lores Negocia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700280"/>
            <a:ext cx="8686800" cy="472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registran bajo este concepto las inversiones en acciones, bonos, efectos de comercio, fondos mutuos y otros títulos de oferta públ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cció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ítulo que otorga a su poseedor la participación en la propiedad de una sociedad anóni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o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ítulo de deuda, emitido por una empresa o por el gobierno, que promete a su poseedor el pago de una cantidad cierta de dinero, en un plazo determinado. Duración mayor a 1 añ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228600" y="2303280"/>
            <a:ext cx="8686800" cy="39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fectos de Comerci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Idéntico al bono, pero su duración es inferior a 1 añ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uotas de Fondos Mutu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rticipación, a través de la adquisición de cuotas, en las inversiones efectuadas en activos financieros, administradas por una entidad especializada y de giro exclus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9640" y="404640"/>
            <a:ext cx="769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lores Negoc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9440" y="299880"/>
            <a:ext cx="7792920" cy="111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Act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912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 los PCG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general, se usa l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oración al costo históric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rincipio de valoración al contabl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cionalmente se usa el valor de mercado, cuando existe información objetiva (acciones en calidad de valores negoc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otras se usa el valor presente (activos en leasing o inversiones en bon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38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.3 Inversión en acciones y derechos soci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clasificación de estas inversiones y su método de valorización toma en cuenta dos vari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4920" y="2286000"/>
            <a:ext cx="85341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480600" indent="-480600" algn="just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capacidad de ejercer “influencia significativa” en la entidad en que se invierte; 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0600" indent="-480600" algn="just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carácter permanente de la inver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0880" y="373392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común que se usen parámetros objetivos, por 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0880" y="4648320"/>
            <a:ext cx="83822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85640" indent="-485640" algn="just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uencia significativa: cuando la inversión representa el 20% o más del patrimonio de la emis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 algn="just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manencia: cuando la inversión representa más del 5% de los activos del inversioni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520" y="442800"/>
            <a:ext cx="84582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.3 Inversión en acciones y derechos soci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51200"/>
            <a:ext cx="8153280" cy="45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inversión en acciones será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alor Negoci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“Activo Circulante”) s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acción se cotiza en bol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hay capacidad para ejercer influencia significativa en la emiso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inversión no es perman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80600"/>
            <a:ext cx="8375760" cy="104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.3 Inversión en acciones y derechos soci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47200" y="1676520"/>
            <a:ext cx="8139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inversión en acciones será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versión en Empresa Relacionad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ctivos no circulantes) s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y capacidad para ejercer influencia significativa en la emiso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interesa si la acción tiene o no cotización bursát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cualquier otro caso, una inversión en acciones será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versión en Otras Sociedade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ctivos no circulan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0720" y="404280"/>
            <a:ext cx="8369280" cy="10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.3 Inversión en Ac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"/>
          <p:cNvSpPr/>
          <p:nvPr/>
        </p:nvSpPr>
        <p:spPr>
          <a:xfrm>
            <a:off x="298440" y="1916280"/>
            <a:ext cx="8699400" cy="3949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0520" indent="-290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¿Cómo se valoran contablem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 Negociable: Mín. {Costo Adquisición.; Valor de Mercado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rsión Empresas Relacionadas: Valor Patrimon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rsión en Otras Sociedade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se cotiza en bolsa: Mín. {Costo Adquisición; Valor de Mercado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no se cotiza en bolsa: Costo de Adquisi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60000" y="907920"/>
            <a:ext cx="8459640" cy="23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ara profundiz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Horngren et al (2003): capítulos 5, 7, 8 y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Meigs et al (2000): capítulos 7, 8 y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IASB: NIC 2, NIC 16, NIC 36 y NIC 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9440" y="299880"/>
            <a:ext cx="7792920" cy="111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Act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912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 las IF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relaja el principio de valoración al costo y el principio pruden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decir, bajo ciertas circunstancias, se permite valorar los activos fijos, intangibles y otros al “valor justo” o “valor razonable”, que es una estimación del valor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o constituye una “revolución” en la contabilidad financi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119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Cuentas por Cobr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rech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a exigir de un tercero un pago, o la entrega de bienes y servicios, por un cierto monto, a una fecha fut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iene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u origen en la venta de bienes o prestación de servicios a crédito, o en la cesión de un bien del activo a un tercero bajo compromiso de pago a fut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n el balance general normalmente se presentan rebajadas por las estimaciones de deudores incobrables y por los intereses no deveng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839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clasifican en las siguientes partid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udores por ventas: Provenientes de las operaciones comerciales de la empre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ocumentos por cobrar: Provenientes de las operaciones comerciales y documentadas a través de letras, pagares u ot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udores varios: Las que no provienen de las operaciones comerciales de la empre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ocumentos y cuentas por cobrar a empresas relacion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udores a largo plazo: Vencimiento superior a un a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Cuentas por Cobr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2T21:47:36Z</dcterms:created>
  <dc:creator>DPTO. INFORMATICA</dc:creator>
  <dc:description/>
  <dc:language>en-US</dc:language>
  <cp:lastModifiedBy>mjl</cp:lastModifiedBy>
  <cp:lastPrinted>1999-03-18T20:54:39Z</cp:lastPrinted>
  <dcterms:modified xsi:type="dcterms:W3CDTF">2008-07-15T13:58:57Z</dcterms:modified>
  <cp:revision>30</cp:revision>
  <dc:subject/>
  <dc:title>Primera Parte: Contabilidad Financiera</dc:title>
</cp:coreProperties>
</file>