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34A-A248-4C98-9551-1E47EB7E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9DC-7176-44BF-B1B4-47C88CA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8C8-B704-4B39-930C-C67A4461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ABB-6495-472B-908D-5BE80C97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D70-CAF2-4446-ACBC-A2D69E90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D32-1753-4D03-904B-679CBCF4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421-99B4-4A90-A01C-10C3133A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D39-ABF2-4D38-B723-0A303AC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1FD-BE11-42DA-992B-FEDE5242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A64-BB4F-449A-A811-9038FA0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B5C-D32B-49BC-AB1B-5A8B44B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081-7332-43BC-82DD-CFB270D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D0E-4C6D-40BF-92BB-9376CF0857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1708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pítulo 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tamiento Contable de los Principales A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4582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” Se debe reconocer un gasto, que se denomina castigo, contra una reducción en el valor del activo ‘deudores por venta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9973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292640"/>
            <a:ext cx="8458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” Se reconoce un gasto por 2000, y se rebajan los activos usando una cuenta comple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2240" y="548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c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cobrabl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20" y="109224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cobrabl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560" y="1483920"/>
            <a:ext cx="8458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ogran recuperar $1.000 de la deuda previamente castigada”. Entonces, se vuelve a reconocer un ingreso y el correspondiente aumento del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20" y="500364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normas tributarias permite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 rebajar como gasto los castigos, pero no las prov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781360"/>
            <a:ext cx="824544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petu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ransacciones se registran a medida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existenci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alizan dos asientos contables, uno para reconocer el ingreso y otro para reconocer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decir, la cuenta existencias se mantiene permanentemente al 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280" y="1700280"/>
            <a:ext cx="80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dos enfoque que se utilizan para registrar las transacciones de mercade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Periódic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de ventas se determina periódicamente, generalmente a fin de 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mpras de mercaderías se registran en una cuenta “compr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venden mercaderías se reconoce el ingreso, pero no el costo de la vent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fin de año se hace un conteo físico y se calcula por diferencia el costo de las mercaderías vendidas durante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4880" y="1989000"/>
            <a:ext cx="69102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992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1915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ntari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sistema perpetuo también se realiza un inventario físico, que permite detectar mermas y rob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actualidad, los sistemas computacionales y códigos de barra permiten el uso generalizado del sistema perpetuo. El sistema periódico se utiliza principalmente en los pequeños comer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12536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eneral, se debe hacer 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uesto de flujo de mercader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941120"/>
            <a:ext cx="835164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l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dades Específ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ne que es posible identificar en los registro contables el costo de cada unidad individual de mercaderí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usa para activos de alto valor unitario con volúmenes de venta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, maquinarias de alto valor identificables mediante un número de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644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41080" y="1873080"/>
            <a:ext cx="8062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rec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95264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 de flujo: La mercadería que ingresó al final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lo tanto, el inventario queda valorado a los costos de adquisición más antig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de Vent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9640" y="1952640"/>
            <a:ext cx="770436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existencias se deben valorar al mínimo entre el costo de adquisición y el valor neto rea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IFRS sólo admiten usar FIFO y C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fines tributarios tampoco se acepta L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64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32846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373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42940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453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l costo de venta usando FIFO, LIFO y CPP, combinados con los sistemas perpetuo y periód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6760" y="166680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sult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0560" y="1699920"/>
            <a:ext cx="7348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Activos Fijos son activos tangibles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usan en la producción o suministro de bienes y servicios, para arrendarlos a terceros o para fines administrativos;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speran usar durante más de un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1341360"/>
            <a:ext cx="82994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o elemento del activo fijo, al momento de su reconocimiento, se valora al costo, el cual compren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ecio de adquisición, incluidos los impuestos indirectos no recuperables y deducidas las rebajas del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ostos relacionados con la ubicación del activo en el lugar y en las condiciones necesarias para que pueda operar de la forma previst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, instalaciones, comisiones, gastos notarial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: Son cambios estructurales del activo (ampliación a adición de elementos). So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ctivab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incrementan el valor del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paraciones y mantenimiento: Dejan al activo en condiciones normales de funcionamiento. No son  activables, es decir, se consideran u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ga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83920"/>
            <a:ext cx="8588160" cy="50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4 métodos para valorar ac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monto pagado al momento de la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rriente: lo que debería pagarse si se adquiriese el mismo activo en la actu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depreciación es el principal gasto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 varios métodos de depreciación, los que se pueden clasificar en dos famil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41444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Libro: es el valor que tiene un activo en la contabilidad, una vez deducidas la depreciación acumulada y las pérdidas por deterioro acumul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a útil: período durante el cual el activo fijo será utilizado por la entidad; o el número de unidades de producción que se espera obtener del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 residual: monto estimado que una entidad podría obtener al vender el activo fijo al términ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27008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 a depreciar: costo del activo menos el valor res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: distribución sistemática del valor a depreciar de un activo a lo largo de su vida ú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érdida por deterioro: monto en que excede el valor libro de un activo a su monto recup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or justo: monto por el cual podría ser intercambiado un activo, entre partes interesadas y debidamente informadas, en una transacción realizada en condiciones de independencia mut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reciación acelerada: el 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vidas útiles generalmente las fija la administración tributaria de cada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, es común que se establezcan incentivos a través de los métodos de depre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, la LIR en Chile establece una depreciación acelerada, que 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7880" y="1485720"/>
            <a:ext cx="792648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realizable: monto que se podría obtener de la venta no forzada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 valor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IFRS permiten elegir 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costos: costo de adquisición menos depreciación acumulada y menos pérdida por deterioro acu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de revalorización: valor justo al momento de la revalorización menos depreciación acumulada y pérdida por deterioro acumulada pos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valorización se debe efectuar para toda la categoría de activos (bienes simila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justo es un valor de mercado estimado mediante una tasación. Si no existe evidencia de mercado, se puede recurrir a otros métodos que tengan en cuenta los rendimientos del activo (valor pres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ón posterior a la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iferencias positivas entre la revalorización y la valorización inicial, se registran en una cuenta de reservas, en el patrimonio (no va a resul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mbio, las diferencias negativas entre la revalorización y la valorización inicial, se registran como pérdidas en el estado de resul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activos identificables, de carácter no monetario y sin sustancia fís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mente las empresas adquieren o desarrollan recursos intangibles, tales como: programas informáticos, patentes, derechos de autor, marcas, películas, listas de clientes, franquicias, licencias de pesca, concesiones de radiodifus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odos estos recursos son necesariamente activ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que pueda ser reconocido como activo, el recurso de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gar beneficios económicos futuros a la entidad que lo po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identificable: puede ser separado de la entidad y vendido, cedido, arrendado o intercamb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controlable: la entidad tiene el poder de obtener los beneficios económicos futuros y restringir el acceso de terceros a tale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más se requiere que su costo pueda ser medido de manera f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os PCG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activos intangibles se registran contablemente sólo cuando son adquirido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valoran al costo de adquisición menos la amortización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intangible desarrollado internamente no puede ser registrado como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adquiridos de terceros: Se valora al costo, que incluye el precio de adquisición más los costos co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quisición mediante una concesión gubernamental, sin costo o a muy bajo costo: se puede reconocer al valor justo o a un valor nominal simbó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identificar dos fases: investigación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ización in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s generados intern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ostos de la fase de investigación se consideran gastos del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ctivo surgido de la fase de desarrollo se puede reconocer como tal siempre que se cumplan una serie de requisitos que demuestren la existencia de beneficios futuros para la ent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desembolsos para generación interna de marcas, listas de clientes, denominaciones editoriales y similares, no se reconocen como activos, pues son indistinguibles del costo de desarrollar la actividad empresarial en su conj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ización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igual que con los activos fijos, se puede escoger entre el modelo de costo (costo menos amortización acumulada y pérdida de valor acumulada) y el modelo de revalorización (valor justo al momento de la revalorización menos amortización acumulada y pérdida de valor acumulada posteri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a práctica, existe dificultad para medir el valor justo, pues es poco común la existencia de un mercado activo para los intang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a útil y amor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evaluar si la vida útil del intangible es finita o in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finita, el activo se amortiza con un método que refleje el patrón de consumo esperado de los beneficios del activo, y suponiendo en general un valor residual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vida útil es indefinida, el activo no se amortiza, pero se somete a evaluaciones periódicas de pérdid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 acuerdo con las IF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conocen como gastos del perío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puesta en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en publicidad y actividades promo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gastos de reubicación o reorganización de la ent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l exceso de costo de un activo o empresa por sobre el valor comercial de las partes que lo componen. También se llama derecho de llave o fondo de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una empresa compra a otra, debe reconocer como activo el goodwill resultante, siendo este la diferencia positiva entre el monto pagado por la empresa adquirida y el valor de los activos netos que la componen (activos menos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activo no se amortiza, pero se somete anualmente a una prueba de pérdida de va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os Intangi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odwi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goodwill representa el pago realizado por el adquirente como anticipo de los beneficios económicos futuros de activos que no han podido ser identificados indivi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monto pagado por la empresa adquirida es menor que el valor de los activos netos que la componen, se debe reconocer un ingreso en el resultad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644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l momento de tomar el depósito, se debe reconocer un activo financiero por 4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4600" y="3886200"/>
            <a:ext cx="8664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Al momento de preparar los estados financieros, se debe reconocer un mayor valor del activo equivalente al interés de 60 días, más un ingreso por igual mo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os PC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general, se usa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oración al costo históric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incipio de valoración al co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cionalmente se usa el valor de mercado, cuando existe información objetiva (acciones en calidad de valores negoc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3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lasificación de estas inversiones y su método de valorización toma en cuenta dos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286000"/>
            <a:ext cx="8534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pacidad de ejercer “influencia significativa” en la entidad en que se invierte;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600" indent="-48060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arácter permanente de l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733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mún que se usen parámetros objetivos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64832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ia significativa: cuando la inversión representa el 20% o más del patrimonio de la em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cia: cuando la inversión representa más del 5% de los activos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442800"/>
            <a:ext cx="84582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rsión no es perma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80600"/>
            <a:ext cx="837576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 y derechos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47200" y="1676520"/>
            <a:ext cx="81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ctivos no circulantes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capacidad para ejercer influencia significativa en l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ualquier otro caso, 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ctivos no circul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98440" y="1916280"/>
            <a:ext cx="8699400" cy="394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845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profundiz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orngren et al (2003): capítulos 5,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igs et al (2000): capítulos 7, 8 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ASB: NIC 2, NIC 16, NIC 36 y NIC 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las IF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laja el principio de valoración al costo y el principio pru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cir, bajo ciertas circunstancias, se permite valorar los activos fijos, intangibles y otros al “valor justo” o “valor razonable”, que es una estimación del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constituye una “revolución” en la contabilidad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1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mjl</cp:lastModifiedBy>
  <cp:lastPrinted>1999-03-18T20:54:39Z</cp:lastPrinted>
  <dcterms:modified xsi:type="dcterms:W3CDTF">2008-07-15T13:58:57Z</dcterms:modified>
  <cp:revision>30</cp:revision>
  <dc:subject/>
  <dc:title>Primera Parte: Contabilidad Financiera</dc:title>
</cp:coreProperties>
</file>