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3EE-454D-4993-9A9C-291483F7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781-54BE-4F84-8024-759BD236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050-7929-4509-99F3-6A037823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B81-8736-4C7A-AE09-C64BD980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001-1C89-44B7-99C4-8423A42F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F25-4C39-495A-AF0F-FC0BB907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F51-A1A8-418C-9387-8AE6B2C6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733-DF3E-4D7A-853B-154C522F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F6E-81C6-4EAB-8B7E-0CC1C63C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10E-6CC0-43E3-8C4F-B5E40628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75B-2EE6-49A9-BC1E-90872D72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2D2-E353-4011-9668-EE167671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B4E3-C05F-47A5-A97F-CFB1F9AF8F2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2060280"/>
            <a:ext cx="741708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apítulo 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tamiento Contable de los Principales A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4582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empresa tiene cuentas por cobrar de $50.000. Por quiebra de un cliente no será posible recaudar $6.000.” Se debe reconocer un gasto, que se denomina castigo, contra una reducción en el valor del activo ‘deudores por venta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99736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stigo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292640"/>
            <a:ext cx="8458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momento de preparar los estados financieros, se estima que $2.000 podrían no recuperarse.” Se reconoce un gasto por 2000, y se rebajan los activos usando una cuenta complement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2240" y="548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ción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cobrables (C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3120" y="109224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887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822240" y="404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cobrable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Book Antiqua"/>
              </a:rPr>
              <a:t>(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 (neto)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560" y="1483920"/>
            <a:ext cx="8458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logran recuperar $1.000 de la deuda previamente castigada”. Entonces, se vuelve a reconocer un ingreso y el correspondiente aumento del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046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isponibl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gresos fuera de la explotació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520" y="500364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normas tributarias permite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 rebajar como gasto los castigos, pero no las prov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2781360"/>
            <a:ext cx="824544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Perpetu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transacciones se registran a medida que ocur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ompras de mercaderías se registran en una cuenta “existenci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venden mercaderías se realizan dos asientos contables, uno para reconocer el ingreso y otro para reconocer el costo de la venta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decir, la cuenta existencias se mantiene permanentemente al 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280" y="1700280"/>
            <a:ext cx="80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y dos enfoque que se utilizan para registrar las transacciones de mercade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7640" y="1915920"/>
            <a:ext cx="824544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Periódic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sto de ventas se determina periódicamente, generalmente a fin de 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ompras de mercaderías se registran en una cuenta “compr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venden mercaderías se reconoce el ingreso, pero no el costo de la venta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fin de año se hace un conteo físico y se calcula por diferencia el costo de las mercaderías vendidas durante el 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74880" y="1989000"/>
            <a:ext cx="691020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ario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ras del Períod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adería 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ntario Final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8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7640" y="1915920"/>
            <a:ext cx="824544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ntari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sistema perpetuo también se realiza un inventario físico, que permite detectar mermas y rob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actualidad, los sistemas computacionales y códigos de barra permiten el uso generalizado del sistema perpetuo. El sistema periódico se utiliza principalmente en los pequeños comer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ngamos que una empresa ha realizado las siguientes compras de mercad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unidades a $10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unidades a $11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10.04 vende dos unidades ¿Cuál es el costo de venta? ¿$20, $22, el promedio ponderado,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eneral, se debe hacer u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uesto de flujo de mercaderí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941120"/>
            <a:ext cx="835164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l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dades Específic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ne que es posible identificar en los registro contables el costo de cada unidad individual de mercaderí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usa para activos de alto valor unitario con volúmenes de venta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ejemplo, maquinarias de alto valor identificables mediante un número de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644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étodo d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sto Promedio Ponder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vez que ocurre una compra se calcula un nuevo pro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*10  +5*11)/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,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10,6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,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*10,6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,7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de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entas por Cob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s de Valoración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41080" y="1873080"/>
            <a:ext cx="8062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étodo FIFO (o P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 de flujo: La mercadería que primero entra al inventario es la que primero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lo tanto, el inventario queda valorado a los costos de adquisición más rec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de Venta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i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+ 5*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95264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LIFO (o U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 de flujo: La mercadería que ingresó al final es la primer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lo tanto, el inventario queda valorado a los costos de adquisición más antigu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de Venta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*11 + 3*10 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99640" y="1952640"/>
            <a:ext cx="7704360" cy="42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existencias se deben valorar al mínimo entre el costo de adquisición y el valor neto realiz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IFRS sólo admiten usar FIFO y CP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fines tributarios tampoco se acepta LI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13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iene un Inventario Inicial de 300 unidades a $0,95 c/u. Las compras y ventas del período son la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2457360"/>
            <a:ext cx="640872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Ve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ario F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6840" y="328464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5373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5840" y="42940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64533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r el costo de venta usando FIFO, LIFO y CPP, combinados con los sistemas perpetuo y periód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6760" y="1666800"/>
            <a:ext cx="21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sult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80560" y="1699920"/>
            <a:ext cx="734868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ctivos Fijos son activos tangibles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usan en la producción o suministro de bienes y servicios, para arrendarlos a terceros o para fines administrativos;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speran usar durante más de un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1341360"/>
            <a:ext cx="82994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o elemento del activo fijo, al momento de su reconocimiento, se valora al costo, el cual compren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ecio de adquisición, incluidos los impuestos indirectos no recuperables y deducidas las rebajas del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ostos relacionados con la ubicación del activo en el lugar y en las condiciones necesarias para que pueda operar de la forma prevista 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orte, instalaciones, comisiones, gastos notarial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7680" y="404640"/>
            <a:ext cx="79246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: Son cambios estructurales del activo (ampliación a adición de elementos). So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ctivab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s decir, incrementan el valor del activo fi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paraciones y mantenimiento: Dejan al activo en condiciones normales de funcionamiento. No son  activables, es decir, se consideran u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ga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3400" y="1628280"/>
            <a:ext cx="8599320" cy="472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dquiere una propiedad que costó $50.000.000. Una tasación técnica indica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ala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incurrió en los siguientes gas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norarios del abog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notaria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2233080"/>
            <a:ext cx="89154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Total = mm$50 + mm$0.15 = $50.15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ento Con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en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5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on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342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483920"/>
            <a:ext cx="8588160" cy="50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 4 métodos para valorar ac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monto pagado al momento de la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Información objetiva y ver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No necesariamente coincide con valor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rriente: lo que debería pagarse si se adquiriese el mismo activo en la actu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es un valor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Vent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20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vende una máquina en $60.000, cuyo valor contable neto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0.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ne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000" y="3860640"/>
            <a:ext cx="8775720" cy="265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uera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Distribución del costo del activo como gasto en los períodos en que presta sus servi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depreciación es consecuencia d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depreciación es el principal gasto que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no es un flujo de ef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 varios métodos de depreciación, los que se pueden clasificar en dos famil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reciac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reciación acele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41444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 Libro: es el valor que tiene un activo en la contabilidad, una vez deducidas la depreciación acumulada y las pérdidas por deterioro acumula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a útil: período durante el cual el activo fijo será utilizado por la entidad; o el número de unidades de producción que se espera obtener del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 residual: monto estimado que una entidad podría obtener al vender el activo fijo al término de su vida ú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27008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or a depreciar: costo del activo menos el valor res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reciación: distribución sistemática del valor a depreciar de un activo a lo largo de su vida ú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érdida por deterioro: monto en que excede el valor libro de un activo a su monto recupe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lor justo: monto por el cual podría ser intercambiado un activo, entre partes interesadas y debidamente informadas, en una transacción realizada en condiciones de independencia mut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46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Lin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8160" y="1839600"/>
            <a:ext cx="4678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: Costo de Adqui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r: Valor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 : Años de 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5040" y="4141800"/>
            <a:ext cx="3936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 Anual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83068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564984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6200" y="5786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496404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3440160"/>
            <a:ext cx="2286000" cy="152388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46880" y="3197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17920" y="47214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85160" y="578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4964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99160" y="243540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44000" y="4941720"/>
            <a:ext cx="649080" cy="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90120" y="479520"/>
            <a:ext cx="763740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preciación acelerada: el método de los saldos decrec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 = Tasa anual de depre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 = años de vid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R = valor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 = Depreciación acumu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5400" y="4502160"/>
            <a:ext cx="6384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Tribu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vidas útiles generalmente las fija la administración tributaria de cada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, es común que se establezcan incentivos a través de los métodos de depre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, la LIR en Chile establece una depreciación acelerada, que 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0480" y="285840"/>
            <a:ext cx="74836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14360" y="278280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78280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720" y="1254240"/>
            <a:ext cx="7937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360" y="218916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41520" y="234936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34936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278000" y="139716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5760" y="325080"/>
            <a:ext cx="814068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887480" y="249228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99640" y="1484280"/>
            <a:ext cx="521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Tributaria Aceler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7880" y="1485720"/>
            <a:ext cx="792648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realizable: monto que se podría obtener de la venta no forzada del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es un valor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resente : Valor del activo es función de los flujos fut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Es una buena estimación del prec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line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960" y="3100320"/>
            <a:ext cx="8508960" cy="24894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3915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3,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ón posterior a la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IFRS permiten elegir 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de costos: costo de adquisición menos depreciación acumulada y menos pérdida por deterioro acumu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de revalorización: valor justo al momento de la revalorización menos depreciación acumulada y pérdida por deterioro acumulada pos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valorización se debe efectuar para toda la categoría de activos (bienes simila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valor justo es un valor de mercado estimado mediante una tasación. Si no existe evidencia de mercado, se puede recurrir a otros métodos que tengan en cuenta los rendimientos del activo (valor prese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ón posterior a la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diferencias positivas entre la revalorización y la valorización inicial, se registran en una cuenta de reservas, en el patrimonio (no va a resul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mbio, las diferencias negativas entre la revalorización y la valorización inicial, se registran como pérdidas en el estado de resul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activos identificables, de carácter no monetario y sin sustancia fís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mente las empresas adquieren o desarrollan recursos intangibles, tales como: programas informáticos, patentes, derechos de autor, marcas, películas, listas de clientes, franquicias, licencias de pesca, concesiones de radiodifus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odos estos recursos son necesariamente activos intang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que pueda ser reconocido como activo, el recurso de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gar beneficios económicos futuros a la entidad que lo po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identificable: puede ser separado de la entidad y vendido, cedido, arrendado o intercambi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controlable: la entidad tiene el poder de obtener los beneficios económicos futuros y restringir el acceso de terceros a tale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más se requiere que su costo pueda ser medido de manera f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os PCG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activos intangibles se registran contablemente sólo cuando son adquiridos de terc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valoran al costo de adquisición menos la amortización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ortiz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Proceso a través del cual el valor de adquisición del intangible se convierte parcial y periódicamente en ga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: Línea recta con V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: Mín {Plazo del Contrato; Plazo estimado razonabl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intangible desarrollado internamente no puede ser registrado como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ización in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s adquiridos de terceros: Se valora al costo, que incluye el precio de adquisición más los costos co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quisición mediante una concesión gubernamental, sin costo o a muy bajo costo: se puede reconocer al valor justo o a un valor nominal simbó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s generados intern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n identificar dos fases: investigación y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ización in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s generados intern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costos de la fase de investigación se consideran gastos del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activo surgido de la fase de desarrollo se puede reconocer como tal siempre que se cumplan una serie de requisitos que demuestren la existencia de beneficios futuros para la ent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desembolsos para generación interna de marcas, listas de clientes, denominaciones editoriales y similares, no se reconocen como activos, pues son indistinguibles del costo de desarrollar la actividad empresarial en su conju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ización pos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igual que con los activos fijos, se puede escoger entre el modelo de costo (costo menos amortización acumulada y pérdida de valor acumulada) y el modelo de revalorización (valor justo al momento de la revalorización menos amortización acumulada y pérdida de valor acumulada posterio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a práctica, existe dificultad para medir el valor justo, pues es poco común la existencia de un mercado activo para los intang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epto de Valor Presente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una persona invierte una cantidad P a una tasa r durante un período ¿qué cantidad tendrá al término del perí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P (1+r) , que se conoce como el valor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persona recibirá una cantidad F1 al cabo de un año ¿qué cantidad hoy sería equivalente a F1 dentro de 1 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X 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X = Valor Presente = VP1 = F1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a útil y amort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ebe evaluar si la vida útil del intangible es finita o in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vida útil es finita, el activo se amortiza con un método que refleje el patrón de consumo esperado de los beneficios del activo, y suponiendo en general un valor residual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vida útil es indefinida, el activo no se amortiza, pero se somete a evaluaciones periódicas de pérdid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conocen como gastos del perío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de puesta en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en capa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en publicidad y actividades promo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de reubicación o reorganización de la ent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odwil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l exceso de costo de un activo o empresa por sobre el valor comercial de las partes que lo componen. También se llama derecho de llave o fondo de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ndo una empresa compra a otra, debe reconocer como activo el goodwill resultante, siendo este la diferencia positiva entre el monto pagado por la empresa adquirida y el valor de los activos netos que la componen (activos menos pasiv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activo no se amortiza, pero se somete anualmente a una prueba de pérdida de val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odwil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goodwill representa el pago realizado por el adquirente como anticipo de los beneficios económicos futuros de activos que no han podido ser identificados individ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monto pagado por la empresa adquirida es menor que el valor de los activos netos que la componen, se debe reconocer un ingreso en el resultad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4408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en un instrumento constitutivo de una obligación y emitido por un banco, empresa, o institución financi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 como : Bonos, Depósitos a Plazo, Pagarés, accion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corto plazo: Su objetivo es obtener rentabilidad de los excedentes de ca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largo plazo: Inversiones permanentes en otras socie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" y="3411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514600" y="2360520"/>
            <a:ext cx="1447920" cy="137160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3732120"/>
            <a:ext cx="1523880" cy="152424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96440" y="2039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53040" y="493560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4120" y="48528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ósito a Plaz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ón de fondos en bancos e instituciones financieras, a plazo fijo, que devengan intereses a una tasa conocida pagable al vencimiento de la inver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valorizan a su costo más los intereses y reajustes respectivos devengados a la fecha de cierre de los estados financieros correspond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644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Al momento de tomar el depósito, se debe reconocer un activo financiero por 40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4600" y="3886200"/>
            <a:ext cx="8664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19044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Al momento de preparar los estados financieros, se debe reconocer un mayor valor del activo equivalente al interés de 60 días, más un ingreso por igual mo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,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gresos Financieros (I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,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6964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gistran bajo este concepto las inversiones en acciones, bonos, efectos de comercio, fondos mutuos y otros títulos de oferta públ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que otorga a su poseedor la participación en la propiedad de una sociedad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8600" y="2303280"/>
            <a:ext cx="8686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de Comer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Idéntico al bono, pero su duración es inferior a 1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otas de Fondos Mutu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ticipación, a través de la adquisición de cuotas, en las inversiones efectuadas en activos financieros, administradas por una entidad especializada y de giro exclu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40464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12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los PC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general, se usa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oración al costo históric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incipio de valoración al co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cionalmente se usa el valor de mercado, cuando existe información objetiva (acciones en calidad de valores negoc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otras se usa el valor presente (activos en leasing o inversiones en bon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3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 y derechos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lasificación de estas inversiones y su método de valorización toma en cuenta dos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286000"/>
            <a:ext cx="8534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480600" indent="-48060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pacidad de ejercer “influencia significativa” en la entidad en que se invierte;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600" indent="-48060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arácter permanente de la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3733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común que se usen parámetros objetivos, por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648320"/>
            <a:ext cx="8382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85640" indent="-48564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cia significativa: cuando la inversión representa el 20% o más del patrimonio de la emi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anencia: cuando la inversión representa más del 5% de los activos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442800"/>
            <a:ext cx="84582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 y derechos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5120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lor Negoc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Activo Circulante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se cotiza en bo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hay capacidad para ejercer influencia significativa en l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versión no es perman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837576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 y derechos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47200" y="1676520"/>
            <a:ext cx="81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Empresa Relacion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ctivos no circulantes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capacidad para ejercer influencia significativa en l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teresa si la acción tiene o no cotización bursá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ualquier otro caso, 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Otras Sociedad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ctivos no circul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0720" y="404280"/>
            <a:ext cx="836928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98440" y="1916280"/>
            <a:ext cx="8699400" cy="394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ómo se valoran contable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Negociable: Mín. {Costo Adquisición.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mpresas Relacionadas: Valor Patrimon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n Otras Sociedad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cotiza en bolsa: Mín. {Costo Adquisición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no se cotiza en bolsa: Costo de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845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profundiz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Horngren et al (2003): capítulos 5, 7, 8 y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eigs et al (2000): capítulos 7, 8 y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ASB: NIC 2, NIC 16, NIC 36 y NIC 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las IF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laja el principio de valoración al costo y el principio pru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decir, bajo ciertas circunstancias, se permite valorar los activos fijos, intangibles y otros al “valor justo” o “valor razonable”, que es una estimación del valo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constituye una “revolución” en la contabilidad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19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rech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exigir de un tercero un pago, o la entrega de bienes y servicios, por un cierto monto, a una fecha fu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u origen en la venta de bienes o prestación de servicios a crédito, o en la cesión de un bien del activo a un tercero bajo compromiso de pago a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balance general normalmente se presentan rebajadas por las estimaciones de deudores incobrables y por los intereses no deven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lasifican en las siguientes parti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por ventas: Provenientes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por cobrar: Provenientes de las operaciones comerciales y documentadas a través de letras, pagares u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varios: Las que no provienen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y cuentas por cobrar a empresas 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a largo plazo: Vencimiento superior a un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mjl</cp:lastModifiedBy>
  <cp:lastPrinted>1999-03-18T20:54:39Z</cp:lastPrinted>
  <dcterms:modified xsi:type="dcterms:W3CDTF">2008-07-15T13:58:57Z</dcterms:modified>
  <cp:revision>30</cp:revision>
  <dc:subject/>
  <dc:title>Primera Parte: Contabilidad Financiera</dc:title>
</cp:coreProperties>
</file>