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ED3-7305-440B-8023-F766B74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E3E-1D53-4D97-89A5-E4DB8640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7FB-26BC-4D6D-B7EF-2E3A1B2B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2A4-828D-40EE-84E9-F77C4D4E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6CB-C488-417A-9A46-5A4E31D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1CF-5D4A-4F4E-BEC8-0EF1FF4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3AE-2861-4F87-BB6F-E1ABD24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AA8-A406-4298-9151-DE69547B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6E9-CD46-4C81-A2ED-BB1E67B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D4D-E268-4ABD-8119-6FBD80E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CAB-6CB9-45D0-A811-C9D7DF4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4E8-2790-43F7-890C-FCD4EC1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F42C-C40A-4D8F-8882-6B53288E5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éndice Capítulo 3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1484280"/>
            <a:ext cx="8813880" cy="45468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 Gastos rechazados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 Ingresos exentos o no considerados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/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3) Diferencias tem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nta Líquida Im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: provisiones, gastos de automóv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: Dividendos o retiros de otras empresas, rentas de DF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): Depreciación acelerada, cuotas de leas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caso de JG Gestión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120" y="3141720"/>
          <a:ext cx="775152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41720"/>
                    <a:ext cx="77515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8-10-27T00:32:47Z</dcterms:modified>
  <cp:revision>12</cp:revision>
  <dc:subject/>
  <dc:title>Contabilidad y Control</dc:title>
</cp:coreProperties>
</file>