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651F-15EB-4C05-9BCF-1FA679165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6285-79B6-4FAA-B451-82B82C3BD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0E25-C96B-4E6C-B55F-683557F10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FD34-12B8-40F4-8479-5009AFCFD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0442-5FB1-4206-8D1D-BB6CF1BD6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56AA-5075-413C-963F-F647F38B9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7A32-32D3-46C2-93CD-37282235D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C00A-8E1B-4E19-A8AB-C97B92C90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E5D3-48B7-4314-822E-B186CB8EE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515F-F3CD-4B0A-8C1B-79347EB3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D89A-85BF-42CD-BBEE-0C3437D8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9CF5-AC36-4B4B-B6F1-1109E183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687CF-FC2E-447A-9D9B-D9AD0196E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151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péndice Capítulo 3: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istemas Cont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ibro May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2017800"/>
            <a:ext cx="8270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un libro que agrupa todas las cuentas que utiliza la empre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primer registro corresponde al saldo del ejercicio anterior, salvo en las cuentas de resultado, cuyo saldo inicial es siempre c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ibro May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25600" y="3147840"/>
          <a:ext cx="8367480" cy="291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600" y="3147840"/>
                    <a:ext cx="8367480" cy="29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2574000" y="2117880"/>
            <a:ext cx="3615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uenta: Dispon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342720"/>
            <a:ext cx="8386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Libro Diario y Asientos Cont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65240"/>
            <a:ext cx="7989840" cy="391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Libro Diario es un registro cronológico de las transacciones efectuadas por una organización. Se especifica el carácter y circunstancia de cada una de ell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registro de una transacción en el Libro Diario recibe el nombre de “Asiento Contable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280" y="342720"/>
            <a:ext cx="8231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Libro Diario y Asientos Cont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9000"/>
          </a:bodyPr>
          <a:p>
            <a:pPr marL="167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quema de un Libro Diar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68400" y="3048120"/>
          <a:ext cx="9088200" cy="373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00" y="3048120"/>
                    <a:ext cx="908820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alance de Comprob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4840" y="2097000"/>
            <a:ext cx="83451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istado de todas las cuentas del mayor con los débitos y créditos del período y sus respectivos saldos deudores o acreed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8760" y="3819600"/>
            <a:ext cx="8902800" cy="97776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ERIFICA QUE EL PASO DEL LIBRO DIARIO AL MA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A CORRE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l Ciclo Con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41536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Balance ini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gistro inicial de las transacciones en el libro d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raspaso al libro may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Balance de comprob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sientos de ajustes y cierre de cuentas (hoja de trabaj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eparación de los estados financi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jemplo de Registros Cont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1280" y="1649520"/>
            <a:ext cx="7705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la empresa JG Gestión SA desarrollaremos: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egistro de las transacciones en el libro di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ibro ma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Balance de comprobación y sal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tados financi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sientos de cier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86920" y="304920"/>
            <a:ext cx="765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gistr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de las transaccione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en el libro di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11280" y="1197000"/>
          <a:ext cx="8137440" cy="490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197000"/>
                    <a:ext cx="8137440" cy="49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86920" y="304920"/>
            <a:ext cx="765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gistr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de las transaccione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en el libro di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611280" y="1206360"/>
          <a:ext cx="8137440" cy="432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206360"/>
                    <a:ext cx="8137440" cy="43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86920" y="304920"/>
            <a:ext cx="765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gistr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de las transaccione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en el libro di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39640" y="1116000"/>
          <a:ext cx="8136000" cy="490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116000"/>
                    <a:ext cx="8136000" cy="49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SISTEMAS CONT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gistros Contabl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s Cuen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lan de Cuen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ibro Ma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ibro Diario y Asientos Con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alance de Comprob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iclo Con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86920" y="304920"/>
            <a:ext cx="765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gistr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de las transaccione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en el libro di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611280" y="1338120"/>
          <a:ext cx="8064360" cy="372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338120"/>
                    <a:ext cx="8064360" cy="37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90520" y="304920"/>
            <a:ext cx="292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ibro Ma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4360" y="1111320"/>
          <a:ext cx="7488000" cy="476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111320"/>
                    <a:ext cx="7488000" cy="47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684360" y="933480"/>
          <a:ext cx="7632720" cy="461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933480"/>
                    <a:ext cx="763272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468360" y="847800"/>
          <a:ext cx="7991280" cy="483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847800"/>
                    <a:ext cx="7991280" cy="48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61880" y="304920"/>
            <a:ext cx="616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Balance de Comprobación y Sal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68360" y="1152360"/>
          <a:ext cx="8351640" cy="52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152360"/>
                    <a:ext cx="8351640" cy="52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78720" y="185760"/>
            <a:ext cx="436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stados Financi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11280" y="3900600"/>
          <a:ext cx="5327640" cy="2768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900600"/>
                    <a:ext cx="5327640" cy="27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611280" y="981000"/>
          <a:ext cx="6697440" cy="2873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981000"/>
                    <a:ext cx="6697440" cy="28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81960" y="380880"/>
            <a:ext cx="373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sientos de Cier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1066680"/>
            <a:ext cx="816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s cuentas de resultado se deben dejar en cero para comenzar el ejercicio sigu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971640" y="2133720"/>
          <a:ext cx="6553080" cy="449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133720"/>
                    <a:ext cx="6553080" cy="44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Determinación del resultado tribut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0840" y="1484280"/>
            <a:ext cx="8813880" cy="4546800"/>
          </a:xfrm>
          <a:prstGeom prst="rect">
            <a:avLst/>
          </a:prstGeom>
          <a:noFill/>
          <a:ln w="1015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tilidad Financie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1) Gastos rechazados para fines tribut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2) Ingresos exentos o no considerados r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+/-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(3) Diferencias tempo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Renta Líquida Impon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jemplo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1): provisiones, gastos de automóvi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2): Dividendos o retiros de otras empresas, rentas de DF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3): Depreciación acelerada, cuotas de leasing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Determinación del resultado tribut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3116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ara el caso de JG Gestión S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708120" y="3141720"/>
          <a:ext cx="7751520" cy="198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120" y="3141720"/>
                    <a:ext cx="7751520" cy="19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jemplo de Registros Cont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1280" y="1042920"/>
            <a:ext cx="817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erta empresa muestra el siguiente balance al comenzar el ejercicio (en M$):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04920" y="2209680"/>
          <a:ext cx="8686800" cy="443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09680"/>
                    <a:ext cx="868680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s Cuen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s empresas pueden tener cientos o miles de transacciones diarias, por lo cual no es posible registrar las transacciones directamente en el balance, como lo hemos hecho hasta ah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a “Cuenta” es un registro asociado a un ítem o rubro del balance, en el cual se registran todas las variaciones que afectan a dicho rub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4582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urante los dos meses siguientes realiza las siguientes transac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1200240"/>
            <a:ext cx="8655120" cy="52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952560" indent="-952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02/01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de mercadería por un monto de M$ 1.200, pagándose 50% a plazo y el resto al contado. El costo de la mercadería fue de M$ 9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2560" indent="-952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04/01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lientes pagan M$ 500 que adeudaban a la empre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2560" indent="-952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15/01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 su vez la empresa paga M$ 400 que adeudaba a sus proveed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2560" indent="-952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28/01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trega el 50% de los bienes pagados por anticipado, obteniendo un margen de ganancia, sobre ingresos, del 40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2560" indent="-952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06/02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ga M$ 200 por concepto de remunera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2560" indent="-952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28/02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compran muebles por M$ 100, pagando al cont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OT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deuda se contrajo a un tasa del 2% mensual (lineal) y se debe pagar al cabo de 1 año junto con los intere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l activo fijo le resta una vida útil de 20 años y su valor residual es c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seguro tiene una duración de 1 año y fue contratado hace 2 me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 pide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gistr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de las transaccione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en el libro di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ibro ma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Balance de comprobación y sal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sientos de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jus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sientos de cier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tados financi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3980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s Cuen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9280" y="2381400"/>
            <a:ext cx="8640720" cy="305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s Cuen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8631000" cy="465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notar una cantidad al Debe se llama: Adeudar, cargar o debi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notar una cantidad al Haber se llama: Abonar o acredi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asándonos en la igualdad del inventario existirá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entas de Ac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entas de Pas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entas de Patrimon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entas de Resul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s Cuen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569440" cy="483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Plan de Cuen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70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65040" indent="-365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rresponde al conjunto de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uenta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utilizadas en una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mpres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mo mínimo son las del Balance General y las del estado de result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empresa elegirá el nivel de desagregación en función de sus requerimientos de inform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jemplo: Plan de Cuentas de JG Gestión 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478400" y="1557360"/>
            <a:ext cx="4414680" cy="4068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87440" y="1557360"/>
            <a:ext cx="396216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jemplo: Plan de Cuentas de JG Gestión 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079720" y="1270080"/>
            <a:ext cx="448452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03:04:30Z</dcterms:created>
  <dc:creator>Soporte Técnico</dc:creator>
  <dc:description/>
  <dc:language>en-US</dc:language>
  <cp:lastModifiedBy>Michel</cp:lastModifiedBy>
  <dcterms:modified xsi:type="dcterms:W3CDTF">2008-10-27T00:32:47Z</dcterms:modified>
  <cp:revision>12</cp:revision>
  <dc:subject/>
  <dc:title>Contabilidad y Control</dc:title>
</cp:coreProperties>
</file>