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434-E22E-4A9C-82A3-A2AB0594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C3D-3957-41A3-B736-B612B931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439-CEB2-4E06-AC30-C0590C79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3D3-2421-4F18-9075-F3DF163E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569-7A8A-4525-9374-76F8CAF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AF8-EB28-453A-AED9-82E11776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1F6-1B7C-4E16-930B-AFE4E6C2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3AA-89EB-44C5-9655-881D77BF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707-F24A-4517-8876-D57DC13B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A97-69B8-4629-97FE-B2625C20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398-B910-4C21-B34A-3BEF17D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565-0C8A-4EBC-B738-390850B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F64-AE1F-41E6-B836-E7B2FA60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éndice Capítulo 3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1484280"/>
            <a:ext cx="8813880" cy="45468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 Gastos rechazados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 Ingresos exentos o no considerados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/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3) Diferencias tem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nta Líquida Im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: provisiones, gastos de automóv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: Dividendos o retiros de otras empresas, rentas de DF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3): Depreciación acelerada, cuotas de leas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caso de JG Gestión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120" y="3141720"/>
          <a:ext cx="7751520" cy="19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3141720"/>
                    <a:ext cx="77515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8-10-27T00:32:47Z</dcterms:modified>
  <cp:revision>12</cp:revision>
  <dc:subject/>
  <dc:title>Contabilidad y Control</dc:title>
</cp:coreProperties>
</file>