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1CA6-FB89-48FF-9D81-61D6857C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A0B-4F8C-41FE-ACF7-5EDB46D0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6A6-5658-4B90-AA81-E2B0148B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391D-1054-495F-94B8-7EE9FABF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D90-1A0F-478B-A04C-C1E5992E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38EF-CB25-4C71-876F-937253B9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9F55-B85C-484E-8DFB-25AD619F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48E-CA8B-493C-8E18-FC8D10FF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331-59DC-480A-8A67-729DEE0C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786-F22B-4F28-91FD-F501CA8F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84A-EEB0-49EA-82D2-E92430EE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802-03B3-4C32-ABA7-27E13FC5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F2BB-D958-4A2E-8969-941487B74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éndice Capítulo 3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stemas Con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libro que agrupa todas las cuentas que utiliza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imer registro corresponde al saldo del ejercicio anterior, salvo en las cuentas de resultado, cuyo saldo inicial es siempre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25600" y="3147840"/>
          <a:ext cx="8367480" cy="29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3147840"/>
                    <a:ext cx="836748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574000" y="2117880"/>
            <a:ext cx="361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enta: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42720"/>
            <a:ext cx="8386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65240"/>
            <a:ext cx="7989840" cy="39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Libro Diario es un registro cronológico de las transacciones efectuadas por una organización. Se especifica el carácter y circunstancia de cada una de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registro de una transacción en el Libro Diario recibe el nombre de “Asiento Contabl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34272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9000"/>
          </a:bodyPr>
          <a:p>
            <a:pPr marL="16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quema de un Libro Di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400" y="3048120"/>
          <a:ext cx="9088200" cy="37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3048120"/>
                    <a:ext cx="90882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4840" y="2097000"/>
            <a:ext cx="83451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stado de todas las cuentas del mayor con los débitos y créditos del período y sus respectivos saldos deudores o acr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760" y="3819600"/>
            <a:ext cx="8902800" cy="9777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RIFICA QUE EL PASO DEL LIBRO DIARIO AL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A CORR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Ciclo Con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15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gistro inicial de las transacciones en el libro d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aspaso al libro may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ientos de ajustes y cierre de cuentas (hoja de tra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paración de los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1649520"/>
            <a:ext cx="77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empresa JG Gestión SA desarrollaremos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gistro de las transacciones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1197000"/>
          <a:ext cx="8137440" cy="490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97000"/>
                    <a:ext cx="813744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1206360"/>
          <a:ext cx="8137440" cy="43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06360"/>
                    <a:ext cx="813744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9640" y="1116000"/>
          <a:ext cx="813600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16000"/>
                    <a:ext cx="813600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ISTEMA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istros Cont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lance de Comprob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clo Co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11280" y="1338120"/>
          <a:ext cx="8064360" cy="37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38120"/>
                    <a:ext cx="806436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0520" y="30492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4360" y="1111320"/>
          <a:ext cx="748800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11320"/>
                    <a:ext cx="74880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84360" y="933480"/>
          <a:ext cx="7632720" cy="461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33480"/>
                    <a:ext cx="76327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68360" y="847800"/>
          <a:ext cx="799128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47800"/>
                    <a:ext cx="799128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1880" y="30492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1152360"/>
          <a:ext cx="835164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52360"/>
                    <a:ext cx="835164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78720" y="18576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1280" y="3900600"/>
          <a:ext cx="5327640" cy="276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900600"/>
                    <a:ext cx="5327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11280" y="981000"/>
          <a:ext cx="6697440" cy="2873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981000"/>
                    <a:ext cx="6697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1960" y="38088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06668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cuentas de resultado se deben dejar en cero para comenzar el ejercicio sigu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71640" y="2133720"/>
          <a:ext cx="6553080" cy="449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655308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ción del resultado tribu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0840" y="1484280"/>
            <a:ext cx="8813880" cy="454680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Financi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1) Gastos rechazados para fines tribu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2) Ingresos exentos o no considerados r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/-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3) Diferencias temp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Renta Líquida Im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1): provisiones, gastos de automóv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2): Dividendos o retiros de otras empresas, rentas de DF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3): Depreciación acelerada, cuotas de leasin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ción del resultado tribu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a el caso de JG Gestión 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08120" y="3141720"/>
          <a:ext cx="7751520" cy="198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3141720"/>
                    <a:ext cx="775152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042920"/>
            <a:ext cx="817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rta empresa muestra el siguiente balance al comenzar el ejercicio (en M$)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220968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empresas pueden tener cientos o miles de transacciones diarias, por lo cual no es posible registrar las transacciones directamente en el balance, como lo hemos hecho hasta ah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“Cuenta” es un registro asociado a un ítem o rubro del balance, en el cual se registran todas las variaciones que afectan a dicho rub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os dos meses siguientes realiza las siguientes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200240"/>
            <a:ext cx="86551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2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4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5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6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deuda se contrajo a un tasa del 2% mensual (lineal) y se debe pagar al cabo de 1 año junto con los inter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 activo fijo le resta una vida útil de 20 años y su valor residual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seguro tiene una duración de 1 año y fue contratado hace 2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 pide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ju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98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2381400"/>
            <a:ext cx="864072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3100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Debe se llama: Adeudar, cargar o deb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Haber se llama: Abonar o acred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sándonos en la igualdad del inventario existir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trimo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56944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rresponde al conjunto de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ent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utilizadas en un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mpre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mínimo son las del Balance General y las del estado de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mpresa elegirá el nivel de desagregación en función de sus requerimientos de inform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78400" y="1557360"/>
            <a:ext cx="4414680" cy="406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7440" y="1557360"/>
            <a:ext cx="396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79720" y="1270080"/>
            <a:ext cx="44845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3:04:30Z</dcterms:created>
  <dc:creator>Soporte Técnico</dc:creator>
  <dc:description/>
  <dc:language>en-US</dc:language>
  <cp:lastModifiedBy>Michel</cp:lastModifiedBy>
  <dcterms:modified xsi:type="dcterms:W3CDTF">2008-10-27T00:32:47Z</dcterms:modified>
  <cp:revision>12</cp:revision>
  <dc:subject/>
  <dc:title>Contabilidad y Control</dc:title>
</cp:coreProperties>
</file>