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78F-A7D6-47F7-A1B6-F82B9608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DAC-2B1E-4981-B00B-298FF96D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B18-6245-4156-92FA-F2E3A2DF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4D2-FB0B-419D-99C9-58D26F9E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38C-9A54-4885-BA4F-C800CDBB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05E-07CC-46AF-BF36-D299931C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BF8-6A9B-4DE1-8C50-6589D10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3E2-3C44-449D-A1FD-36C46D78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396-350C-44C5-B2F8-E4BA755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A0A-2903-4E6C-B27E-AFAFCE1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DD4-474F-4C1C-86C9-A4EC020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9CB-54C4-4EC1-80D4-6D692D0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A937-3FF3-47DF-8199-4C109550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éndice Capítulo 3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1484280"/>
            <a:ext cx="8813880" cy="45468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 Gastos rechazados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 Ingresos exentos o no considerados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/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3) Diferencias tem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nta Líquida Im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: provisiones, gastos de automóv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: Dividendos o retiros de otras empresas, rentas de DF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): Depreciación acelerada, cuotas de leas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caso de JG Gestión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120" y="3141720"/>
          <a:ext cx="775152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41720"/>
                    <a:ext cx="77515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8-10-27T00:32:47Z</dcterms:modified>
  <cp:revision>12</cp:revision>
  <dc:subject/>
  <dc:title>Contabilidad y Control</dc:title>
</cp:coreProperties>
</file>