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6B1D-7098-48FB-A490-87067F5044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hyperlink" Target="http://www.1000ventures.com/business_guide/crosscuttings/competing_skills.html#The Art of War" TargetMode="External"/><Relationship Id="rId2" Type="http://schemas.openxmlformats.org/officeDocument/2006/relationships/hyperlink" Target="http://www.1000ventures.com/business_guide/im_value_chain_main.html" TargetMode="External"/><Relationship Id="rId3" Type="http://schemas.openxmlformats.org/officeDocument/2006/relationships/hyperlink" Target="http://www.1000ventures.com/business_guide/mgmt_stategic_biz_games.html" TargetMode="External"/><Relationship Id="rId4" Type="http://schemas.openxmlformats.org/officeDocument/2006/relationships/slide" Target="../slides/slide14.xml"/><Relationship Id="rId5"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www.1000ventures.com/business_guide/crosscuttings/swot_analysis_bybrc.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www.1000ventures.com/business_guide/crosscuttings/planning_strategic.html"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86BA4-D672-4129-8BBE-3A68A192961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C490C-41B5-47B3-B27E-E779A5376EA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C0460-9B1B-4D1E-898D-D5403BE504F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B54F-CB33-47FE-AED2-28DD5C98D5F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C38FB-D15E-4EA9-AC6C-42019A054BC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B6D59-EA86-4E0B-964B-E439B05661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criptive school was the dominant view of strategy formulation in the 1980's. It was given impetus especially by Harvard professor Michael Porter in 1980, following earlier work on strategic positioning in academe and in consulting, all preceded by a long literature on military strategy, dating back to 500 BC and that of Sun Tzu, author of </a:t>
            </a:r>
            <a:r>
              <a:rPr b="0" lang="en-US" sz="1200" spc="-1" strike="noStrike" u="sng">
                <a:solidFill>
                  <a:srgbClr val="ccccff"/>
                </a:solidFill>
                <a:uFillTx/>
                <a:latin typeface="Times New Roman"/>
                <a:hlinkClick r:id="rId1"/>
              </a:rPr>
              <a:t>The Art of War</a:t>
            </a:r>
            <a:r>
              <a:rPr b="0" lang="en-US" sz="1200" spc="-1" strike="noStrike">
                <a:solidFill>
                  <a:srgbClr val="000000"/>
                </a:solidFill>
                <a:latin typeface="Times New Roman"/>
              </a:rPr>
              <a:t>. In this view, strategy reduces to generic positions selected through formalized analysis of industry situations. Hence, planners became analysts.  This proved especially lucrative to consultants and academics alike, who could sink their teeth into hard data and so promote their "scientific truths" to companies and journals alike. This literature grew in all directions to include strategic groups, </a:t>
            </a:r>
            <a:r>
              <a:rPr b="0" lang="en-US" sz="1200" spc="-1" strike="noStrike" u="sng">
                <a:solidFill>
                  <a:srgbClr val="ccccff"/>
                </a:solidFill>
                <a:uFillTx/>
                <a:latin typeface="Times New Roman"/>
                <a:hlinkClick r:id="rId2"/>
              </a:rPr>
              <a:t>value chains</a:t>
            </a:r>
            <a:r>
              <a:rPr b="0" lang="en-US" sz="1200" spc="-1" strike="noStrike">
                <a:solidFill>
                  <a:srgbClr val="000000"/>
                </a:solidFill>
                <a:latin typeface="Times New Roman"/>
              </a:rPr>
              <a:t>, </a:t>
            </a:r>
            <a:r>
              <a:rPr b="0" lang="en-US" sz="1200" spc="-1" strike="noStrike" u="sng">
                <a:solidFill>
                  <a:srgbClr val="ccccff"/>
                </a:solidFill>
                <a:uFillTx/>
                <a:latin typeface="Times New Roman"/>
                <a:hlinkClick r:id="rId3"/>
              </a:rPr>
              <a:t>game theories</a:t>
            </a:r>
            <a:r>
              <a:rPr b="0" lang="en-US" sz="1200" spc="-1" strike="noStrike">
                <a:solidFill>
                  <a:srgbClr val="000000"/>
                </a:solidFill>
                <a:latin typeface="Times New Roman"/>
              </a:rPr>
              <a:t>, and other ideas - but always with this analytical 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C67AA-8DA3-48C4-B15D-625B519067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As in planning school, particularly analytical staff types, consulting boutiques", &amp; writers, especially in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EED7-FDF3-44B1-93D5-00B7751F3D4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4D499-F570-487E-B9E7-B31E1244C6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9C008-D436-4C08-B6FB-4D000C9DC9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DF4B-63B0-467A-8298-8577FBDB52F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C64F8-2A1D-4FD4-8495-D697CF5A172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view sees strategy formation as achieving the essential fit between internal strengths and weaknesses and external threats and opportunities (see </a:t>
            </a:r>
            <a:r>
              <a:rPr b="0" lang="en-US" sz="1200" spc="-1" strike="noStrike" u="sng">
                <a:solidFill>
                  <a:srgbClr val="ccccff"/>
                </a:solidFill>
                <a:uFillTx/>
                <a:latin typeface="Times New Roman"/>
                <a:hlinkClick r:id="rId1"/>
              </a:rPr>
              <a:t>SWOT analysis</a:t>
            </a:r>
            <a:r>
              <a:rPr b="0" lang="en-US" sz="1200" spc="-1" strike="noStrike">
                <a:solidFill>
                  <a:srgbClr val="000000"/>
                </a:solidFill>
                <a:latin typeface="Times New Roman"/>
              </a:rPr>
              <a:t>). Senior management formulates clear and simple strategies in a deliberate process of conscious thought - which is neither formally analytical nor informally intuitive - and communicates them to the staff so that everyone can implement the strategies. This was the dominant view of the strategy process at least into the 1970s given its implicit influence on most teaching and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F0553-AD19-41B8-B30B-4D19D5F1737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ch like the design school, the entrepreneurial school centered the process on the chief executive, but unlike the design school, and in contrast to the planning school, it rooted that process in the mysteries of intuition. That shifted the strategies from precise designs, plans, or positions to vague visions, or perspectives, typically to be seen through metaphor. The idea was applied to particular contexts – start-ups, niche players, privately owned companies and "turnaround" situations, although the case was certainly put forward that every organization needs the discernment of a visionary l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0634-E4C0-442C-8AC5-2F788476A2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Popular business press, individualists, small business people everywhere but most decidedly in Latin America &amp; among overseas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A8676-A234-4254-B2F5-BD4CC007ECE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658B-4D74-405C-9CF5-77090B602E2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5363-773A-42D1-84E6-D4BF2AFC51C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7F081-DDDB-4A19-9717-43E9876BFD5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5D8F0-0BFA-478E-AD7E-52A43753FEC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academic front, there was interest in the origin of strategies. If strategies developed in people's mind as frames, models, or maps, what could be understood about those mental processes? Particularly in the 1980's, and continuing today, research has grown steadily on cognitive biases in strategy making and on cognition as information processing. Meanwhile, another, newer branch of this school adopted a more subjective interpretative or constructivist view of the strategy process: that cognition is used to construct strategies as creative interpretations, rather than simply to map reality in some more or less objectiv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B51E8-3F26-4BB4-B6B7-09D81E919E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Those with psychological bent - pessimists in one wing, optimists in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634D-0344-4EC3-AEB7-D7E6E141E13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1539E-F55C-41CC-B550-D06C33CEF5F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1A27-324B-4746-A8FF-5522F9562F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Case study teachers (especially at or from Harvard University), leadership aficionados, especially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4E4F-F5A2-4494-8584-45A09A829D8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F8DA-566D-40EB-9E77-010B5CC7E5F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93326-EAD9-4E35-997A-F421BD8661A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 the described schools, the learning school became a veritable wave and challenged the omnipresent prescriptive schools. Dating back to early work on "incrementalism", as well as conceptions like "venturing", "emerging strategy", (or the growing out of individual decisions rather than being immaculately conceived) and "retrospective sense making", (that we act in order to think as much as we think in order to act), a model of strategy making as a learning developed that different from the earlier schools. In this view, strategies are emergent, strategists can be found throughout the organization, and so-called formulation and implementation intertw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0124-5A0D-469E-B894-35E84F537D4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People inclined to experimentation, ambiguity, adaptability - especially in Japan and Scandina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28CDF-999B-4386-BFD2-E4B17D4F83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E1E1F-ACD6-4DA9-AC5C-DF6847633A3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AE5BB-A141-4C60-8CB6-0DA996F2DC3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98CE7-1692-4DFE-B9EB-20AE93E5C6D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0B896-8A19-41BA-BB9B-CC6E666D37B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aratively small, but quite different school has focused on strategy making rooted in power, in two senses. Micro power sees the development of strategies within the organization as essentially political, a process involving bargaining, persuasion, and confrontation among inside actors. Macro power takes the organization as an entity that uses its power over others and among its partners in alliances, joint ventures, and other network relationships to negotiate "collective" strategies in its inter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908F-A757-4966-8A2B-89BE94A530E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People who like power, politics, &amp; conspiracy, especially in 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A03F-22FF-471A-9B3B-1CC2EA71198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D12E0-16C0-4DE4-B8C5-D22E146F567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93B4-8397-4C46-B00A-FBE688F5044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AD56-D99F-40EC-ADEC-E042956EE2E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252DB-8058-4339-899A-F606B10FC35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E4791-13FF-4B82-8E14-815DE662CE0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ite to the power school that focuses on self-interest and fragmentation, the cultural school focuses on common interest and integration. Strategy formation is viewed as a social process rooted in culture. The theory concentrates on the influence of culture in discouraging significant strategic change. Culture became a big issue in the United States and Europe after the impact of Japanese management (see Kaizen and Competitive Advantage: US versus Japan)  was fully realized in the 1980's and it became clear that strategic advantage can be the product of unique and difficult-to-imitate cultur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EC91-6266-4CDF-9EFA-D644A022B29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People who like the social, the spiritual, the collective - especially in Scandinavia and 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289C8-C32D-4948-8BDE-BDF591F562C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D6C1-1BE8-44C9-8E35-F12F3312D5F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10CC-1606-47C7-9BFE-75BF9709672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4B830-7364-45EA-8A03-98524FB479E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627E-C9A7-4996-BE33-85E47019987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0111-878D-49AC-9FD4-9CDBD75F979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not strictly strategic management, if one takes that term as concerned with how organizations use their degrees of freedom to create strategy, the environmental school nevertheless deserves attention for the light it throws on the demands of the environment. Among its most noticeable theories is the "contingency theory", that considers what responses are expected of organizations that face particular environmental conditions, and "population ecology", writings that claim severe limits to strategic cho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A9DB-01E6-41E5-805F-6AD4735BF9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Population ecologists, some organization theorists, splitters, &amp; positivists in general - especially in the Anglo-Saxon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506FA-106C-4530-98FA-4B26BAEEF86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31A96-B554-4B10-B56A-A320ED7B004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670D-BE8B-4A5B-9C0C-A0404CB39A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55BE3-4255-4E98-AF8A-44F1EF1A4A0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D8B1-998C-44DC-9FA2-B4044AD8A4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ool enjoys the most extensive and integrative literature and practice at present. One side of this school, more academic and descriptive, sees organization as configuration - coherent clusters of characteristics and behaviors - and so serves as one way to integrate the claims of the other schools: each configuration, in effect, in its own place, planning for example, in machine-type organizations under conditions of relative stability, entrepreneurship under more dynamic configurations of start-up and turnaround. But if organizations can be described by such states, then change must be described as rather dramatic transformation - the leap from one state to another. And so, a literature and practice of transformation - more prescriptive and practitioner oriented (and consultant promoted) – developed as the other side of the coin. These two very different literatures and practices nevertheless complement one another and so belong to the sam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6805-6116-4F3B-875A-EFA4F906A7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Lumpers &amp; integrators in general, as well as change agents. Configuration perhaps most popular in the Netherlands. Transformation most popular in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3ADA-42E2-4F67-803A-582A5EF6F2B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E0B69-77E1-4F00-983B-A8BE3F4DF7B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26545-C7E8-433C-BC87-D2A974D0C2B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66868-695F-4B0A-867A-3121241F7B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463E6-80C6-4D40-A8D6-7671C3C6E81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E00D-4738-4319-BDA5-0C71811C97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26DC-CFFE-4BA8-BD6F-2131F93CCDC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8B2F-CA88-48F9-805C-C7D0054521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C8BD-2E0E-406B-8E24-7C17499B4A1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BD29-3BBE-499A-96CE-A47C7361BB6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D645-E54A-48FE-831C-F7FC22F162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4821-2CA2-411C-BD63-684100B281D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636CB-B9E7-48DB-9BAD-C0E9DA8EAC4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9E25E-A60D-4B2F-82BE-7B1F6DEBFAA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40A81-3C30-46E2-B761-30E7A1AA79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F86B5-511A-45D3-804D-CC74B563803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hool grew in parallel with the design school. But the planning school predominated by the mid-1970's and though it faltered in the 1980's it continues to be an important influence today. The planning school reflects most of the design school's assumptions except a rather significant one: that the process was not just cerebral but formal, decomposable into distinct steps, delineated by checklists, and supported by techniques (especially with regard to objectives, budgets, programs, and operating plans). This meant that staff planners replaced senior managers, de facto, as the key players in the process. Today, many companies get little value from their annual </a:t>
            </a:r>
            <a:r>
              <a:rPr b="0" lang="en-US" sz="1200" spc="-1" strike="noStrike" u="sng">
                <a:solidFill>
                  <a:srgbClr val="ccccff"/>
                </a:solidFill>
                <a:uFillTx/>
                <a:latin typeface="Times New Roman"/>
                <a:hlinkClick r:id="rId1"/>
              </a:rPr>
              <a:t>strategic-planning</a:t>
            </a:r>
            <a:r>
              <a:rPr b="0" lang="en-US" sz="1200" spc="-1" strike="noStrike">
                <a:solidFill>
                  <a:srgbClr val="000000"/>
                </a:solidFill>
                <a:latin typeface="Times New Roman"/>
              </a:rPr>
              <a:t> process. To meet the new challenges, this process should be redesigned to support real-time strategy making and to encourage 'creative acci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F709C-3196-45B7-8FCD-4EFDED2FDE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mpions: "Professional" managers, MBAs, staff experts (especially in finance), consultants, &amp; government controllers - especially in France and the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C2E029-4365-4B25-81A0-881C2AD7D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655DDC-44AB-4E00-9A47-1469B7551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2B99F7-447C-458A-BE33-BEA33D985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9CEED-85E4-45B8-88A9-C87E5D4C7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26BB9-E78C-4C20-8800-98769A23A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1E46D-4EB3-4FD1-9D3E-948A391BF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34E83-F86B-4C3A-8059-DBB6612E4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56D28-BDD1-492C-9001-8943F55EF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0CD86D-9C3E-4113-96A2-66E714507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242F0-20BF-4FF1-8385-51E8E1B7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B5249-F091-4093-BE13-A265F823B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07F06-AEEB-4C8D-990C-09ED59EBEB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3521-D5C5-4A18-B6A3-3B4C1816547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www.masternewmedia.org/images/knowledge_management_id91026_size350o.jpg&amp;imgrefurl=http://www.masternewmedia.org/news/2006/04/26/personal_knowledge_management_tools_ready.htm&amp;h=350&amp;w=350&amp;sz=35&amp;hl=en&amp;start=22&amp;sig2=yu_ypN0pBjTaKGak3ECEbA&amp;tbnid=B6Zi0NY7vwoPRM:&amp;tbnh=120&amp;tbnw=120&amp;ei=XyqQRvWjAZKIePChxL0L&amp;prev=/images%3Fq%3Dmanagement%26start%3D18%26gbv%3D2%26ndsp%3D18%26svnum%3D10%26hl%3Den%26sa%3DN"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valuebasedmanagement.net/methods_burns_mechanistic_organic_systems.html" TargetMode="External"/><Relationship Id="rId2" Type="http://schemas.openxmlformats.org/officeDocument/2006/relationships/hyperlink" Target="http://www.12manage.com/methods_simons_levers_es.html" TargetMode="External"/><Relationship Id="rId3" Type="http://schemas.openxmlformats.org/officeDocument/2006/relationships/hyperlink" Target="http://www.12manage.com/methods_scenario_planning_es.html"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images.google.com/imgres?imgurl=http://www.marketingteacher.com/IMAGES/positioning_master_two.gif&amp;imgrefurl=http://www.marketingteacher.com/Lessons/lesson_positioning.htm&amp;h=300&amp;w=300&amp;sz=5&amp;hl=en&amp;start=2&amp;sig2=eeIbSg0WUQy--rjpq9Mxvw&amp;tbnid=75FMcECgM4_TzM:&amp;tbnh=116&amp;tbnw=116&amp;ei=11mQRqCsGKOKeI7ExL0L&amp;prev=/images%3Fq%3Dpositioning%26gbv%3D2%26svnum%3D10%26hl%3Den%26sa%3DG"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www.comw.org/images/hestermanslide4.gif&amp;imgrefurl=http://www.comw.org/qdr/archive.html&amp;h=540&amp;w=720&amp;sz=27&amp;hl=en&amp;start=9&amp;sig2=_CmJqxe0y9GrBbwV3CBb8w&amp;tbnid=21PQ2gBrMpU6dM:&amp;tbnh=105&amp;tbnw=140&amp;ei=u1qQRtvpK6eceOm1uL8L&amp;prev=/images%3Fq%3Dmilitary%2Bstrategy%26gbv%3D2%26svnum%3D10%26hl%3Den%26sa%3DX"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12manage.com/methods_porter_competitive_advantage_es.html" TargetMode="External"/><Relationship Id="rId2" Type="http://schemas.openxmlformats.org/officeDocument/2006/relationships/hyperlink" Target="http://www.12manage.com/methods_porter_five_forces_es.html" TargetMode="External"/><Relationship Id="rId3" Type="http://schemas.openxmlformats.org/officeDocument/2006/relationships/hyperlink" Target="http://www.12manage.com/methods_porter_value_chain_es.html" TargetMode="External"/><Relationship Id="rId4" Type="http://schemas.openxmlformats.org/officeDocument/2006/relationships/hyperlink" Target="http://www.12manage.com/methods_bcgmatrix_es.html" TargetMode="External"/><Relationship Id="rId5" Type="http://schemas.openxmlformats.org/officeDocument/2006/relationships/hyperlink" Target="http://www.12manage.com/methods_game_theory_es.html" TargetMode="External"/><Relationship Id="rId6" Type="http://schemas.openxmlformats.org/officeDocument/2006/relationships/hyperlink" Target="http://www.geocities.com/Tokyo/Harbor/8292/stpral.htm" TargetMode="External"/><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pdp.bournemouth.ac.uk/images/swot.gif&amp;imgrefurl=http://pdp.bournemouth.ac.uk/d-employability-i.htm&amp;h=212&amp;w=240&amp;sz=7&amp;hl=en&amp;start=8&amp;sig2=Yxd5e5i7sjwHWkwvRKb3mg&amp;tbnid=QEYW8XArURx0gM:&amp;tbnh=97&amp;tbnw=110&amp;ei=ZyuQRsT3C6SOePjXmb4L&amp;prev=/images%3Fq%3Dswot%26gbv%3D2%26svnum%3D10%26hl%3Den%26sa%3DG"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images.google.com/imgres?imgurl=http://www.brainbasedbusiness.com/uploads/brainsteps-thumb.gif&amp;imgrefurl=http://www.brainbasedbusiness.com/2006/06/reflection_takes_the_every_out.html&amp;h=425&amp;w=518&amp;sz=52&amp;hl=en&amp;start=9&amp;sig2=5DYilprLvhjYR8Y0KyxMnA&amp;tbnid=uxwl_eXIyYaxrM:&amp;tbnh=107&amp;tbnw=131&amp;ei=dl6QRqz4HImOeLiumb4L&amp;prev=/images%3Fq%3Dvisionary%2Bleadership%26gbv%3D2%26svnum%3D10%26hl%3Den%26sa%3DG"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images.google.com/imgres?imgurl=http://www.americanchronicle.com/images/articleimages/economics.jpg&amp;imgrefurl=http://www.americanchronicle.com/articles/viewArticle.asp%3FarticleID%3D605&amp;h=1050&amp;w=750&amp;sz=886&amp;hl=en&amp;start=9&amp;sig2=9zYwPTp8GuYv8mU7CwBqhg&amp;tbnid=6GT-ZxehT-JNQM:&amp;tbnh=150&amp;tbnw=107&amp;ei=916QRrrPG6SCeJf19bwL&amp;prev=/images%3Fq%3Deconomic%2B%26gbv%3D2%26svnum%3D10%26hl%3Den%26sa%3D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12manage.com/methods_osborne_ten_principles_reinvention_es.html" TargetMode="External"/><Relationship Id="rId2" Type="http://schemas.openxmlformats.org/officeDocument/2006/relationships/hyperlink" Target="http://www.12manage.com/methods_porter_seven_surprises_new_ceos_es.html" TargetMode="External"/><Relationship Id="rId3" Type="http://schemas.openxmlformats.org/officeDocument/2006/relationships/hyperlink" Target="http://www.12manage.com/methods_goleman_leadership_styles_es.html" TargetMode="Externa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images.google.com/imgres?imgurl=http://www.tendencias21.net/photo/417299-511914.jpg&amp;imgrefurl=http://www.tendencias21.net/%25C2%25BFEsta-Dios-en-nuestro-cerebro-_a1098.html&amp;h=435&amp;w=300&amp;sz=33&amp;hl=en&amp;start=3&amp;sig2=G_fc1g0PCkk-SwYjoJWJ9w&amp;tbnid=tyBSxExPgyQpjM:&amp;tbnh=126&amp;tbnw=87&amp;ei=N1-QRuyZD6GGeNu3xL0L&amp;prev=/images%3Fq%3Dcognitiva%26gbv%3D2%26svnum%3D10%26hl%3Den%26sa%3D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images.google.com/imgres?imgurl=http://www.alimentacion-sana.com.ar/Portal%2520nuevo/imagenesplanillas/originales/psicologia.gif&amp;imgrefurl=http://www.alimentacion-sana.com.ar/Portal%2520nuevo/Seccion%2520Obesidad/obesidad07.htm&amp;h=420&amp;w=320&amp;sz=85&amp;hl=en&amp;start=8&amp;sig2=9roobsZcimYzwIujoP5crw&amp;tbnid=EQSugfpAs1f1kM:&amp;tbnh=125&amp;tbnw=95&amp;ei=VV-QRvCMIZaueJCGjMAL&amp;prev=/images%3Fq%3Dpsicologia%26gbv%3D2%26svnum%3D10%26hl%3Den%26sa%3DG" TargetMode="External"/><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eade.es/imagenes/lic_arquitectura.jpg&amp;imgrefurl=http://www.eade.es/arquitectura.php&amp;h=225&amp;w=225&amp;sz=18&amp;hl=en&amp;start=6&amp;sig2=raUM6L-iNJ4b3o0-DV2_uQ&amp;tbnid=58F7gCtz-QFNMM:&amp;tbnh=108&amp;tbnw=108&amp;ei=nyuQRrqvEJPQeK-xsMEL&amp;prev=/images%3Fq%3Darquitectura%26gbv%3D2%26svnum%3D10%26hl%3Den%26sa%3D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12manage.com/methods_herrmann_whole_brain_es.html" TargetMode="External"/><Relationship Id="rId2" Type="http://schemas.openxmlformats.org/officeDocument/2006/relationships/hyperlink" Target="http://www.12manage.com/methods_luft_ingham_johari_window_es.html" TargetMode="External"/><Relationship Id="rId3" Type="http://schemas.openxmlformats.org/officeDocument/2006/relationships/hyperlink" Target="http://www.12manage.com/methods_janis_groupthink_es.html" TargetMode="External"/><Relationship Id="rId4" Type="http://schemas.openxmlformats.org/officeDocument/2006/relationships/hyperlink" Target="http://www.12manage.com/description_cognitive_bias.html" TargetMode="External"/><Relationship Id="rId5" Type="http://schemas.openxmlformats.org/officeDocument/2006/relationships/hyperlink" Target="http://www.12manage.com/description_myers-briggs_type_indicator.html" TargetMode="External"/><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images.google.com/imgres?imgurl=http://habilitest.stps.gob.mx:8090/Images/Habilidades/APRENDIZAJE%2520ACTIVO.JPG&amp;imgrefurl=http://habilitest.stps.gob.mx:8090/Main/Sugerencias.aspx%3FPanel%3D3&amp;h=268&amp;w=359&amp;sz=12&amp;hl=en&amp;start=2&amp;sig2=189DmlkQxs08wZzxKlvtcA&amp;tbnid=75rr2sgFzJoD3M:&amp;tbnh=90&amp;tbnw=121&amp;ei=u2GQRrOsOZPyeIaNgcIL&amp;prev=/images%3Fq%3Daprendizaje%26gbv%3D2%26svnum%3D10%26hl%3Den%26sa%3DG" TargetMode="External"/><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images.google.com/imgres?imgurl=http://www.galeon.com/scienceducation/educacion1.gif&amp;imgrefurl=http://www.galeon.com/scienceducation/educacion.html&amp;h=1125&amp;w=1126&amp;sz=44&amp;hl=en&amp;start=3&amp;sig2=ujgXBIjJv3btqJHlFtavbA&amp;tbnid=te9X3tbolmahvM:&amp;tbnh=150&amp;tbnw=150&amp;ei=AGKQRs8LmYx5252Awgs&amp;prev=/images%3Fq%3Deducacion%26gbv%3D2%26svnum%3D10%26hl%3Den%26sa%3DG" TargetMode="External"/><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12manage.com/methods_organizational_learning_es.html" TargetMode="External"/><Relationship Id="rId2" Type="http://schemas.openxmlformats.org/officeDocument/2006/relationships/hyperlink" Target="http://www.12manage.com/methods_govindarajan_forget_borrow_learn_es.html" TargetMode="External"/><Relationship Id="rId3" Type="http://schemas.openxmlformats.org/officeDocument/2006/relationships/hyperlink" Target="http://www.12manage.com/methods_collison_knowledge_management_es.html" TargetMode="External"/><Relationship Id="rId4" Type="http://schemas.openxmlformats.org/officeDocument/2006/relationships/hyperlink" Target="http://www.12manage.com/methods_nonaka_seci_es.html" TargetMode="External"/><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images.google.com/imgres?imgurl=http://www.wto.org/images/img_10b/3_bene.gif&amp;imgrefurl=http://www.wto.org/spanish/thewto_s/whatis_s/10ben_s/10b03_s.htm&amp;h=343&amp;w=313&amp;sz=12&amp;hl=en&amp;start=2&amp;sig2=a88tg_kF18Ft8st0b1r1Yg&amp;tbnid=qq1nAjjVFkrgMM:&amp;tbnh=120&amp;tbnw=110&amp;ei=eWOQRpaIJoy2ePSR3MAL&amp;prev=/images%3Fq%3Dpoder%2Bnegociacion%26gbv%3D2%26svnum%3D10%26hl%3Den%26sa%3DG" TargetMode="External"/><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images.google.com/imgres?imgurl=http://www.ncss.com/images/index.2.jpg&amp;imgrefurl=http://www.ncss.com/pass.html&amp;h=318&amp;w=451&amp;sz=27&amp;hl=en&amp;start=6&amp;sig2=cReOhax8-7IkcvoP36PiLA&amp;tbnid=5o-kaO4mAqGtYM:&amp;tbnh=90&amp;tbnw=127&amp;ei=RWOQRoXbFoWIeI-_xL0L&amp;prev=/images%3Fq%3Dpower%26gbv%3D2%26svnum%3D10%26hl%3Den" TargetMode="Externa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www.12manage.com/methods_french_raven_bases_social_power_es.html" TargetMode="External"/><Relationship Id="rId2" Type="http://schemas.openxmlformats.org/officeDocument/2006/relationships/hyperlink" Target="http://www.12manage.com/methods_hofstede_es.html" TargetMode="External"/><Relationship Id="rId3" Type="http://schemas.openxmlformats.org/officeDocument/2006/relationships/hyperlink" Target="http://www.12manage.com/methods_stakeholder_value_perspective_es.html" TargetMode="External"/><Relationship Id="rId4" Type="http://schemas.openxmlformats.org/officeDocument/2006/relationships/hyperlink" Target="http://www.12manage.com/methods_kleiner_core_groups_es.html" TargetMode="External"/><Relationship Id="rId5" Type="http://schemas.openxmlformats.org/officeDocument/2006/relationships/hyperlink" Target="http://www.12manage.com/methods_lewin_force_field_analysis_es.html" TargetMode="External"/><Relationship Id="rId6" Type="http://schemas.openxmlformats.org/officeDocument/2006/relationships/slideLayout" Target="../slideLayouts/slideLayout1.xml"/><Relationship Id="rId7"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images.google.com/imgres?imgurl=http://www.masternewmedia.org/images/gears_id239802_size450o.jpg&amp;imgrefurl=http://www.masternewmedia.org/es/2006/08/14/open_source_como_modelo_de.htm&amp;h=338&amp;w=450&amp;sz=33&amp;hl=en&amp;start=7&amp;sig2=W8A44yddS7mzlspS-rMuJA&amp;tbnid=RjGC1dUuCZgbUM:&amp;tbnh=95&amp;tbnw=127&amp;ei=PmWQRpWkCKfyeLisgMIL&amp;prev=/images%3Fq%3Dcooperativo%26gbv%3D2%26svnum%3D10%26hl%3Den%26sa%3DG" TargetMode="External"/><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images.google.com/imgres?imgurl=http://www.geocities.com/posafi/images/Vitrubio.jpg&amp;imgrefurl=http://www.geocities.com/posafi/academia_posgrado.html&amp;h=472&amp;w=472&amp;sz=162&amp;hl=en&amp;start=1&amp;sig2=Cebty8eksK3dldALSbWnTw&amp;tbnid=Q0Pf-p_6CZsJ2M:&amp;tbnh=129&amp;tbnw=129&amp;ei=ZWWQRu_ECpeIeI_CxL0L&amp;prev=/images%3Fq%3Dantropologia%26gbv%3D2%26svnum%3D10%26hl%3Den%26sa%3DG" TargetMode="External"/><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12manage.com/methods_cooperrider_appreciative_inquiry_es.html" TargetMode="External"/><Relationship Id="rId2" Type="http://schemas.openxmlformats.org/officeDocument/2006/relationships/hyperlink" Target="http://www.12manage.com/methods_hofstede_es.html" TargetMode="External"/><Relationship Id="rId3" Type="http://schemas.openxmlformats.org/officeDocument/2006/relationships/hyperlink" Target="http://www.12manage.com/methods_earley_cultural_intelligence_es.html" TargetMode="External"/><Relationship Id="rId4" Type="http://schemas.openxmlformats.org/officeDocument/2006/relationships/hyperlink" Target="http://www.12manage.com/methods_campbell_ashridge_mission_model_es.html" TargetMode="External"/><Relationship Id="rId5" Type="http://schemas.openxmlformats.org/officeDocument/2006/relationships/slideLayout" Target="../slideLayouts/slideLayout1.xml"/><Relationship Id="rId6"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images.google.com/imgres?imgurl=http://www.pnuma.org/informacion/pnumanuevas/imag1205e/mundo_central.jpg&amp;imgrefurl=http://www.pnuma.org/informacion/pnumanuevas/pn1205e.htm&amp;h=313&amp;w=309&amp;sz=50&amp;hl=en&amp;start=1&amp;sig2=CWx-jXIRjFZUZ3_UvBiVEw&amp;tbnid=BYsttNapt2hK_M:&amp;tbnh=117&amp;tbnw=116&amp;ei=wWaQRr2OJaWSeJGz6L4L&amp;prev=/images%3Fq%3Dmedio%2Bambiente%26gbv%3D2%26svnum%3D10%26hl%3Den%26sa%3DG" TargetMode="External"/><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images.google.com/imgres?imgurl=http://info.zephyr.free.fr/images/Medicale/PE01001%2520adn.JPG&amp;imgrefurl=http://mundodeceniza.wiki.mailxmail.com/BIOLOGIA&amp;h=502&amp;w=317&amp;sz=29&amp;hl=en&amp;start=7&amp;sig2=gaZOw_pG9A50c9naGO9MuA&amp;tbnid=akzCMPhd5CK3AM:&amp;tbnh=130&amp;tbnw=82&amp;ei=4WaQRuWFA422eIOs3MAL&amp;prev=/images%3Fq%3Dbiologia%26gbv%3D2%26svnum%3D10%26hl%3Den%26sa%3DG" TargetMode="External"/><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12manage.com/methods_contingency_theory_es.html" TargetMode="External"/><Relationship Id="rId2" Type="http://schemas.openxmlformats.org/officeDocument/2006/relationships/hyperlink" Target="http://www.12manage.com/methods_blanchard_situational_leadership_es.html" TargetMode="External"/><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images.google.com/imgres?imgurl=http://www.leloir.org.ar/Espanol/Paginas/Muestras/CyT/-La_Evolucion-/La_Evoluci%25F3n_de_la_Vida/Transformacion.jpg&amp;imgrefurl=http://www.leloir.org.ar/Espanol/Paginas/Ciencia%2520joven/La_Evoluci%25F3n/La_Evolucion.htm&amp;h=224&amp;w=200&amp;sz=26&amp;hl=en&amp;start=5&amp;sig2=q8vE9_Pnd0AhUFADrX66gg&amp;tbnid=TcRRZCijDso5yM:&amp;tbnh=108&amp;tbnw=96&amp;ei=cmeQRpbYNaWSeJGz6L4L&amp;prev=/images%3Fq%3Dtransformacion%26gbv%3D2%26svnum%3D10%26hl%3Den%26sa%3DG"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hyperlink" Target="http://images.google.com/imgres?imgurl=http://inspiro.com.ar/articulos/resources/triada-fundamental.gif&amp;imgrefurl=http://inspiro.com.ar/articulos/bibliotecas.html&amp;h=364&amp;w=400&amp;sz=12&amp;hl=en&amp;start=3&amp;sig2=C8CqJ8k24k_-9JSDgOWrag&amp;tbnid=DjUD6nIJOcdFEM:&amp;tbnh=113&amp;tbnw=124&amp;ei=tWeQRsmsC5WEeKHN9LwL&amp;prev=/images%3Fq%3Dcontexto%26gbv%3D2%26svnum%3D10%26hl%3Den" TargetMode="External"/><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www.12manage.com/methods_mintzberg_configurations_es.html" TargetMode="External"/><Relationship Id="rId2" Type="http://schemas.openxmlformats.org/officeDocument/2006/relationships/hyperlink" Target="http://www.12manage.com/methods_lorenz_chaos_theory_es.html" TargetMode="External"/><Relationship Id="rId3" Type="http://schemas.openxmlformats.org/officeDocument/2006/relationships/hyperlink" Target="http://www.12manage.com/methods_thom_catastrophe_theory_es.html" TargetMode="External"/><Relationship Id="rId4" Type="http://schemas.openxmlformats.org/officeDocument/2006/relationships/hyperlink" Target="http://www.12manage.com/methods_christensen_disruptive_innovation_es.html" TargetMode="External"/><Relationship Id="rId5" Type="http://schemas.openxmlformats.org/officeDocument/2006/relationships/slideLayout" Target="../slideLayouts/slideLayout1.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hyperlink" Target="http://images.google.com/imgres?imgurl=http://www.cimm.ucr.ac.cr/aruiz/Libros/Historia%2520y%2520Filosofia/Parte1/Cap02/02_2004MundoPresocratico__5.jpg&amp;imgrefurl=http://www.cimm.ucr.ac.cr/aruiz/Libros/Historia%2520y%2520Filosofia/Parte1/Cap02/Parte02_02.htm&amp;h=317&amp;w=434&amp;sz=23&amp;hl=en&amp;start=15&amp;sig2=Cw990XYZNpqCgL8_1ISYrg&amp;tbnid=QkjQj3VaJ0rD1M:&amp;tbnh=92&amp;tbnw=126&amp;ei=9GiQRsWMKp3IeMeDsMEL&amp;prev=/images%3Fq%3Descuelas%2Bpensamiento%26gbv%3D2%26svnum%3D10%26hl%3Den%26sa%3DG" TargetMode="External"/><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hyperlink" Target="http://www.12manage.com/methods_warren_strategy_dynamics_es.html" TargetMode="External"/><Relationship Id="rId2" Type="http://schemas.openxmlformats.org/officeDocument/2006/relationships/hyperlink" Target="http://www.12manage.com/methods_barney_resource_based_view_firm_es.html" TargetMode="External"/><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images.google.com/imgres?imgurl=http://www.problemsolving2.com/Assets/Dilemmas.JPG&amp;imgrefurl=http://www.problemsolving2.com/leadership/typesummary.php&amp;h=719&amp;w=959&amp;sz=26&amp;hl=en&amp;start=6&amp;sig2=6XCPjSlu2HPU5julMqHIIg&amp;tbnid=OIdqRqYOdq-BYM:&amp;tbnh=111&amp;tbnw=148&amp;ei=_rGQRtP4LoOqiwHD0KyPBg&amp;prev=/images%3Fq%3Ddilemmas%26gbv%3D2%26svnum%3D10%26hl%3Den" TargetMode="External"/><Relationship Id="rId2" Type="http://schemas.openxmlformats.org/officeDocument/2006/relationships/image" Target="../media/image24.jpeg"/><Relationship Id="rId3" Type="http://schemas.openxmlformats.org/officeDocument/2006/relationships/hyperlink" Target="http://images.google.com/imgres?imgurl=http://www.lexaustralis.com/balanza.gif&amp;imgrefurl=http://www.lexaustralis.com/servicios.htm&amp;h=769&amp;w=665&amp;sz=59&amp;hl=en&amp;start=2&amp;sig2=IUKkCI_EyTyEo31fCqUBNg&amp;tbnid=Ymqi54jf1d-ejM:&amp;tbnh=142&amp;tbnw=123&amp;ei=l7KQRrHDAaGkiQHD1czcBQ&amp;prev=/images%3Fq%3Dbalanza%26gbv%3D2%26svnum%3D10%26hl%3Den%26sa%3DG" TargetMode="External"/><Relationship Id="rId4" Type="http://schemas.openxmlformats.org/officeDocument/2006/relationships/image" Target="../media/image25.jpeg"/><Relationship Id="rId5" Type="http://schemas.openxmlformats.org/officeDocument/2006/relationships/slideLayout" Target="../slideLayouts/slideLayout1.xml"/><Relationship Id="rId6"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hyperlink" Target="http://images.google.com/imgres?imgurl=http://www.philipchambers.f9.co.uk/images/old_boys_in_top_hats_25k.jpg&amp;imgrefurl=http://www.lightreading.com/document.asp%3Fdoc_id%3D52154&amp;h=395&amp;w=290&amp;sz=27&amp;hl=en&amp;start=18&amp;sig2=0CXlCALhOol3kWcKNiXMNA&amp;tbnid=-a_iCDrnPCgeaM:&amp;tbnh=124&amp;tbnw=91&amp;ei=7bKQRqXHO6fyeLisgMIL&amp;prev=/images%3Fq%3Dold%2Bboys%26gbv%3D2%26svnum%3D10%26hl%3Den%26sa%3DG" TargetMode="External"/><Relationship Id="rId2" Type="http://schemas.openxmlformats.org/officeDocument/2006/relationships/image" Target="../media/image26.jpeg"/><Relationship Id="rId3" Type="http://schemas.openxmlformats.org/officeDocument/2006/relationships/hyperlink" Target="http://images.google.com/imgres?imgurl=http://www.biz.colostate.edu/faculty/dennism/Management-Evolution_files/image021.gif&amp;imgrefurl=http://www.biz.colostate.edu/faculty/dennism/Management-Evolution.html&amp;h=173&amp;w=121&amp;sz=20&amp;hl=en&amp;start=1&amp;sig2=7yxq-ragvZEikmCaHgagoQ&amp;tbnid=BHodbWEQ6lWRUM:&amp;tbnh=100&amp;tbnw=70&amp;ei=PLOQRrHjGJ-SeMCx6L4L&amp;prev=/images%3Fq%3Dfayol%26gbv%3D2%26svnum%3D10%26hl%3Den%26sa%3DG" TargetMode="External"/><Relationship Id="rId4" Type="http://schemas.openxmlformats.org/officeDocument/2006/relationships/image" Target="../media/image27.jpeg"/><Relationship Id="rId5" Type="http://schemas.openxmlformats.org/officeDocument/2006/relationships/hyperlink" Target="http://images.google.com/imgres?imgurl=http://staff.imsa.edu/socsci/jvictory/taylor_fred/frederick_taylor.gif&amp;imgrefurl=http://staff.imsa.edu/socsci/jvictory/taylor_fred/indx_taylor.htm&amp;h=424&amp;w=286&amp;sz=98&amp;hl=en&amp;start=2&amp;sig2=EPgtR4RVfZ8fhhoOr4GkuA&amp;tbnid=Jo65JE-vQ4GQhM:&amp;tbnh=126&amp;tbnw=85&amp;ei=dLOQRsLPHqGGeNu3xL0L&amp;prev=/images%3Fq%3Dfrederick%2Btaylor%26gbv%3D2%26svnum%3D10%26hl%3Den%26sa%3DG" TargetMode="External"/><Relationship Id="rId6" Type="http://schemas.openxmlformats.org/officeDocument/2006/relationships/image" Target="../media/image28.jpeg"/><Relationship Id="rId7" Type="http://schemas.openxmlformats.org/officeDocument/2006/relationships/hyperlink" Target="http://images.google.com/imgres?imgurl=http://www.wfu.edu/~caron/ssrs/index_files/Smith.gif&amp;imgrefurl=http://www.wfu.edu/~caron/ssrs/index.html&amp;h=375&amp;w=330&amp;sz=94&amp;hl=en&amp;start=1&amp;sig2=dtwOvRAugmjSd6QsES4pUQ&amp;tbnid=95Iqy3NM1dF4xM:&amp;tbnh=122&amp;tbnw=107&amp;ei=lLOQRqO-OI22eIOs3MAL&amp;prev=/images%3Fq%3Dadam%2Bsmith%26gbv%3D2%26svnum%3D10%26hl%3Den%26sa%3DG" TargetMode="External"/><Relationship Id="rId8" Type="http://schemas.openxmlformats.org/officeDocument/2006/relationships/image" Target="../media/image29.jpeg"/><Relationship Id="rId9" Type="http://schemas.openxmlformats.org/officeDocument/2006/relationships/slideLayout" Target="../slideLayouts/slideLayout1.xml"/><Relationship Id="rId10"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hyperlink" Target="http://www.12manage.com/methods_swot_analysis_es.html" TargetMode="External"/><Relationship Id="rId2" Type="http://schemas.openxmlformats.org/officeDocument/2006/relationships/hyperlink" Target="http://www.12manage.com/methods_campbell_ashridge_mission_model_es.html"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www.ihs.nl/photogallery/Rotterdam%2520courses/images/ihs%2520action%2520planning%2520part%25202%2520copyright%2520fobes%2520davidson.jpg&amp;imgrefurl=http://www.ihs.nl/photogallery/Rotterdam%2520courses/index.htm&amp;h=1018&amp;w=1307&amp;sz=224&amp;hl=en&amp;start=7&amp;sig2=RDw1YrDvKh1QAwschcoFpA&amp;tbnid=aJFxpVG0y-6AbM:&amp;tbnh=117&amp;tbnw=150&amp;ei=diyQRptFnNJ4vuOxwQs&amp;prev=/images%3Fq%3Dplanning%26gbv%3D2%26svnum%3D10%26hl%3Den%26sa%3DX"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members.tripod.com/~JaroslawG/untergmas900w.jpg&amp;imgrefurl=http://members.tripod.com/~JaroslawG/urban.html&amp;h=357&amp;w=576&amp;sz=25&amp;hl=en&amp;start=2&amp;sig2=fSZI2XvoTeO2e0OMO6ZTvQ&amp;tbnid=2U1srf_meDIxNM:&amp;tbnh=83&amp;tbnw=134&amp;ei=oSyQRpi1C6iCeLHp9bwL&amp;prev=/images%3Fq%3Durban%2Bplanning%26gbv%3D2%26svnum%3D10%26hl%3Den%26sa%3DG" TargetMode="External"/><Relationship Id="rId2" Type="http://schemas.openxmlformats.org/officeDocument/2006/relationships/image" Target="../media/image5.jpeg"/><Relationship Id="rId3" Type="http://schemas.openxmlformats.org/officeDocument/2006/relationships/hyperlink" Target="http://images.google.com/imgres?imgurl=http://www.cwi.nl/publications/annual-reports/1996/AR/HTML/GIF/dioxin.gif&amp;imgrefurl=http://www.cwi.nl/publications/annual-reports/1996/AR/HTML/SYST.html&amp;h=231&amp;w=296&amp;sz=3&amp;hl=en&amp;start=8&amp;sig2=eX5oEp5xu5x-2Xt-BMrM3w&amp;tbnid=gk1GMIvwq_3ncM:&amp;tbnh=91&amp;tbnw=116&amp;ei=5SyQRsvLLIOQeJabmb4L&amp;prev=/images%3Fq%3Dsystem%2Btheory%26gbv%3D2%26ndsp%3D18%26svnum%3D10%26hl%3Den%26sa%3DN" TargetMode="External"/><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A77B3-7533-43F0-B432-0FA3BD1A446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2437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Tahoma"/>
              </a:rPr>
              <a:t>Perspectivas conceptuales</a:t>
            </a:r>
            <a:r>
              <a:rPr b="1" lang="es-ES" sz="4400" spc="-1" strike="noStrike">
                <a:solidFill>
                  <a:srgbClr val="000000"/>
                </a:solidFill>
                <a:latin typeface="Tahoma"/>
              </a:rPr>
              <a:t> del management</a:t>
            </a:r>
            <a:br>
              <a:rPr sz="4400"/>
            </a:br>
            <a:r>
              <a:rPr b="0" lang="es-ES" sz="2800" spc="-1" strike="noStrike">
                <a:solidFill>
                  <a:srgbClr val="000000"/>
                </a:solidFill>
                <a:latin typeface="Tahoma"/>
              </a:rPr>
              <a:t>Descripci</a:t>
            </a:r>
            <a:r>
              <a:rPr b="0" lang="es-ES" sz="2800" spc="-1" strike="noStrike">
                <a:solidFill>
                  <a:srgbClr val="000000"/>
                </a:solidFill>
                <a:latin typeface="Times New Roman"/>
              </a:rPr>
              <a:t>ó</a:t>
            </a:r>
            <a:r>
              <a:rPr b="0" lang="es-ES" sz="2800" spc="-1" strike="noStrike">
                <a:solidFill>
                  <a:srgbClr val="000000"/>
                </a:solidFill>
                <a:latin typeface="Tahoma"/>
              </a:rPr>
              <a:t>n de las escuelas de pensamiento</a:t>
            </a:r>
            <a:br>
              <a:rPr sz="2800"/>
            </a:br>
            <a:endParaRPr b="0" lang="en-US" sz="2800" spc="-1" strike="noStrike">
              <a:solidFill>
                <a:srgbClr val="000000"/>
              </a:solidFill>
              <a:latin typeface="Times New Roman"/>
            </a:endParaRPr>
          </a:p>
        </p:txBody>
      </p:sp>
      <p:pic>
        <p:nvPicPr>
          <p:cNvPr id="50" name="Picture 7" descr="knowledge_management_id91026_size350o">
            <a:hlinkClick r:id="rId1"/>
          </p:cNvPr>
          <p:cNvPicPr/>
          <p:nvPr/>
        </p:nvPicPr>
        <p:blipFill>
          <a:blip r:embed="rId2"/>
          <a:stretch/>
        </p:blipFill>
        <p:spPr>
          <a:xfrm>
            <a:off x="3429000" y="419112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42C7-5B63-4ED4-A59A-C3E1F678B40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Rectangle 2"/>
          <p:cNvSpPr/>
          <p:nvPr/>
        </p:nvSpPr>
        <p:spPr>
          <a:xfrm>
            <a:off x="228600" y="152280"/>
            <a:ext cx="8763120" cy="489924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La escuela del planeamiento.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formal. </a:t>
            </a: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Propuesta: Se toma un grupo de rigurosas medidas, a partir del análisis de la situación hasta la ejecución de la estrategia.</a:t>
            </a:r>
            <a:endParaRPr b="0" lang="en-US" sz="24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Base: Planeamiento urbano, teoría del sistema, cibernética.</a:t>
            </a: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resumen: ¡Formalice! “La estrategia debe ser como una máqui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E7E26-E3C3-4B94-BF5C-95DD4C3D04C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5" name="Rectangle 1026"/>
          <p:cNvSpPr/>
          <p:nvPr/>
        </p:nvSpPr>
        <p:spPr>
          <a:xfrm>
            <a:off x="228600" y="152280"/>
            <a:ext cx="8763120" cy="636228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La escuela del planeamiento.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formal. </a:t>
            </a: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Propuesta: Se toma un grupo de rigurosas medidas, a partir del análisis de la situación hasta la ejecución de la estrategia.</a:t>
            </a:r>
            <a:endParaRPr b="0" lang="en-US" sz="24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Base: Planeamiento urbano, teoría del sistema, cibernética.</a:t>
            </a:r>
            <a:endParaRPr b="0" lang="en-US" sz="24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En resumen: ¡Formalice! “La estrategia debe ser como una máquina.” </a:t>
            </a: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ntribuciones: Da una clara dirección. Permite la asignación de recursos. Los analistas pueden prever los hechos y pueden juzgar las estrategias hechas a la medida. Con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93B37-4A57-40D3-A47F-3ED7A667B25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Rectangle 2"/>
          <p:cNvSpPr/>
          <p:nvPr/>
        </p:nvSpPr>
        <p:spPr>
          <a:xfrm>
            <a:off x="228600" y="152280"/>
            <a:ext cx="8763120" cy="380196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La escuela del planeamiento.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Limitaciones: La estrategia puede llegar a ser demasiado estática. Existe riesgo de un Groupthink (Pensamiento Grupal). Predecir es difícil. Las gerentes de la plana mayor deben crear la estrategia desde una torre de  marfil. La estrategia es en parte un ar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3D092-034F-4A3D-9E6D-F031B908505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Rectangle 1026"/>
          <p:cNvSpPr/>
          <p:nvPr/>
        </p:nvSpPr>
        <p:spPr>
          <a:xfrm>
            <a:off x="228600" y="152280"/>
            <a:ext cx="8763120" cy="621684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La escuela del planeamiento.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Limitaciones: La estrategia puede llegar a ser demasiado estática. Existe riesgo de un Groupthink (Pensamiento Grupal). Predecir es difícil. Las gerentes de la plana mayor deben crear la estrategia desde una torre de la marfil. La estrategia es en parte un arte.</a:t>
            </a: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jemplos: </a:t>
            </a:r>
            <a:endParaRPr b="0" lang="en-US" sz="24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Theory of Mechanistic and Organic Systems (Teoría de sistemas mecanicistas y orgánicos)</a:t>
            </a:r>
            <a:endParaRPr b="0" lang="en-US" sz="2000" spc="-1" strike="noStrike">
              <a:solidFill>
                <a:srgbClr val="000000"/>
              </a:solidFill>
              <a:latin typeface="Times New Roman"/>
            </a:endParaRPr>
          </a:p>
          <a:p>
            <a:pPr lvl="3" marL="1828800" indent="-457200">
              <a:lnSpc>
                <a:spcPct val="100000"/>
              </a:lnSpc>
              <a:buClr>
                <a:srgbClr val="000000"/>
              </a:buClr>
              <a:buFont typeface="Tahoma"/>
              <a:buChar char="•"/>
              <a:tabLst>
                <a:tab algn="l" pos="67788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ccccff"/>
                </a:solidFill>
                <a:uFillTx/>
                <a:latin typeface="Tahoma"/>
                <a:ea typeface="Tahoma"/>
                <a:hlinkClick r:id="rId1"/>
              </a:rPr>
              <a:t>http://www.valuebasedmanagement.net/methods_burns_mechanistic_organic_systems.html</a:t>
            </a:r>
            <a:endParaRPr b="0" lang="en-US" sz="12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Levers of Control (Palancas de control)</a:t>
            </a:r>
            <a:endParaRPr b="0" lang="en-US" sz="2000" spc="-1" strike="noStrike">
              <a:solidFill>
                <a:srgbClr val="000000"/>
              </a:solidFill>
              <a:latin typeface="Times New Roman"/>
            </a:endParaRPr>
          </a:p>
          <a:p>
            <a:pPr lvl="3" marL="1828800" indent="-457200">
              <a:lnSpc>
                <a:spcPct val="100000"/>
              </a:lnSpc>
              <a:buClr>
                <a:srgbClr val="000000"/>
              </a:buClr>
              <a:buFont typeface="Tahoma"/>
              <a:buChar char="•"/>
              <a:tabLst>
                <a:tab algn="l" pos="677880"/>
                <a:tab algn="l" pos="2743200"/>
                <a:tab algn="l" pos="3657600"/>
                <a:tab algn="l" pos="4572000"/>
                <a:tab algn="l" pos="5486400"/>
                <a:tab algn="l" pos="6400800"/>
                <a:tab algn="l" pos="7315200"/>
                <a:tab algn="l" pos="8229600"/>
                <a:tab algn="l" pos="9144000"/>
                <a:tab algn="l" pos="10058400"/>
              </a:tabLst>
            </a:pPr>
            <a:r>
              <a:rPr b="0" lang="es-MX" sz="1200" spc="-1" strike="noStrike" u="sng">
                <a:solidFill>
                  <a:srgbClr val="ccccff"/>
                </a:solidFill>
                <a:uFillTx/>
                <a:latin typeface="Tahoma"/>
                <a:ea typeface="Tahoma"/>
                <a:hlinkClick r:id="rId2"/>
              </a:rPr>
              <a:t>http://www.12manage.com/methods_simons_levers_es.html</a:t>
            </a:r>
            <a:endParaRPr b="0" lang="en-US" sz="12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ea typeface="Tahoma"/>
              </a:rPr>
              <a:t>Scenario Planning (Planificación de escenarios)</a:t>
            </a:r>
            <a:endParaRPr b="0" lang="en-US" sz="2000" spc="-1" strike="noStrike">
              <a:solidFill>
                <a:srgbClr val="000000"/>
              </a:solidFill>
              <a:latin typeface="Times New Roman"/>
            </a:endParaRPr>
          </a:p>
          <a:p>
            <a:pPr lvl="3" marL="1828800" indent="-457200">
              <a:lnSpc>
                <a:spcPct val="100000"/>
              </a:lnSpc>
              <a:buClr>
                <a:srgbClr val="000000"/>
              </a:buClr>
              <a:buFont typeface="Tahoma"/>
              <a:buChar char="•"/>
              <a:tabLst>
                <a:tab algn="l" pos="67788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ccccff"/>
                </a:solidFill>
                <a:uFillTx/>
                <a:latin typeface="Tahoma"/>
                <a:ea typeface="Tahoma"/>
                <a:hlinkClick r:id="rId3"/>
              </a:rPr>
              <a:t>http://www.12manage.com/methods_scenario_planning_es.html</a:t>
            </a:r>
            <a:endParaRPr b="0" lang="en-US" sz="12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DB6F0-F289-43A5-AE08-03F16896780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Rectangle 2"/>
          <p:cNvSpPr/>
          <p:nvPr/>
        </p:nvSpPr>
        <p:spPr>
          <a:xfrm>
            <a:off x="304920" y="210960"/>
            <a:ext cx="8458200" cy="3110400"/>
          </a:xfrm>
          <a:prstGeom prst="rect">
            <a:avLst/>
          </a:prstGeom>
          <a:noFill/>
          <a:ln w="0">
            <a:noFill/>
          </a:ln>
        </p:spPr>
        <p:style>
          <a:lnRef idx="0"/>
          <a:fillRef idx="0"/>
          <a:effectRef idx="0"/>
          <a:fontRef idx="minor"/>
        </p:style>
        <p:txBody>
          <a:bodyPr lIns="90000" rIns="90000" tIns="46800" bIns="46800" anchor="t">
            <a:spAutoFit/>
          </a:bodyPr>
          <a:p>
            <a:pPr marL="455760" indent="-455760" algn="ctr">
              <a:lnSpc>
                <a:spcPct val="100000"/>
              </a:lnSpc>
              <a:buClr>
                <a:srgbClr val="000000"/>
              </a:buClr>
              <a:buFont typeface="Tahoma"/>
              <a:buAutoNum type="arabicPeriod" startAt="3"/>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Tahoma"/>
              </a:rPr>
              <a:t>La escuela del posicionamiento. </a:t>
            </a:r>
            <a:endParaRPr b="0" lang="en-US" sz="2200" spc="-1" strike="noStrike">
              <a:solidFill>
                <a:srgbClr val="000000"/>
              </a:solidFill>
              <a:latin typeface="Times New Roman"/>
            </a:endParaRPr>
          </a:p>
          <a:p>
            <a:pPr marL="455760" indent="-455760" algn="ct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ea typeface="Tahoma"/>
              </a:rPr>
              <a:t>        </a:t>
            </a:r>
            <a:r>
              <a:rPr b="0" lang="es-ES" sz="2200" spc="-1" strike="noStrike">
                <a:solidFill>
                  <a:srgbClr val="000000"/>
                </a:solidFill>
                <a:latin typeface="Tahoma"/>
                <a:ea typeface="Tahoma"/>
              </a:rPr>
              <a:t>Esta escuela ve la formación de la estrategia como un proceso analítico. </a:t>
            </a:r>
            <a:endParaRPr b="0" lang="en-US" sz="22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Propuesta: Pone el negocio dentro del contexto de su industria, y observa cómo la organización puede mejorar su posicionamiento estratégico dentro de esa industria. </a:t>
            </a:r>
            <a:endParaRPr b="0" lang="en-US" sz="2200" spc="-1" strike="noStrike">
              <a:solidFill>
                <a:srgbClr val="000000"/>
              </a:solidFill>
              <a:latin typeface="Times New Roman"/>
            </a:endParaRPr>
          </a:p>
        </p:txBody>
      </p:sp>
      <p:pic>
        <p:nvPicPr>
          <p:cNvPr id="82" name="Picture 4" descr="positioning_master_two">
            <a:hlinkClick r:id="rId1"/>
          </p:cNvPr>
          <p:cNvPicPr/>
          <p:nvPr/>
        </p:nvPicPr>
        <p:blipFill>
          <a:blip r:embed="rId2"/>
          <a:stretch/>
        </p:blipFill>
        <p:spPr>
          <a:xfrm>
            <a:off x="2971800" y="34290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6AF2-D40A-4ECF-8498-E975A438745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Rectangle 2"/>
          <p:cNvSpPr/>
          <p:nvPr/>
        </p:nvSpPr>
        <p:spPr>
          <a:xfrm>
            <a:off x="304920" y="210960"/>
            <a:ext cx="8458200" cy="3780720"/>
          </a:xfrm>
          <a:prstGeom prst="rect">
            <a:avLst/>
          </a:prstGeom>
          <a:noFill/>
          <a:ln w="0">
            <a:noFill/>
          </a:ln>
        </p:spPr>
        <p:style>
          <a:lnRef idx="0"/>
          <a:fillRef idx="0"/>
          <a:effectRef idx="0"/>
          <a:fontRef idx="minor"/>
        </p:style>
        <p:txBody>
          <a:bodyPr lIns="90000" rIns="90000" tIns="46800" bIns="46800" anchor="t">
            <a:spAutoFit/>
          </a:bodyPr>
          <a:p>
            <a:pPr marL="455760" indent="-455760" algn="ctr">
              <a:lnSpc>
                <a:spcPct val="100000"/>
              </a:lnSpc>
              <a:buClr>
                <a:srgbClr val="000000"/>
              </a:buClr>
              <a:buFont typeface="Tahoma"/>
              <a:buAutoNum type="arabicPeriod" startAt="3"/>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Tahoma"/>
              </a:rPr>
              <a:t>La escuela del posicionamiento. </a:t>
            </a:r>
            <a:endParaRPr b="0" lang="en-US" sz="2200" spc="-1" strike="noStrike">
              <a:solidFill>
                <a:srgbClr val="000000"/>
              </a:solidFill>
              <a:latin typeface="Times New Roman"/>
            </a:endParaRPr>
          </a:p>
          <a:p>
            <a:pPr marL="455760" indent="-455760" algn="ct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b2b2b2"/>
                </a:solidFill>
                <a:latin typeface="Tahoma"/>
                <a:ea typeface="Tahoma"/>
              </a:rPr>
              <a:t>        </a:t>
            </a:r>
            <a:r>
              <a:rPr b="0" lang="es-ES" sz="2200" spc="-1" strike="noStrike">
                <a:solidFill>
                  <a:srgbClr val="b2b2b2"/>
                </a:solidFill>
                <a:latin typeface="Tahoma"/>
                <a:ea typeface="Tahoma"/>
              </a:rPr>
              <a:t>Esta escuela ve la formación de la estrategia como un proceso analítico. </a:t>
            </a:r>
            <a:endParaRPr b="0" lang="en-US" sz="22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imes New Roman"/>
              </a:rPr>
              <a:t>Propuesta: Pone el negocio dentro del contexto de su industria, y observa cómo la organización puede mejorar su posicionamiento estratégico dentro de esa industria.</a:t>
            </a:r>
            <a:r>
              <a:rPr b="0" lang="es-ES" sz="2200" spc="-1" strike="noStrike">
                <a:solidFill>
                  <a:srgbClr val="000000"/>
                </a:solidFill>
                <a:latin typeface="Tahoma"/>
                <a:ea typeface="Times New Roman"/>
              </a:rPr>
              <a:t> </a:t>
            </a:r>
            <a:endParaRPr b="0" lang="en-US" sz="22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Base: Organización industrial (economía) y estrategia militar.</a:t>
            </a:r>
            <a:endParaRPr b="0" lang="en-US" sz="2200" spc="-1" strike="noStrike">
              <a:solidFill>
                <a:srgbClr val="000000"/>
              </a:solidFill>
              <a:latin typeface="Times New Roman"/>
            </a:endParaRPr>
          </a:p>
        </p:txBody>
      </p:sp>
      <p:pic>
        <p:nvPicPr>
          <p:cNvPr id="85" name="Picture 6" descr="hestermanslide4">
            <a:hlinkClick r:id="rId1"/>
          </p:cNvPr>
          <p:cNvPicPr/>
          <p:nvPr/>
        </p:nvPicPr>
        <p:blipFill>
          <a:blip r:embed="rId2"/>
          <a:stretch/>
        </p:blipFill>
        <p:spPr>
          <a:xfrm>
            <a:off x="2971800" y="37339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0AECB-91B5-4675-A95D-2BE9C078BE4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 name="Rectangle 2"/>
          <p:cNvSpPr/>
          <p:nvPr/>
        </p:nvSpPr>
        <p:spPr>
          <a:xfrm>
            <a:off x="304920" y="210960"/>
            <a:ext cx="8458200" cy="4451040"/>
          </a:xfrm>
          <a:prstGeom prst="rect">
            <a:avLst/>
          </a:prstGeom>
          <a:noFill/>
          <a:ln w="0">
            <a:noFill/>
          </a:ln>
        </p:spPr>
        <p:style>
          <a:lnRef idx="0"/>
          <a:fillRef idx="0"/>
          <a:effectRef idx="0"/>
          <a:fontRef idx="minor"/>
        </p:style>
        <p:txBody>
          <a:bodyPr lIns="90000" rIns="90000" tIns="46800" bIns="46800" anchor="t">
            <a:spAutoFit/>
          </a:bodyPr>
          <a:p>
            <a:pPr marL="455760" indent="-455760" algn="ctr">
              <a:lnSpc>
                <a:spcPct val="100000"/>
              </a:lnSpc>
              <a:buClr>
                <a:srgbClr val="000000"/>
              </a:buClr>
              <a:buFont typeface="Tahoma"/>
              <a:buAutoNum type="arabicPeriod" startAt="3"/>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Tahoma"/>
              </a:rPr>
              <a:t>La escuela del posicionamiento. </a:t>
            </a:r>
            <a:endParaRPr b="0" lang="en-US" sz="2200" spc="-1" strike="noStrike">
              <a:solidFill>
                <a:srgbClr val="000000"/>
              </a:solidFill>
              <a:latin typeface="Times New Roman"/>
            </a:endParaRPr>
          </a:p>
          <a:p>
            <a:pPr marL="455760" indent="-455760" algn="ct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b2b2b2"/>
                </a:solidFill>
                <a:latin typeface="Tahoma"/>
                <a:ea typeface="Tahoma"/>
              </a:rPr>
              <a:t>        </a:t>
            </a:r>
            <a:r>
              <a:rPr b="0" lang="es-ES" sz="2200" spc="-1" strike="noStrike">
                <a:solidFill>
                  <a:srgbClr val="b2b2b2"/>
                </a:solidFill>
                <a:latin typeface="Tahoma"/>
                <a:ea typeface="Tahoma"/>
              </a:rPr>
              <a:t>Esta escuela ve la formación de la estrategia como un proceso analítico. </a:t>
            </a:r>
            <a:endParaRPr b="0" lang="en-US" sz="22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imes New Roman"/>
              </a:rPr>
              <a:t>Propuesta: Pone el negocio dentro del contexto de su industria, y observa cómo la organización puede mejorar su posicionamiento estratégico dentro de esa industria. </a:t>
            </a:r>
            <a:endParaRPr b="0" lang="en-US" sz="22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imes New Roman"/>
              </a:rPr>
              <a:t>Base: Organización industrial (economía) y estrategia militar.</a:t>
            </a:r>
            <a:endParaRPr b="0" lang="en-US" sz="22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En resumen: ¡Analice! “Nada más que los hechos, seño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8C90-C7C6-4FB5-9CA1-8C220D22252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Rectangle 2"/>
          <p:cNvSpPr/>
          <p:nvPr/>
        </p:nvSpPr>
        <p:spPr>
          <a:xfrm>
            <a:off x="304920" y="210960"/>
            <a:ext cx="8458200" cy="6797160"/>
          </a:xfrm>
          <a:prstGeom prst="rect">
            <a:avLst/>
          </a:prstGeom>
          <a:noFill/>
          <a:ln w="0">
            <a:noFill/>
          </a:ln>
        </p:spPr>
        <p:style>
          <a:lnRef idx="0"/>
          <a:fillRef idx="0"/>
          <a:effectRef idx="0"/>
          <a:fontRef idx="minor"/>
        </p:style>
        <p:txBody>
          <a:bodyPr lIns="90000" rIns="90000" tIns="46800" bIns="46800" anchor="t">
            <a:spAutoFit/>
          </a:bodyPr>
          <a:p>
            <a:pPr marL="455760" indent="-455760" algn="ctr">
              <a:lnSpc>
                <a:spcPct val="100000"/>
              </a:lnSpc>
              <a:buClr>
                <a:srgbClr val="000000"/>
              </a:buClr>
              <a:buFont typeface="Tahoma"/>
              <a:buAutoNum type="arabicPeriod" startAt="3"/>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ahoma"/>
                <a:ea typeface="Tahoma"/>
              </a:rPr>
              <a:t>La escuela del posicionamiento. </a:t>
            </a:r>
            <a:endParaRPr b="0" lang="en-US" sz="2200" spc="-1" strike="noStrike">
              <a:solidFill>
                <a:srgbClr val="000000"/>
              </a:solidFill>
              <a:latin typeface="Times New Roman"/>
            </a:endParaRPr>
          </a:p>
          <a:p>
            <a:pPr marL="455760" indent="-455760" algn="ct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ea typeface="Tahoma"/>
              </a:rPr>
              <a:t>        </a:t>
            </a:r>
            <a:r>
              <a:rPr b="0" lang="es-ES" sz="2200" spc="-1" strike="noStrike">
                <a:solidFill>
                  <a:srgbClr val="b2b2b2"/>
                </a:solidFill>
                <a:latin typeface="Tahoma"/>
                <a:ea typeface="Tahoma"/>
              </a:rPr>
              <a:t>Esta escuela ve la formación de la estrategia como un proceso analítico. </a:t>
            </a:r>
            <a:endParaRPr b="0" lang="en-US" sz="22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imes New Roman"/>
              </a:rPr>
              <a:t>Propuesta: Pone el negocio dentro del contexto de su industria, y observa cómo la organización puede mejorar su posicionamiento estratégico dentro de esa industria. </a:t>
            </a:r>
            <a:endParaRPr b="0" lang="en-US" sz="22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imes New Roman"/>
              </a:rPr>
              <a:t>Base: Organización industrial (economía) y estrategia militar.</a:t>
            </a:r>
            <a:endParaRPr b="0" lang="en-US" sz="22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imes New Roman"/>
              </a:rPr>
              <a:t>En resumen: ¡Analice! “Nada más que los hechos, señor.”</a:t>
            </a:r>
            <a:r>
              <a:rPr b="0" lang="es-ES" sz="2200" spc="-1" strike="noStrike">
                <a:solidFill>
                  <a:srgbClr val="000000"/>
                </a:solidFill>
                <a:latin typeface="Tahoma"/>
                <a:ea typeface="Times New Roman"/>
              </a:rPr>
              <a:t> </a:t>
            </a:r>
            <a:endParaRPr b="0" lang="en-US" sz="22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imes New Roman"/>
              </a:rPr>
              <a:t>Contribuciones: Esta escuela hizo de la Administración estratégica una ciencia, permitiendo su progreso. Proporciona, de una manera sistemática, contenido a la manera existente de ver la estrategia. Enfoque en los hechos verificables (económicos). Particularmente útil en los primeros momentos de desarrollo de la estrategia, cuando se analizan los dato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4A720-1D55-44D8-A209-31DBA469206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Rectangle 2"/>
          <p:cNvSpPr/>
          <p:nvPr/>
        </p:nvSpPr>
        <p:spPr>
          <a:xfrm>
            <a:off x="304920" y="210960"/>
            <a:ext cx="8458200" cy="2654280"/>
          </a:xfrm>
          <a:prstGeom prst="rect">
            <a:avLst/>
          </a:prstGeom>
          <a:noFill/>
          <a:ln w="0">
            <a:noFill/>
          </a:ln>
        </p:spPr>
        <p:style>
          <a:lnRef idx="0"/>
          <a:fillRef idx="0"/>
          <a:effectRef idx="0"/>
          <a:fontRef idx="minor"/>
        </p:style>
        <p:txBody>
          <a:bodyPr lIns="90000" rIns="90000" tIns="46800" bIns="46800" anchor="t">
            <a:spAutoFit/>
          </a:bodyPr>
          <a:p>
            <a:pPr marL="455760" indent="-455760" algn="ctr">
              <a:lnSpc>
                <a:spcPct val="100000"/>
              </a:lnSpc>
              <a:buClr>
                <a:srgbClr val="000000"/>
              </a:buClr>
              <a:buFont typeface="Tahoma"/>
              <a:buAutoNum type="arabicPeriod" startAt="3"/>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La escuela del posicionamiento. </a:t>
            </a:r>
            <a:endParaRPr b="0" lang="en-US" sz="2400" spc="-1" strike="noStrike">
              <a:solidFill>
                <a:srgbClr val="000000"/>
              </a:solidFill>
              <a:latin typeface="Times New Roman"/>
            </a:endParaRPr>
          </a:p>
          <a:p>
            <a:pPr marL="455760" indent="-455760" algn="ct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Limitaciones: Vea la escuela del planeamiento. Descuida el poder, la política, la cultura, los elementos sociales. Esta polarizada negativamente hacia las grandes empresas. Orientada a los núme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52A2-D9BE-459F-A731-C28E4093426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Rectangle 2"/>
          <p:cNvSpPr/>
          <p:nvPr/>
        </p:nvSpPr>
        <p:spPr>
          <a:xfrm>
            <a:off x="304920" y="210960"/>
            <a:ext cx="8458200" cy="6825240"/>
          </a:xfrm>
          <a:prstGeom prst="rect">
            <a:avLst/>
          </a:prstGeom>
          <a:noFill/>
          <a:ln w="0">
            <a:noFill/>
          </a:ln>
        </p:spPr>
        <p:style>
          <a:lnRef idx="0"/>
          <a:fillRef idx="0"/>
          <a:effectRef idx="0"/>
          <a:fontRef idx="minor"/>
        </p:style>
        <p:txBody>
          <a:bodyPr lIns="90000" rIns="90000" tIns="46800" bIns="46800" anchor="t">
            <a:spAutoFit/>
          </a:bodyPr>
          <a:p>
            <a:pPr marL="455760" indent="-455760" algn="ctr">
              <a:lnSpc>
                <a:spcPct val="100000"/>
              </a:lnSpc>
              <a:buClr>
                <a:srgbClr val="000000"/>
              </a:buClr>
              <a:buFont typeface="Tahoma"/>
              <a:buAutoNum type="arabicPeriod" startAt="3"/>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La escuela del posicionamiento. </a:t>
            </a:r>
            <a:endParaRPr b="0" lang="en-US" sz="2400" spc="-1" strike="noStrike">
              <a:solidFill>
                <a:srgbClr val="000000"/>
              </a:solidFill>
              <a:latin typeface="Times New Roman"/>
            </a:endParaRPr>
          </a:p>
          <a:p>
            <a:pPr marL="455760" indent="-455760" algn="ctr">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Limitaciones: Vea la escuela del planeamiento. Descuida el poder, la política, la cultura, los elementos sociales. Esta polarizada negativamente hacia las grandes empresas. Orientada a los números.</a:t>
            </a: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jemplos: </a:t>
            </a:r>
            <a:endParaRPr b="0" lang="en-US" sz="24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Ventaja competitiva</a:t>
            </a:r>
            <a:endParaRPr b="0" lang="en-US" sz="2400" spc="-1" strike="noStrike">
              <a:solidFill>
                <a:srgbClr val="000000"/>
              </a:solidFill>
              <a:latin typeface="Times New Roman"/>
            </a:endParaRPr>
          </a:p>
          <a:p>
            <a:pPr lvl="3" marL="1828800" indent="-457200">
              <a:lnSpc>
                <a:spcPct val="100000"/>
              </a:lnSpc>
              <a:buClr>
                <a:srgbClr val="000000"/>
              </a:buClr>
              <a:buFont typeface="Tahoma"/>
              <a:buChar char="•"/>
              <a:tabLst>
                <a:tab algn="l" pos="67788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1"/>
              </a:rPr>
              <a:t>http://www.12manage.com/methods_porter_competitive_advantage_es.html</a:t>
            </a:r>
            <a:r>
              <a:rPr b="0" lang="es-MX" sz="2400" spc="-1" strike="noStrike">
                <a:solidFill>
                  <a:srgbClr val="000000"/>
                </a:solidFill>
                <a:latin typeface="Tahoma"/>
                <a:ea typeface="Tahoma"/>
              </a:rPr>
              <a:t> </a:t>
            </a:r>
            <a:endParaRPr b="0" lang="en-US" sz="24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Five Forces (Cinco fuerzas)</a:t>
            </a:r>
            <a:endParaRPr b="0" lang="en-US" sz="2400" spc="-1" strike="noStrike">
              <a:solidFill>
                <a:srgbClr val="000000"/>
              </a:solidFill>
              <a:latin typeface="Times New Roman"/>
            </a:endParaRPr>
          </a:p>
          <a:p>
            <a:pPr lvl="3" marL="1828800" indent="-457200">
              <a:lnSpc>
                <a:spcPct val="100000"/>
              </a:lnSpc>
              <a:buClr>
                <a:srgbClr val="000000"/>
              </a:buClr>
              <a:buFont typeface="Tahoma"/>
              <a:buChar char="•"/>
              <a:tabLst>
                <a:tab algn="l" pos="67788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ccccff"/>
                </a:solidFill>
                <a:uFillTx/>
                <a:latin typeface="Tahoma"/>
                <a:ea typeface="Tahoma"/>
                <a:hlinkClick r:id="rId2"/>
              </a:rPr>
              <a:t>http://www.12manage.com/methods_porter_five_forces_es.html</a:t>
            </a:r>
            <a:endParaRPr b="0" lang="en-US" sz="16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Value Chain (Cadena de Valor)</a:t>
            </a:r>
            <a:endParaRPr b="0" lang="en-US" sz="2400" spc="-1" strike="noStrike">
              <a:solidFill>
                <a:srgbClr val="000000"/>
              </a:solidFill>
              <a:latin typeface="Times New Roman"/>
            </a:endParaRPr>
          </a:p>
          <a:p>
            <a:pPr lvl="3" marL="1828800" indent="-457200">
              <a:lnSpc>
                <a:spcPct val="100000"/>
              </a:lnSpc>
              <a:buClr>
                <a:srgbClr val="000000"/>
              </a:buClr>
              <a:buFont typeface="Tahoma"/>
              <a:buChar char="•"/>
              <a:tabLst>
                <a:tab algn="l" pos="67788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3"/>
              </a:rPr>
              <a:t>http://www.12manage.com/methods_porter_value_chain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Matriz BCG</a:t>
            </a:r>
            <a:r>
              <a:rPr b="0" lang="es-MX" sz="2400" spc="-1" strike="noStrike">
                <a:solidFill>
                  <a:srgbClr val="000000"/>
                </a:solidFill>
                <a:latin typeface="Tahoma"/>
                <a:ea typeface="Tahoma"/>
              </a:rPr>
              <a:t> (Boston Consulting Group)</a:t>
            </a:r>
            <a:endParaRPr b="0" lang="en-US" sz="2400" spc="-1" strike="noStrike">
              <a:solidFill>
                <a:srgbClr val="000000"/>
              </a:solidFill>
              <a:latin typeface="Times New Roman"/>
            </a:endParaRPr>
          </a:p>
          <a:p>
            <a:pPr lvl="3" marL="1828800" indent="-457200">
              <a:lnSpc>
                <a:spcPct val="100000"/>
              </a:lnSpc>
              <a:buClr>
                <a:srgbClr val="000000"/>
              </a:buClr>
              <a:buFont typeface="Tahoma"/>
              <a:buChar char="•"/>
              <a:tabLst>
                <a:tab algn="l" pos="67788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4"/>
              </a:rPr>
              <a:t>http://www.12manage.com/methods_bcgmatrix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Game Theory (Teoría de juego)</a:t>
            </a:r>
            <a:endParaRPr b="0" lang="en-US" sz="2400" spc="-1" strike="noStrike">
              <a:solidFill>
                <a:srgbClr val="000000"/>
              </a:solidFill>
              <a:latin typeface="Times New Roman"/>
            </a:endParaRPr>
          </a:p>
          <a:p>
            <a:pPr lvl="3" marL="1828800" indent="-457200">
              <a:lnSpc>
                <a:spcPct val="100000"/>
              </a:lnSpc>
              <a:buClr>
                <a:srgbClr val="000000"/>
              </a:buClr>
              <a:buFont typeface="Tahoma"/>
              <a:buChar char="•"/>
              <a:tabLst>
                <a:tab algn="l" pos="67788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5"/>
              </a:rPr>
              <a:t>http://www.12manage.com/methods_game_theory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2" marL="13716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El arte de la guerra (Sun Tzu) </a:t>
            </a:r>
            <a:endParaRPr b="0" lang="en-US" sz="2400" spc="-1" strike="noStrike">
              <a:solidFill>
                <a:srgbClr val="000000"/>
              </a:solidFill>
              <a:latin typeface="Times New Roman"/>
            </a:endParaRPr>
          </a:p>
          <a:p>
            <a:pPr lvl="3" marL="1828800" indent="-457200">
              <a:lnSpc>
                <a:spcPct val="100000"/>
              </a:lnSpc>
              <a:buClr>
                <a:srgbClr val="000000"/>
              </a:buClr>
              <a:buFont typeface="Tahoma"/>
              <a:buChar char="•"/>
              <a:tabLst>
                <a:tab algn="l" pos="67788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6"/>
              </a:rPr>
              <a:t>http://www.geocities.com/Tokyo/Harbor/8292/stpral.htm</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E95E-B07B-4A49-9726-23A0A300FF7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Rectangle 2"/>
          <p:cNvSpPr/>
          <p:nvPr/>
        </p:nvSpPr>
        <p:spPr>
          <a:xfrm>
            <a:off x="762120" y="76320"/>
            <a:ext cx="7696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1.</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diseño.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conceptual.</a:t>
            </a:r>
            <a:endParaRPr b="0" lang="en-US" sz="24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Propuesta: Se formulan estrategias claras y únicas en un proceso deliberado. En este proceso, la situación interna de la organización se concilia con la situación externa del ambiente. </a:t>
            </a:r>
            <a:endParaRPr b="0" lang="en-US" sz="2400" spc="-1" strike="noStrike">
              <a:solidFill>
                <a:srgbClr val="000000"/>
              </a:solidFill>
              <a:latin typeface="Times New Roman"/>
            </a:endParaRPr>
          </a:p>
        </p:txBody>
      </p:sp>
      <p:pic>
        <p:nvPicPr>
          <p:cNvPr id="53" name="Picture 4" descr="swot">
            <a:hlinkClick r:id="rId1"/>
          </p:cNvPr>
          <p:cNvPicPr/>
          <p:nvPr/>
        </p:nvPicPr>
        <p:blipFill>
          <a:blip r:embed="rId2"/>
          <a:stretch/>
        </p:blipFill>
        <p:spPr>
          <a:xfrm>
            <a:off x="2971800" y="3976560"/>
            <a:ext cx="2971800" cy="2619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4779-723C-42D9-B022-1081CA3E7E6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Rectangle 2"/>
          <p:cNvSpPr/>
          <p:nvPr/>
        </p:nvSpPr>
        <p:spPr>
          <a:xfrm>
            <a:off x="228600" y="101520"/>
            <a:ext cx="8763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4.</a:t>
            </a:r>
            <a:r>
              <a:rPr b="1" lang="es-ES" sz="2400" spc="-1" strike="noStrike">
                <a:solidFill>
                  <a:srgbClr val="000000"/>
                </a:solidFill>
                <a:latin typeface="Tahoma"/>
              </a:rPr>
              <a:t>  </a:t>
            </a:r>
            <a:r>
              <a:rPr b="1" lang="es-ES" sz="2400" spc="-1" strike="noStrike">
                <a:solidFill>
                  <a:srgbClr val="000000"/>
                </a:solidFill>
                <a:latin typeface="Tahoma"/>
                <a:ea typeface="Tahoma"/>
              </a:rPr>
              <a:t>La escuela emprendedora. </a:t>
            </a:r>
            <a:endParaRPr b="0" lang="en-US" sz="2400" spc="-1" strike="noStrike">
              <a:solidFill>
                <a:srgbClr val="000000"/>
              </a:solidFill>
              <a:latin typeface="Times New Roman"/>
            </a:endParaRPr>
          </a:p>
          <a:p>
            <a:pPr algn="ct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visionario. </a:t>
            </a:r>
            <a:endParaRPr b="0" lang="en-US" sz="2400" spc="-1" strike="noStrike">
              <a:solidFill>
                <a:srgbClr val="000000"/>
              </a:solidFill>
              <a:latin typeface="Times New Roman"/>
            </a:endParaRPr>
          </a:p>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ropuesta: El proceso visionario ocurre dentro de la mente del fundador o del líder carismático de una organización. La escuela tensiona el más natural de los estados y de los procesos mentales - la intuición, el juicio, la sabiduría, la experiencia y la perspicacia. </a:t>
            </a:r>
            <a:endParaRPr b="0" lang="en-US" sz="2400" spc="-1" strike="noStrike">
              <a:solidFill>
                <a:srgbClr val="000000"/>
              </a:solidFill>
              <a:latin typeface="Times New Roman"/>
            </a:endParaRPr>
          </a:p>
        </p:txBody>
      </p:sp>
      <p:pic>
        <p:nvPicPr>
          <p:cNvPr id="96" name="Picture 4" descr="brainsteps-thumb">
            <a:hlinkClick r:id="rId1"/>
          </p:cNvPr>
          <p:cNvPicPr/>
          <p:nvPr/>
        </p:nvPicPr>
        <p:blipFill>
          <a:blip r:embed="rId2"/>
          <a:stretch/>
        </p:blipFill>
        <p:spPr>
          <a:xfrm>
            <a:off x="3048120" y="4267080"/>
            <a:ext cx="2743200" cy="2239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398E-395F-498C-A11B-444EE409D0B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2"/>
          <p:cNvSpPr/>
          <p:nvPr/>
        </p:nvSpPr>
        <p:spPr>
          <a:xfrm>
            <a:off x="228600" y="101520"/>
            <a:ext cx="8763120" cy="308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4.</a:t>
            </a:r>
            <a:r>
              <a:rPr b="1" lang="es-ES" sz="2400" spc="-1" strike="noStrike">
                <a:solidFill>
                  <a:srgbClr val="000000"/>
                </a:solidFill>
                <a:latin typeface="Tahoma"/>
              </a:rPr>
              <a:t>  </a:t>
            </a:r>
            <a:r>
              <a:rPr b="1" lang="es-ES" sz="2400" spc="-1" strike="noStrike">
                <a:solidFill>
                  <a:srgbClr val="000000"/>
                </a:solidFill>
                <a:latin typeface="Tahoma"/>
                <a:ea typeface="Tahoma"/>
              </a:rPr>
              <a:t>La escuela emprendedora. </a:t>
            </a:r>
            <a:endParaRPr b="0" lang="en-US" sz="2400" spc="-1" strike="noStrike">
              <a:solidFill>
                <a:srgbClr val="000000"/>
              </a:solidFill>
              <a:latin typeface="Times New Roman"/>
            </a:endParaRPr>
          </a:p>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000" spc="-1" strike="noStrike">
                <a:solidFill>
                  <a:srgbClr val="b2b2b2"/>
                </a:solidFill>
                <a:latin typeface="Tahoma"/>
                <a:ea typeface="Tahoma"/>
              </a:rPr>
              <a:t>Esta escuela ve la formación de la estrategia como un proceso visionario. </a:t>
            </a:r>
            <a:endParaRPr b="0" lang="en-US" sz="2000" spc="-1" strike="noStrike">
              <a:solidFill>
                <a:srgbClr val="000000"/>
              </a:solidFill>
              <a:latin typeface="Times New Roman"/>
            </a:endParaRPr>
          </a:p>
          <a:p>
            <a:pPr>
              <a:lnSpc>
                <a:spcPct val="100000"/>
              </a:lnSpc>
              <a:buClr>
                <a:srgbClr val="b2b2b2"/>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El proceso visionario ocurre dentro de la mente del fundador o del líder carismático de una organización. La escuela tensiona el más natural de los estados y de los procesos mentales - la intuición, el juicio, la sabiduría, la experiencia y la perspicacia. </a:t>
            </a:r>
            <a:endParaRPr b="0" lang="en-US" sz="2000" spc="-1" strike="noStrike">
              <a:solidFill>
                <a:srgbClr val="000000"/>
              </a:solidFill>
              <a:latin typeface="Times New Roman"/>
            </a:endParaRPr>
          </a:p>
          <a:p>
            <a:pPr>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Base: Economía.</a:t>
            </a:r>
            <a:endParaRPr b="0" lang="en-US" sz="2400" spc="-1" strike="noStrike">
              <a:solidFill>
                <a:srgbClr val="000000"/>
              </a:solidFill>
              <a:latin typeface="Times New Roman"/>
            </a:endParaRPr>
          </a:p>
        </p:txBody>
      </p:sp>
      <p:pic>
        <p:nvPicPr>
          <p:cNvPr id="99" name="Picture 4" descr="economics">
            <a:hlinkClick r:id="rId1"/>
          </p:cNvPr>
          <p:cNvPicPr/>
          <p:nvPr/>
        </p:nvPicPr>
        <p:blipFill>
          <a:blip r:embed="rId2"/>
          <a:stretch/>
        </p:blipFill>
        <p:spPr>
          <a:xfrm>
            <a:off x="3733920" y="3276720"/>
            <a:ext cx="2009520" cy="281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23FE4-1FD0-48F4-BD30-CBD4AC05DAB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1" name="Rectangle 2"/>
          <p:cNvSpPr/>
          <p:nvPr/>
        </p:nvSpPr>
        <p:spPr>
          <a:xfrm>
            <a:off x="228600" y="101520"/>
            <a:ext cx="8763120" cy="369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4.</a:t>
            </a:r>
            <a:r>
              <a:rPr b="1" lang="es-ES" sz="2400" spc="-1" strike="noStrike">
                <a:solidFill>
                  <a:srgbClr val="000000"/>
                </a:solidFill>
                <a:latin typeface="Tahoma"/>
              </a:rPr>
              <a:t>  </a:t>
            </a:r>
            <a:r>
              <a:rPr b="1" lang="es-ES" sz="2400" spc="-1" strike="noStrike">
                <a:solidFill>
                  <a:srgbClr val="000000"/>
                </a:solidFill>
                <a:latin typeface="Tahoma"/>
                <a:ea typeface="Tahoma"/>
              </a:rPr>
              <a:t>La escuela emprendedora. </a:t>
            </a:r>
            <a:endParaRPr b="0" lang="en-US" sz="2400" spc="-1" strike="noStrike">
              <a:solidFill>
                <a:srgbClr val="000000"/>
              </a:solidFill>
              <a:latin typeface="Times New Roman"/>
            </a:endParaRPr>
          </a:p>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b2b2b2"/>
                </a:solidFill>
                <a:latin typeface="Tahoma"/>
                <a:ea typeface="Tahoma"/>
              </a:rPr>
              <a:t>   </a:t>
            </a:r>
            <a:r>
              <a:rPr b="0" lang="es-ES" sz="2000" spc="-1" strike="noStrike">
                <a:solidFill>
                  <a:srgbClr val="b2b2b2"/>
                </a:solidFill>
                <a:latin typeface="Tahoma"/>
                <a:ea typeface="Tahoma"/>
              </a:rPr>
              <a:t>Esta escuela ve la formación de la estrategia como un proceso visionario. </a:t>
            </a:r>
            <a:endParaRPr b="0" lang="en-US" sz="2000" spc="-1" strike="noStrike">
              <a:solidFill>
                <a:srgbClr val="000000"/>
              </a:solidFill>
              <a:latin typeface="Times New Roman"/>
            </a:endParaRPr>
          </a:p>
          <a:p>
            <a:pPr>
              <a:lnSpc>
                <a:spcPct val="100000"/>
              </a:lnSpc>
              <a:buClr>
                <a:srgbClr val="b2b2b2"/>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El proceso visionario ocurre dentro de la mente del fundador o del líder carismático de una organización. La escuela tensiona el más natural de los estados y de los procesos mentales - la intuición, el juicio, la sabiduría, la experiencia y la perspicacia. </a:t>
            </a:r>
            <a:endParaRPr b="0" lang="en-US" sz="2000" spc="-1" strike="noStrike">
              <a:solidFill>
                <a:srgbClr val="000000"/>
              </a:solidFill>
              <a:latin typeface="Times New Roman"/>
            </a:endParaRPr>
          </a:p>
          <a:p>
            <a:pPr>
              <a:lnSpc>
                <a:spcPct val="100000"/>
              </a:lnSpc>
              <a:buClr>
                <a:srgbClr val="b2b2b2"/>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Economía.</a:t>
            </a:r>
            <a:endParaRPr b="0" lang="en-US" sz="2000" spc="-1" strike="noStrike">
              <a:solidFill>
                <a:srgbClr val="000000"/>
              </a:solidFill>
              <a:latin typeface="Times New Roman"/>
            </a:endParaRPr>
          </a:p>
          <a:p>
            <a:pPr>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n resumen: ¡Prevea! “El gerente es el arquitecto de la estrateg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42680-3C01-4648-B924-02E3CDB75C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Rectangle 2"/>
          <p:cNvSpPr/>
          <p:nvPr/>
        </p:nvSpPr>
        <p:spPr>
          <a:xfrm>
            <a:off x="228600" y="101520"/>
            <a:ext cx="8763120" cy="54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4.</a:t>
            </a:r>
            <a:r>
              <a:rPr b="1" lang="es-ES" sz="2400" spc="-1" strike="noStrike">
                <a:solidFill>
                  <a:srgbClr val="000000"/>
                </a:solidFill>
                <a:latin typeface="Tahoma"/>
              </a:rPr>
              <a:t>  </a:t>
            </a:r>
            <a:r>
              <a:rPr b="1" lang="es-ES" sz="2400" spc="-1" strike="noStrike">
                <a:solidFill>
                  <a:srgbClr val="000000"/>
                </a:solidFill>
                <a:latin typeface="Tahoma"/>
                <a:ea typeface="Tahoma"/>
              </a:rPr>
              <a:t>La escuela emprendedora. </a:t>
            </a:r>
            <a:endParaRPr b="0" lang="en-US" sz="2400" spc="-1" strike="noStrike">
              <a:solidFill>
                <a:srgbClr val="000000"/>
              </a:solidFill>
              <a:latin typeface="Times New Roman"/>
            </a:endParaRPr>
          </a:p>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b2b2b2"/>
                </a:solidFill>
                <a:latin typeface="Tahoma"/>
                <a:ea typeface="Tahoma"/>
              </a:rPr>
              <a:t>   </a:t>
            </a:r>
            <a:r>
              <a:rPr b="0" lang="es-ES" sz="2000" spc="-1" strike="noStrike">
                <a:solidFill>
                  <a:srgbClr val="b2b2b2"/>
                </a:solidFill>
                <a:latin typeface="Tahoma"/>
                <a:ea typeface="Tahoma"/>
              </a:rPr>
              <a:t>Esta escuela ve la formación de la estrategia como un proceso visionario. </a:t>
            </a:r>
            <a:endParaRPr b="0" lang="en-US" sz="2000" spc="-1" strike="noStrike">
              <a:solidFill>
                <a:srgbClr val="000000"/>
              </a:solidFill>
              <a:latin typeface="Times New Roman"/>
            </a:endParaRPr>
          </a:p>
          <a:p>
            <a:pPr>
              <a:lnSpc>
                <a:spcPct val="100000"/>
              </a:lnSpc>
              <a:buClr>
                <a:srgbClr val="b2b2b2"/>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El proceso visionario ocurre dentro de la mente del fundador o del líder carismático de una organización. La escuela tensiona el más natural de los estados y de los procesos mentales - la intuición, el juicio, la sabiduría, la experiencia y la perspicacia. </a:t>
            </a:r>
            <a:endParaRPr b="0" lang="en-US" sz="2000" spc="-1" strike="noStrike">
              <a:solidFill>
                <a:srgbClr val="000000"/>
              </a:solidFill>
              <a:latin typeface="Times New Roman"/>
            </a:endParaRPr>
          </a:p>
          <a:p>
            <a:pPr>
              <a:lnSpc>
                <a:spcPct val="100000"/>
              </a:lnSpc>
              <a:buClr>
                <a:srgbClr val="b2b2b2"/>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Economía.</a:t>
            </a:r>
            <a:endParaRPr b="0" lang="en-US" sz="2000" spc="-1" strike="noStrike">
              <a:solidFill>
                <a:srgbClr val="000000"/>
              </a:solidFill>
              <a:latin typeface="Times New Roman"/>
            </a:endParaRPr>
          </a:p>
          <a:p>
            <a:pPr>
              <a:lnSpc>
                <a:spcPct val="100000"/>
              </a:lnSpc>
              <a:buClr>
                <a:srgbClr val="b2b2b2"/>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n resumen: ¡Prevea! “El gerente es el arquitecto de la estrategia.”</a:t>
            </a:r>
            <a:endParaRPr b="0" lang="en-US" sz="2000" spc="-1" strike="noStrike">
              <a:solidFill>
                <a:srgbClr val="000000"/>
              </a:solidFill>
              <a:latin typeface="Times New Roman"/>
            </a:endParaRPr>
          </a:p>
          <a:p>
            <a:pPr>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Contribuciones: Una visión sana y visionaria del gerente de la empresa puede ayudar a la organización a navegar cohesionada a través de aguas tormentosas. Especialmente en los años iniciales y en los periodos difíciles para la organización. Deliberante en las líneas generales. Flexible y emergente en los detal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EC12C-BFF0-4C4D-91E8-DF9621CACE8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Rectangle 2"/>
          <p:cNvSpPr/>
          <p:nvPr/>
        </p:nvSpPr>
        <p:spPr>
          <a:xfrm>
            <a:off x="457200" y="268200"/>
            <a:ext cx="82296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4.</a:t>
            </a:r>
            <a:r>
              <a:rPr b="1" lang="es-ES" sz="2400" spc="-1" strike="noStrike">
                <a:solidFill>
                  <a:srgbClr val="000000"/>
                </a:solidFill>
                <a:latin typeface="Tahoma"/>
              </a:rPr>
              <a:t>  </a:t>
            </a:r>
            <a:r>
              <a:rPr b="1" lang="es-ES" sz="2400" spc="-1" strike="noStrike">
                <a:solidFill>
                  <a:srgbClr val="000000"/>
                </a:solidFill>
                <a:latin typeface="Tahoma"/>
                <a:ea typeface="Tahoma"/>
              </a:rPr>
              <a:t>La escuela emprendedora. </a:t>
            </a:r>
            <a:endParaRPr b="0" lang="en-US" sz="2400" spc="-1" strike="noStrike">
              <a:solidFill>
                <a:srgbClr val="000000"/>
              </a:solidFill>
              <a:latin typeface="Times New Roman"/>
            </a:endParaRPr>
          </a:p>
          <a:p>
            <a:pPr algn="ct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Limitaciones: La navegación de un curso predefinido puede cegar a alguien respecto de los peligros o los potenciales desenlaces inesperados. ¿Cómo puede usted encontrar al líder adecuado, con todas las muchas cualidades necesarias? Los líderes emprendedores, visionarios tienen una tendencia a ir demasiado lejos. El ser gerente de la empresa es un trabajo extremadamente exigente en esta perspec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E557B-84BC-4F89-A507-A74C6B7C024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Rectangle 2"/>
          <p:cNvSpPr/>
          <p:nvPr/>
        </p:nvSpPr>
        <p:spPr>
          <a:xfrm>
            <a:off x="457200" y="268200"/>
            <a:ext cx="8229600" cy="630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4.</a:t>
            </a:r>
            <a:r>
              <a:rPr b="1" lang="es-ES" sz="2400" spc="-1" strike="noStrike">
                <a:solidFill>
                  <a:srgbClr val="000000"/>
                </a:solidFill>
                <a:latin typeface="Tahoma"/>
              </a:rPr>
              <a:t>  </a:t>
            </a:r>
            <a:r>
              <a:rPr b="1" lang="es-ES" sz="2400" spc="-1" strike="noStrike">
                <a:solidFill>
                  <a:srgbClr val="000000"/>
                </a:solidFill>
                <a:latin typeface="Tahoma"/>
                <a:ea typeface="Tahoma"/>
              </a:rPr>
              <a:t>La escuela emprendedora. </a:t>
            </a:r>
            <a:endParaRPr b="0" lang="en-US" sz="2400" spc="-1" strike="noStrike">
              <a:solidFill>
                <a:srgbClr val="000000"/>
              </a:solidFill>
              <a:latin typeface="Times New Roman"/>
            </a:endParaRPr>
          </a:p>
          <a:p>
            <a:pPr>
              <a:lnSpc>
                <a:spcPct val="100000"/>
              </a:lnSpc>
              <a:buClr>
                <a:srgbClr val="b2b2b2"/>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Limitaciones: La navegación de un curso predefinido puede cegar a alguien respecto de los peligros o los potenciales desenlaces inesperados. ¿Cómo puede usted encontrar al líder adecuado, con todas las muchas cualidades necesarias? Los líderes emprendedores, visionarios tienen una tendencia a ir demasiado lejos. El ser gerente de la empresa es un trabajo extremadamente exigente en esta perspectiva.</a:t>
            </a:r>
            <a:endParaRPr b="0" lang="en-US" sz="2000" spc="-1" strike="noStrike">
              <a:solidFill>
                <a:srgbClr val="000000"/>
              </a:solidFill>
              <a:latin typeface="Times New Roman"/>
            </a:endParaRPr>
          </a:p>
          <a:p>
            <a:pPr>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jemplos: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Entrepreneurial Government (Gobierno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mprendedor)</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1"/>
              </a:rPr>
              <a:t>http://www.12manage.com/methods_osborne_ten_principles_reinvention_es.html</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Seven Surprises (Siete Sorpresas para los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nuevos </a:t>
            </a:r>
            <a:r>
              <a:rPr b="0" lang="es-ES" sz="2400" spc="-1" strike="noStrike">
                <a:solidFill>
                  <a:srgbClr val="000000"/>
                </a:solidFill>
                <a:latin typeface="Tahoma"/>
                <a:ea typeface="Tahoma"/>
              </a:rPr>
              <a:t>presidentes de directorio) </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ccccff"/>
                </a:solidFill>
                <a:uFillTx/>
                <a:latin typeface="Tahoma"/>
                <a:ea typeface="Tahoma"/>
                <a:hlinkClick r:id="rId2"/>
              </a:rPr>
              <a:t>http://www.12manage.com/methods_porter_seven_surprises_new_ceos_es.html</a:t>
            </a:r>
            <a:endParaRPr b="0" lang="en-US" sz="1200" spc="-1" strike="noStrike">
              <a:solidFill>
                <a:srgbClr val="000000"/>
              </a:solidFill>
              <a:latin typeface="Times New Roman"/>
            </a:endParaRPr>
          </a:p>
          <a:p>
            <a:pPr lvl="1" marL="457200">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Leadership Styles (Estilos de Dirección)</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3"/>
              </a:rPr>
              <a:t>http://www.12manage.com/methods_goleman_leadership_styles_es.html</a:t>
            </a:r>
            <a:endParaRPr b="0" lang="en-US" sz="1400" spc="-1" strike="noStrike">
              <a:solidFill>
                <a:srgbClr val="000000"/>
              </a:solidFill>
              <a:latin typeface="Times New Roman"/>
            </a:endParaRPr>
          </a:p>
          <a:p>
            <a:pPr lvl="3" marL="1371600">
              <a:lnSpc>
                <a:spcPct val="100000"/>
              </a:lnSpc>
              <a:buClr>
                <a:srgbClr val="000000"/>
              </a:buClr>
              <a:buFont typeface="Tahoma"/>
              <a:buChar char="•"/>
              <a:tabLst>
                <a:tab algn="l" pos="11350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11350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F336A-BAB5-4A98-AD0D-51784F55DAA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Rectangle 2"/>
          <p:cNvSpPr/>
          <p:nvPr/>
        </p:nvSpPr>
        <p:spPr>
          <a:xfrm>
            <a:off x="609480" y="449280"/>
            <a:ext cx="8077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5</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ognoscitiv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sta escuela ve la formación de la estrategia como un proceso mental.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ropuesta: Analiza cómo la gente percibe patrones y procesa la información. Se concentra en lo que está sucediendo en la mente del estratega, y cómo es que él procesa la información. </a:t>
            </a:r>
            <a:endParaRPr b="0" lang="en-US" sz="2400" spc="-1" strike="noStrike">
              <a:solidFill>
                <a:srgbClr val="000000"/>
              </a:solidFill>
              <a:latin typeface="Times New Roman"/>
            </a:endParaRPr>
          </a:p>
        </p:txBody>
      </p:sp>
      <p:pic>
        <p:nvPicPr>
          <p:cNvPr id="110" name="Picture 4" descr="417299-511914">
            <a:hlinkClick r:id="rId1"/>
          </p:cNvPr>
          <p:cNvPicPr/>
          <p:nvPr/>
        </p:nvPicPr>
        <p:blipFill>
          <a:blip r:embed="rId2"/>
          <a:stretch/>
        </p:blipFill>
        <p:spPr>
          <a:xfrm>
            <a:off x="3657600" y="3962520"/>
            <a:ext cx="1735200" cy="2514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8818-A2FE-46F5-8F26-BC070A85A8C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Rectangle 2"/>
          <p:cNvSpPr/>
          <p:nvPr/>
        </p:nvSpPr>
        <p:spPr>
          <a:xfrm>
            <a:off x="609480" y="449280"/>
            <a:ext cx="8077320" cy="235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5</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ognosciti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mental.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Analiza cómo la gente percibe patrones y procesa la información. Se concentra en lo que está sucediendo en la mente del estratega, y cómo es que él procesa la información.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Base: Psicología.</a:t>
            </a:r>
            <a:endParaRPr b="0" lang="en-US" sz="2400" spc="-1" strike="noStrike">
              <a:solidFill>
                <a:srgbClr val="000000"/>
              </a:solidFill>
              <a:latin typeface="Times New Roman"/>
            </a:endParaRPr>
          </a:p>
        </p:txBody>
      </p:sp>
      <p:pic>
        <p:nvPicPr>
          <p:cNvPr id="113" name="Picture 4" descr="psicologia">
            <a:hlinkClick r:id="rId1"/>
          </p:cNvPr>
          <p:cNvPicPr/>
          <p:nvPr/>
        </p:nvPicPr>
        <p:blipFill>
          <a:blip r:embed="rId2"/>
          <a:stretch/>
        </p:blipFill>
        <p:spPr>
          <a:xfrm>
            <a:off x="3008160" y="2714760"/>
            <a:ext cx="2106720" cy="2771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51BE-E6EA-49A0-8CF1-AFE6C365C75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Rectangle 2"/>
          <p:cNvSpPr/>
          <p:nvPr/>
        </p:nvSpPr>
        <p:spPr>
          <a:xfrm>
            <a:off x="609480" y="449280"/>
            <a:ext cx="8077320" cy="30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5</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ognosciti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mental.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Analiza cómo la gente percibe patrones y procesa la información. Se concentra en lo que está sucediendo en la mente del estratega, y cómo es que él procesa la información.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Psicología.</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n resumen: ¡Marco de referencia! “Lo veré cuando lo cre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041BC-C644-4EB8-875D-B703FF4EEF6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Rectangle 2"/>
          <p:cNvSpPr/>
          <p:nvPr/>
        </p:nvSpPr>
        <p:spPr>
          <a:xfrm>
            <a:off x="609480" y="449280"/>
            <a:ext cx="8077320" cy="515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5</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ognoscitiv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mental.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Analiza cómo la gente percibe patrones y procesa la información. Se concentra en lo que está sucediendo en la mente del estratega, y cómo es que él procesa la información.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Psicología.</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n resumen: ¡Marco de referencia! “Lo veré cuando lo crea.”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Contribuciones: Ve la estrategia como proceso cognoscitivo en la mente del estratega. Las estrategias emergen como conceptos, mapas, esquemas y marcos de la realidad. Tensiona el lado creativo del proceso de la estrategia. Fuerte en el nivel de un estratega individual. Muy útil para explicar porqué nuestras mentes son imperfect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D37A-BED1-4573-A87C-1666A7F6516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Rectangle 2"/>
          <p:cNvSpPr/>
          <p:nvPr/>
        </p:nvSpPr>
        <p:spPr>
          <a:xfrm>
            <a:off x="762120" y="76320"/>
            <a:ext cx="76960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1.</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diseño.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conceptual.</a:t>
            </a:r>
            <a:endParaRPr b="0" lang="en-US" sz="24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lvl="1" marL="457200">
              <a:lnSpc>
                <a:spcPct val="100000"/>
              </a:lnSpc>
              <a:buClr>
                <a:srgbClr val="b2b2b2"/>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Propuesta: Se formulan estrategias claras y únicas en un proceso deliberado. En este proceso, la situación interna de la organización se concilia con la situación externa del ambiente.</a:t>
            </a:r>
            <a:r>
              <a:rPr b="0" lang="es-E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ase: Arquitectura como metáfora.</a:t>
            </a:r>
            <a:endParaRPr b="0" lang="en-US" sz="2400" spc="-1" strike="noStrike">
              <a:solidFill>
                <a:srgbClr val="000000"/>
              </a:solidFill>
              <a:latin typeface="Times New Roman"/>
            </a:endParaRPr>
          </a:p>
        </p:txBody>
      </p:sp>
      <p:pic>
        <p:nvPicPr>
          <p:cNvPr id="56" name="Picture 4" descr="lic_arquitectura">
            <a:hlinkClick r:id="rId1"/>
          </p:cNvPr>
          <p:cNvPicPr/>
          <p:nvPr/>
        </p:nvPicPr>
        <p:blipFill>
          <a:blip r:embed="rId2"/>
          <a:stretch/>
        </p:blipFill>
        <p:spPr>
          <a:xfrm>
            <a:off x="3276720" y="4572000"/>
            <a:ext cx="1981080" cy="1981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DD883-33CF-4CB7-B2AB-3FCAFBB3DDA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Rectangle 2"/>
          <p:cNvSpPr/>
          <p:nvPr/>
        </p:nvSpPr>
        <p:spPr>
          <a:xfrm>
            <a:off x="609480" y="449280"/>
            <a:ext cx="8077320" cy="270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5</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ognoscitiv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Limitaciones: No muy práctico más allá de la etapa conceptual. No es muy práctico para concebir grandes ideas o estrategias. Normalmente no es muy útil para conducir procesos estratégicos colectivos.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5484-E8EA-48B7-8B49-EBD0020D058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Rectangle 2"/>
          <p:cNvSpPr/>
          <p:nvPr/>
        </p:nvSpPr>
        <p:spPr>
          <a:xfrm>
            <a:off x="228600" y="228600"/>
            <a:ext cx="8763120" cy="58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5</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ognoscitiva.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ahoma"/>
              </a:rPr>
              <a:t>Limitaciones: No muy práctico más allá de la etapa conceptual. No es muy práctico para concebir grandes ideas o estrategias. Normalmente no es muy útil para conducir procesos estratégicos colectivos.</a:t>
            </a: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jemplos: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Whole Brain Model (Modelo del cerebro</a:t>
            </a: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completo)</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ccccff"/>
                </a:solidFill>
                <a:uFillTx/>
                <a:latin typeface="Tahoma"/>
                <a:ea typeface="Tahoma"/>
                <a:hlinkClick r:id="rId1"/>
              </a:rPr>
              <a:t>http://www.12manage.com/methods_herrmann_whole_brain_es.html</a:t>
            </a:r>
            <a:endParaRPr b="0" lang="en-US" sz="12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Johari Window (Ventana de comunicación </a:t>
            </a:r>
            <a:r>
              <a:rPr b="0" lang="es-MX" sz="2400" spc="-1" strike="noStrike">
                <a:solidFill>
                  <a:srgbClr val="000000"/>
                </a:solidFill>
                <a:latin typeface="Tahoma"/>
                <a:ea typeface="Tahoma"/>
              </a:rPr>
              <a:t>J</a:t>
            </a:r>
            <a:r>
              <a:rPr b="0" lang="es-ES" sz="2400" spc="-1" strike="noStrike">
                <a:solidFill>
                  <a:srgbClr val="000000"/>
                </a:solidFill>
                <a:latin typeface="Tahoma"/>
                <a:ea typeface="Tahoma"/>
              </a:rPr>
              <a:t>ohari)</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2"/>
              </a:rPr>
              <a:t>http://www.12manage.com/methods_luft_ingham_johari_window_es.html</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Groupthink (Pensamiento Grupal)</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3"/>
              </a:rPr>
              <a:t>http://www.12manage.com/methods_janis_groupthink_es.html</a:t>
            </a:r>
            <a:r>
              <a:rPr b="0" lang="es-MX" sz="1600" spc="-1" strike="noStrike">
                <a:solidFill>
                  <a:srgbClr val="000000"/>
                </a:solidFill>
                <a:latin typeface="Tahoma"/>
                <a:ea typeface="Tahoma"/>
              </a:rPr>
              <a:t> </a:t>
            </a:r>
            <a:endParaRPr b="0" lang="en-US" sz="16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Cognitive Bias</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ccccff"/>
                </a:solidFill>
                <a:uFillTx/>
                <a:latin typeface="Tahoma"/>
                <a:ea typeface="Tahoma"/>
                <a:hlinkClick r:id="rId4"/>
              </a:rPr>
              <a:t>http://www.12manage.com/description_cognitive_bias.html</a:t>
            </a:r>
            <a:r>
              <a:rPr b="0" lang="es-MX" sz="1200" spc="-1" strike="noStrike">
                <a:solidFill>
                  <a:srgbClr val="000000"/>
                </a:solidFill>
                <a:latin typeface="Tahoma"/>
                <a:ea typeface="Tahoma"/>
              </a:rPr>
              <a:t> </a:t>
            </a:r>
            <a:endParaRPr b="0" lang="en-US" sz="12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Tipo indicador de Myers-Briggs</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5"/>
              </a:rPr>
              <a:t>http://www.12manage.com/description_myers-briggs_type_indicator.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C8C62-99B4-4084-8A5A-45FDA86CB2C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Rectangle 2"/>
          <p:cNvSpPr/>
          <p:nvPr/>
        </p:nvSpPr>
        <p:spPr>
          <a:xfrm>
            <a:off x="228600" y="152280"/>
            <a:ext cx="87631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6</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aprendizaj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inesperado.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ropuesta: La gerencia presta, por un cierto plazo, atención cercana a las cosas que trabajan, y a las que no trabajan. Incorpora estas “lecciones aprendidas” a su plan de acción general. En planes o visiones claras. Por lo tanto, las estrategias deben emerger de pasos pequeños, pues una organización se adapta, o “aprende”. </a:t>
            </a:r>
            <a:endParaRPr b="0" lang="en-US" sz="2400" spc="-1" strike="noStrike">
              <a:solidFill>
                <a:srgbClr val="000000"/>
              </a:solidFill>
              <a:latin typeface="Times New Roman"/>
            </a:endParaRPr>
          </a:p>
        </p:txBody>
      </p:sp>
      <p:pic>
        <p:nvPicPr>
          <p:cNvPr id="124" name="Picture 4" descr="APRENDIZAJE%2520ACTIVO">
            <a:hlinkClick r:id="rId1"/>
          </p:cNvPr>
          <p:cNvPicPr/>
          <p:nvPr/>
        </p:nvPicPr>
        <p:blipFill>
          <a:blip r:embed="rId2"/>
          <a:stretch/>
        </p:blipFill>
        <p:spPr>
          <a:xfrm>
            <a:off x="3124080" y="3962520"/>
            <a:ext cx="2971800" cy="2211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0166-30E0-4E67-AFF8-7DDF862DE6A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Rectangle 2"/>
          <p:cNvSpPr/>
          <p:nvPr/>
        </p:nvSpPr>
        <p:spPr>
          <a:xfrm>
            <a:off x="228600" y="152280"/>
            <a:ext cx="8763120" cy="295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6</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aprendizaj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inesperad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gerencia presta, por un cierto plazo, atención cercana a las cosas que trabajan, y a las que no trabajan. Incorpora estas “lecciones aprendidas” a su plan de acción general. En planes o visiones claras. Por lo tanto, las estrategias deben emerger de pasos pequeños, pues una organización se adapta, o “aprende”.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Base: Educación, teoría del aprendizaje.</a:t>
            </a:r>
            <a:endParaRPr b="0" lang="en-US" sz="2400" spc="-1" strike="noStrike">
              <a:solidFill>
                <a:srgbClr val="000000"/>
              </a:solidFill>
              <a:latin typeface="Times New Roman"/>
            </a:endParaRPr>
          </a:p>
        </p:txBody>
      </p:sp>
      <p:pic>
        <p:nvPicPr>
          <p:cNvPr id="127" name="Picture 4" descr="educacion1">
            <a:hlinkClick r:id="rId1"/>
          </p:cNvPr>
          <p:cNvPicPr/>
          <p:nvPr/>
        </p:nvPicPr>
        <p:blipFill>
          <a:blip r:embed="rId2"/>
          <a:stretch/>
        </p:blipFill>
        <p:spPr>
          <a:xfrm>
            <a:off x="3429000" y="3276720"/>
            <a:ext cx="266688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8F3CF-375A-475A-9E15-542FFECE77D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Rectangle 2"/>
          <p:cNvSpPr/>
          <p:nvPr/>
        </p:nvSpPr>
        <p:spPr>
          <a:xfrm>
            <a:off x="228600" y="152280"/>
            <a:ext cx="8763120" cy="363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6</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aprendizaj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inesperad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gerencia presta, por un cierto plazo, atención cercana a las cosas que trabajan, y a las que no trabajan. Incorpora estas “lecciones aprendidas” a su plan de acción general. En planes o visiones claras. Por lo tanto, las estrategias deben emerger de pasos pequeños, pues una organización se adapta, o “aprende”.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Educación, teoría del aprendizaje.</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n resumen: ¡Aprenda! “Si usted no tiene éxito al principio, intentar otra ve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1941-CFE2-4DED-87A6-8F13D1DFAE4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Rectangle 2"/>
          <p:cNvSpPr/>
          <p:nvPr/>
        </p:nvSpPr>
        <p:spPr>
          <a:xfrm>
            <a:off x="228600" y="152280"/>
            <a:ext cx="8763120" cy="606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6</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aprendizaj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inesperad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gerencia presta, por un cierto plazo, atención cercana a las cosas que trabajan, y a las que no trabajan. Incorpora estas “lecciones aprendidas” a su plan de acción general. En planes o visiones claras. Por lo tanto, las estrategias deben emerger de pasos pequeños, pues una organización se adapta, o “aprende”.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Educación, teoría del aprendizaje.</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n resumen: ¡Aprenda! “Si usted no tiene éxito al principio, intentar otra vez.”</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Contribuciones: Ofrece una solución para ocuparse de la complejidad y de la imprevisión en la formación de la estrategia. Más gente puede aprender que solo el líder. Ninguna necesidad del líder omnipotente. Puede ser combinado con la visión emergente. Fuerte en condiciones complejas con el cambio continuo. Fuerte en organizaciones profesion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CE54F-CDD2-41A9-A491-4EFA120B02B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Rectangle 2"/>
          <p:cNvSpPr/>
          <p:nvPr/>
        </p:nvSpPr>
        <p:spPr>
          <a:xfrm>
            <a:off x="380880" y="152280"/>
            <a:ext cx="8534520" cy="380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6</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aprendizaje.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Limitaciones: Esta escuela podría conducir a no tener ninguna estrategia o apenas a hacer cierto maniobrar táctico. O a la desviación estratégica.  No útil durante crisis. No muy útil en condiciones estables. Tomar muchas medidas pequeñas sensibles no agrega necesariamente a una estrategia total sana. Usted no debe cruzar un abismo tomando medidas pequeñas. Hay costos asociados a aprend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D162F-40DA-44BC-804B-73D0BFE6A85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Rectangle 2"/>
          <p:cNvSpPr/>
          <p:nvPr/>
        </p:nvSpPr>
        <p:spPr>
          <a:xfrm>
            <a:off x="380880" y="152280"/>
            <a:ext cx="8534520" cy="683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6</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aprendizaje. </a:t>
            </a:r>
            <a:endParaRPr b="0" lang="en-US" sz="24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Limitaciones: Esta escuela podría conducir a no tener ninguna estrategia o apenas a hacer cierto maniobrar táctico. O a la desviación estratégica.  No útil durante crisis. No muy útil en condiciones estables. Tomar muchas medidas pequeñas sensibles no agrega necesariamente ha una estrategia total sana. Usted no debe cruzar un abismo tomando medidas pequeñas. Hay costos asociados a aprender.</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jemplos: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Organizational Learning (Aprendizaje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Organizacional)</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1"/>
              </a:rPr>
              <a:t>http://www.12manage.com/methods_organizational_learning_es.html</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Marco del Forget, Borrow, Learn (Olvidar, Tomar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Prestado y Aprender)</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2"/>
              </a:rPr>
              <a:t>http://www.12manage.com/methods_govindarajan_forget_borrow_learn_es.html</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Knowledge Management (Gerencia del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conocimiento)</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3"/>
              </a:rPr>
              <a:t>http://www.12manage.com/methods_collison_knowledge_management_es.html</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SECI model</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4"/>
              </a:rPr>
              <a:t>http://www.12manage.com/methods_nonaka_seci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CA63-6E04-4C74-9DE0-844C72DDB8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Rectangle 2"/>
          <p:cNvSpPr/>
          <p:nvPr/>
        </p:nvSpPr>
        <p:spPr>
          <a:xfrm>
            <a:off x="304920" y="152280"/>
            <a:ext cx="868680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7</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Po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sta escuela ve la formación de la estrategia como un proceso de la negociación.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ropuesta: La estrategia se desarrolla como un proceso de negociación entre los que tienen poder en la organización y/o entre la empresa y sus stakeholders externos.</a:t>
            </a:r>
            <a:endParaRPr b="0" lang="en-US" sz="2400" spc="-1" strike="noStrike">
              <a:solidFill>
                <a:srgbClr val="000000"/>
              </a:solidFill>
              <a:latin typeface="Times New Roman"/>
            </a:endParaRPr>
          </a:p>
        </p:txBody>
      </p:sp>
      <p:pic>
        <p:nvPicPr>
          <p:cNvPr id="138" name="Picture 4" descr="3_bene">
            <a:hlinkClick r:id="rId1"/>
          </p:cNvPr>
          <p:cNvPicPr/>
          <p:nvPr/>
        </p:nvPicPr>
        <p:blipFill>
          <a:blip r:embed="rId2"/>
          <a:stretch/>
        </p:blipFill>
        <p:spPr>
          <a:xfrm>
            <a:off x="3422520" y="3276720"/>
            <a:ext cx="244476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E39A3-3E7C-4141-BB7E-B16409183F0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Rectangle 1026"/>
          <p:cNvSpPr/>
          <p:nvPr/>
        </p:nvSpPr>
        <p:spPr>
          <a:xfrm>
            <a:off x="304920" y="152280"/>
            <a:ext cx="8686800" cy="235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7</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Po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de la negociación.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estrategia se desarrolla como un proceso de negociación entre los que tienen poder en la organización y/o entre la empresa y sus stakeholders externos.</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Base: Ciencia política.</a:t>
            </a:r>
            <a:endParaRPr b="0" lang="en-US" sz="2400" spc="-1" strike="noStrike">
              <a:solidFill>
                <a:srgbClr val="000000"/>
              </a:solidFill>
              <a:latin typeface="Times New Roman"/>
            </a:endParaRPr>
          </a:p>
        </p:txBody>
      </p:sp>
      <p:pic>
        <p:nvPicPr>
          <p:cNvPr id="141" name="Picture 1028" descr="index">
            <a:hlinkClick r:id="rId1"/>
          </p:cNvPr>
          <p:cNvPicPr/>
          <p:nvPr/>
        </p:nvPicPr>
        <p:blipFill>
          <a:blip r:embed="rId2"/>
          <a:stretch/>
        </p:blipFill>
        <p:spPr>
          <a:xfrm>
            <a:off x="2855880" y="3363840"/>
            <a:ext cx="3316320" cy="2351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B99E7-B3B0-4CE4-B0E1-442D85D7E8C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Rectangle 1026"/>
          <p:cNvSpPr/>
          <p:nvPr/>
        </p:nvSpPr>
        <p:spPr>
          <a:xfrm>
            <a:off x="762120" y="76320"/>
            <a:ext cx="7696080" cy="489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1.</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diseño.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conceptual.</a:t>
            </a:r>
            <a:endParaRPr b="0" lang="en-US" sz="24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lvl="1" marL="457200">
              <a:lnSpc>
                <a:spcPct val="100000"/>
              </a:lnSpc>
              <a:buClr>
                <a:srgbClr val="b2b2b2"/>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Propuesta: Se formulan estrategias claras y únicas en un proceso deliberado. En este proceso, la situación interna de la organización se concilia con la situación externa del ambiente. </a:t>
            </a:r>
            <a:endParaRPr b="0" lang="en-US" sz="2400" spc="-1" strike="noStrike">
              <a:solidFill>
                <a:srgbClr val="000000"/>
              </a:solidFill>
              <a:latin typeface="Times New Roman"/>
            </a:endParaRPr>
          </a:p>
          <a:p>
            <a:pPr lvl="1" marL="457200">
              <a:lnSpc>
                <a:spcPct val="100000"/>
              </a:lnSpc>
              <a:buClr>
                <a:srgbClr val="b2b2b2"/>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Base: Arquitectura como metáfora.</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n resumen: ¡Ajuste!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175FF-4148-4C5A-AD9D-1CFE1A71557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Rectangle 2"/>
          <p:cNvSpPr/>
          <p:nvPr/>
        </p:nvSpPr>
        <p:spPr>
          <a:xfrm>
            <a:off x="304920" y="152280"/>
            <a:ext cx="8686800" cy="30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7</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Po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de la negociación.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estrategia se desarrolla como un proceso de negociación entre los que tienen poder en la organización y/o entre la empresa y sus stakeholders externos.</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Ciencia política.</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n resumen: ¡Atrápelo! “Busque afuera al verdadero número un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8351-C7A7-4AFA-A9FE-6BB8B773D37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Rectangle 2"/>
          <p:cNvSpPr/>
          <p:nvPr/>
        </p:nvSpPr>
        <p:spPr>
          <a:xfrm>
            <a:off x="304920" y="152280"/>
            <a:ext cx="8686800" cy="588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7</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Po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de la negociación.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estrategia se desarrolla como un proceso de negociación entre los que tienen poder en la organización y/o entre la empresa y sus stakeholders externos.</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Ciencia política.</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n resumen: ¡Atrápelo! “Busque afuera al verdadero número uno.”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Contribuciones: Puede ayudar a que la gente más fuerte sobreviva en la selva de la empresa. Puede ayudar a asegurar que todos los puntos de vista de un tema sean discutidos. Puede ayudar a romper los obstáculos a cambios necesarios. Democrático. Puede ayudar a disminuir la resistencia inicial después de que se toma una decisión. Realista. Particularmente útil para entender las alianzas estratégicas, proyectos de riesgo compartido y para hacer un análisis de los stakeholder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5091-5DDE-4ECB-A928-F17DB82B0F0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Rectangle 2"/>
          <p:cNvSpPr/>
          <p:nvPr/>
        </p:nvSpPr>
        <p:spPr>
          <a:xfrm>
            <a:off x="304920" y="152280"/>
            <a:ext cx="861048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7</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Po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Limitaciones: La política puede ser divisionista, demanda mucha energía, puede causar despilfarro y distorsión y es muy costosa. Puede conducir a aberraciones. Puede conducir a no tener ninguna estrategia sino apenas a hacer ciertas maniobras tácticas. Exagera el papel del poder en la formación de la estrategi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5B121-0F87-41F0-B9A9-97BB301AB19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Rectangle 2"/>
          <p:cNvSpPr/>
          <p:nvPr/>
        </p:nvSpPr>
        <p:spPr>
          <a:xfrm>
            <a:off x="304920" y="152280"/>
            <a:ext cx="8610480" cy="654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7</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Po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Limitaciones: La política puede ser divisionista, demanda mucha energía, puede causar despilfarro y distorsión y es muy costosa. Puede conducir a aberraciones. Puede conducir a no tener ninguna estrategia sino apenas a hacer ciertas maniobras tácticas. Exagera el papel del poder en la formación de la estrategia.</a:t>
            </a: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jemplos: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MX" sz="2400" spc="-1" strike="noStrike">
                <a:solidFill>
                  <a:srgbClr val="000000"/>
                </a:solidFill>
                <a:latin typeface="Tahoma"/>
                <a:ea typeface="Times New Roman"/>
              </a:rPr>
              <a:t>  </a:t>
            </a:r>
            <a:r>
              <a:rPr b="0" lang="es-ES" sz="2400" spc="-1" strike="noStrike">
                <a:solidFill>
                  <a:srgbClr val="000000"/>
                </a:solidFill>
                <a:latin typeface="Tahoma"/>
                <a:ea typeface="Tahoma"/>
              </a:rPr>
              <a:t>Bases of Social Power (Bases del Poder Social)</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1"/>
              </a:rPr>
              <a:t>http://www.12manage.com/methods_french_raven_bases_social_power_es.html</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Distancia del Poder</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2"/>
              </a:rPr>
              <a:t>http://www.12manage.com/methods_hofstede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Stakeholder Value Perspective (Perspectiva de valor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del Stakeholder)</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3"/>
              </a:rPr>
              <a:t>http://www.12manage.com/methods_stakeholder_value_perspective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Core Group Theory (Teoría del Grupo Medular)</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ccccff"/>
                </a:solidFill>
                <a:uFillTx/>
                <a:latin typeface="Tahoma"/>
                <a:ea typeface="Tahoma"/>
                <a:hlinkClick r:id="rId4"/>
              </a:rPr>
              <a:t>http://www.12manage.com/methods_kleiner_core_groups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Force Field Analysis (Análisis de las Fuerzas del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ntorno)</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5"/>
              </a:rPr>
              <a:t>http://www.12manage.com/methods_lewin_force_field_analysis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18905-76EB-48C1-8371-3328969392E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Rectangle 2"/>
          <p:cNvSpPr/>
          <p:nvPr/>
        </p:nvSpPr>
        <p:spPr>
          <a:xfrm>
            <a:off x="380880" y="144360"/>
            <a:ext cx="838224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8</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ultur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sta escuela ve la formación de la estrategia como un proceso colectivo.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ropuesta: Intenta implicar a los distintos grupos y departamentos que existen en la empresa. La formación de la estrategia se ve como un proceso fundamentalmente colectivo y cooperativo. </a:t>
            </a:r>
            <a:endParaRPr b="0" lang="en-US" sz="2400" spc="-1" strike="noStrike">
              <a:solidFill>
                <a:srgbClr val="000000"/>
              </a:solidFill>
              <a:latin typeface="Times New Roman"/>
            </a:endParaRPr>
          </a:p>
        </p:txBody>
      </p:sp>
      <p:pic>
        <p:nvPicPr>
          <p:cNvPr id="152" name="Picture 4" descr="gears_id239802_size450o">
            <a:hlinkClick r:id="rId1"/>
          </p:cNvPr>
          <p:cNvPicPr/>
          <p:nvPr/>
        </p:nvPicPr>
        <p:blipFill>
          <a:blip r:embed="rId2"/>
          <a:stretch/>
        </p:blipFill>
        <p:spPr>
          <a:xfrm>
            <a:off x="2819520" y="3581280"/>
            <a:ext cx="3200400" cy="2395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D4AEE-EBF1-441B-96E6-A4848AE5E6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Rectangle 2"/>
          <p:cNvSpPr/>
          <p:nvPr/>
        </p:nvSpPr>
        <p:spPr>
          <a:xfrm>
            <a:off x="380880" y="144360"/>
            <a:ext cx="8382240" cy="26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8</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ultur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colectiv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Intenta implicar a los distintos grupos y departamentos que existen en la empresa. La formación de la estrategia se ve como un proceso fundamentalmente colectivo y cooperativo.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Base: Antropología.</a:t>
            </a:r>
            <a:endParaRPr b="0" lang="en-US" sz="2400" spc="-1" strike="noStrike">
              <a:solidFill>
                <a:srgbClr val="000000"/>
              </a:solidFill>
              <a:latin typeface="Times New Roman"/>
            </a:endParaRPr>
          </a:p>
        </p:txBody>
      </p:sp>
      <p:pic>
        <p:nvPicPr>
          <p:cNvPr id="155" name="Picture 4" descr="Vitrubio">
            <a:hlinkClick r:id="rId1"/>
          </p:cNvPr>
          <p:cNvPicPr/>
          <p:nvPr/>
        </p:nvPicPr>
        <p:blipFill>
          <a:blip r:embed="rId2"/>
          <a:stretch/>
        </p:blipFill>
        <p:spPr>
          <a:xfrm>
            <a:off x="3224160" y="3376440"/>
            <a:ext cx="2643120" cy="2643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74C54-B40D-4E8C-87C3-46E82DE4BA0F}"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Rectangle 2"/>
          <p:cNvSpPr/>
          <p:nvPr/>
        </p:nvSpPr>
        <p:spPr>
          <a:xfrm>
            <a:off x="380880" y="144360"/>
            <a:ext cx="8382240" cy="338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8</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ultur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colectiv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Intenta implicar a los distintos grupos y departamentos que existen en la empresa. La formación de la estrategia se ve como un proceso fundamentalmente colectivo y cooperativ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Antropología.</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n resumen: ¡Únase! “Una manzana nunca cae lejos del árb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55EC-F3BB-430D-A1A2-59009189257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Rectangle 1026"/>
          <p:cNvSpPr/>
          <p:nvPr/>
        </p:nvSpPr>
        <p:spPr>
          <a:xfrm>
            <a:off x="380880" y="144360"/>
            <a:ext cx="8382240" cy="552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8</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ultur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colectiv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Intenta implicar a los distintos grupos y departamentos que existen en la empresa. La formación de la estrategia se ve como un proceso fundamentalmente colectivo y cooperativ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Antropología.</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n resumen: ¡Únase! “Una manzana nunca cae lejos del árbol.”</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Contribuciones: Acentúa el papel crucial que los procesos, las creencias y valores sociales desempeñan en la toma de decisiones y en la formación de la estrategia. Explica la resistencia al cambio estratégico y ayuda a ocuparse de los valores dominantes en las organizaciones, y ayuda a administrar fusiones y adquisicion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9C55E-87F8-428C-AA69-7CF6099CCC7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Rectangle 2"/>
          <p:cNvSpPr/>
          <p:nvPr/>
        </p:nvSpPr>
        <p:spPr>
          <a:xfrm>
            <a:off x="380880" y="555480"/>
            <a:ext cx="83822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8</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ultur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Limitaciones: Vago, puede alimentar resistencia al cambio y puede ser empleado mal para justificar el status quo. Da pocas pistas en cómo deben transformarse las cos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88A0F-5EE3-4011-892A-92DF301B7F9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Rectangle 2"/>
          <p:cNvSpPr/>
          <p:nvPr/>
        </p:nvSpPr>
        <p:spPr>
          <a:xfrm>
            <a:off x="380880" y="555480"/>
            <a:ext cx="8382240" cy="566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8</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cultural.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ahoma"/>
              </a:rPr>
              <a:t>Limitaciones: Vago, puede alimentar resistencia al cambio y puede ser empleado mal para justificar el status quo. Da pocas pistas en cómo deben transformarse las cosas.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jemplos:</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MX" sz="2400" spc="-1" strike="noStrike">
                <a:solidFill>
                  <a:srgbClr val="000000"/>
                </a:solidFill>
                <a:latin typeface="Tahoma"/>
                <a:ea typeface="Times New Roman"/>
              </a:rPr>
              <a:t> </a:t>
            </a:r>
            <a:r>
              <a:rPr b="0" lang="es-ES" sz="2400" spc="-1" strike="noStrike">
                <a:solidFill>
                  <a:srgbClr val="000000"/>
                </a:solidFill>
                <a:latin typeface="Tahoma"/>
                <a:ea typeface="Tahoma"/>
              </a:rPr>
              <a:t>Appreciative Inquiry (Crítica Constructiva)</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1"/>
              </a:rPr>
              <a:t>http://www.12manage.com/methods_cooperrider_appreciative_inquiry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Cultural Dimensions (Dimensiones culturales)</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2"/>
              </a:rPr>
              <a:t>http://www.12manage.com/methods_hofstede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Cultural Intelligence (Inteligencia cultural)</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3"/>
              </a:rPr>
              <a:t>http://www.12manage.com/methods_earley_cultural_intelligence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Ashridge Mission Model (Modelo Ashridge de </a:t>
            </a:r>
            <a:r>
              <a:rPr b="0" lang="es-MX" sz="2400" spc="-1" strike="noStrike">
                <a:solidFill>
                  <a:srgbClr val="000000"/>
                </a:solidFill>
                <a:latin typeface="Tahoma"/>
                <a:ea typeface="Tahoma"/>
              </a:rPr>
              <a:t>	</a:t>
            </a: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reforzamiento de la Misión</a:t>
            </a: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mpresarial)</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4"/>
              </a:rPr>
              <a:t>http://www.12manage.com/methods_campbell_ashridge_mission_model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4E78-F503-41D2-B163-8DB0596DADE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Rectangle 1026"/>
          <p:cNvSpPr/>
          <p:nvPr/>
        </p:nvSpPr>
        <p:spPr>
          <a:xfrm>
            <a:off x="762120" y="76320"/>
            <a:ext cx="76960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1.</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diseño.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conceptual.</a:t>
            </a:r>
            <a:endParaRPr b="0" lang="en-US" sz="2400" spc="-1" strike="noStrike">
              <a:solidFill>
                <a:srgbClr val="000000"/>
              </a:solidFill>
              <a:latin typeface="Times New Roman"/>
            </a:endParaRPr>
          </a:p>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lvl="1" marL="457200">
              <a:lnSpc>
                <a:spcPct val="100000"/>
              </a:lnSpc>
              <a:buClr>
                <a:srgbClr val="b2b2b2"/>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Propuesta: Se formulan estrategias claras y únicas en un proceso deliberado. En este proceso, la situación interna de la organización se concilia con la situación externa del ambiente. </a:t>
            </a:r>
            <a:endParaRPr b="0" lang="en-US" sz="2400" spc="-1" strike="noStrike">
              <a:solidFill>
                <a:srgbClr val="000000"/>
              </a:solidFill>
              <a:latin typeface="Times New Roman"/>
            </a:endParaRPr>
          </a:p>
          <a:p>
            <a:pPr lvl="1" marL="457200">
              <a:lnSpc>
                <a:spcPct val="100000"/>
              </a:lnSpc>
              <a:buClr>
                <a:srgbClr val="b2b2b2"/>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Base: Arquitectura como metáfora.</a:t>
            </a:r>
            <a:endParaRPr b="0" lang="en-US" sz="2400" spc="-1" strike="noStrike">
              <a:solidFill>
                <a:srgbClr val="000000"/>
              </a:solidFill>
              <a:latin typeface="Times New Roman"/>
            </a:endParaRPr>
          </a:p>
          <a:p>
            <a:pPr lvl="1" marL="457200">
              <a:lnSpc>
                <a:spcPct val="100000"/>
              </a:lnSpc>
              <a:buClr>
                <a:srgbClr val="b2b2b2"/>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En resumen: ¡Ajuste! “Establezca el ajuste!”</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Contribuciones: Orden. Reduce la ambigüedad. Simplicidad. Útil en entornos relativamente estables. Apoya un liderazgo fuerte y visionari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BD17-F06A-4D58-89E0-89D512A1584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Rectangle 2"/>
          <p:cNvSpPr/>
          <p:nvPr/>
        </p:nvSpPr>
        <p:spPr>
          <a:xfrm>
            <a:off x="380880" y="533520"/>
            <a:ext cx="807732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9</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ambi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sta escuela ve la formación de la estrategia como un proceso reactivo.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ropuesta: La estrategia es una respuesta ante los desafíos impuestos por el ambiente externo. Donde otras escuelas ven el ambiente como factor, la escuela ambiental lo ve como un agente de hecho “el agente”.</a:t>
            </a:r>
            <a:endParaRPr b="0" lang="en-US" sz="2400" spc="-1" strike="noStrike">
              <a:solidFill>
                <a:srgbClr val="000000"/>
              </a:solidFill>
              <a:latin typeface="Times New Roman"/>
            </a:endParaRPr>
          </a:p>
        </p:txBody>
      </p:sp>
      <p:pic>
        <p:nvPicPr>
          <p:cNvPr id="166" name="Picture 4" descr="mundo_central">
            <a:hlinkClick r:id="rId1"/>
          </p:cNvPr>
          <p:cNvPicPr/>
          <p:nvPr/>
        </p:nvPicPr>
        <p:blipFill>
          <a:blip r:embed="rId2"/>
          <a:stretch/>
        </p:blipFill>
        <p:spPr>
          <a:xfrm>
            <a:off x="2895480" y="3962520"/>
            <a:ext cx="2343240" cy="2361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076F-643D-481A-8291-B2E54C1678E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Rectangle 2"/>
          <p:cNvSpPr/>
          <p:nvPr/>
        </p:nvSpPr>
        <p:spPr>
          <a:xfrm>
            <a:off x="380880" y="533520"/>
            <a:ext cx="8077320" cy="30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9</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ambi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reactiv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estrategia es una respuesta ante los desafíos impuestos por el ambiente externo. Donde otras escuelas ven el ambiente como factor, la escuela ambiental lo ve como un agente de hecho “el agente”.</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Base: Biología.</a:t>
            </a:r>
            <a:endParaRPr b="0" lang="en-US" sz="2400" spc="-1" strike="noStrike">
              <a:solidFill>
                <a:srgbClr val="000000"/>
              </a:solidFill>
              <a:latin typeface="Times New Roman"/>
            </a:endParaRPr>
          </a:p>
        </p:txBody>
      </p:sp>
      <p:pic>
        <p:nvPicPr>
          <p:cNvPr id="169" name="Picture 4" descr="PE01001%2520adn">
            <a:hlinkClick r:id="rId1"/>
          </p:cNvPr>
          <p:cNvPicPr/>
          <p:nvPr/>
        </p:nvPicPr>
        <p:blipFill>
          <a:blip r:embed="rId2"/>
          <a:stretch/>
        </p:blipFill>
        <p:spPr>
          <a:xfrm>
            <a:off x="3657600" y="3505320"/>
            <a:ext cx="1873080" cy="2971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5D63-AF7E-4F8C-9BE8-E8FBB26E4D4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Rectangle 2"/>
          <p:cNvSpPr/>
          <p:nvPr/>
        </p:nvSpPr>
        <p:spPr>
          <a:xfrm>
            <a:off x="380880" y="533520"/>
            <a:ext cx="8077320" cy="332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9</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ambi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reactiv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estrategia es una respuesta ante los desafíos impuestos por el ambiente externo. Donde otras escuelas ven el ambiente como factor, la escuela ambiental lo ve como un agente de hecho “el agente”.</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Biología.</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n resumen: ¡Enfréntelo! “De eso depende to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7E968-4541-46A9-A2CE-FDDBA34BB2C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Rectangle 2"/>
          <p:cNvSpPr/>
          <p:nvPr/>
        </p:nvSpPr>
        <p:spPr>
          <a:xfrm>
            <a:off x="380880" y="533520"/>
            <a:ext cx="8077320" cy="399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9</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ambi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reactiv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estrategia es una respuesta ante los desafíos impuestos por el ambiente externo. Donde otras escuelas ven el ambiente como factor, la escuela ambiental lo ve como un agente de hecho “el agente”.</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Biología.</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n resumen: ¡Enfréntelo! “De eso depende todo.”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Contribuciones: Da un papel central al entorno en la formación de la estrateg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D9FBF-3AA3-4ADD-A111-E6EC9599F98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Rectangle 2"/>
          <p:cNvSpPr/>
          <p:nvPr/>
        </p:nvSpPr>
        <p:spPr>
          <a:xfrm>
            <a:off x="380880" y="533520"/>
            <a:ext cx="8077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9</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ambi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Limitaciones: Las dimensiones del entorno son a menudo vagas y agregadas. Esto la hace menos útil para la formación de la estrategia. Niega opciones estratégicas factibles para las organizaciones. Es poco realis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DB5D5-5BEA-464D-AF4E-4154EF5D0AB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Rectangle 2"/>
          <p:cNvSpPr/>
          <p:nvPr/>
        </p:nvSpPr>
        <p:spPr>
          <a:xfrm>
            <a:off x="380880" y="949320"/>
            <a:ext cx="8077320" cy="384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9</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ambient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Limitaciones: Las dimensiones del entorno son a menudo vagas y agregadas. Esto la hace menos útil para la formación de la estrategia. Niega opciones estratégicas factibles para las organizaciones. Es poco realista.</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jemplos: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Contingency Theory (Teoría de la Contingencia)</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1"/>
              </a:rPr>
              <a:t>http://www.12manage.com/methods_contingency_theory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Situational Leadership (Liderazgo situacional)</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2"/>
              </a:rPr>
              <a:t>http://www.12manage.com/methods_blanchard_situational_leadership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A9F5-12C6-45CA-B59C-5C00261BDEE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Rectangle 2"/>
          <p:cNvSpPr/>
          <p:nvPr/>
        </p:nvSpPr>
        <p:spPr>
          <a:xfrm>
            <a:off x="228600" y="385920"/>
            <a:ext cx="883908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10</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 la configura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sta escuela ve la formación de la estrategia como un proceso de transformación.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Propuesta: La formación de la estrategia es un proceso de transformación de la organización de un tipo de estructura de toma de decisiones a otro. </a:t>
            </a:r>
            <a:endParaRPr b="0" lang="en-US" sz="2400" spc="-1" strike="noStrike">
              <a:solidFill>
                <a:srgbClr val="000000"/>
              </a:solidFill>
              <a:latin typeface="Times New Roman"/>
            </a:endParaRPr>
          </a:p>
        </p:txBody>
      </p:sp>
      <p:pic>
        <p:nvPicPr>
          <p:cNvPr id="180" name="Picture 4" descr="Transformacion">
            <a:hlinkClick r:id="rId1"/>
          </p:cNvPr>
          <p:cNvPicPr/>
          <p:nvPr/>
        </p:nvPicPr>
        <p:blipFill>
          <a:blip r:embed="rId2"/>
          <a:stretch/>
        </p:blipFill>
        <p:spPr>
          <a:xfrm>
            <a:off x="2971800" y="3116160"/>
            <a:ext cx="2511360" cy="2827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ECE2E-F03E-4887-A567-149467476D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Rectangle 2"/>
          <p:cNvSpPr/>
          <p:nvPr/>
        </p:nvSpPr>
        <p:spPr>
          <a:xfrm>
            <a:off x="228600" y="385920"/>
            <a:ext cx="8839080" cy="250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10</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 la configura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ahoma"/>
              </a:rPr>
              <a:t>Esta escuela ve la formación de la estrategia como un proceso de transformación. </a:t>
            </a:r>
            <a:endParaRPr b="0" lang="en-US" sz="22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ahoma"/>
              </a:rPr>
              <a:t>Propuesta: La formación de la estrategia es un proceso de transformación de la organización de un tipo de estructura de la toma de decisiones a otro. </a:t>
            </a:r>
            <a:endParaRPr b="0" lang="en-US" sz="2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Base: Contexto.</a:t>
            </a:r>
            <a:endParaRPr b="0" lang="en-US" sz="2400" spc="-1" strike="noStrike">
              <a:solidFill>
                <a:srgbClr val="000000"/>
              </a:solidFill>
              <a:latin typeface="Times New Roman"/>
            </a:endParaRPr>
          </a:p>
        </p:txBody>
      </p:sp>
      <p:pic>
        <p:nvPicPr>
          <p:cNvPr id="183" name="Picture 4" descr="triada-fundamental">
            <a:hlinkClick r:id="rId1"/>
          </p:cNvPr>
          <p:cNvPicPr/>
          <p:nvPr/>
        </p:nvPicPr>
        <p:blipFill>
          <a:blip r:embed="rId2"/>
          <a:stretch/>
        </p:blipFill>
        <p:spPr>
          <a:xfrm>
            <a:off x="2819520" y="3429000"/>
            <a:ext cx="2971800" cy="27082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88B0-12BD-4A7B-8549-425A800CF36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Rectangle 2"/>
          <p:cNvSpPr/>
          <p:nvPr/>
        </p:nvSpPr>
        <p:spPr>
          <a:xfrm>
            <a:off x="228600" y="385920"/>
            <a:ext cx="883908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10</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 la configura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ahoma"/>
              </a:rPr>
              <a:t>Esta escuela ve la formación de la estrategia como un proceso de transformación. </a:t>
            </a:r>
            <a:endParaRPr b="0" lang="en-US" sz="22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ahoma"/>
              </a:rPr>
              <a:t>Propuesta: La formación de la estrategia es un proceso de transformación de la organización de un tipo de estructura de la toma de decisiones a otro. </a:t>
            </a:r>
            <a:endParaRPr b="0" lang="en-US" sz="22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b2b2b2"/>
                </a:solidFill>
                <a:latin typeface="Tahoma"/>
                <a:ea typeface="Tahoma"/>
              </a:rPr>
              <a:t>Base: Contexto.</a:t>
            </a:r>
            <a:endParaRPr b="0" lang="en-US" sz="2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n resumen: ¡Integre, transforme! “Para todo hay una ocas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3B0F0-8973-46C8-9ACB-193B6A9F0CC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Rectangle 2"/>
          <p:cNvSpPr/>
          <p:nvPr/>
        </p:nvSpPr>
        <p:spPr>
          <a:xfrm>
            <a:off x="228600" y="385920"/>
            <a:ext cx="8839080" cy="625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10</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 la configura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sta escuela ve la formación de la estrategia como un proceso de transformación.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Propuesta: La formación de la estrategia es un proceso de transformación de la organización de un tipo de estructura de la toma de decisiones a otro. </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Base: Contexto.</a:t>
            </a:r>
            <a:endParaRPr b="0" lang="en-US" sz="20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b2b2b2"/>
                </a:solidFill>
                <a:latin typeface="Tahoma"/>
                <a:ea typeface="Tahoma"/>
              </a:rPr>
              <a:t>En resumen: ¡Integre, transforme! “Para todo hay una ocasión.”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Contribuciones: La estrategia y la forma de organización (desarrollo organizacional) están cercanamente integradas y deben ser reconciliadas. Una organización se puede describir en términos de cierta configuración estable de sus características, que adopta por un período del tiempo en un tipo particular de contexto. Esto la hace comportarse de determinadas maneras, que a su vez da lugar a un grupo particular de estrategias. Los períodos de estabilidad son interrumpidos de vez en cuando por un cierto proceso de transformació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0E94-3DE9-4D8C-A6E9-FF3FE0ECCEA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Rectangle 2"/>
          <p:cNvSpPr/>
          <p:nvPr/>
        </p:nvSpPr>
        <p:spPr>
          <a:xfrm>
            <a:off x="762120" y="533520"/>
            <a:ext cx="7696080" cy="416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1.</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diseño.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Limitaciones: La simplificación puede distorsionar la realidad. La estrategia tiene muchas variables y es intrínsecamente complejo. Desvía el aprendizaje. Es inflexible. Débil en ambientes que cambian rápido. Existe el riesgo a la resistencia (comportamiento: no inventado aquí).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0084-0498-4E94-9923-7D4A6EFBFE8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9" name="Rectangle 2"/>
          <p:cNvSpPr/>
          <p:nvPr/>
        </p:nvSpPr>
        <p:spPr>
          <a:xfrm>
            <a:off x="304920" y="152280"/>
            <a:ext cx="883908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r>
              <a:rPr b="1" lang="es-MX" sz="2400" spc="-1" strike="noStrike">
                <a:solidFill>
                  <a:srgbClr val="000000"/>
                </a:solidFill>
                <a:latin typeface="Tahoma"/>
                <a:ea typeface="Tahoma"/>
              </a:rPr>
              <a:t>10</a:t>
            </a:r>
            <a:r>
              <a:rPr b="1" lang="es-ES" sz="2400" spc="-1" strike="noStrike">
                <a:solidFill>
                  <a:srgbClr val="000000"/>
                </a:solidFill>
                <a:latin typeface="Tahoma"/>
                <a:ea typeface="Tahoma"/>
              </a:rPr>
              <a:t>.</a:t>
            </a:r>
            <a:r>
              <a:rPr b="1" lang="es-ES" sz="2400" spc="-1" strike="noStrike">
                <a:solidFill>
                  <a:srgbClr val="000000"/>
                </a:solidFill>
                <a:latin typeface="Tahoma"/>
              </a:rPr>
              <a:t>      </a:t>
            </a:r>
            <a:r>
              <a:rPr b="1" lang="es-ES" sz="2400" spc="-1" strike="noStrike">
                <a:solidFill>
                  <a:srgbClr val="000000"/>
                </a:solidFill>
                <a:latin typeface="Tahoma"/>
                <a:ea typeface="Tahoma"/>
              </a:rPr>
              <a:t>La escuela de la configura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La clave para la gerencia estratégica, la mayor parte del tiempo, es: sostener estabilidad, o por lo menos realizar un cambio estratégico adaptable. Pero periódicamente hay una necesidad de transformació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Manejar el proceso disruptivo sin destruir la organización. La manera en que se forma la estrategia debe adaptarse a su propio tiempo y contexto, mientras que toma una o más de una de las formas antes mencionadas. Por lo tanto, la formación de la estrategia en sí misma tiene varias configuracion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86FD5-7E37-4A3A-A508-413C7E9E019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Rectangle 2"/>
          <p:cNvSpPr/>
          <p:nvPr/>
        </p:nvSpPr>
        <p:spPr>
          <a:xfrm>
            <a:off x="304920" y="152280"/>
            <a:ext cx="8839080" cy="472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ahoma"/>
              </a:rPr>
              <a:t> </a:t>
            </a:r>
            <a:r>
              <a:rPr b="1" lang="es-MX" sz="2200" spc="-1" strike="noStrike">
                <a:solidFill>
                  <a:srgbClr val="000000"/>
                </a:solidFill>
                <a:latin typeface="Tahoma"/>
                <a:ea typeface="Tahoma"/>
              </a:rPr>
              <a:t>10</a:t>
            </a:r>
            <a:r>
              <a:rPr b="1" lang="es-ES" sz="2200" spc="-1" strike="noStrike">
                <a:solidFill>
                  <a:srgbClr val="000000"/>
                </a:solidFill>
                <a:latin typeface="Tahoma"/>
                <a:ea typeface="Tahoma"/>
              </a:rPr>
              <a:t>.</a:t>
            </a:r>
            <a:r>
              <a:rPr b="1" lang="es-ES" sz="2200" spc="-1" strike="noStrike">
                <a:solidFill>
                  <a:srgbClr val="000000"/>
                </a:solidFill>
                <a:latin typeface="Tahoma"/>
              </a:rPr>
              <a:t>      </a:t>
            </a:r>
            <a:r>
              <a:rPr b="1" lang="es-ES" sz="2200" spc="-1" strike="noStrike">
                <a:solidFill>
                  <a:srgbClr val="000000"/>
                </a:solidFill>
                <a:latin typeface="Tahoma"/>
                <a:ea typeface="Tahoma"/>
              </a:rPr>
              <a:t>La escuela de la configuració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ahoma"/>
                <a:ea typeface="Tahoma"/>
              </a:rPr>
              <a:t>  </a:t>
            </a:r>
            <a:r>
              <a:rPr b="0" lang="es-ES" sz="2000" spc="-1" strike="noStrike">
                <a:solidFill>
                  <a:srgbClr val="b2b2b2"/>
                </a:solidFill>
                <a:latin typeface="Tahoma"/>
                <a:ea typeface="Tahoma"/>
              </a:rPr>
              <a:t>La clave para la gerencia estratégica, la mayor parte del tiempo, es: sostener estabilidad, o por lo menos realizar un cambio estratégico adaptable. Pero periódicamente hay una necesidad de transforma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b2b2b2"/>
                </a:solidFill>
                <a:latin typeface="Tahoma"/>
                <a:ea typeface="Tahoma"/>
              </a:rPr>
              <a:t>  </a:t>
            </a:r>
            <a:r>
              <a:rPr b="0" lang="es-ES" sz="2000" spc="-1" strike="noStrike">
                <a:solidFill>
                  <a:srgbClr val="b2b2b2"/>
                </a:solidFill>
                <a:latin typeface="Tahoma"/>
                <a:ea typeface="Tahoma"/>
              </a:rPr>
              <a:t>Manejar el proceso disruptivo sin destruir la organización. La manera en que se forma la estrategia debe adaptarse a su propio tiempo y contexto, mientras que toma una o más de una de las 10 formas antes mencionadas. Por lo tanto, la formación de la estrategia en sí misma tiene varias configuraciones. </a:t>
            </a: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Limitaciones: En realidad hay muchas matices de grises, y no un número limitado de configuraciones válidas. También, el patrón está en el ojo del observador. Si usted describe la realidad usando configuraciones, usted está torciendo la realidad para explicarl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C33F8-006C-459B-92C3-FB8F4400874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Rectangle 2"/>
          <p:cNvSpPr/>
          <p:nvPr/>
        </p:nvSpPr>
        <p:spPr>
          <a:xfrm>
            <a:off x="228600" y="152280"/>
            <a:ext cx="8839080" cy="627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ahoma"/>
                <a:ea typeface="Tahoma"/>
              </a:rPr>
              <a:t> </a:t>
            </a:r>
            <a:r>
              <a:rPr b="1" lang="es-MX" sz="2200" spc="-1" strike="noStrike">
                <a:solidFill>
                  <a:srgbClr val="000000"/>
                </a:solidFill>
                <a:latin typeface="Tahoma"/>
                <a:ea typeface="Tahoma"/>
              </a:rPr>
              <a:t>10</a:t>
            </a:r>
            <a:r>
              <a:rPr b="1" lang="es-ES" sz="2200" spc="-1" strike="noStrike">
                <a:solidFill>
                  <a:srgbClr val="000000"/>
                </a:solidFill>
                <a:latin typeface="Tahoma"/>
                <a:ea typeface="Tahoma"/>
              </a:rPr>
              <a:t>.</a:t>
            </a:r>
            <a:r>
              <a:rPr b="1" lang="es-ES" sz="2200" spc="-1" strike="noStrike">
                <a:solidFill>
                  <a:srgbClr val="000000"/>
                </a:solidFill>
                <a:latin typeface="Tahoma"/>
              </a:rPr>
              <a:t>      </a:t>
            </a:r>
            <a:r>
              <a:rPr b="1" lang="es-ES" sz="2200" spc="-1" strike="noStrike">
                <a:solidFill>
                  <a:srgbClr val="000000"/>
                </a:solidFill>
                <a:latin typeface="Tahoma"/>
                <a:ea typeface="Tahoma"/>
              </a:rPr>
              <a:t>La escuela de la configuració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b2b2b2"/>
                </a:solidFill>
                <a:latin typeface="Tahoma"/>
                <a:ea typeface="Tahoma"/>
              </a:rPr>
              <a:t>  </a:t>
            </a:r>
            <a:r>
              <a:rPr b="0" lang="es-ES" sz="1800" spc="-1" strike="noStrike">
                <a:solidFill>
                  <a:srgbClr val="b2b2b2"/>
                </a:solidFill>
                <a:latin typeface="Tahoma"/>
                <a:ea typeface="Tahoma"/>
              </a:rPr>
              <a:t>La clave para la gerencia estratégica, la mayor parte del tiempo, es: sostener estabilidad, o por lo menos realizar un cambio estratégico adaptable. Pero periódicamente hay una necesidad de transformació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b2b2b2"/>
                </a:solidFill>
                <a:latin typeface="Tahoma"/>
                <a:ea typeface="Tahoma"/>
              </a:rPr>
              <a:t>  </a:t>
            </a:r>
            <a:r>
              <a:rPr b="0" lang="es-ES" sz="1800" spc="-1" strike="noStrike">
                <a:solidFill>
                  <a:srgbClr val="b2b2b2"/>
                </a:solidFill>
                <a:latin typeface="Tahoma"/>
                <a:ea typeface="Tahoma"/>
              </a:rPr>
              <a:t>Manejar el proceso disruptivo sin destruir la organización. La manera en que se forma la estrategia debe adaptarse a su propio tiempo y contexto, mientras que toma una o más de una de las 10 formas antes mencionadas. Por lo tanto, la formación de la estrategia en sí misma tiene varias configuraciones. </a:t>
            </a:r>
            <a:endParaRPr b="0" lang="en-US" sz="1800" spc="-1" strike="noStrike">
              <a:solidFill>
                <a:srgbClr val="000000"/>
              </a:solidFill>
              <a:latin typeface="Times New Roman"/>
            </a:endParaRPr>
          </a:p>
          <a:p>
            <a:pPr>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b2b2b2"/>
                </a:solidFill>
                <a:latin typeface="Tahoma"/>
                <a:ea typeface="Tahoma"/>
              </a:rPr>
              <a:t>Limitaciones: En realidad hay muchas matices de grises, y no un número limitado de configuraciones válidas. También, el patrón está en el ojo del observador. Si usted describe la realidad usando configuraciones, usted está torciendo la realidad para explicarla.</a:t>
            </a:r>
            <a:endParaRPr b="0" lang="en-US" sz="18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Ejemplos: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Organizational Configurations </a:t>
            </a:r>
            <a:r>
              <a:rPr b="0" lang="es-ES" sz="1400" spc="-1" strike="noStrike">
                <a:solidFill>
                  <a:srgbClr val="000000"/>
                </a:solidFill>
                <a:latin typeface="Tahoma"/>
                <a:ea typeface="Tahoma"/>
              </a:rPr>
              <a:t>(Configuraciones</a:t>
            </a:r>
            <a:r>
              <a:rPr b="0" lang="es-MX" sz="1400" spc="-1" strike="noStrike">
                <a:solidFill>
                  <a:srgbClr val="000000"/>
                </a:solidFill>
                <a:latin typeface="Tahoma"/>
                <a:ea typeface="Tahoma"/>
              </a:rPr>
              <a:t>  </a:t>
            </a:r>
            <a:r>
              <a:rPr b="0" lang="es-ES" sz="1400" spc="-1" strike="noStrike">
                <a:solidFill>
                  <a:srgbClr val="000000"/>
                </a:solidFill>
                <a:latin typeface="Tahoma"/>
                <a:ea typeface="Tahoma"/>
              </a:rPr>
              <a:t>Organizacionales) </a:t>
            </a:r>
            <a:endParaRPr b="0" lang="en-US" sz="1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1"/>
              </a:rPr>
              <a:t>http://www.12manage.com/methods_mintzberg_configurations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Chaos Theory (Teoría del Caos) </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2"/>
              </a:rPr>
              <a:t>http://www.12manage.com/methods_lorenz_chaos_theory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Catastrophe Theory (Teoría de la catástrofe) </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3"/>
              </a:rPr>
              <a:t>http://www.12manage.com/methods_thom_catastrophe_theory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Disruptive Innovation (Innovación Radical)</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4"/>
              </a:rPr>
              <a:t>http://www.12manage.com/methods_christensen_disruptive_innovation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66345-C303-4162-B26C-3C5455F4C89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Rectangle 2"/>
          <p:cNvSpPr/>
          <p:nvPr/>
        </p:nvSpPr>
        <p:spPr>
          <a:xfrm>
            <a:off x="228600" y="152280"/>
            <a:ext cx="861048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Uso de las escuelas de pensamien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Aplicaciones</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 </a:t>
            </a:r>
            <a:r>
              <a:rPr b="0" lang="es-ES" sz="2400" spc="-1" strike="noStrike">
                <a:solidFill>
                  <a:srgbClr val="000000"/>
                </a:solidFill>
                <a:latin typeface="Tahoma"/>
                <a:ea typeface="Times New Roman"/>
              </a:rPr>
              <a:t>Muy buena </a:t>
            </a:r>
            <a:r>
              <a:rPr b="0" lang="es-MX" sz="2400" spc="-1" strike="noStrike">
                <a:solidFill>
                  <a:srgbClr val="000000"/>
                </a:solidFill>
                <a:latin typeface="Tahoma"/>
                <a:ea typeface="Times New Roman"/>
              </a:rPr>
              <a:t>i</a:t>
            </a:r>
            <a:r>
              <a:rPr b="0" lang="es-ES" sz="2400" spc="-1" strike="noStrike">
                <a:solidFill>
                  <a:srgbClr val="000000"/>
                </a:solidFill>
                <a:latin typeface="Tahoma"/>
                <a:ea typeface="Times New Roman"/>
              </a:rPr>
              <a:t>ntroducción y descripción del ámbito de la gerencia estratégic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ea typeface="Tahoma"/>
              </a:rPr>
              <a:t>    </a:t>
            </a:r>
            <a:endParaRPr b="0" lang="en-US" sz="2400" spc="-1" strike="noStrike">
              <a:solidFill>
                <a:srgbClr val="000000"/>
              </a:solidFill>
              <a:latin typeface="Times New Roman"/>
            </a:endParaRPr>
          </a:p>
        </p:txBody>
      </p:sp>
      <p:pic>
        <p:nvPicPr>
          <p:cNvPr id="196" name="Picture 4" descr="02_2004MundoPresocratico__5">
            <a:hlinkClick r:id="rId1"/>
          </p:cNvPr>
          <p:cNvPicPr/>
          <p:nvPr/>
        </p:nvPicPr>
        <p:blipFill>
          <a:blip r:embed="rId2"/>
          <a:stretch/>
        </p:blipFill>
        <p:spPr>
          <a:xfrm>
            <a:off x="3505320" y="2649600"/>
            <a:ext cx="2361960" cy="1724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D88BC-D322-46A4-9BD5-193FBCE9EBE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Rectangle 2"/>
          <p:cNvSpPr/>
          <p:nvPr/>
        </p:nvSpPr>
        <p:spPr>
          <a:xfrm>
            <a:off x="228600" y="152280"/>
            <a:ext cx="8610480" cy="6613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Uso de las escuelas de pensamiento.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b2b2b2"/>
                </a:solidFill>
                <a:latin typeface="Tahoma"/>
                <a:ea typeface="Tahoma"/>
              </a:rPr>
              <a:t>    </a:t>
            </a:r>
            <a:r>
              <a:rPr b="0" lang="es-ES" sz="2000" spc="-1" strike="noStrike">
                <a:solidFill>
                  <a:srgbClr val="b2b2b2"/>
                </a:solidFill>
                <a:latin typeface="Tahoma"/>
                <a:ea typeface="Tahoma"/>
              </a:rPr>
              <a:t>Aplicaciones</a:t>
            </a:r>
            <a:endParaRPr b="0" lang="en-US" sz="2000" spc="-1" strike="noStrike">
              <a:solidFill>
                <a:srgbClr val="000000"/>
              </a:solidFill>
              <a:latin typeface="Times New Roman"/>
            </a:endParaRPr>
          </a:p>
          <a:p>
            <a:pPr lvl="1" marL="457200">
              <a:lnSpc>
                <a:spcPct val="100000"/>
              </a:lnSpc>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b2b2b2"/>
                </a:solidFill>
                <a:latin typeface="Tahoma"/>
                <a:ea typeface="Times New Roman"/>
              </a:rPr>
              <a:t> </a:t>
            </a:r>
            <a:r>
              <a:rPr b="0" lang="es-ES" sz="2000" spc="-1" strike="noStrike">
                <a:solidFill>
                  <a:srgbClr val="b2b2b2"/>
                </a:solidFill>
                <a:latin typeface="Tahoma"/>
                <a:ea typeface="Times New Roman"/>
              </a:rPr>
              <a:t>Muy buena </a:t>
            </a:r>
            <a:r>
              <a:rPr b="0" lang="es-MX" sz="2000" spc="-1" strike="noStrike">
                <a:solidFill>
                  <a:srgbClr val="b2b2b2"/>
                </a:solidFill>
                <a:latin typeface="Tahoma"/>
                <a:ea typeface="Times New Roman"/>
              </a:rPr>
              <a:t>i</a:t>
            </a:r>
            <a:r>
              <a:rPr b="0" lang="es-ES" sz="2000" spc="-1" strike="noStrike">
                <a:solidFill>
                  <a:srgbClr val="b2b2b2"/>
                </a:solidFill>
                <a:latin typeface="Tahoma"/>
                <a:ea typeface="Times New Roman"/>
              </a:rPr>
              <a:t>ntroducción y descripción del ámbito de la gerencia estratég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ahoma"/>
                <a:ea typeface="Tahoma"/>
              </a:rPr>
              <a:t>    </a:t>
            </a:r>
            <a:r>
              <a:rPr b="1" lang="es-ES" sz="2400" spc="-1" strike="noStrike">
                <a:solidFill>
                  <a:srgbClr val="000000"/>
                </a:solidFill>
                <a:latin typeface="Tahoma"/>
                <a:ea typeface="Tahoma"/>
              </a:rPr>
              <a:t>Fortalezas de las escuelas de pensamien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 </a:t>
            </a:r>
            <a:r>
              <a:rPr b="0" lang="es-ES" sz="2400" spc="-1" strike="noStrike">
                <a:solidFill>
                  <a:srgbClr val="000000"/>
                </a:solidFill>
                <a:latin typeface="Tahoma"/>
                <a:ea typeface="Times New Roman"/>
              </a:rPr>
              <a:t>Útil iluminación de los orígenes y de las características internas de las diversas escuelas del pensamiento utilizadas para la formación de la estrategia.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 </a:t>
            </a:r>
            <a:r>
              <a:rPr b="0" lang="es-ES" sz="2400" spc="-1" strike="noStrike">
                <a:solidFill>
                  <a:srgbClr val="000000"/>
                </a:solidFill>
                <a:latin typeface="Tahoma"/>
                <a:ea typeface="Times New Roman"/>
              </a:rPr>
              <a:t>Entienda, aprecie y explote las diferencias de las distintas propuestas de formación de la estrategia. </a:t>
            </a: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 </a:t>
            </a:r>
            <a:r>
              <a:rPr b="0" lang="es-ES" sz="2400" spc="-1" strike="noStrike">
                <a:solidFill>
                  <a:srgbClr val="000000"/>
                </a:solidFill>
                <a:latin typeface="Tahoma"/>
                <a:ea typeface="Times New Roman"/>
              </a:rPr>
              <a:t>Otras escuelas importantes s</a:t>
            </a:r>
            <a:r>
              <a:rPr b="0" lang="es-MX" sz="2400" spc="-1" strike="noStrike">
                <a:solidFill>
                  <a:srgbClr val="000000"/>
                </a:solidFill>
                <a:latin typeface="Tahoma"/>
                <a:ea typeface="Times New Roman"/>
              </a:rPr>
              <a:t>on</a:t>
            </a:r>
            <a:r>
              <a:rPr b="0" lang="es-E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     </a:t>
            </a:r>
            <a:r>
              <a:rPr b="0" lang="es-ES" sz="2400" spc="-1" strike="noStrike">
                <a:solidFill>
                  <a:srgbClr val="000000"/>
                </a:solidFill>
                <a:latin typeface="Tahoma"/>
                <a:ea typeface="Tahoma"/>
              </a:rPr>
              <a:t>Strategy Dynamics (Dinámicas de la estrategia)</a:t>
            </a:r>
            <a:endParaRPr b="0" lang="en-US" sz="2400" spc="-1" strike="noStrike">
              <a:solidFill>
                <a:srgbClr val="000000"/>
              </a:solidFill>
              <a:latin typeface="Times New Roman"/>
            </a:endParaRPr>
          </a:p>
          <a:p>
            <a:pPr lvl="3" marL="13716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ccccff"/>
                </a:solidFill>
                <a:uFillTx/>
                <a:latin typeface="Tahoma"/>
                <a:ea typeface="Tahoma"/>
                <a:hlinkClick r:id="rId1"/>
              </a:rPr>
              <a:t>http://www.12manage.com/methods_warren_strategy_dynamics_es.html</a:t>
            </a:r>
            <a:r>
              <a:rPr b="0" lang="es-MX" sz="1400" spc="-1" strike="noStrike">
                <a:solidFill>
                  <a:srgbClr val="000000"/>
                </a:solidFill>
                <a:latin typeface="Tahoma"/>
                <a:ea typeface="Tahoma"/>
              </a:rPr>
              <a:t> </a:t>
            </a:r>
            <a:endParaRPr b="0" lang="en-US" sz="1400" spc="-1" strike="noStrike">
              <a:solidFill>
                <a:srgbClr val="000000"/>
              </a:solidFill>
              <a:latin typeface="Times New Roman"/>
            </a:endParaRPr>
          </a:p>
          <a:p>
            <a:pPr lvl="2" marL="9144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ahoma"/>
              </a:rPr>
              <a:t>Resource Based View </a:t>
            </a:r>
            <a:r>
              <a:rPr b="0" lang="en-US" sz="1800" spc="-1" strike="noStrike">
                <a:solidFill>
                  <a:srgbClr val="000000"/>
                </a:solidFill>
                <a:latin typeface="Tahoma"/>
                <a:ea typeface="Tahoma"/>
              </a:rPr>
              <a:t>(Visión basada en los recursos)</a:t>
            </a:r>
            <a:endParaRPr b="0" lang="en-US" sz="1800" spc="-1" strike="noStrike">
              <a:solidFill>
                <a:srgbClr val="000000"/>
              </a:solidFill>
              <a:latin typeface="Times New Roman"/>
            </a:endParaRPr>
          </a:p>
          <a:p>
            <a:pPr lvl="3" marL="137160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ahoma"/>
                <a:ea typeface="Times New Roman"/>
              </a:rPr>
              <a:t> </a:t>
            </a:r>
            <a:r>
              <a:rPr b="0" lang="es-ES" sz="1400" spc="-1" strike="noStrike" u="sng">
                <a:solidFill>
                  <a:srgbClr val="ccccff"/>
                </a:solidFill>
                <a:uFillTx/>
                <a:latin typeface="Tahoma"/>
                <a:ea typeface="Times New Roman"/>
                <a:hlinkClick r:id="rId2"/>
              </a:rPr>
              <a:t>http://www.12manage.com/methods_barney_resource_based_view_firm_es.html</a:t>
            </a:r>
            <a:r>
              <a:rPr b="0" lang="es-MX" sz="1400" spc="-1" strike="noStrike">
                <a:solidFill>
                  <a:srgbClr val="000000"/>
                </a:solidFill>
                <a:latin typeface="Tahoma"/>
                <a:ea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23B06-A41B-4FAD-926A-AED73125CF5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0" name="PlaceHolder 1"/>
          <p:cNvSpPr>
            <a:spLocks noGrp="1"/>
          </p:cNvSpPr>
          <p:nvPr>
            <p:ph type="title"/>
          </p:nvPr>
        </p:nvSpPr>
        <p:spPr>
          <a:xfrm>
            <a:off x="685800" y="2133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DILEMAS ABIERTOS</a:t>
            </a:r>
            <a:endParaRPr b="0" lang="en-US" sz="4400" spc="-1" strike="noStrike">
              <a:solidFill>
                <a:srgbClr val="000000"/>
              </a:solidFill>
              <a:latin typeface="Times New Roman"/>
            </a:endParaRPr>
          </a:p>
        </p:txBody>
      </p:sp>
      <p:pic>
        <p:nvPicPr>
          <p:cNvPr id="201" name="Picture 4" descr="Dilemmas">
            <a:hlinkClick r:id="rId1"/>
          </p:cNvPr>
          <p:cNvPicPr/>
          <p:nvPr/>
        </p:nvPicPr>
        <p:blipFill>
          <a:blip r:embed="rId2"/>
          <a:stretch/>
        </p:blipFill>
        <p:spPr>
          <a:xfrm>
            <a:off x="1600200" y="3809880"/>
            <a:ext cx="2895480" cy="2170080"/>
          </a:xfrm>
          <a:prstGeom prst="rect">
            <a:avLst/>
          </a:prstGeom>
          <a:ln w="0">
            <a:noFill/>
          </a:ln>
        </p:spPr>
      </p:pic>
      <p:pic>
        <p:nvPicPr>
          <p:cNvPr id="202" name="Picture 6" descr="balanza">
            <a:hlinkClick r:id="rId3"/>
          </p:cNvPr>
          <p:cNvPicPr/>
          <p:nvPr/>
        </p:nvPicPr>
        <p:blipFill>
          <a:blip r:embed="rId4"/>
          <a:stretch/>
        </p:blipFill>
        <p:spPr>
          <a:xfrm>
            <a:off x="5465880" y="3809880"/>
            <a:ext cx="1849320" cy="21337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E4AB1-5D8E-47B9-9202-70BAA43E99D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Rectangle 3"/>
          <p:cNvSpPr/>
          <p:nvPr/>
        </p:nvSpPr>
        <p:spPr>
          <a:xfrm>
            <a:off x="457200" y="593640"/>
            <a:ext cx="8381880" cy="534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838e52"/>
                </a:solidFill>
                <a:latin typeface="Verdana"/>
              </a:rPr>
              <a:t>Dise</a:t>
            </a:r>
            <a:r>
              <a:rPr b="1" lang="es-ES" sz="2000" spc="-1" strike="noStrike">
                <a:solidFill>
                  <a:srgbClr val="838e52"/>
                </a:solidFill>
                <a:latin typeface="Times New Roman"/>
              </a:rPr>
              <a:t>ñ</a:t>
            </a:r>
            <a:r>
              <a:rPr b="1" lang="es-ES" sz="2000" spc="-1" strike="noStrike">
                <a:solidFill>
                  <a:srgbClr val="838e52"/>
                </a:solidFill>
                <a:latin typeface="Verdana"/>
              </a:rPr>
              <a:t>o de la Estrategia:</a:t>
            </a:r>
            <a:r>
              <a:rPr b="1" lang="es-MX" sz="2000" spc="-1" strike="noStrike">
                <a:solidFill>
                  <a:srgbClr val="838e52"/>
                </a:solidFill>
                <a:latin typeface="Verdana"/>
              </a:rPr>
              <a:t> </a:t>
            </a:r>
            <a:r>
              <a:rPr b="1" lang="es-ES" sz="2000" spc="-1" strike="noStrike">
                <a:solidFill>
                  <a:srgbClr val="838e52"/>
                </a:solidFill>
                <a:latin typeface="Verdana"/>
              </a:rPr>
              <a:t>dilemas abierto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1. </a:t>
            </a:r>
            <a:r>
              <a:rPr b="0" lang="es-ES" sz="2000" spc="-1" strike="noStrike">
                <a:solidFill>
                  <a:srgbClr val="231f20"/>
                </a:solidFill>
                <a:latin typeface="Times New Roman"/>
              </a:rPr>
              <a:t>¿</a:t>
            </a:r>
            <a:r>
              <a:rPr b="0" lang="es-ES" sz="2000" spc="-1" strike="noStrike">
                <a:solidFill>
                  <a:srgbClr val="231f20"/>
                </a:solidFill>
                <a:latin typeface="Verdana"/>
              </a:rPr>
              <a:t>Cu</a:t>
            </a:r>
            <a:r>
              <a:rPr b="0" lang="es-ES" sz="2000" spc="-1" strike="noStrike">
                <a:solidFill>
                  <a:srgbClr val="231f20"/>
                </a:solidFill>
                <a:latin typeface="Times New Roman"/>
              </a:rPr>
              <a:t>á</a:t>
            </a:r>
            <a:r>
              <a:rPr b="0" lang="es-ES" sz="2000" spc="-1" strike="noStrike">
                <a:solidFill>
                  <a:srgbClr val="231f20"/>
                </a:solidFill>
                <a:latin typeface="Verdana"/>
              </a:rPr>
              <a:t>n compleja o simp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2. </a:t>
            </a:r>
            <a:r>
              <a:rPr b="0" lang="es-ES" sz="2000" spc="-1" strike="noStrike">
                <a:solidFill>
                  <a:srgbClr val="231f20"/>
                </a:solidFill>
                <a:latin typeface="Times New Roman"/>
              </a:rPr>
              <a:t>¿</a:t>
            </a:r>
            <a:r>
              <a:rPr b="0" lang="es-ES" sz="2000" spc="-1" strike="noStrike">
                <a:solidFill>
                  <a:srgbClr val="231f20"/>
                </a:solidFill>
                <a:latin typeface="Verdana"/>
              </a:rPr>
              <a:t>Cu</a:t>
            </a:r>
            <a:r>
              <a:rPr b="0" lang="es-ES" sz="2000" spc="-1" strike="noStrike">
                <a:solidFill>
                  <a:srgbClr val="231f20"/>
                </a:solidFill>
                <a:latin typeface="Times New Roman"/>
              </a:rPr>
              <a:t>á</a:t>
            </a:r>
            <a:r>
              <a:rPr b="0" lang="es-ES" sz="2000" spc="-1" strike="noStrike">
                <a:solidFill>
                  <a:srgbClr val="231f20"/>
                </a:solidFill>
                <a:latin typeface="Verdana"/>
              </a:rPr>
              <a:t>nta integraci</a:t>
            </a:r>
            <a:r>
              <a:rPr b="0" lang="es-ES" sz="2000" spc="-1" strike="noStrike">
                <a:solidFill>
                  <a:srgbClr val="231f20"/>
                </a:solidFill>
                <a:latin typeface="Times New Roman"/>
              </a:rPr>
              <a:t>ó</a:t>
            </a:r>
            <a:r>
              <a:rPr b="0" lang="es-ES" sz="2000" spc="-1" strike="noStrike">
                <a:solidFill>
                  <a:srgbClr val="231f20"/>
                </a:solidFill>
                <a:latin typeface="Verdana"/>
              </a:rPr>
              <a:t>n de las diversas</a:t>
            </a:r>
            <a:r>
              <a:rPr b="0" lang="es-MX" sz="2000" spc="-1" strike="noStrike">
                <a:solidFill>
                  <a:srgbClr val="231f20"/>
                </a:solidFill>
                <a:latin typeface="Verdana"/>
              </a:rPr>
              <a:t> </a:t>
            </a:r>
            <a:r>
              <a:rPr b="0" lang="es-ES" sz="2000" spc="-1" strike="noStrike">
                <a:solidFill>
                  <a:srgbClr val="231f20"/>
                </a:solidFill>
                <a:latin typeface="Verdana"/>
              </a:rPr>
              <a:t>perspectiv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3. </a:t>
            </a:r>
            <a:r>
              <a:rPr b="0" lang="es-ES" sz="2000" spc="-1" strike="noStrike">
                <a:solidFill>
                  <a:srgbClr val="231f20"/>
                </a:solidFill>
                <a:latin typeface="Times New Roman"/>
              </a:rPr>
              <a:t>¿</a:t>
            </a:r>
            <a:r>
              <a:rPr b="0" lang="es-ES" sz="2000" spc="-1" strike="noStrike">
                <a:solidFill>
                  <a:srgbClr val="231f20"/>
                </a:solidFill>
                <a:latin typeface="Verdana"/>
              </a:rPr>
              <a:t>Cu</a:t>
            </a:r>
            <a:r>
              <a:rPr b="0" lang="es-ES" sz="2000" spc="-1" strike="noStrike">
                <a:solidFill>
                  <a:srgbClr val="231f20"/>
                </a:solidFill>
                <a:latin typeface="Times New Roman"/>
              </a:rPr>
              <a:t>á</a:t>
            </a:r>
            <a:r>
              <a:rPr b="0" lang="es-ES" sz="2000" spc="-1" strike="noStrike">
                <a:solidFill>
                  <a:srgbClr val="231f20"/>
                </a:solidFill>
                <a:latin typeface="Verdana"/>
              </a:rPr>
              <a:t>n gen</a:t>
            </a:r>
            <a:r>
              <a:rPr b="0" lang="es-ES" sz="2000" spc="-1" strike="noStrike">
                <a:solidFill>
                  <a:srgbClr val="231f20"/>
                </a:solidFill>
                <a:latin typeface="Times New Roman"/>
              </a:rPr>
              <a:t>é</a:t>
            </a:r>
            <a:r>
              <a:rPr b="0" lang="es-ES" sz="2000" spc="-1" strike="noStrike">
                <a:solidFill>
                  <a:srgbClr val="231f20"/>
                </a:solidFill>
                <a:latin typeface="Verdana"/>
              </a:rPr>
              <a:t>rica u origin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4. </a:t>
            </a:r>
            <a:r>
              <a:rPr b="0" lang="es-ES" sz="2000" spc="-1" strike="noStrike">
                <a:solidFill>
                  <a:srgbClr val="231f20"/>
                </a:solidFill>
                <a:latin typeface="Times New Roman"/>
              </a:rPr>
              <a:t>¿</a:t>
            </a:r>
            <a:r>
              <a:rPr b="0" lang="es-ES" sz="2000" spc="-1" strike="noStrike">
                <a:solidFill>
                  <a:srgbClr val="231f20"/>
                </a:solidFill>
                <a:latin typeface="Verdana"/>
              </a:rPr>
              <a:t>Qu</a:t>
            </a:r>
            <a:r>
              <a:rPr b="0" lang="es-ES" sz="2000" spc="-1" strike="noStrike">
                <a:solidFill>
                  <a:srgbClr val="231f20"/>
                </a:solidFill>
                <a:latin typeface="Times New Roman"/>
              </a:rPr>
              <a:t>é</a:t>
            </a:r>
            <a:r>
              <a:rPr b="0" lang="es-ES" sz="2000" spc="-1" strike="noStrike">
                <a:solidFill>
                  <a:srgbClr val="231f20"/>
                </a:solidFill>
                <a:latin typeface="Verdana"/>
              </a:rPr>
              <a:t> foco a nivel de negocios: costos,</a:t>
            </a:r>
            <a:r>
              <a:rPr b="0" lang="es-MX" sz="2000" spc="-1" strike="noStrike">
                <a:solidFill>
                  <a:srgbClr val="231f20"/>
                </a:solidFill>
                <a:latin typeface="Verdana"/>
              </a:rPr>
              <a:t> </a:t>
            </a:r>
            <a:r>
              <a:rPr b="0" lang="es-ES" sz="2000" spc="-1" strike="noStrike">
                <a:solidFill>
                  <a:srgbClr val="231f20"/>
                </a:solidFill>
                <a:latin typeface="Verdana"/>
              </a:rPr>
              <a:t>diferenciaci</a:t>
            </a:r>
            <a:r>
              <a:rPr b="0" lang="es-ES" sz="2000" spc="-1" strike="noStrike">
                <a:solidFill>
                  <a:srgbClr val="231f20"/>
                </a:solidFill>
                <a:latin typeface="Times New Roman"/>
              </a:rPr>
              <a:t>ó</a:t>
            </a:r>
            <a:r>
              <a:rPr b="0" lang="es-ES" sz="2000" spc="-1" strike="noStrike">
                <a:solidFill>
                  <a:srgbClr val="231f20"/>
                </a:solidFill>
                <a:latin typeface="Verdana"/>
              </a:rPr>
              <a:t>n o enganche con </a:t>
            </a:r>
            <a:r>
              <a:rPr b="0" lang="es-MX" sz="2000" spc="-1" strike="noStrike">
                <a:solidFill>
                  <a:srgbClr val="231f20"/>
                </a:solidFill>
                <a:latin typeface="Verdana"/>
              </a:rPr>
              <a:t>c</a:t>
            </a:r>
            <a:r>
              <a:rPr b="0" lang="es-ES" sz="2000" spc="-1" strike="noStrike">
                <a:solidFill>
                  <a:srgbClr val="231f20"/>
                </a:solidFill>
                <a:latin typeface="Verdana"/>
              </a:rPr>
              <a:t>omplementador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5. </a:t>
            </a:r>
            <a:r>
              <a:rPr b="0" lang="es-ES" sz="2000" spc="-1" strike="noStrike">
                <a:solidFill>
                  <a:srgbClr val="231f20"/>
                </a:solidFill>
                <a:latin typeface="Times New Roman"/>
              </a:rPr>
              <a:t>¿</a:t>
            </a:r>
            <a:r>
              <a:rPr b="0" lang="es-ES" sz="2000" spc="-1" strike="noStrike">
                <a:solidFill>
                  <a:srgbClr val="231f20"/>
                </a:solidFill>
                <a:latin typeface="Verdana"/>
              </a:rPr>
              <a:t>Cu</a:t>
            </a:r>
            <a:r>
              <a:rPr b="0" lang="es-ES" sz="2000" spc="-1" strike="noStrike">
                <a:solidFill>
                  <a:srgbClr val="231f20"/>
                </a:solidFill>
                <a:latin typeface="Times New Roman"/>
              </a:rPr>
              <a:t>á</a:t>
            </a:r>
            <a:r>
              <a:rPr b="0" lang="es-ES" sz="2000" spc="-1" strike="noStrike">
                <a:solidFill>
                  <a:srgbClr val="231f20"/>
                </a:solidFill>
                <a:latin typeface="Verdana"/>
              </a:rPr>
              <a:t>nto control o espontaneidad?</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6. </a:t>
            </a:r>
            <a:r>
              <a:rPr b="0" lang="es-ES" sz="2000" spc="-1" strike="noStrike">
                <a:solidFill>
                  <a:srgbClr val="231f20"/>
                </a:solidFill>
                <a:latin typeface="Times New Roman"/>
              </a:rPr>
              <a:t>¿</a:t>
            </a:r>
            <a:r>
              <a:rPr b="0" lang="es-ES" sz="2000" spc="-1" strike="noStrike">
                <a:solidFill>
                  <a:srgbClr val="231f20"/>
                </a:solidFill>
                <a:latin typeface="Verdana"/>
              </a:rPr>
              <a:t>El dise</a:t>
            </a:r>
            <a:r>
              <a:rPr b="0" lang="es-ES" sz="2000" spc="-1" strike="noStrike">
                <a:solidFill>
                  <a:srgbClr val="231f20"/>
                </a:solidFill>
                <a:latin typeface="Times New Roman"/>
              </a:rPr>
              <a:t>ñ</a:t>
            </a:r>
            <a:r>
              <a:rPr b="0" lang="es-ES" sz="2000" spc="-1" strike="noStrike">
                <a:solidFill>
                  <a:srgbClr val="231f20"/>
                </a:solidFill>
                <a:latin typeface="Verdana"/>
              </a:rPr>
              <a:t>o es colectivo o individua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7. </a:t>
            </a:r>
            <a:r>
              <a:rPr b="0" lang="es-ES" sz="2000" spc="-1" strike="noStrike">
                <a:solidFill>
                  <a:srgbClr val="231f20"/>
                </a:solidFill>
                <a:latin typeface="Times New Roman"/>
              </a:rPr>
              <a:t>¿</a:t>
            </a:r>
            <a:r>
              <a:rPr b="0" lang="es-ES" sz="2000" spc="-1" strike="noStrike">
                <a:solidFill>
                  <a:srgbClr val="231f20"/>
                </a:solidFill>
                <a:latin typeface="Verdana"/>
              </a:rPr>
              <a:t>Qu</a:t>
            </a:r>
            <a:r>
              <a:rPr b="0" lang="es-ES" sz="2000" spc="-1" strike="noStrike">
                <a:solidFill>
                  <a:srgbClr val="231f20"/>
                </a:solidFill>
                <a:latin typeface="Times New Roman"/>
              </a:rPr>
              <a:t>é</a:t>
            </a:r>
            <a:r>
              <a:rPr b="0" lang="es-ES" sz="2000" spc="-1" strike="noStrike">
                <a:solidFill>
                  <a:srgbClr val="231f20"/>
                </a:solidFill>
                <a:latin typeface="Verdana"/>
              </a:rPr>
              <a:t> ritmo de cambi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8. </a:t>
            </a:r>
            <a:r>
              <a:rPr b="0" lang="es-ES" sz="2000" spc="-1" strike="noStrike">
                <a:solidFill>
                  <a:srgbClr val="231f20"/>
                </a:solidFill>
                <a:latin typeface="Times New Roman"/>
              </a:rPr>
              <a:t>¿</a:t>
            </a:r>
            <a:r>
              <a:rPr b="0" lang="es-ES" sz="2000" spc="-1" strike="noStrike">
                <a:solidFill>
                  <a:srgbClr val="231f20"/>
                </a:solidFill>
                <a:latin typeface="Verdana"/>
              </a:rPr>
              <a:t>Cu</a:t>
            </a:r>
            <a:r>
              <a:rPr b="0" lang="es-ES" sz="2000" spc="-1" strike="noStrike">
                <a:solidFill>
                  <a:srgbClr val="231f20"/>
                </a:solidFill>
                <a:latin typeface="Times New Roman"/>
              </a:rPr>
              <a:t>á</a:t>
            </a:r>
            <a:r>
              <a:rPr b="0" lang="es-ES" sz="2000" spc="-1" strike="noStrike">
                <a:solidFill>
                  <a:srgbClr val="231f20"/>
                </a:solidFill>
                <a:latin typeface="Verdana"/>
              </a:rPr>
              <a:t>nta decisi</a:t>
            </a:r>
            <a:r>
              <a:rPr b="0" lang="es-ES" sz="2000" spc="-1" strike="noStrike">
                <a:solidFill>
                  <a:srgbClr val="231f20"/>
                </a:solidFill>
                <a:latin typeface="Times New Roman"/>
              </a:rPr>
              <a:t>ó</a:t>
            </a:r>
            <a:r>
              <a:rPr b="0" lang="es-ES" sz="2000" spc="-1" strike="noStrike">
                <a:solidFill>
                  <a:srgbClr val="231f20"/>
                </a:solidFill>
                <a:latin typeface="Verdana"/>
              </a:rPr>
              <a:t>n del l</a:t>
            </a:r>
            <a:r>
              <a:rPr b="0" lang="es-ES" sz="2000" spc="-1" strike="noStrike">
                <a:solidFill>
                  <a:srgbClr val="231f20"/>
                </a:solidFill>
                <a:latin typeface="Times New Roman"/>
              </a:rPr>
              <a:t>í</a:t>
            </a:r>
            <a:r>
              <a:rPr b="0" lang="es-ES" sz="2000" spc="-1" strike="noStrike">
                <a:solidFill>
                  <a:srgbClr val="231f20"/>
                </a:solidFill>
                <a:latin typeface="Verdana"/>
              </a:rPr>
              <a:t>der o del grupo?</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9. </a:t>
            </a:r>
            <a:r>
              <a:rPr b="0" lang="es-ES" sz="2000" spc="-1" strike="noStrike">
                <a:solidFill>
                  <a:srgbClr val="231f20"/>
                </a:solidFill>
                <a:latin typeface="Times New Roman"/>
              </a:rPr>
              <a:t>¿</a:t>
            </a:r>
            <a:r>
              <a:rPr b="0" lang="es-ES" sz="2000" spc="-1" strike="noStrike">
                <a:solidFill>
                  <a:srgbClr val="231f20"/>
                </a:solidFill>
                <a:latin typeface="Verdana"/>
              </a:rPr>
              <a:t>Cu</a:t>
            </a:r>
            <a:r>
              <a:rPr b="0" lang="es-ES" sz="2000" spc="-1" strike="noStrike">
                <a:solidFill>
                  <a:srgbClr val="231f20"/>
                </a:solidFill>
                <a:latin typeface="Times New Roman"/>
              </a:rPr>
              <a:t>á</a:t>
            </a:r>
            <a:r>
              <a:rPr b="0" lang="es-ES" sz="2000" spc="-1" strike="noStrike">
                <a:solidFill>
                  <a:srgbClr val="231f20"/>
                </a:solidFill>
                <a:latin typeface="Verdana"/>
              </a:rPr>
              <a:t>ndo dejar de pensar y comenzar</a:t>
            </a:r>
            <a:r>
              <a:rPr b="0" lang="es-MX" sz="2000" spc="-1" strike="noStrike">
                <a:solidFill>
                  <a:srgbClr val="231f20"/>
                </a:solidFill>
                <a:latin typeface="Verdana"/>
              </a:rPr>
              <a:t> </a:t>
            </a:r>
            <a:r>
              <a:rPr b="0" lang="es-ES" sz="2000" spc="-1" strike="noStrike">
                <a:solidFill>
                  <a:srgbClr val="231f20"/>
                </a:solidFill>
                <a:latin typeface="Verdana"/>
              </a:rPr>
              <a:t>a actu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231f20"/>
                </a:solidFill>
                <a:latin typeface="Verdana"/>
              </a:rPr>
              <a:t> </a:t>
            </a:r>
            <a:r>
              <a:rPr b="0" lang="es-ES" sz="2000" spc="-1" strike="noStrike">
                <a:solidFill>
                  <a:srgbClr val="231f20"/>
                </a:solidFill>
                <a:latin typeface="Verdana"/>
              </a:rPr>
              <a:t>10. </a:t>
            </a:r>
            <a:r>
              <a:rPr b="0" lang="es-ES" sz="2000" spc="-1" strike="noStrike">
                <a:solidFill>
                  <a:srgbClr val="231f20"/>
                </a:solidFill>
                <a:latin typeface="Times New Roman"/>
              </a:rPr>
              <a:t>¿</a:t>
            </a:r>
            <a:r>
              <a:rPr b="0" lang="es-ES" sz="2000" spc="-1" strike="noStrike">
                <a:solidFill>
                  <a:srgbClr val="231f20"/>
                </a:solidFill>
                <a:latin typeface="Verdana"/>
              </a:rPr>
              <a:t>Qu</a:t>
            </a:r>
            <a:r>
              <a:rPr b="0" lang="es-ES" sz="2000" spc="-1" strike="noStrike">
                <a:solidFill>
                  <a:srgbClr val="231f20"/>
                </a:solidFill>
                <a:latin typeface="Times New Roman"/>
              </a:rPr>
              <a:t>é</a:t>
            </a:r>
            <a:r>
              <a:rPr b="0" lang="es-ES" sz="2000" spc="-1" strike="noStrike">
                <a:solidFill>
                  <a:srgbClr val="231f20"/>
                </a:solidFill>
                <a:latin typeface="Verdana"/>
              </a:rPr>
              <a:t> horizonte de tiempo considerar:</a:t>
            </a:r>
            <a:r>
              <a:rPr b="0" lang="es-MX" sz="2000" spc="-1" strike="noStrike">
                <a:solidFill>
                  <a:srgbClr val="231f20"/>
                </a:solidFill>
                <a:latin typeface="Verdana"/>
              </a:rPr>
              <a:t> </a:t>
            </a:r>
            <a:r>
              <a:rPr b="0" lang="es-ES" sz="2000" spc="-1" strike="noStrike">
                <a:solidFill>
                  <a:srgbClr val="231f20"/>
                </a:solidFill>
                <a:latin typeface="Verdana"/>
              </a:rPr>
              <a:t>corto o largo </a:t>
            </a:r>
            <a:r>
              <a:rPr b="0" lang="es-MX" sz="2000" spc="-1" strike="noStrike">
                <a:solidFill>
                  <a:srgbClr val="231f20"/>
                </a:solidFill>
                <a:latin typeface="Verdana"/>
              </a:rPr>
              <a:t>p</a:t>
            </a:r>
            <a:r>
              <a:rPr b="0" lang="es-ES" sz="2000" spc="-1" strike="noStrike">
                <a:solidFill>
                  <a:srgbClr val="231f20"/>
                </a:solidFill>
                <a:latin typeface="Verdana"/>
              </a:rPr>
              <a:t>laz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E084A-F999-4F52-86C6-10FDA07AA09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1599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RINCIPALES EXPONENTES DE LA ADMINISTRACIÓN</a:t>
            </a:r>
            <a:br>
              <a:rPr sz="4400"/>
            </a:br>
            <a:br>
              <a:rPr sz="4400"/>
            </a:br>
            <a:r>
              <a:rPr b="0" lang="es-MX" sz="2800" spc="-1" strike="noStrike">
                <a:solidFill>
                  <a:srgbClr val="000000"/>
                </a:solidFill>
                <a:latin typeface="Times New Roman"/>
              </a:rPr>
              <a:t>Desde inicios de la era industrial (1767)</a:t>
            </a:r>
            <a:br>
              <a:rPr sz="2800"/>
            </a:br>
            <a:r>
              <a:rPr b="0" lang="es-MX" sz="2800" spc="-1" strike="noStrike">
                <a:solidFill>
                  <a:srgbClr val="000000"/>
                </a:solidFill>
                <a:latin typeface="Times New Roman"/>
              </a:rPr>
              <a:t>hasta inicios de la administración científica (1915)</a:t>
            </a:r>
            <a:endParaRPr b="0" lang="en-US" sz="2800" spc="-1" strike="noStrike">
              <a:solidFill>
                <a:srgbClr val="000000"/>
              </a:solidFill>
              <a:latin typeface="Times New Roman"/>
            </a:endParaRPr>
          </a:p>
        </p:txBody>
      </p:sp>
      <p:pic>
        <p:nvPicPr>
          <p:cNvPr id="207" name="Picture 1028" descr="old_boys_in_top_hats_25k">
            <a:hlinkClick r:id="rId1"/>
          </p:cNvPr>
          <p:cNvPicPr/>
          <p:nvPr/>
        </p:nvPicPr>
        <p:blipFill>
          <a:blip r:embed="rId2"/>
          <a:stretch/>
        </p:blipFill>
        <p:spPr>
          <a:xfrm>
            <a:off x="1749600" y="4267080"/>
            <a:ext cx="1285560" cy="1752840"/>
          </a:xfrm>
          <a:prstGeom prst="rect">
            <a:avLst/>
          </a:prstGeom>
          <a:ln w="0">
            <a:noFill/>
          </a:ln>
        </p:spPr>
      </p:pic>
      <p:pic>
        <p:nvPicPr>
          <p:cNvPr id="208" name="Picture 1030" descr="image021">
            <a:hlinkClick r:id="rId3"/>
          </p:cNvPr>
          <p:cNvPicPr/>
          <p:nvPr/>
        </p:nvPicPr>
        <p:blipFill>
          <a:blip r:embed="rId4"/>
          <a:stretch/>
        </p:blipFill>
        <p:spPr>
          <a:xfrm>
            <a:off x="3035160" y="4267080"/>
            <a:ext cx="1227240" cy="1752840"/>
          </a:xfrm>
          <a:prstGeom prst="rect">
            <a:avLst/>
          </a:prstGeom>
          <a:ln w="0">
            <a:noFill/>
          </a:ln>
        </p:spPr>
      </p:pic>
      <p:pic>
        <p:nvPicPr>
          <p:cNvPr id="209" name="Picture 1032" descr="frederick_taylor">
            <a:hlinkClick r:id="rId5"/>
          </p:cNvPr>
          <p:cNvPicPr/>
          <p:nvPr/>
        </p:nvPicPr>
        <p:blipFill>
          <a:blip r:embed="rId6"/>
          <a:stretch/>
        </p:blipFill>
        <p:spPr>
          <a:xfrm>
            <a:off x="4254480" y="4267080"/>
            <a:ext cx="1182600" cy="1752840"/>
          </a:xfrm>
          <a:prstGeom prst="rect">
            <a:avLst/>
          </a:prstGeom>
          <a:ln w="0">
            <a:noFill/>
          </a:ln>
        </p:spPr>
      </p:pic>
      <p:pic>
        <p:nvPicPr>
          <p:cNvPr id="210" name="Picture 1034" descr="Smith">
            <a:hlinkClick r:id="rId7"/>
          </p:cNvPr>
          <p:cNvPicPr/>
          <p:nvPr/>
        </p:nvPicPr>
        <p:blipFill>
          <a:blip r:embed="rId8"/>
          <a:stretch/>
        </p:blipFill>
        <p:spPr>
          <a:xfrm>
            <a:off x="5397480" y="4267080"/>
            <a:ext cx="1536840" cy="1752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CA858-C775-44A5-9A34-0240C23934B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12" name=""/>
          <p:cNvGraphicFramePr/>
          <p:nvPr/>
        </p:nvGraphicFramePr>
        <p:xfrm>
          <a:off x="228600" y="787320"/>
          <a:ext cx="8610480" cy="5537160"/>
        </p:xfrm>
        <a:graphic>
          <a:graphicData uri="http://schemas.openxmlformats.org/drawingml/2006/table">
            <a:tbl>
              <a:tblPr/>
              <a:tblGrid>
                <a:gridCol w="1436760"/>
                <a:gridCol w="736560"/>
                <a:gridCol w="6437160"/>
              </a:tblGrid>
              <a:tr h="49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rson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echa</a:t>
                      </a:r>
                      <a:endParaRPr b="0" lang="en-US" sz="14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or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ibucio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ir James Steuar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7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oría de la fuente de autoridad; impacto de la automatizació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dam Smith</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77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plicación del principio de especialización a los trabajadores manufactureros. Conceptos sobre control-cómputo de devolucion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i Whitney</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79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étodo científico, uso de la contabilidad de costos y control de calidad. Aplicó el concepto de partes intercambiables. Reconocimiento del campo de la administració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James Watt; </a:t>
                      </a:r>
                      <a:r>
                        <a:rPr b="0" lang="es-MX" sz="1400" spc="-1" strike="noStrike">
                          <a:solidFill>
                            <a:srgbClr val="000000"/>
                          </a:solidFill>
                          <a:latin typeface="Times New Roman"/>
                        </a:rPr>
                        <a:t>Matthew Boult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80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dimientos de operación; especificaciones; método de trabajo; salarios incentivos; tiempos normales; reuniones y gratificaciones navideñas de empleados; sociedades mutualistas de seguros para empleados. Auditorias.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7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obert Owe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8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Necesidad de relaciones de personal; responsabilidad en adiestrar a los trabajadores; construcción de conjuntos de casas limpias para trabajador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7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James Mil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82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nálisis y síntesis de movimientos human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harles Babba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83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Énfasis en el enfoque científico; énfasis en la especialización; división del trabajo; estudio de tiempos y movimientos; contabilidad de costos; efectos de los colores sobre la eficiencia del emplead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3" name="Text Box 40"/>
          <p:cNvSpPr/>
          <p:nvPr/>
        </p:nvSpPr>
        <p:spPr>
          <a:xfrm>
            <a:off x="1814400" y="152280"/>
            <a:ext cx="580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icios de la Administración Era Industr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E7DCE-DEC9-4224-A791-B154B8D635B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15" name=""/>
          <p:cNvGraphicFramePr/>
          <p:nvPr/>
        </p:nvGraphicFramePr>
        <p:xfrm>
          <a:off x="228600" y="787320"/>
          <a:ext cx="8610480" cy="5645160"/>
        </p:xfrm>
        <a:graphic>
          <a:graphicData uri="http://schemas.openxmlformats.org/drawingml/2006/table">
            <a:tbl>
              <a:tblPr/>
              <a:tblGrid>
                <a:gridCol w="1436760"/>
                <a:gridCol w="736560"/>
                <a:gridCol w="6437160"/>
              </a:tblGrid>
              <a:tr h="55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ersona</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Fecha</a:t>
                      </a:r>
                      <a:endParaRPr b="0" lang="en-US" sz="1600" spc="-1" strike="noStrike">
                        <a:solidFill>
                          <a:srgbClr val="000000"/>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Apor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Contribucione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lfred Marshal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83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Reconocimiento y discusión sobre la función de administra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John S.Mil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85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Campo del control; unidad de mando; especialización-división del trabajo; salarios incentivo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Daniel McCallu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85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Uso del organigrama para mostrar estrucctura de la administra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William Jev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87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udio de movimientos y diferentes herramientas; estudios de fatig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Joseph Whart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88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stableció a nivel universitario un curso de administración de negocio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Frederick Taylo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19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dministración científica; aplicación de sistemas; manejo de personal; cooperación entre trabajo y administración; salarios altos; organización industrial; principio de delegación aplicado al marketing; sistema de costos; estudio de métodos; estudio de tiempos; definición de administración científica; énfasis sobre tareas del gerente; énfasis en la investigación, modelos, control y cooperació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6" name="Text Box 40"/>
          <p:cNvSpPr/>
          <p:nvPr/>
        </p:nvSpPr>
        <p:spPr>
          <a:xfrm>
            <a:off x="1814400" y="152280"/>
            <a:ext cx="580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icios de la Administración Era Industr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8C80-03C0-4411-BAE7-0B6CAC48F68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Rectangle 2"/>
          <p:cNvSpPr/>
          <p:nvPr/>
        </p:nvSpPr>
        <p:spPr>
          <a:xfrm>
            <a:off x="762120" y="533520"/>
            <a:ext cx="7696080" cy="6653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1.</a:t>
            </a:r>
            <a:r>
              <a:rPr b="1" lang="es-ES" sz="2400" spc="-1" strike="noStrike">
                <a:solidFill>
                  <a:srgbClr val="000000"/>
                </a:solidFill>
                <a:latin typeface="Tahoma"/>
              </a:rPr>
              <a:t>  </a:t>
            </a:r>
            <a:r>
              <a:rPr b="1" lang="es-ES" sz="2400" spc="-1" strike="noStrike">
                <a:solidFill>
                  <a:srgbClr val="000000"/>
                </a:solidFill>
                <a:latin typeface="Tahoma"/>
                <a:ea typeface="Tahoma"/>
              </a:rPr>
              <a:t>La escuela del diseño. </a:t>
            </a:r>
            <a:endParaRPr b="0" lang="en-US" sz="2400" spc="-1" strike="noStrike">
              <a:solidFill>
                <a:srgbClr val="000000"/>
              </a:solidFill>
              <a:latin typeface="Times New Roman"/>
            </a:endParaRPr>
          </a:p>
          <a:p>
            <a:pPr algn="ctr">
              <a:lnSpc>
                <a:spcPct val="100000"/>
              </a:lnSpc>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b2b2b2"/>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Limitaciones: La simplificación puede distorsionar la realidad. La estrategia tiene muchas variables y es intrínsecamente complejo. Desvía el aprendizaje. Es inflexible. Débil en ambientes que cambian rápido. Existe el riesgo a la resistencia (comportamiento: no inventado aquí). </a:t>
            </a:r>
            <a:endParaRPr b="0" lang="en-US" sz="2400" spc="-1" strike="noStrike">
              <a:solidFill>
                <a:srgbClr val="000000"/>
              </a:solidFill>
              <a:latin typeface="Times New Roman"/>
            </a:endParaRPr>
          </a:p>
          <a:p>
            <a:pPr lvl="1" marL="457200">
              <a:lnSpc>
                <a:spcPct val="100000"/>
              </a:lnSpc>
              <a:buClr>
                <a:srgbClr val="b2b2b2"/>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Tahoma"/>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Ejemplos: </a:t>
            </a:r>
            <a:endParaRPr b="0" lang="en-US" sz="2400" spc="-1" strike="noStrike">
              <a:solidFill>
                <a:srgbClr val="000000"/>
              </a:solidFill>
              <a:latin typeface="Times New Roman"/>
            </a:endParaRPr>
          </a:p>
          <a:p>
            <a:pPr lvl="2" marL="914400">
              <a:lnSpc>
                <a:spcPct val="100000"/>
              </a:lnSpc>
              <a:buClr>
                <a:srgbClr val="000000"/>
              </a:buClr>
              <a:buFont typeface="Tahoma"/>
              <a:buChar char="•"/>
              <a:tabLst>
                <a:tab algn="l" pos="4478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SWOT Analysis (Análisis F.O.D.A.) </a:t>
            </a:r>
            <a:endParaRPr b="0" lang="en-US" sz="2400" spc="-1" strike="noStrike">
              <a:solidFill>
                <a:srgbClr val="000000"/>
              </a:solidFill>
              <a:latin typeface="Times New Roman"/>
            </a:endParaRPr>
          </a:p>
          <a:p>
            <a:pPr lvl="3" marL="1371600">
              <a:lnSpc>
                <a:spcPct val="100000"/>
              </a:lnSpc>
              <a:buClr>
                <a:srgbClr val="000000"/>
              </a:buClr>
              <a:buFont typeface="Tahoma"/>
              <a:buChar char="•"/>
              <a:tabLst>
                <a:tab algn="l" pos="44784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u="sng">
                <a:solidFill>
                  <a:srgbClr val="ccccff"/>
                </a:solidFill>
                <a:uFillTx/>
                <a:latin typeface="Tahoma"/>
                <a:ea typeface="Times New Roman"/>
                <a:hlinkClick r:id="rId1"/>
              </a:rPr>
              <a:t>http://www.12manage.com/methods_swot_analysis_es.html</a:t>
            </a:r>
            <a:endParaRPr b="0" lang="en-US" sz="1400" spc="-1" strike="noStrike">
              <a:solidFill>
                <a:srgbClr val="000000"/>
              </a:solidFill>
              <a:latin typeface="Times New Roman"/>
            </a:endParaRPr>
          </a:p>
          <a:p>
            <a:pPr lvl="2" marL="914400">
              <a:lnSpc>
                <a:spcPct val="100000"/>
              </a:lnSpc>
              <a:buClr>
                <a:srgbClr val="000000"/>
              </a:buClr>
              <a:buFont typeface="Tahoma"/>
              <a:buChar char="•"/>
              <a:tabLst>
                <a:tab algn="l" pos="44784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imes New Roman"/>
              </a:rPr>
              <a:t> </a:t>
            </a:r>
            <a:r>
              <a:rPr b="0" lang="es-ES" sz="2400" spc="-1" strike="noStrike">
                <a:solidFill>
                  <a:srgbClr val="000000"/>
                </a:solidFill>
                <a:latin typeface="Tahoma"/>
                <a:ea typeface="Times New Roman"/>
              </a:rPr>
              <a:t>Ashridge Mission Model (Modelo Ashridge de </a:t>
            </a:r>
            <a:r>
              <a:rPr b="0" lang="es-MX" sz="2400" spc="-1" strike="noStrike">
                <a:solidFill>
                  <a:srgbClr val="000000"/>
                </a:solidFill>
                <a:latin typeface="Tahoma"/>
                <a:ea typeface="Times New Roman"/>
              </a:rPr>
              <a:t>         </a:t>
            </a:r>
            <a:r>
              <a:rPr b="0" lang="es-ES" sz="2400" spc="-1" strike="noStrike">
                <a:solidFill>
                  <a:srgbClr val="000000"/>
                </a:solidFill>
                <a:latin typeface="Tahoma"/>
                <a:ea typeface="Times New Roman"/>
              </a:rPr>
              <a:t>reforzamiento de la Misión Empresarial)</a:t>
            </a:r>
            <a:endParaRPr b="0" lang="en-US" sz="2400" spc="-1" strike="noStrike">
              <a:solidFill>
                <a:srgbClr val="000000"/>
              </a:solidFill>
              <a:latin typeface="Times New Roman"/>
            </a:endParaRPr>
          </a:p>
          <a:p>
            <a:pPr lvl="3" marL="1371600">
              <a:lnSpc>
                <a:spcPct val="100000"/>
              </a:lnSpc>
              <a:buClr>
                <a:srgbClr val="000000"/>
              </a:buClr>
              <a:buFont typeface="Tahoma"/>
              <a:buChar char="•"/>
              <a:tabLst>
                <a:tab algn="l" pos="44784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ccccff"/>
                </a:solidFill>
                <a:uFillTx/>
                <a:latin typeface="Tahoma"/>
                <a:ea typeface="Times New Roman"/>
                <a:hlinkClick r:id="rId2"/>
              </a:rPr>
              <a:t>http://www.12manage.com/methods_campbell_ashridge_mission_model_es.html</a:t>
            </a:r>
            <a:endParaRPr b="0" lang="en-US" sz="1200" spc="-1" strike="noStrike">
              <a:solidFill>
                <a:srgbClr val="000000"/>
              </a:solidFill>
              <a:latin typeface="Times New Roman"/>
            </a:endParaRPr>
          </a:p>
          <a:p>
            <a:pPr lvl="2" marL="914400">
              <a:lnSpc>
                <a:spcPct val="100000"/>
              </a:lnSpc>
              <a:buClr>
                <a:srgbClr val="000000"/>
              </a:buClr>
              <a:buFont typeface="Tahoma"/>
              <a:buChar char="•"/>
              <a:tabLst>
                <a:tab algn="l" pos="44784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4428-ED24-4574-9C85-2BBEB960CEE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218" name=""/>
          <p:cNvGraphicFramePr/>
          <p:nvPr/>
        </p:nvGraphicFramePr>
        <p:xfrm>
          <a:off x="228600" y="609480"/>
          <a:ext cx="8610480" cy="6010560"/>
        </p:xfrm>
        <a:graphic>
          <a:graphicData uri="http://schemas.openxmlformats.org/drawingml/2006/table">
            <a:tbl>
              <a:tblPr/>
              <a:tblGrid>
                <a:gridCol w="1436760"/>
                <a:gridCol w="736560"/>
                <a:gridCol w="6437160"/>
              </a:tblGrid>
              <a:tr h="49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erson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Fecha</a:t>
                      </a:r>
                      <a:endParaRPr b="0" lang="en-US" sz="14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or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ibucio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enry L Gant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9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La grafica de Gantt. Humanitarismo en el trato y pago de los empleados. Enseñanza y adiestramiento de empleados. El servicio como objetiv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ax Web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9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Teoría de la burocracia: trabajos elementales, autoridad jerarquizada, reglas que definen responsabilidad del individuo, dirigente ideal: racional; empleado protegido de despido injustificado; no corrupció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Walter Dill Scot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9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plicación de la psicología a la motivación y productividad de los empleados. Aplicación de la psicología a la publicidad y a la administración de pers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go Munsterberg</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9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reación del campo de la psicología industrial. Iniciación de un sistema de pruebas y medidas de las diferencias psicológicas entre los empleado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arrington Emers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9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Un enfoque más amplio sobre la estructura organizacional y su importancia. Énfasis sobre los objetivos de la empresa y su relación con la organización. Énfaisis en la utilización de expertos: personal staff, consultores, etc. Principios de la eficiencia (12) </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arlow S. Pers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9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nocimiento académico de la administración científica. Énfasis en el campo total de la administración, elevandolo de un movimiento dedicacdo al cronometraje y al aumento de la rapidez.</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enri Fayo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191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ncepto de la universalidad de la administración. Primera teoría comprensiva de la administración.Necesidad de enseñar administración en escuelas y universidad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6"/>
          <p:cNvSpPr/>
          <p:nvPr/>
        </p:nvSpPr>
        <p:spPr>
          <a:xfrm>
            <a:off x="1812960" y="152280"/>
            <a:ext cx="52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icios de la Administración Científ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68FEB-04AC-4AAF-AD9C-7ADF007EFDF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Rectangle 2"/>
          <p:cNvSpPr/>
          <p:nvPr/>
        </p:nvSpPr>
        <p:spPr>
          <a:xfrm>
            <a:off x="228600" y="152280"/>
            <a:ext cx="8763120" cy="343620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La escuela del planeamiento.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formal. </a:t>
            </a: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Propuesta: Se toma un grupo de rigurosas medidas, a partir del análisis de la situación hasta la ejecución de la estrategia.</a:t>
            </a:r>
            <a:endParaRPr b="0" lang="en-US" sz="2400" spc="-1" strike="noStrike">
              <a:solidFill>
                <a:srgbClr val="000000"/>
              </a:solidFill>
              <a:latin typeface="Times New Roman"/>
            </a:endParaRPr>
          </a:p>
        </p:txBody>
      </p:sp>
      <p:pic>
        <p:nvPicPr>
          <p:cNvPr id="67" name="Picture 4" descr="ihs%2520action%2520planning%2520part%25202%2520copyright%2520fobes%2520davidson">
            <a:hlinkClick r:id="rId1"/>
          </p:cNvPr>
          <p:cNvPicPr/>
          <p:nvPr/>
        </p:nvPicPr>
        <p:blipFill>
          <a:blip r:embed="rId2"/>
          <a:stretch/>
        </p:blipFill>
        <p:spPr>
          <a:xfrm>
            <a:off x="3124080" y="4038480"/>
            <a:ext cx="2819520" cy="219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D3301-54FA-4048-B2E1-ECBD6E44EB3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Rectangle 2"/>
          <p:cNvSpPr/>
          <p:nvPr/>
        </p:nvSpPr>
        <p:spPr>
          <a:xfrm>
            <a:off x="228600" y="152280"/>
            <a:ext cx="8763120" cy="4167720"/>
          </a:xfrm>
          <a:prstGeom prst="rect">
            <a:avLst/>
          </a:prstGeom>
          <a:noFill/>
          <a:ln w="0">
            <a:noFill/>
          </a:ln>
        </p:spPr>
        <p:style>
          <a:lnRef idx="0"/>
          <a:fillRef idx="0"/>
          <a:effectRef idx="0"/>
          <a:fontRef idx="minor"/>
        </p:style>
        <p:txBody>
          <a:bodyPr lIns="90000" rIns="90000" tIns="46800" bIns="46800" anchor="t">
            <a:spAutoFit/>
          </a:bodyPr>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ahoma"/>
              </a:rPr>
              <a:t>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ea typeface="Tahoma"/>
              </a:rPr>
              <a:t>La escuela del planeamiento. </a:t>
            </a:r>
            <a:endParaRPr b="0" lang="en-US" sz="2400" spc="-1" strike="noStrike">
              <a:solidFill>
                <a:srgbClr val="000000"/>
              </a:solidFill>
              <a:latin typeface="Times New Roman"/>
            </a:endParaRPr>
          </a:p>
          <a:p>
            <a:pPr marL="455760" indent="-455760" algn="ctr">
              <a:lnSpc>
                <a:spcPct val="100000"/>
              </a:lnSpc>
              <a:buClr>
                <a:srgbClr val="000000"/>
              </a:buClr>
              <a:buFont typeface="Tahoma"/>
              <a:buAutoNum type="arabicPeriod" startAt="2"/>
              <a:tabLst>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ahoma"/>
                <a:ea typeface="Tahoma"/>
              </a:rPr>
              <a:t>         </a:t>
            </a:r>
            <a:r>
              <a:rPr b="0" lang="es-ES" sz="2400" spc="-1" strike="noStrike">
                <a:solidFill>
                  <a:srgbClr val="000000"/>
                </a:solidFill>
                <a:latin typeface="Tahoma"/>
                <a:ea typeface="Tahoma"/>
              </a:rPr>
              <a:t>Esta escuela ve la formación de la estrategia como un proceso formal. </a:t>
            </a:r>
            <a:endParaRPr b="0" lang="en-US" sz="2400" spc="-1" strike="noStrike">
              <a:solidFill>
                <a:srgbClr val="000000"/>
              </a:solidFill>
              <a:latin typeface="Times New Roman"/>
            </a:endParaRPr>
          </a:p>
          <a:p>
            <a:pPr marL="455760" indent="-455760">
              <a:lnSpc>
                <a:spcPct val="100000"/>
              </a:lnSpc>
              <a:tabLst>
                <a:tab algn="l" pos="0"/>
                <a:tab algn="l" pos="677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b2b2b2"/>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b2b2b2"/>
                </a:solidFill>
                <a:latin typeface="Tahoma"/>
                <a:ea typeface="Times New Roman"/>
              </a:rPr>
              <a:t>Propuesta: Se toma un grupo de rigurosas medidas, a partir del análisis de la situación hasta la ejecución de la estrategia.</a:t>
            </a:r>
            <a:endParaRPr b="0" lang="en-US" sz="2400" spc="-1" strike="noStrike">
              <a:solidFill>
                <a:srgbClr val="000000"/>
              </a:solidFill>
              <a:latin typeface="Times New Roman"/>
            </a:endParaRPr>
          </a:p>
          <a:p>
            <a:pPr lvl="1" marL="914400" indent="-457200">
              <a:lnSpc>
                <a:spcPct val="100000"/>
              </a:lnSpc>
              <a:buClr>
                <a:srgbClr val="000000"/>
              </a:buClr>
              <a:buFont typeface="Tahoma"/>
              <a:buChar char="•"/>
              <a:tabLst>
                <a:tab algn="l" pos="67788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ea typeface="Times New Roman"/>
              </a:rPr>
              <a:t>Base: Planeamiento urbano, teoría del sistema, cibernética.</a:t>
            </a:r>
            <a:endParaRPr b="0" lang="en-US" sz="2400" spc="-1" strike="noStrike">
              <a:solidFill>
                <a:srgbClr val="000000"/>
              </a:solidFill>
              <a:latin typeface="Times New Roman"/>
            </a:endParaRPr>
          </a:p>
        </p:txBody>
      </p:sp>
      <p:pic>
        <p:nvPicPr>
          <p:cNvPr id="70" name="Picture 4" descr="untergmas900w">
            <a:hlinkClick r:id="rId1"/>
          </p:cNvPr>
          <p:cNvPicPr/>
          <p:nvPr/>
        </p:nvPicPr>
        <p:blipFill>
          <a:blip r:embed="rId2"/>
          <a:stretch/>
        </p:blipFill>
        <p:spPr>
          <a:xfrm>
            <a:off x="1828800" y="4952880"/>
            <a:ext cx="2133720" cy="1322640"/>
          </a:xfrm>
          <a:prstGeom prst="rect">
            <a:avLst/>
          </a:prstGeom>
          <a:ln w="0">
            <a:noFill/>
          </a:ln>
        </p:spPr>
      </p:pic>
      <p:pic>
        <p:nvPicPr>
          <p:cNvPr id="71" name="Picture 6" descr="dioxin">
            <a:hlinkClick r:id="rId3"/>
          </p:cNvPr>
          <p:cNvPicPr/>
          <p:nvPr/>
        </p:nvPicPr>
        <p:blipFill>
          <a:blip r:embed="rId4"/>
          <a:stretch/>
        </p:blipFill>
        <p:spPr>
          <a:xfrm>
            <a:off x="4495680" y="4903920"/>
            <a:ext cx="2667240" cy="149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4T21:35:18Z</dcterms:created>
  <dc:creator>Teodoro Wigodski</dc:creator>
  <dc:description/>
  <dc:language>en-US</dc:language>
  <cp:lastModifiedBy>JORGE LARA</cp:lastModifiedBy>
  <dcterms:modified xsi:type="dcterms:W3CDTF">2010-07-06T00:19:09Z</dcterms:modified>
  <cp:revision>65</cp:revision>
  <dc:subject/>
  <dc:title>Historia del management Descripción de las diez escuelas de pensamiento según Mintzberg.</dc:title>
</cp:coreProperties>
</file>