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9.jpeg" ContentType="image/jpeg"/>
  <Override PartName="/ppt/media/image11.jpeg" ContentType="image/jpeg"/>
  <Override PartName="/ppt/media/image23.wmf" ContentType="image/x-wmf"/>
  <Override PartName="/ppt/media/image7.wmf" ContentType="image/x-wmf"/>
  <Override PartName="/ppt/media/image6.wmf" ContentType="image/x-wmf"/>
  <Override PartName="/ppt/media/image12.jpeg" ContentType="image/jpeg"/>
  <Override PartName="/ppt/media/image10.wmf" ContentType="image/x-wmf"/>
  <Override PartName="/ppt/media/image5.wmf" ContentType="image/x-wmf"/>
  <Override PartName="/ppt/media/image3.wmf" ContentType="image/x-wmf"/>
  <Override PartName="/ppt/media/image15.jpeg" ContentType="image/jpeg"/>
  <Override PartName="/ppt/media/image24.wmf" ContentType="image/x-wmf"/>
  <Override PartName="/ppt/media/image22.wmf" ContentType="image/x-wmf"/>
  <Override PartName="/ppt/media/image1.jpeg" ContentType="image/jpeg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4.jpeg" ContentType="image/jpeg"/>
  <Override PartName="/ppt/media/image16.wmf" ContentType="image/x-wmf"/>
  <Override PartName="/ppt/media/image25.wmf" ContentType="image/x-wmf"/>
  <Override PartName="/ppt/media/image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4D492-9FBE-4080-9DE5-355D69B3581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A2684-43B5-402A-BFA4-CD92175FF47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387CD-0511-43DA-9D51-0F28C7240CA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E081F-9041-4B1D-A93F-E1C3944F2DB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5EC12-3B15-4EE6-9E89-90AD781C92F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1584B-3CD1-403C-9970-AABA128E6E0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D6342-0192-4CE3-A68B-3BD2353D8AC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4D3B8-EDF9-4125-943F-D52237204EB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93B9E-DD87-4909-937F-17F76A48806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44A0C-4A4C-431A-AE99-BAC49AA7FE6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65C58-4227-4499-9EA3-EC5A8EDF287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8FA1D-225C-48B9-AC3E-9F7353C566E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CC39F-1023-4B89-B01D-BA4B976DD9E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155B0-9137-4F26-9AAA-7D134A9478C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78627-8ACA-43DE-BE33-CDB51C247CB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4D0DC-4932-45D8-883E-731E271B259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47A66-1FC5-42D2-89B3-AA2EFF944BC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97645-FD75-4F23-867C-88F79C9EF0C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134EA-DEBC-4E6A-9FED-1D0516C267B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21B3C-6A7B-4A89-A605-27396245129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9E8FE-056D-4161-B9B1-67F44F4DD0F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8950A-D158-46D9-BECD-F399F6D8D83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F8F54-3F4E-4FCB-96D5-492C8F91AE8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97D31-9E33-4516-B2EE-780CB358E45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BE04B-1140-407A-BD45-6A7817C9951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CD592-EBFD-4C10-8E66-32F78663BD8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1F1B9-1ECD-4ED0-8ABD-E0D2262441A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649C6-2C6E-45D5-9839-95B4575E385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04D0D-35DB-4C0C-B243-ED18AA66078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64B36-2E9F-4E7C-A015-3BEB3138CAA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E978D-82AF-4044-BFF4-3DCB51F9C38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C0BD0-E14A-492F-9A1A-83A5FFD25A4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6FCFC-7A90-473C-BC85-FA3A4D2E00D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CB81A-0570-452A-BB65-23EEAD94BF8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89D92-2C32-4115-9FEF-E453B7CB74A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E5922-F395-45A3-9A25-A459669A493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25117-F0F6-4203-BE7C-A4FE9FC753E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0F465-8D41-4D97-ABA0-E8CE669D443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E4F9-AECF-42B3-BF1F-3DB237F80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CBFE-F36D-41A5-9C1E-4DAE8F769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EEAB-54B8-429F-8029-5702ECDB8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8D7B-21DD-4A57-9FAC-865008671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3F73-631D-48BA-A447-0BBA0C13F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8F8A-9C36-4C25-B1B1-4BFE9F97A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845A-4535-44E9-914E-AA2C848D1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D7D4-3391-4B5D-B20B-5151E32A1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0232-8A37-45BB-9CBD-9B1C480C9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E1E1-1E21-4370-9A53-B68DA343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B01D-7452-4FCA-8C18-917E990D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BA38-2FA5-41AE-8732-004B7905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E442E-8E23-4B11-AB46-9BE4191B2F4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ii.uchile.cl/index.php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awtoothsoftware.com/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Arial"/>
              </a:rPr>
              <a:t>MEDICIÓN DE PREFER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3635280" y="458136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Máximo Bosch 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_ne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260280"/>
            <a:ext cx="3672000" cy="8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33cc"/>
                </a:solidFill>
                <a:latin typeface="Arial"/>
              </a:rPr>
              <a:t>Val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1108080" y="2217600"/>
            <a:ext cx="6862680" cy="20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000" rIns="45000" tIns="18000" bIns="18000" anchor="t">
            <a:spAutoFit/>
          </a:bodyPr>
          <a:p>
            <a:pPr marL="324000" indent="-324000">
              <a:lnSpc>
                <a:spcPct val="140000"/>
              </a:lnSpc>
              <a:spcAft>
                <a:spcPts val="1500"/>
              </a:spcAft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 comprar el comprador siempre tiene la expectativa de aumentar su bienestar, es decir , la compra le genera expectativas de VAL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46440" bIns="46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EL VALOR PARA EL CONSUMID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820800" y="1676520"/>
            <a:ext cx="7500960" cy="46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000" rIns="45000" tIns="18000" bIns="18000" anchor="t">
            <a:spAutoFit/>
          </a:bodyPr>
          <a:p>
            <a:pPr marL="324000" indent="-324000">
              <a:lnSpc>
                <a:spcPct val="100000"/>
              </a:lnSpc>
              <a:spcAft>
                <a:spcPts val="1749"/>
              </a:spcAft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 Valor proviene de beneficios y costo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323640">
              <a:lnSpc>
                <a:spcPct val="80000"/>
              </a:lnSpc>
              <a:spcAft>
                <a:spcPts val="1749"/>
              </a:spcAft>
              <a:buClr>
                <a:srgbClr val="000000"/>
              </a:buClr>
              <a:buFont typeface="Comic Sans MS"/>
              <a:buChar char="•"/>
              <a:tabLst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tisfacción de una Necesid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323640">
              <a:lnSpc>
                <a:spcPct val="80000"/>
              </a:lnSpc>
              <a:spcAft>
                <a:spcPts val="1749"/>
              </a:spcAft>
              <a:buClr>
                <a:srgbClr val="000000"/>
              </a:buClr>
              <a:buFont typeface="Comic Sans MS"/>
              <a:buChar char="•"/>
              <a:tabLst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 “gusto” de comp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323640">
              <a:lnSpc>
                <a:spcPct val="80000"/>
              </a:lnSpc>
              <a:spcAft>
                <a:spcPts val="1749"/>
              </a:spcAft>
              <a:buClr>
                <a:srgbClr val="000000"/>
              </a:buClr>
              <a:buFont typeface="Comic Sans MS"/>
              <a:buChar char="•"/>
              <a:tabLst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 “costo” de comprar (tiempo,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323640">
              <a:lnSpc>
                <a:spcPct val="80000"/>
              </a:lnSpc>
              <a:spcAft>
                <a:spcPts val="1749"/>
              </a:spcAft>
              <a:buClr>
                <a:srgbClr val="000000"/>
              </a:buClr>
              <a:buFont typeface="Comic Sans MS"/>
              <a:buChar char="•"/>
              <a:tabLst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 pre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323640">
              <a:lnSpc>
                <a:spcPct val="80000"/>
              </a:lnSpc>
              <a:spcAft>
                <a:spcPts val="1749"/>
              </a:spcAft>
              <a:buClr>
                <a:srgbClr val="000000"/>
              </a:buClr>
              <a:buFont typeface="Comic Sans MS"/>
              <a:buChar char="•"/>
              <a:tabLst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 costo de cambia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32364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Font typeface="Comic Sans MS"/>
              <a:buChar char="•"/>
              <a:tabLst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5640" indent="-32400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Font typeface="Comic Sans MS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46440" bIns="46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EL VALOR PARA EL CONSUMID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533520" y="1676520"/>
            <a:ext cx="7500960" cy="44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000" rIns="45000" tIns="18000" bIns="18000" anchor="t">
            <a:spAutoFit/>
          </a:bodyPr>
          <a:p>
            <a:pPr lvl="2" marL="1187280" indent="-323640">
              <a:lnSpc>
                <a:spcPct val="130000"/>
              </a:lnSpc>
              <a:spcAft>
                <a:spcPts val="1500"/>
              </a:spcAft>
              <a:buClr>
                <a:srgbClr val="000000"/>
              </a:buClr>
              <a:buFont typeface="Comic Sans MS"/>
              <a:buChar char="•"/>
              <a:tabLst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idea es que el consumidor se decidirá por la alternativa que le de más VAL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323640">
              <a:lnSpc>
                <a:spcPct val="130000"/>
              </a:lnSpc>
              <a:spcAft>
                <a:spcPts val="1500"/>
              </a:spcAft>
              <a:buClr>
                <a:srgbClr val="000000"/>
              </a:buClr>
              <a:buFont typeface="Comic Sans MS"/>
              <a:buChar char="•"/>
              <a:tabLst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alternativa de referencia es siempre NO HACER NADA. Esta tiene Valor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323640">
              <a:lnSpc>
                <a:spcPct val="130000"/>
              </a:lnSpc>
              <a:spcAft>
                <a:spcPts val="1500"/>
              </a:spcAft>
              <a:buClr>
                <a:srgbClr val="000000"/>
              </a:buClr>
              <a:buFont typeface="Comic Sans MS"/>
              <a:buChar char="•"/>
              <a:tabLst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tonces, la Voluntad a Pagar, la Sensibilidad al precio, dependen del Valor que le da cada alterna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5640" indent="-324000">
              <a:lnSpc>
                <a:spcPct val="130000"/>
              </a:lnSpc>
              <a:spcAft>
                <a:spcPts val="1500"/>
              </a:spcAft>
              <a:buClr>
                <a:srgbClr val="000000"/>
              </a:buClr>
              <a:buFont typeface="Comic Sans MS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46440" bIns="46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EL VALOR PARA EL CONSUMID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939960" y="1643040"/>
            <a:ext cx="6864120" cy="51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000" rIns="45000" tIns="18000" bIns="18000" anchor="t">
            <a:spAutoFit/>
          </a:bodyPr>
          <a:p>
            <a:pPr marL="324000" indent="-324000">
              <a:lnSpc>
                <a:spcPct val="120000"/>
              </a:lnSpc>
              <a:spcAft>
                <a:spcPts val="1500"/>
              </a:spcAft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20000"/>
              </a:lnSpc>
              <a:spcAft>
                <a:spcPts val="1500"/>
              </a:spcAft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 decir, no sólo podemos actuar sobre el precio, pero también debemos buscar formas que aumenten la percepción de valor  que nuestro producto/servicio le da al compr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20000"/>
              </a:lnSpc>
              <a:spcAft>
                <a:spcPts val="1500"/>
              </a:spcAft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 aqui donde técnicas como Análisis Conjunto proveen de importante inform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20000"/>
              </a:lnSpc>
              <a:spcAft>
                <a:spcPts val="1500"/>
              </a:spcAft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20000"/>
              </a:lnSpc>
              <a:spcAft>
                <a:spcPts val="1500"/>
              </a:spcAft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46440" bIns="46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EL VALOR PARA EL CONSUMID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44995-9D01-441B-8776-BD1B98B9458D}" type="datetime">
              <a:rPr b="0" lang="es-ES" sz="14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IN 69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C31F5-3222-49BA-996A-3A48A273F6E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Análisis del mercado inmobiliario basado en una segmentación por val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618920" y="5200560"/>
            <a:ext cx="5977080" cy="16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               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Felipe Stitchkin T.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                     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IN 69F Trabajo de Titu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                   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. Guía: Máximo Bo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troduc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bje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Justific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etodolog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nálisis Conju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colección de inform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iseño de encuest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sult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mbios en los hábitos de consumo de proyectos inmobiliari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¿Qué busca el consumidor Actual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cisión del consumidor: Percepción sobre un conjunto de atribu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Necesidad por saber que busca el consumi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Los inversionistas buscan retornos rápidos sobre su inversión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Obje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319480"/>
            <a:ext cx="8229600" cy="38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alizar una segmentación del mercado inmobiliario para grupos socioeconómicos C2 y C3, en proyectos tipo edificio de departamentos, basado en una configuración de valor respecto de sus atributo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isi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sawtoothsoftwar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539640" y="260280"/>
            <a:ext cx="6912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ahoma"/>
              </a:rPr>
              <a:t>Edificio San </a:t>
            </a:r>
            <a:r>
              <a:rPr b="1" lang="es-ES_tradnl" sz="3900" spc="-1" strike="noStrike">
                <a:solidFill>
                  <a:srgbClr val="000000"/>
                </a:solidFill>
                <a:latin typeface="Tahoma"/>
              </a:rPr>
              <a:t>Isidro</a:t>
            </a:r>
            <a:r>
              <a:rPr b="1" lang="es-ES_tradnl" sz="4000" spc="-1" strike="noStrike">
                <a:solidFill>
                  <a:srgbClr val="000000"/>
                </a:solidFill>
                <a:latin typeface="Tahoma"/>
              </a:rPr>
              <a:t>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5303880" y="536400"/>
            <a:ext cx="31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4233960" y="800280"/>
            <a:ext cx="31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4231800" y="1062000"/>
            <a:ext cx="7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776160" y="1341360"/>
            <a:ext cx="1230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Direc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1695600" y="1325520"/>
            <a:ext cx="7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2035440" y="1325520"/>
            <a:ext cx="7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2135520" y="1341360"/>
            <a:ext cx="75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2597400" y="1325520"/>
            <a:ext cx="7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2301480" y="1341360"/>
            <a:ext cx="186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San Isidro 37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4096080" y="1325520"/>
            <a:ext cx="7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997200" y="1587600"/>
            <a:ext cx="7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4"/>
          <p:cNvSpPr/>
          <p:nvPr/>
        </p:nvSpPr>
        <p:spPr>
          <a:xfrm>
            <a:off x="1516320" y="1587600"/>
            <a:ext cx="7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5"/>
          <p:cNvSpPr/>
          <p:nvPr/>
        </p:nvSpPr>
        <p:spPr>
          <a:xfrm>
            <a:off x="2035440" y="1587600"/>
            <a:ext cx="7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6"/>
          <p:cNvSpPr/>
          <p:nvPr/>
        </p:nvSpPr>
        <p:spPr>
          <a:xfrm>
            <a:off x="2554560" y="1587600"/>
            <a:ext cx="7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7"/>
          <p:cNvSpPr/>
          <p:nvPr/>
        </p:nvSpPr>
        <p:spPr>
          <a:xfrm>
            <a:off x="2267280" y="1700280"/>
            <a:ext cx="2117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Santiago Cent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8"/>
          <p:cNvSpPr/>
          <p:nvPr/>
        </p:nvSpPr>
        <p:spPr>
          <a:xfrm>
            <a:off x="4213440" y="1587600"/>
            <a:ext cx="7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9"/>
          <p:cNvSpPr/>
          <p:nvPr/>
        </p:nvSpPr>
        <p:spPr>
          <a:xfrm>
            <a:off x="1636920" y="1851120"/>
            <a:ext cx="7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0"/>
          <p:cNvSpPr/>
          <p:nvPr/>
        </p:nvSpPr>
        <p:spPr>
          <a:xfrm>
            <a:off x="2035440" y="1851120"/>
            <a:ext cx="7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1"/>
          <p:cNvSpPr/>
          <p:nvPr/>
        </p:nvSpPr>
        <p:spPr>
          <a:xfrm>
            <a:off x="2597400" y="1851120"/>
            <a:ext cx="7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2"/>
          <p:cNvSpPr/>
          <p:nvPr/>
        </p:nvSpPr>
        <p:spPr>
          <a:xfrm>
            <a:off x="3689640" y="1851120"/>
            <a:ext cx="7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3"/>
          <p:cNvSpPr/>
          <p:nvPr/>
        </p:nvSpPr>
        <p:spPr>
          <a:xfrm>
            <a:off x="5107320" y="2376360"/>
            <a:ext cx="7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4"/>
          <p:cNvSpPr/>
          <p:nvPr/>
        </p:nvSpPr>
        <p:spPr>
          <a:xfrm>
            <a:off x="850680" y="2205000"/>
            <a:ext cx="1344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ROY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5"/>
          <p:cNvSpPr/>
          <p:nvPr/>
        </p:nvSpPr>
        <p:spPr>
          <a:xfrm>
            <a:off x="1991880" y="2901960"/>
            <a:ext cx="7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6"/>
          <p:cNvSpPr/>
          <p:nvPr/>
        </p:nvSpPr>
        <p:spPr>
          <a:xfrm>
            <a:off x="711720" y="2708280"/>
            <a:ext cx="424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dificio de 18 pisos con 3 subterráne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7"/>
          <p:cNvSpPr/>
          <p:nvPr/>
        </p:nvSpPr>
        <p:spPr>
          <a:xfrm>
            <a:off x="3814920" y="3164040"/>
            <a:ext cx="7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8"/>
          <p:cNvSpPr/>
          <p:nvPr/>
        </p:nvSpPr>
        <p:spPr>
          <a:xfrm>
            <a:off x="995040" y="3429000"/>
            <a:ext cx="7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9"/>
          <p:cNvSpPr/>
          <p:nvPr/>
        </p:nvSpPr>
        <p:spPr>
          <a:xfrm>
            <a:off x="853200" y="3141720"/>
            <a:ext cx="2239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EPARTAM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0"/>
          <p:cNvSpPr/>
          <p:nvPr/>
        </p:nvSpPr>
        <p:spPr>
          <a:xfrm>
            <a:off x="2603520" y="354636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1"/>
          <p:cNvSpPr/>
          <p:nvPr/>
        </p:nvSpPr>
        <p:spPr>
          <a:xfrm>
            <a:off x="725040" y="3645000"/>
            <a:ext cx="414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partamentos de  1 y 2  dormitori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2"/>
          <p:cNvSpPr/>
          <p:nvPr/>
        </p:nvSpPr>
        <p:spPr>
          <a:xfrm>
            <a:off x="5455440" y="39546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3"/>
          <p:cNvSpPr/>
          <p:nvPr/>
        </p:nvSpPr>
        <p:spPr>
          <a:xfrm>
            <a:off x="808560" y="4005360"/>
            <a:ext cx="373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ecios desde  1.100 a 2.160 U.F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4"/>
          <p:cNvSpPr/>
          <p:nvPr/>
        </p:nvSpPr>
        <p:spPr>
          <a:xfrm>
            <a:off x="3728160" y="407196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5"/>
          <p:cNvSpPr/>
          <p:nvPr/>
        </p:nvSpPr>
        <p:spPr>
          <a:xfrm>
            <a:off x="804600" y="4365720"/>
            <a:ext cx="129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alor 28.3 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6"/>
          <p:cNvSpPr/>
          <p:nvPr/>
        </p:nvSpPr>
        <p:spPr>
          <a:xfrm>
            <a:off x="2210040" y="4365720"/>
            <a:ext cx="1715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/M2 Promed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7"/>
          <p:cNvSpPr/>
          <p:nvPr/>
        </p:nvSpPr>
        <p:spPr>
          <a:xfrm>
            <a:off x="7020000" y="4797360"/>
            <a:ext cx="372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8"/>
          <p:cNvSpPr/>
          <p:nvPr/>
        </p:nvSpPr>
        <p:spPr>
          <a:xfrm>
            <a:off x="744120" y="4724280"/>
            <a:ext cx="425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alor Estacionamiento : UF 225-235-2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9"/>
          <p:cNvSpPr/>
          <p:nvPr/>
        </p:nvSpPr>
        <p:spPr>
          <a:xfrm>
            <a:off x="995040" y="5005440"/>
            <a:ext cx="7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0"/>
          <p:cNvSpPr/>
          <p:nvPr/>
        </p:nvSpPr>
        <p:spPr>
          <a:xfrm>
            <a:off x="909720" y="5229360"/>
            <a:ext cx="3066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SPECTOS DESTAC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1"/>
          <p:cNvSpPr/>
          <p:nvPr/>
        </p:nvSpPr>
        <p:spPr>
          <a:xfrm>
            <a:off x="3249000" y="5267160"/>
            <a:ext cx="7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2"/>
          <p:cNvSpPr/>
          <p:nvPr/>
        </p:nvSpPr>
        <p:spPr>
          <a:xfrm>
            <a:off x="995040" y="5530680"/>
            <a:ext cx="7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3"/>
          <p:cNvSpPr/>
          <p:nvPr/>
        </p:nvSpPr>
        <p:spPr>
          <a:xfrm>
            <a:off x="826920" y="5661000"/>
            <a:ext cx="78854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iscina en último piso, central de lavado y secado, salón de eventos, amplios y luminosos pasillos, estacionamientos para visi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4"/>
          <p:cNvSpPr/>
          <p:nvPr/>
        </p:nvSpPr>
        <p:spPr>
          <a:xfrm>
            <a:off x="6070680" y="5965920"/>
            <a:ext cx="31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5"/>
          <p:cNvSpPr/>
          <p:nvPr/>
        </p:nvSpPr>
        <p:spPr>
          <a:xfrm>
            <a:off x="6706080" y="2075040"/>
            <a:ext cx="7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5303880" y="536400"/>
            <a:ext cx="31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4233960" y="800280"/>
            <a:ext cx="31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4231800" y="1062000"/>
            <a:ext cx="7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776160" y="1341360"/>
            <a:ext cx="1230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Direc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1695600" y="1325520"/>
            <a:ext cx="7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2035440" y="1325520"/>
            <a:ext cx="7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2135520" y="1341360"/>
            <a:ext cx="75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2597400" y="1325520"/>
            <a:ext cx="7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0"/>
          <p:cNvSpPr/>
          <p:nvPr/>
        </p:nvSpPr>
        <p:spPr>
          <a:xfrm>
            <a:off x="2302920" y="1341360"/>
            <a:ext cx="1509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Alvares 32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1"/>
          <p:cNvSpPr/>
          <p:nvPr/>
        </p:nvSpPr>
        <p:spPr>
          <a:xfrm>
            <a:off x="4096080" y="1325520"/>
            <a:ext cx="7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997200" y="1587600"/>
            <a:ext cx="7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1516320" y="1587600"/>
            <a:ext cx="7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4"/>
          <p:cNvSpPr/>
          <p:nvPr/>
        </p:nvSpPr>
        <p:spPr>
          <a:xfrm>
            <a:off x="2035440" y="1587600"/>
            <a:ext cx="7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5"/>
          <p:cNvSpPr/>
          <p:nvPr/>
        </p:nvSpPr>
        <p:spPr>
          <a:xfrm>
            <a:off x="2554560" y="1587600"/>
            <a:ext cx="7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6"/>
          <p:cNvSpPr/>
          <p:nvPr/>
        </p:nvSpPr>
        <p:spPr>
          <a:xfrm>
            <a:off x="2286000" y="1700280"/>
            <a:ext cx="1641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Viña del M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7"/>
          <p:cNvSpPr/>
          <p:nvPr/>
        </p:nvSpPr>
        <p:spPr>
          <a:xfrm>
            <a:off x="4213440" y="1587600"/>
            <a:ext cx="7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8"/>
          <p:cNvSpPr/>
          <p:nvPr/>
        </p:nvSpPr>
        <p:spPr>
          <a:xfrm>
            <a:off x="1636920" y="1851120"/>
            <a:ext cx="7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9"/>
          <p:cNvSpPr/>
          <p:nvPr/>
        </p:nvSpPr>
        <p:spPr>
          <a:xfrm>
            <a:off x="2035440" y="1851120"/>
            <a:ext cx="7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0"/>
          <p:cNvSpPr/>
          <p:nvPr/>
        </p:nvSpPr>
        <p:spPr>
          <a:xfrm>
            <a:off x="2597400" y="1851120"/>
            <a:ext cx="7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1"/>
          <p:cNvSpPr/>
          <p:nvPr/>
        </p:nvSpPr>
        <p:spPr>
          <a:xfrm>
            <a:off x="3689640" y="1851120"/>
            <a:ext cx="7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2"/>
          <p:cNvSpPr/>
          <p:nvPr/>
        </p:nvSpPr>
        <p:spPr>
          <a:xfrm>
            <a:off x="5107320" y="2376360"/>
            <a:ext cx="7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3"/>
          <p:cNvSpPr/>
          <p:nvPr/>
        </p:nvSpPr>
        <p:spPr>
          <a:xfrm>
            <a:off x="850680" y="2205000"/>
            <a:ext cx="1344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ROY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4"/>
          <p:cNvSpPr/>
          <p:nvPr/>
        </p:nvSpPr>
        <p:spPr>
          <a:xfrm>
            <a:off x="1991880" y="2901960"/>
            <a:ext cx="7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5"/>
          <p:cNvSpPr/>
          <p:nvPr/>
        </p:nvSpPr>
        <p:spPr>
          <a:xfrm>
            <a:off x="711720" y="2708280"/>
            <a:ext cx="424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dificio de 15 pisos con 2 subterráne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6"/>
          <p:cNvSpPr/>
          <p:nvPr/>
        </p:nvSpPr>
        <p:spPr>
          <a:xfrm>
            <a:off x="3814920" y="3164040"/>
            <a:ext cx="7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7"/>
          <p:cNvSpPr/>
          <p:nvPr/>
        </p:nvSpPr>
        <p:spPr>
          <a:xfrm>
            <a:off x="995040" y="3429000"/>
            <a:ext cx="7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853200" y="3141720"/>
            <a:ext cx="2239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EPARTAM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2603520" y="354636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>
            <a:off x="725040" y="3645000"/>
            <a:ext cx="414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partamentos de  2 y 3  dormitori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>
            <a:off x="5455440" y="39546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2"/>
          <p:cNvSpPr/>
          <p:nvPr/>
        </p:nvSpPr>
        <p:spPr>
          <a:xfrm>
            <a:off x="803880" y="4005360"/>
            <a:ext cx="367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ecios desde  2000 a 3.300 U.F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3"/>
          <p:cNvSpPr/>
          <p:nvPr/>
        </p:nvSpPr>
        <p:spPr>
          <a:xfrm>
            <a:off x="3728160" y="407196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804600" y="4365720"/>
            <a:ext cx="129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alor 38.7 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2210040" y="4365720"/>
            <a:ext cx="1715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/M2 Promed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7020000" y="4797360"/>
            <a:ext cx="372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747720" y="4724280"/>
            <a:ext cx="3792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alor Estacionamiento : UF 185-2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995040" y="5005440"/>
            <a:ext cx="7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909720" y="5229360"/>
            <a:ext cx="3066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SPECTOS DESTAC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0"/>
          <p:cNvSpPr/>
          <p:nvPr/>
        </p:nvSpPr>
        <p:spPr>
          <a:xfrm>
            <a:off x="3249000" y="5267160"/>
            <a:ext cx="7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1"/>
          <p:cNvSpPr/>
          <p:nvPr/>
        </p:nvSpPr>
        <p:spPr>
          <a:xfrm>
            <a:off x="995040" y="5530680"/>
            <a:ext cx="7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2"/>
          <p:cNvSpPr/>
          <p:nvPr/>
        </p:nvSpPr>
        <p:spPr>
          <a:xfrm>
            <a:off x="826920" y="5661000"/>
            <a:ext cx="7885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iscina, solarium, salón de eventos, gimnasio equip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3"/>
          <p:cNvSpPr/>
          <p:nvPr/>
        </p:nvSpPr>
        <p:spPr>
          <a:xfrm>
            <a:off x="6070680" y="5965920"/>
            <a:ext cx="31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4"/>
          <p:cNvSpPr/>
          <p:nvPr/>
        </p:nvSpPr>
        <p:spPr>
          <a:xfrm>
            <a:off x="6706080" y="2075040"/>
            <a:ext cx="7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468360" y="189000"/>
            <a:ext cx="7543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000000"/>
                </a:solidFill>
                <a:latin typeface="Tahoma"/>
              </a:rPr>
              <a:t>Edificio Álvarez – Viña del Mar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000000"/>
                </a:solidFill>
                <a:latin typeface="Tahoma"/>
              </a:rPr>
              <a:t>Edificio Álvarez – Viña del Mar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3" descr=""/>
          <p:cNvPicPr/>
          <p:nvPr/>
        </p:nvPicPr>
        <p:blipFill>
          <a:blip r:embed="rId1"/>
          <a:stretch/>
        </p:blipFill>
        <p:spPr>
          <a:xfrm>
            <a:off x="395280" y="4365720"/>
            <a:ext cx="5400720" cy="1511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"/>
          <p:cNvPicPr/>
          <p:nvPr/>
        </p:nvPicPr>
        <p:blipFill>
          <a:blip r:embed="rId2"/>
          <a:stretch/>
        </p:blipFill>
        <p:spPr>
          <a:xfrm>
            <a:off x="6300720" y="4314960"/>
            <a:ext cx="1220760" cy="15523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"/>
          <p:cNvPicPr/>
          <p:nvPr/>
        </p:nvPicPr>
        <p:blipFill>
          <a:blip r:embed="rId3"/>
          <a:stretch/>
        </p:blipFill>
        <p:spPr>
          <a:xfrm>
            <a:off x="1332000" y="1341360"/>
            <a:ext cx="539892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Segmentación por Va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cuestas: Análisis Conjunt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paración de pares de atribu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tributos releva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iveles para cada Atribu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untos de encue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gmentos socioeconómicos C2 / C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1 Salas de Ve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5 Comunas de la Región Metropolit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Recolección de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000000"/>
                </a:solidFill>
                <a:latin typeface="Tahoma"/>
              </a:rPr>
              <a:t>Entrevistas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ahoma"/>
              </a:rPr>
              <a:t>Vendedore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ahoma"/>
              </a:rPr>
              <a:t>Consumidore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ahoma"/>
              </a:rPr>
              <a:t>Jefes de Proyecto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000000"/>
                </a:solidFill>
                <a:latin typeface="Tahoma"/>
              </a:rPr>
              <a:t>Focus Group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ahoma"/>
              </a:rPr>
              <a:t>6 Integrante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ahoma"/>
              </a:rPr>
              <a:t>Segmento C2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Atribu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3 Categorí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parta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dific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xter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Departa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3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4392360" cy="22669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dorm edif parque providen"/>
          <p:cNvPicPr/>
          <p:nvPr/>
        </p:nvPicPr>
        <p:blipFill>
          <a:blip r:embed="rId2"/>
          <a:stretch/>
        </p:blipFill>
        <p:spPr>
          <a:xfrm>
            <a:off x="4932360" y="3573360"/>
            <a:ext cx="3960720" cy="26352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living edif parque providen"/>
          <p:cNvPicPr/>
          <p:nvPr/>
        </p:nvPicPr>
        <p:blipFill>
          <a:blip r:embed="rId3"/>
          <a:stretch/>
        </p:blipFill>
        <p:spPr>
          <a:xfrm>
            <a:off x="539640" y="3573360"/>
            <a:ext cx="396108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Edif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4681440" cy="18968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perpectiva 2-2"/>
          <p:cNvPicPr/>
          <p:nvPr/>
        </p:nvPicPr>
        <p:blipFill>
          <a:blip r:embed="rId2"/>
          <a:stretch/>
        </p:blipFill>
        <p:spPr>
          <a:xfrm>
            <a:off x="611280" y="3429000"/>
            <a:ext cx="3889440" cy="27129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sala eventos2"/>
          <p:cNvPicPr/>
          <p:nvPr/>
        </p:nvPicPr>
        <p:blipFill>
          <a:blip r:embed="rId3"/>
          <a:stretch/>
        </p:blipFill>
        <p:spPr>
          <a:xfrm>
            <a:off x="5219640" y="2997360"/>
            <a:ext cx="314316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Extern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2665440" cy="954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perpectiva 1-2"/>
          <p:cNvPicPr/>
          <p:nvPr/>
        </p:nvPicPr>
        <p:blipFill>
          <a:blip r:embed="rId2"/>
          <a:stretch/>
        </p:blipFill>
        <p:spPr>
          <a:xfrm>
            <a:off x="684360" y="3114720"/>
            <a:ext cx="3887640" cy="26906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Presentacion (3)"/>
          <p:cNvPicPr/>
          <p:nvPr/>
        </p:nvPicPr>
        <p:blipFill>
          <a:blip r:embed="rId3"/>
          <a:stretch/>
        </p:blipFill>
        <p:spPr>
          <a:xfrm>
            <a:off x="5607000" y="1916280"/>
            <a:ext cx="237348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Criterios de Sele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ahoma"/>
              </a:rPr>
              <a:t>Los atributos que generan trade-off deben ser parte del estudio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ahoma"/>
              </a:rPr>
              <a:t>Debe existir una relación importante con el precio o gastos comunes, de esta forma se presenta al encuestado un trade-off de atributo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ahoma"/>
              </a:rPr>
              <a:t>Debe existir la posibilidad de generar cambios en un proyecto respecto de un atributo en estudio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ahoma"/>
              </a:rPr>
              <a:t>Se elegirán los más destacados obtenidos en la etapa de recolección y los que la empresa tienen más interés en medi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0000"/>
                </a:solidFill>
                <a:latin typeface="Arial"/>
              </a:rPr>
              <a:t>PREFERENC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preferencia se modela como una función matemática multiatribut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= f (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, ..........., 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forma más usada es la llamad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FUNCIÓN DE VALOR PAR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ahoma"/>
              </a:rPr>
              <a:t>Diseño Encue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0388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 Estud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parta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ranking a prio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1 Dormito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2 Dormito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difici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1 y 2 Dormito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3492360" y="3213000"/>
            <a:ext cx="5472360" cy="12686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"/>
          <p:cNvPicPr/>
          <p:nvPr/>
        </p:nvPicPr>
        <p:blipFill>
          <a:blip r:embed="rId2"/>
          <a:stretch/>
        </p:blipFill>
        <p:spPr>
          <a:xfrm>
            <a:off x="3492360" y="1628640"/>
            <a:ext cx="5472360" cy="12686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"/>
          <p:cNvPicPr/>
          <p:nvPr/>
        </p:nvPicPr>
        <p:blipFill>
          <a:blip r:embed="rId3"/>
          <a:stretch/>
        </p:blipFill>
        <p:spPr>
          <a:xfrm>
            <a:off x="3492360" y="4797360"/>
            <a:ext cx="55436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Diseño Encue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50560" y="2491920"/>
            <a:ext cx="871380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epartamento:   9 preguntas mínim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dificio:              10 preguntas mínim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scala Estableci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efinitiva Preferencia      Cierta Preferencia          Indiferente     Cierta Preferencia        Definitiva Prefere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468360" y="1700280"/>
            <a:ext cx="8209080" cy="459720"/>
          </a:xfrm>
          <a:prstGeom prst="rect">
            <a:avLst/>
          </a:prstGeom>
          <a:solidFill>
            <a:srgbClr val="339966">
              <a:alpha val="22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º de Preguntas = Nº de Niveles – Nº de Atributos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5"/>
          <p:cNvSpPr/>
          <p:nvPr/>
        </p:nvSpPr>
        <p:spPr>
          <a:xfrm>
            <a:off x="1403280" y="4869000"/>
            <a:ext cx="640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6"/>
          <p:cNvSpPr/>
          <p:nvPr/>
        </p:nvSpPr>
        <p:spPr>
          <a:xfrm>
            <a:off x="1258920" y="4797360"/>
            <a:ext cx="1429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7"/>
          <p:cNvSpPr/>
          <p:nvPr/>
        </p:nvSpPr>
        <p:spPr>
          <a:xfrm>
            <a:off x="2987640" y="4797360"/>
            <a:ext cx="1429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8"/>
          <p:cNvSpPr/>
          <p:nvPr/>
        </p:nvSpPr>
        <p:spPr>
          <a:xfrm>
            <a:off x="4572000" y="4797360"/>
            <a:ext cx="1429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9"/>
          <p:cNvSpPr/>
          <p:nvPr/>
        </p:nvSpPr>
        <p:spPr>
          <a:xfrm>
            <a:off x="6012000" y="4797360"/>
            <a:ext cx="1425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0"/>
          <p:cNvSpPr/>
          <p:nvPr/>
        </p:nvSpPr>
        <p:spPr>
          <a:xfrm>
            <a:off x="7812000" y="4797360"/>
            <a:ext cx="1429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Diseño Encue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epartamento 1 y 2 Dormito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0 Pregun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5 de Opción Múltiple: - Eda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                                  </a:t>
            </a: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- Sex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                                  </a:t>
            </a: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- Estad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- Nº Hij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- Equipamiento Edificio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15 comparaciones de pares de atributos.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9760" y="293760"/>
            <a:ext cx="816912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Diseño Encue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2072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dificio 1 y 2 Dormito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0 Pregun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4 de Opción Múltiple: - Eda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                                  </a:t>
            </a: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- Sex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                                  </a:t>
            </a: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- Estad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- Nº Hij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16 comparaciones de pares de atributos.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4"/>
          <p:cNvSpPr/>
          <p:nvPr/>
        </p:nvSpPr>
        <p:spPr>
          <a:xfrm>
            <a:off x="5867280" y="450864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Diseño Encue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6192720" cy="43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9760" y="35712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Encuest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50515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sultad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²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   =&gt;   Consiste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u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8785440" cy="21654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"/>
          <p:cNvPicPr/>
          <p:nvPr/>
        </p:nvPicPr>
        <p:blipFill>
          <a:blip r:embed="rId2"/>
          <a:stretch/>
        </p:blipFill>
        <p:spPr>
          <a:xfrm>
            <a:off x="179280" y="4653000"/>
            <a:ext cx="8785440" cy="1944720"/>
          </a:xfrm>
          <a:prstGeom prst="rect">
            <a:avLst/>
          </a:prstGeom>
          <a:ln w="0">
            <a:noFill/>
          </a:ln>
        </p:spPr>
      </p:pic>
      <p:sp>
        <p:nvSpPr>
          <p:cNvPr id="228" name="Oval 6"/>
          <p:cNvSpPr/>
          <p:nvPr/>
        </p:nvSpPr>
        <p:spPr>
          <a:xfrm>
            <a:off x="2050920" y="2492280"/>
            <a:ext cx="3240360" cy="216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7"/>
          <p:cNvSpPr/>
          <p:nvPr/>
        </p:nvSpPr>
        <p:spPr>
          <a:xfrm>
            <a:off x="5651640" y="2492280"/>
            <a:ext cx="1512720" cy="216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3" descr=""/>
          <p:cNvPicPr/>
          <p:nvPr/>
        </p:nvPicPr>
        <p:blipFill>
          <a:blip r:embed="rId1"/>
          <a:stretch/>
        </p:blipFill>
        <p:spPr>
          <a:xfrm>
            <a:off x="2411280" y="4830840"/>
            <a:ext cx="4038840" cy="11206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4"/>
          <p:cNvSpPr/>
          <p:nvPr/>
        </p:nvSpPr>
        <p:spPr>
          <a:xfrm>
            <a:off x="457200" y="981000"/>
            <a:ext cx="6275520" cy="51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tegoría Edificio 1 y 2 dormito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5" descr=""/>
          <p:cNvPicPr/>
          <p:nvPr/>
        </p:nvPicPr>
        <p:blipFill>
          <a:blip r:embed="rId2"/>
          <a:stretch/>
        </p:blipFill>
        <p:spPr>
          <a:xfrm>
            <a:off x="1403280" y="1655640"/>
            <a:ext cx="6337440" cy="24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Segmento Pisci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3" descr=""/>
          <p:cNvPicPr/>
          <p:nvPr/>
        </p:nvPicPr>
        <p:blipFill>
          <a:blip r:embed="rId1"/>
          <a:stretch/>
        </p:blipFill>
        <p:spPr>
          <a:xfrm>
            <a:off x="1547640" y="1655640"/>
            <a:ext cx="5977080" cy="35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Segmento Gastos Comu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3" descr=""/>
          <p:cNvPicPr/>
          <p:nvPr/>
        </p:nvPicPr>
        <p:blipFill>
          <a:blip r:embed="rId1"/>
          <a:stretch/>
        </p:blipFill>
        <p:spPr>
          <a:xfrm>
            <a:off x="1512720" y="1609560"/>
            <a:ext cx="6120000" cy="36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0000"/>
                </a:solidFill>
                <a:latin typeface="Arial"/>
              </a:rPr>
              <a:t>PREFERENC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7162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37240" indent="-237240" algn="ctr">
              <a:spcBef>
                <a:spcPts val="9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0000"/>
                </a:solidFill>
                <a:latin typeface="Arial"/>
              </a:rPr>
              <a:t>Función de valor parc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724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7240" indent="-237240" algn="ctr">
              <a:spcBef>
                <a:spcPts val="799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s-ES_tradnl" sz="36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s-ES_tradnl" sz="4400" spc="-1" strike="noStrike">
                <a:solidFill>
                  <a:srgbClr val="000000"/>
                </a:solidFill>
                <a:latin typeface="Symbol"/>
                <a:ea typeface="Symbol"/>
              </a:rPr>
              <a:t></a:t>
            </a: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s-ES_tradnl" sz="3600" spc="-1" strike="noStrike" baseline="-25000">
                <a:solidFill>
                  <a:srgbClr val="000000"/>
                </a:solidFill>
                <a:latin typeface="Arial"/>
              </a:rPr>
              <a:t>jk 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36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r>
              <a:rPr b="0" lang="es-ES_tradnl" sz="36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 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7240" indent="-2372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36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r>
              <a:rPr b="0" lang="es-ES_tradnl" sz="3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 si el atributo j está presente al nivel k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 el producto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7240" indent="-237240">
              <a:spcBef>
                <a:spcPts val="799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0 en caso contrari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7240" indent="-2372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s-ES_tradnl" sz="3600" spc="-1" strike="noStrike" baseline="-25000">
                <a:solidFill>
                  <a:srgbClr val="000000"/>
                </a:solidFill>
                <a:latin typeface="Arial"/>
              </a:rPr>
              <a:t>jk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mportancia relativa del nivel k del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tributo 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92240" y="0"/>
            <a:ext cx="80517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0000"/>
                </a:solidFill>
                <a:latin typeface="Arial"/>
              </a:rPr>
              <a:t>Ejemplos de Atributos y Nive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1752480" y="1143000"/>
            <a:ext cx="6553440" cy="53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amaño de un envase de café solu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990033"/>
                </a:solidFill>
                <a:latin typeface="Comic Sans MS"/>
              </a:rPr>
              <a:t>150 gr         200 gr      300 g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embolso Ambulato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990033"/>
                </a:solidFill>
                <a:latin typeface="Comic Sans MS"/>
              </a:rPr>
              <a:t>85%          70%          6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po de A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990033"/>
                </a:solidFill>
                <a:latin typeface="Comic Sans MS"/>
              </a:rPr>
              <a:t>100 w        500 w       1000 w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380880" y="0"/>
            <a:ext cx="8077320" cy="10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po de A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s-ES_tradnl" sz="2800" spc="-1" strike="noStrike">
                <a:solidFill>
                  <a:srgbClr val="990033"/>
                </a:solidFill>
                <a:latin typeface="Comic Sans MS"/>
              </a:rPr>
              <a:t>100 w        500 w       1000 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457200" y="1447920"/>
            <a:ext cx="79246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upongamos que mi “utilidad” o “preferencia” por tener 500 w en lugar de 100 w es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y supongamos que mi utilidad por tener 1000 w en lugar de 100 es 4 entonces mi función de utilidad parcial respecto a la potencia 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4"/>
          <p:cNvGraphicFramePr/>
          <p:nvPr/>
        </p:nvGraphicFramePr>
        <p:xfrm>
          <a:off x="2819520" y="3505320"/>
          <a:ext cx="3124080" cy="228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3505320"/>
                    <a:ext cx="31240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0" y="380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3"/>
          <p:cNvGraphicFramePr/>
          <p:nvPr/>
        </p:nvGraphicFramePr>
        <p:xfrm>
          <a:off x="228600" y="990720"/>
          <a:ext cx="8534520" cy="518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0720"/>
                    <a:ext cx="853452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Text Box 4"/>
          <p:cNvSpPr/>
          <p:nvPr/>
        </p:nvSpPr>
        <p:spPr>
          <a:xfrm>
            <a:off x="457200" y="3808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unción de Utilidad Parcial por el Atributo “Potenci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685800" y="304920"/>
            <a:ext cx="739152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estimación de estas funciones se realiza mediante técnicas estadíst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recolección de datos se realiza medi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ANÁLISIS CONJU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Análisis Conjunto requiere que el sujeto evalúe objetos en forma holís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o por atrib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producto 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0" y="0"/>
            <a:ext cx="8763120" cy="55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da sujeto recibe un conjunto de PERFILES que debe evaluar en alguna escala, muchas veces RANK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Ejemplo de Perfi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so Comput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putador A       300 MHZ,  256 Mb RAM, $750.000, Marca 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putador B       600 MHZ,  128 Mb RAM, $545.000, Marca 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putador C        450 MHZ, 128 Mb RAM, $490.000, Marca 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putador D        700MHZ,  64 Mb RAM,   $510.000, Cl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3T18:06:00Z</dcterms:created>
  <dc:creator>academico</dc:creator>
  <dc:description/>
  <dc:language>en-US</dc:language>
  <cp:lastModifiedBy>Usuario</cp:lastModifiedBy>
  <dcterms:modified xsi:type="dcterms:W3CDTF">2010-04-23T17:43:27Z</dcterms:modified>
  <cp:revision>8</cp:revision>
  <dc:subject/>
  <dc:title>MEDICIÓN DE PREFERENCIAS</dc:title>
</cp:coreProperties>
</file>