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A94DFF-82E6-4091-8580-C85D13125E2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1A0355-3010-44CB-8349-699B0B59696A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A85-3DDF-4BF5-BDD0-BC823653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BB1-66AA-4CAB-9BE8-9352C582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AC7-E6D9-404E-B386-4EF0F3CD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557-F4C4-4BDA-A149-83D764AE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BBD2-6AD5-4D95-B5D8-4360A406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38E4-5A6D-4205-86BA-F6E19D5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DDE6-3512-49C7-95C1-8B466EF0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8320-ED04-45F0-8EBD-F2A47993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E24C-75AC-44FC-867E-EED0C550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8B07-BA5F-477D-B6C3-F8C92361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9FEB-B5D9-4C85-BAFB-070A07AB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7BE-ADF1-4B70-9659-C3917D44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2CE3-AE31-405D-8AD3-3BF5B124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8F72-4B95-4F85-B17C-ED4FF8B5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5B94-654D-4366-9404-FBDE17B5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57EC-8ABB-427C-AC64-2DA83316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4A06-A8E4-4FA9-8DC0-D8115745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1EB-5515-48F7-9730-5B1184FD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FB5-F227-47F1-B632-31A04FE9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E62-0F81-4F47-A65B-4C3011F5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8AA-EFB7-4373-82BF-93C818E6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A78-1D54-43FD-A34C-2AE7B26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F52-9683-4D68-8427-9CDEA8CA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A23-2275-4769-B8EA-F1D5FD62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Otoño 20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Prof. Marcelo González - Universidad de Ch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A2D7-B8CF-464B-8C0A-1BEFC7E46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6D19-A62B-41C1-BF10-2264A2AB804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as de Clases Nº 3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celo González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320" y="12855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CIÓN DE FINAN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oración de Empre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360" y="1267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os con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2340000" y="1916280"/>
                <a:ext cx="5410080" cy="29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O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/>
                            </m:sSubSup>
                            <m:r>
                              <m:t xml:space="preserve">K</m:t>
                            </m:r>
                          </m:den>
                        </m:f>
                      </m:e>
                      <m:e/>
                      <m:e/>
                      <m:e/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N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1295280" y="4842000"/>
            <a:ext cx="681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tasa de retención de flujos de caja para crecimient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Rn: Valor Residual de la Empre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3348000" y="2637000"/>
                <a:ext cx="3386160" cy="12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N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/>
                        </m:sSubSup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Text Box 6"/>
          <p:cNvSpPr/>
          <p:nvPr/>
        </p:nvSpPr>
        <p:spPr>
          <a:xfrm>
            <a:off x="1835280" y="1268280"/>
            <a:ext cx="60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 de Valor Resid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971640" y="1916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cimiento Constante Infin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3500280" y="4714920"/>
                <a:ext cx="23925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N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10"/>
          <p:cNvSpPr/>
          <p:nvPr/>
        </p:nvSpPr>
        <p:spPr>
          <a:xfrm>
            <a:off x="971640" y="407664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Cre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1128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aciones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mpresa opera en un 100% de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os modelos suponen que no existen activos prescindibles (otros activos fijos y paten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flujos permanentes de las empresas no sólo vienen de lo Operacional (ej. resultado en empresas relacionad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valoración de firmas que no transan sus acciones es más comple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firmas del sector financiero (bancos, instituciones financieras, empresas de leasing y cía. de seguros) se requiere obtener el valor presente del flujo de caja de los accion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toma en cuenta la capacidad que tiene la firma de hacer frente a los pagos de la deuda en cada momento d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onentes del Valor de A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828800"/>
            <a:ext cx="777240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 de Activos Actu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incluye los flujos de filiales que pertenecen a la definición estratégica del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 de liquidación de activos prescind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 de oportunidades de inver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incluye sólo proyectos a los cuales la empresa les agregue valor y pertenecen a su definición estratég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mentos Fundamentales para Val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844280"/>
            <a:ext cx="77724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jos de caja esperados de los Activos Actuales. Valor Residual de los A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os Prescind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ítica de Inversión (oportunidades de crecimi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a de Costo de Capital (normalmente usaremos WACC con base en CA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7680" y="981000"/>
            <a:ext cx="8896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jo de Caja Libre o Flujo de Caja de los A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7002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resos de expl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os de expl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tos de administración y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ADO OPE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res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ilidad en inversión de empresas rela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os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rtización menor valor de in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t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os e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/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erencia d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/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cción mone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ADO ANTES DE IMPU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4000" y="1267920"/>
            <a:ext cx="8001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Impuesto a la 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ILIDAD (PERDIDA) DEL EJERC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JUS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Movimientos contables que no corresponden a flujos de caja y resultado no opera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re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tos financieros después de 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os egresos fuera de la explotación después de i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os ingresos fuera de la explotación después de i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/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erencia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/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cción mone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JO  DE  CAJA  BRUTO  PERMA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rsión de re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rsión en capital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mentos (disminuciones) de capital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JO  DE  CAJA  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920" y="98064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 del Patrim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928520"/>
            <a:ext cx="84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 del Patrimonio = Valor de Activos - Valor de Deuda que paga inter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 del Patrimonio: Equivale al valor presente del flujo de caja de los accionistas descontados a la tasa de costo patrimon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480" y="13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licación a una Empresa Produ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69880" y="2249280"/>
            <a:ext cx="5143680" cy="14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so: MAD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4000" y="2491920"/>
            <a:ext cx="847224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 Activos de Madera = V. Madera 1 + VAN Madera 2 (nuevo proyecto) + V. Bosques y Terrenos + V. Activos Prescind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. Patrimonio de Madera = V. Activos de Madera - V. 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étodos de Val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jos de Caja Descon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ables (múltiplos): p/ut, EBITDA*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foque Contingente: Opciones reales y fut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611280" y="1268280"/>
          <a:ext cx="8078760" cy="5000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268280"/>
                    <a:ext cx="80787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so Madera 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encuentra al 100% de capacidad instalada (40.0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último año es 38.0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bio en la mezcla de productos. Se privilegia línea SUPERCOR. Otros se mantiene al nivel del 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hay cambio en precios reales de SUPERCOR Y SUPERTEC. Se mantienen al nivel del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ventas de otros son 15% de las ventas to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2"/>
          <p:cNvGraphicFramePr/>
          <p:nvPr/>
        </p:nvGraphicFramePr>
        <p:xfrm>
          <a:off x="357120" y="1643040"/>
          <a:ext cx="8450280" cy="32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1643040"/>
                    <a:ext cx="845028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428760" y="1681200"/>
          <a:ext cx="8286480" cy="3314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681200"/>
                    <a:ext cx="8286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762120" y="1447920"/>
          <a:ext cx="7999200" cy="396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447920"/>
                    <a:ext cx="79992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4360" y="126792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os de Explo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ciente competencia en mercado de insumo y trabajo por lo que se esperan disminuciones, pero en forma conservadora se suponen constantes al nivel del 2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de OTROS decrecen desde 25,78% (2008), 24,39% (2009) y 23% (2010 en adelante) como proporción del costo de explot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tos de Administración y Ve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 comienzo el esfuerzo de ventas fue mayor por la introducción de los productos al mercado, por lo que se espera disminución a 14% (2008), 13% (2009) y (12%) en adel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reci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vel del 2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2"/>
          <p:cNvGraphicFramePr/>
          <p:nvPr/>
        </p:nvGraphicFramePr>
        <p:xfrm>
          <a:off x="990720" y="1828800"/>
          <a:ext cx="7535880" cy="3048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75358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838080" y="1295280"/>
          <a:ext cx="731520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95280"/>
                    <a:ext cx="73152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26920" y="134136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os ingresos no opera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vel del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cción Mone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edio del 2006 y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rsión de Reposi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% de la depreci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ción de Capital de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ezcla no produce cambios impor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ue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égimen especial: 18.75% (2008), 30% (2009 y 2010), 37,5% (2011 en adelante). Industria y comercio es 3 por mil de las ventas a partir del 20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2"/>
          <p:cNvGraphicFramePr/>
          <p:nvPr/>
        </p:nvGraphicFramePr>
        <p:xfrm>
          <a:off x="971640" y="1268280"/>
          <a:ext cx="7539120" cy="527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268280"/>
                    <a:ext cx="7539120" cy="5275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Qué es Valoración Relativa o Compa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4360" y="1915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valor de un activo es comparado con los valores considerados por el mercado como activos similares o compar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sitos para aplicar el méto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r activos comparables y obtener el valor de mercado de e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ir los valores de mercado en valores estandarizados. Esto lleva a obtener múltip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ar el valor estandarizado o el múltiplo aplicado a los activos comparables, controlando por diferencias que podría afectar el múltiplo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 que dos firmas son comparables en la medida que tengan riesgo similar, tasas de crecimiento parecidas y características de flujo de c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971640" y="1268280"/>
          <a:ext cx="750096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268280"/>
                    <a:ext cx="75009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971640" y="1268280"/>
          <a:ext cx="7445160" cy="529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268280"/>
                    <a:ext cx="744516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o d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uctura de Endeud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/P es 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s tipos de deu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uda bancaria de corto a Prime+1% (9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uda con BID Libor +6.7% (13.5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as deudas de corto a 2% nominal mensual (26.8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lación esperada 17%, revaluación real de 5% en tipo de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+R) = (1+Rusa)(1+Dev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5640" y="126792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as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uda bancaria Prime        4%   (9.2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uda con BID Libor       7.9%   (88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uda corto plazo          8.4%    (2.8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edio ponderado es  7.6% (costo de deu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o patrimon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mpresa transa sus acciones hace poco tiempo por lo cual no hay suficientes datos para obtener el b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utiliza como referencia Maderitas (M) con 90% de presencia en el período Enero 2004 a Dic. 2007. Se obtiene un beta de 1,4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structura de endeudamiento económica (M) promedio de los últimos 5 años es de 10% y la tasa de impuesto a las empresas es de 1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4360" y="126828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lculo de Costo Patrimo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a patrimonial sin deuda de M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,40/(1+0,85*0,1) = 1,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a patrimonial con deuda de M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,29*(1+0,625*0,25) = 1,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o patrimonial de M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,20 = 0,075 + 0,085*1,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908000" y="5516640"/>
                <a:ext cx="3581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]</m:t>
                    </m:r>
                    <m:sSub>
                      <m:e>
                        <m:r>
                          <m:t xml:space="preserve">xβ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1908000" y="1916280"/>
                <a:ext cx="32990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sup>
                    </m:sSubSup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x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o de Capital Promedio Ponderado de Ma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,17 = 0,076*0,625*0,2 + 0,20*0,8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619280" y="2708280"/>
                <a:ext cx="4724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x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Caso Made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2884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857160" y="1500120"/>
          <a:ext cx="7467840" cy="377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500120"/>
                    <a:ext cx="74678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928800" y="1285920"/>
          <a:ext cx="7696080" cy="4863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800" y="1285920"/>
                    <a:ext cx="769608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Sensibil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643040" y="2857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ra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a de Descu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ón Precio ut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io de la acción y la utilidad por acción (p/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bles: div/u (actual), 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costo patrimonial) y  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iv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asa de crecimiento del divide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rmas Es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836800" y="4659480"/>
                <a:ext cx="31654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6"/>
          <p:cNvGrpSpPr/>
          <p:nvPr/>
        </p:nvGrpSpPr>
        <p:grpSpPr>
          <a:xfrm>
            <a:off x="642960" y="1643040"/>
            <a:ext cx="7696080" cy="4002120"/>
            <a:chOff x="642960" y="1643040"/>
            <a:chExt cx="7696080" cy="4002120"/>
          </a:xfrm>
        </p:grpSpPr>
        <p:sp>
          <p:nvSpPr>
            <p:cNvPr id="176" name="AutoShape 5"/>
            <p:cNvSpPr/>
            <p:nvPr/>
          </p:nvSpPr>
          <p:spPr>
            <a:xfrm>
              <a:off x="642960" y="1643040"/>
              <a:ext cx="7696080" cy="40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2196000" y="3624480"/>
              <a:ext cx="5120640" cy="1355040"/>
            </a:xfrm>
            <a:prstGeom prst="rect">
              <a:avLst/>
            </a:prstGeom>
            <a:solidFill>
              <a:srgbClr val="3399ff"/>
            </a:solidFill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196000" y="4999680"/>
              <a:ext cx="108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27800" y="4999680"/>
              <a:ext cx="108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3475440" y="499968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4107600" y="499968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4756680" y="499968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5387400" y="4999680"/>
              <a:ext cx="108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6036840" y="4999680"/>
              <a:ext cx="108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6668640" y="4999680"/>
              <a:ext cx="108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2196000" y="4999680"/>
              <a:ext cx="108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3475440" y="499968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8"/>
            <p:cNvSpPr/>
            <p:nvPr/>
          </p:nvSpPr>
          <p:spPr>
            <a:xfrm>
              <a:off x="4756680" y="499968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>
              <a:off x="6036840" y="4999680"/>
              <a:ext cx="108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20"/>
            <p:cNvSpPr/>
            <p:nvPr/>
          </p:nvSpPr>
          <p:spPr>
            <a:xfrm>
              <a:off x="7316640" y="4999680"/>
              <a:ext cx="108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21"/>
            <p:cNvSpPr/>
            <p:nvPr/>
          </p:nvSpPr>
          <p:spPr>
            <a:xfrm>
              <a:off x="1908360" y="52819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900" spc="-1" strike="noStrike">
                  <a:solidFill>
                    <a:srgbClr val="ffffff"/>
                  </a:solidFill>
                  <a:latin typeface="Arial"/>
                </a:rPr>
                <a:t>15%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3240000" y="52819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900" spc="-1" strike="noStrike">
                  <a:solidFill>
                    <a:srgbClr val="ffffff"/>
                  </a:solidFill>
                  <a:latin typeface="Arial"/>
                </a:rPr>
                <a:t>16%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23"/>
            <p:cNvSpPr/>
            <p:nvPr/>
          </p:nvSpPr>
          <p:spPr>
            <a:xfrm>
              <a:off x="4572000" y="52819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900" spc="-1" strike="noStrike">
                  <a:solidFill>
                    <a:srgbClr val="ffffff"/>
                  </a:solidFill>
                  <a:latin typeface="Arial"/>
                </a:rPr>
                <a:t>17%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24"/>
            <p:cNvSpPr/>
            <p:nvPr/>
          </p:nvSpPr>
          <p:spPr>
            <a:xfrm>
              <a:off x="5902200" y="52819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900" spc="-1" strike="noStrike">
                  <a:solidFill>
                    <a:srgbClr val="ffffff"/>
                  </a:solidFill>
                  <a:latin typeface="Arial"/>
                </a:rPr>
                <a:t>18%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25"/>
            <p:cNvSpPr/>
            <p:nvPr/>
          </p:nvSpPr>
          <p:spPr>
            <a:xfrm>
              <a:off x="7234200" y="52819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900" spc="-1" strike="noStrike">
                  <a:solidFill>
                    <a:srgbClr val="ffffff"/>
                  </a:solidFill>
                  <a:latin typeface="Arial"/>
                </a:rPr>
                <a:t>19%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Rectangle 26"/>
            <p:cNvSpPr/>
            <p:nvPr/>
          </p:nvSpPr>
          <p:spPr>
            <a:xfrm>
              <a:off x="1939680" y="2167920"/>
              <a:ext cx="5615280" cy="2811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H="1">
              <a:off x="1905120" y="4979880"/>
              <a:ext cx="34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7572600" y="497988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29"/>
            <p:cNvSpPr/>
            <p:nvPr/>
          </p:nvSpPr>
          <p:spPr>
            <a:xfrm flipH="1">
              <a:off x="1905120" y="4655880"/>
              <a:ext cx="34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30"/>
            <p:cNvSpPr/>
            <p:nvPr/>
          </p:nvSpPr>
          <p:spPr>
            <a:xfrm>
              <a:off x="7572600" y="465588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31"/>
            <p:cNvSpPr/>
            <p:nvPr/>
          </p:nvSpPr>
          <p:spPr>
            <a:xfrm flipH="1">
              <a:off x="1905120" y="431136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32"/>
            <p:cNvSpPr/>
            <p:nvPr/>
          </p:nvSpPr>
          <p:spPr>
            <a:xfrm>
              <a:off x="7572600" y="43113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33"/>
            <p:cNvSpPr/>
            <p:nvPr/>
          </p:nvSpPr>
          <p:spPr>
            <a:xfrm flipH="1">
              <a:off x="1905120" y="396864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Line 34"/>
            <p:cNvSpPr/>
            <p:nvPr/>
          </p:nvSpPr>
          <p:spPr>
            <a:xfrm>
              <a:off x="7572600" y="396864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35"/>
            <p:cNvSpPr/>
            <p:nvPr/>
          </p:nvSpPr>
          <p:spPr>
            <a:xfrm flipH="1">
              <a:off x="1905120" y="3624480"/>
              <a:ext cx="34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36"/>
            <p:cNvSpPr/>
            <p:nvPr/>
          </p:nvSpPr>
          <p:spPr>
            <a:xfrm>
              <a:off x="7572600" y="362448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37"/>
            <p:cNvSpPr/>
            <p:nvPr/>
          </p:nvSpPr>
          <p:spPr>
            <a:xfrm flipH="1">
              <a:off x="1905120" y="3300480"/>
              <a:ext cx="34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38"/>
            <p:cNvSpPr/>
            <p:nvPr/>
          </p:nvSpPr>
          <p:spPr>
            <a:xfrm>
              <a:off x="7572600" y="330048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39"/>
            <p:cNvSpPr/>
            <p:nvPr/>
          </p:nvSpPr>
          <p:spPr>
            <a:xfrm flipH="1">
              <a:off x="1905120" y="2957760"/>
              <a:ext cx="34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40"/>
            <p:cNvSpPr/>
            <p:nvPr/>
          </p:nvSpPr>
          <p:spPr>
            <a:xfrm>
              <a:off x="7572600" y="295776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41"/>
            <p:cNvSpPr/>
            <p:nvPr/>
          </p:nvSpPr>
          <p:spPr>
            <a:xfrm flipH="1">
              <a:off x="1905120" y="261324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42"/>
            <p:cNvSpPr/>
            <p:nvPr/>
          </p:nvSpPr>
          <p:spPr>
            <a:xfrm>
              <a:off x="7572600" y="261324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43"/>
            <p:cNvSpPr/>
            <p:nvPr/>
          </p:nvSpPr>
          <p:spPr>
            <a:xfrm flipH="1">
              <a:off x="1889280" y="497988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44"/>
            <p:cNvSpPr/>
            <p:nvPr/>
          </p:nvSpPr>
          <p:spPr>
            <a:xfrm>
              <a:off x="7572600" y="4979880"/>
              <a:ext cx="34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45"/>
            <p:cNvSpPr/>
            <p:nvPr/>
          </p:nvSpPr>
          <p:spPr>
            <a:xfrm flipH="1">
              <a:off x="1889280" y="4311360"/>
              <a:ext cx="50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46"/>
            <p:cNvSpPr/>
            <p:nvPr/>
          </p:nvSpPr>
          <p:spPr>
            <a:xfrm>
              <a:off x="7572600" y="431136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47"/>
            <p:cNvSpPr/>
            <p:nvPr/>
          </p:nvSpPr>
          <p:spPr>
            <a:xfrm flipH="1">
              <a:off x="1889280" y="362448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48"/>
            <p:cNvSpPr/>
            <p:nvPr/>
          </p:nvSpPr>
          <p:spPr>
            <a:xfrm>
              <a:off x="7572600" y="3624480"/>
              <a:ext cx="34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49"/>
            <p:cNvSpPr/>
            <p:nvPr/>
          </p:nvSpPr>
          <p:spPr>
            <a:xfrm flipH="1">
              <a:off x="1889280" y="295776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50"/>
            <p:cNvSpPr/>
            <p:nvPr/>
          </p:nvSpPr>
          <p:spPr>
            <a:xfrm>
              <a:off x="7572600" y="2957760"/>
              <a:ext cx="34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51"/>
            <p:cNvSpPr/>
            <p:nvPr/>
          </p:nvSpPr>
          <p:spPr>
            <a:xfrm flipH="1">
              <a:off x="1889280" y="226944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52"/>
            <p:cNvSpPr/>
            <p:nvPr/>
          </p:nvSpPr>
          <p:spPr>
            <a:xfrm>
              <a:off x="7572600" y="2269440"/>
              <a:ext cx="34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53"/>
            <p:cNvSpPr/>
            <p:nvPr/>
          </p:nvSpPr>
          <p:spPr>
            <a:xfrm>
              <a:off x="4491720" y="1825200"/>
              <a:ext cx="724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500" spc="-1" strike="noStrike">
                  <a:solidFill>
                    <a:srgbClr val="ffffff"/>
                  </a:solidFill>
                  <a:latin typeface="Arial"/>
                </a:rPr>
                <a:t>Tasa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Object 2"/>
          <p:cNvGraphicFramePr/>
          <p:nvPr/>
        </p:nvGraphicFramePr>
        <p:xfrm>
          <a:off x="1357200" y="1214280"/>
          <a:ext cx="6786720" cy="50832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1214280"/>
                    <a:ext cx="678672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plicar la razón de pago de dividendos por los siguientes múltiplos para obtener p/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468360" y="2276640"/>
          <a:ext cx="7975440" cy="2854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276640"/>
                    <a:ext cx="797544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4"/>
          <p:cNvSpPr/>
          <p:nvPr/>
        </p:nvSpPr>
        <p:spPr>
          <a:xfrm>
            <a:off x="357120" y="5214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 lo anterior se obtiene la relación precio utilidad para la firma que nos interesa. Luego se multiplica la utilidad por este valor para obtener el precio estim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360" y="907560"/>
            <a:ext cx="421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70028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mpresa X tiene una ganancia por acción de $15,0 en 1999, la tasa de pago de dividendos es de 65%. La tasa de crecimiento esperado de los dividendos es de 2%. El beta patrimonial de X es 0,60. Suponga que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6,5% y que el premio por riesgo de mercado es de 9,0%. Determine el precio estimado de la acción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6,5% + 9,0%*0,60 = 11,9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últiplo es 10,2. Entonces el precio estimado es  $99,45 (10,2*0,65*1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Enfoque Flujos de Caja Descontad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ene dos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 de los Activos Actu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rresponde al valor presente de los flujos de caja esperados que generan los activos que actualmente posee la fi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 de Oportunidades de Inver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valor actual neto de las oportunidades de crecimiento futuro de la empresa, es decir, nuevos proyectos de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jos de Caja Descontados [M&amp;M(1961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2050920" y="1989000"/>
                <a:ext cx="5140440" cy="28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N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/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O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/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Text Box 6"/>
          <p:cNvSpPr/>
          <p:nvPr/>
        </p:nvSpPr>
        <p:spPr>
          <a:xfrm>
            <a:off x="1000080" y="4786200"/>
            <a:ext cx="7572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valor actual de la empresa hoy,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RO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Resultado Operacional Neto,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monto invertido en nuevos proyectos,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costo de capital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k*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rentabilidad media de los proyectos nuev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16:58:28Z</dcterms:created>
  <dc:creator>Carlos Mquieira; Marcelo González</dc:creator>
  <dc:description/>
  <cp:keywords/>
  <dc:language>en-US</dc:language>
  <cp:lastModifiedBy>MARCELO</cp:lastModifiedBy>
  <cp:lastPrinted>2001-11-27T20:34:15Z</cp:lastPrinted>
  <dcterms:modified xsi:type="dcterms:W3CDTF">2010-05-05T23:37:21Z</dcterms:modified>
  <cp:revision>90</cp:revision>
  <dc:subject/>
  <dc:title>Valoración de Empresas</dc:title>
</cp:coreProperties>
</file>