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ABA-082E-4695-81E0-FA21F0D0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694-D316-4D0D-9DC1-C330B71C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478-C24B-4DE7-B8F0-8B0E81F4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A08-495E-4A5A-9E91-9638316F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DAF7-891F-4126-B8DC-A3DEA7AB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C69C-5291-467B-8192-83A09046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E912-A733-454F-8AA6-0ADD518F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BF5F-285F-4B27-9714-C13E86D2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D110-6734-4661-9019-EF896223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822C-1FC8-4A30-938B-DD195CC9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C169-2E82-4B87-9C7E-128763FE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A0F-EE1B-4E38-A137-DCB5B894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0AD9-4EB6-4BB7-B1DD-2B9E6B3D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8089-DEA9-4ACA-BBC3-3B76B3A4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7DE1-7EAF-4AA6-B24E-48AF0A46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5ED0-3648-4F1F-B9C3-C23B5C56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31FF-BBE5-4117-8B94-164E9D9D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D89-2B75-484E-BFB8-35B912B7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51C-C6BC-460F-A4E0-68D217E6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77C-6E38-4342-A49F-DF9B7B6D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8F0-B3A9-42D4-897C-19822AE5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6D6-AD74-421B-8D6F-C1B4D5BF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6E8-AE91-49E8-A848-19C5D8C2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563-C259-4B7F-AC14-9F7EC4DC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C734-1BE6-40E7-8019-B83E31A870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F3EA-5ACE-4BDA-A187-BBA59E2822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Estudio de la Aplicación de Modelos de Clase Latente a la Segmentación: caso Economax”</a:t>
            </a: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743200" y="51782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rancisco Mallea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¿Qué es el análisis de clase laten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65320" y="228600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lase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2286000"/>
            <a:ext cx="4191120" cy="703800"/>
            <a:chOff x="3657600" y="2286000"/>
            <a:chExt cx="4191120" cy="703800"/>
          </a:xfrm>
        </p:grpSpPr>
        <p:sp>
          <p:nvSpPr>
            <p:cNvPr id="168" name=""/>
            <p:cNvSpPr/>
            <p:nvPr/>
          </p:nvSpPr>
          <p:spPr>
            <a:xfrm>
              <a:off x="4724280" y="2286000"/>
              <a:ext cx="3124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sificar objetos simila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51460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57600" y="3962520"/>
            <a:ext cx="4248000" cy="398880"/>
            <a:chOff x="3657600" y="3962520"/>
            <a:chExt cx="4248000" cy="398880"/>
          </a:xfrm>
        </p:grpSpPr>
        <p:sp>
          <p:nvSpPr>
            <p:cNvPr id="171" name=""/>
            <p:cNvSpPr/>
            <p:nvPr/>
          </p:nvSpPr>
          <p:spPr>
            <a:xfrm>
              <a:off x="4781520" y="396252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odelo Mix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403848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Modelo Mix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2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los Mix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tos no se modelan por una sola distrib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219320" y="3124080"/>
                <a:ext cx="521640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segmento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lase Laten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 variable escondida (late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ado de pertenencia a cada seg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lución al problema a través de modelos mixtos (multiples distribu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lema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Encotrar paráme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485784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68580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mportamiento basado en cantidad de comp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3124080"/>
          <a:ext cx="815364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24080"/>
                    <a:ext cx="81536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ewton-Raph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cas ite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ergencia no asegu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chas Iteracione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Conv. L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. asegurada por lo menos a un óptim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y sensible a los parametros de part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teraciones fáciles de progra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209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lgoritmo E-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bjetivo: Encontrar los parametros des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la función de máximoverosimil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abilidad individual de pertenencia segmento S puede ser calcu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05520" y="3255840"/>
                <a:ext cx="28191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 un ejempl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 sujetos y sus compras para un determinado produ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ienen de 2 Poissons (S=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 a 1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1 a 2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7908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81560" y="3327480"/>
                <a:ext cx="3808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375080" y="332100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81680" y="3733920"/>
                <a:ext cx="81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514600" y="3772080"/>
            <a:ext cx="1143000" cy="342720"/>
          </a:xfrm>
          <a:prstGeom prst="rightArrow">
            <a:avLst>
              <a:gd name="adj1" fmla="val 50000"/>
              <a:gd name="adj2" fmla="val 83377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9080" y="4381560"/>
            <a:ext cx="1028520" cy="342720"/>
          </a:xfrm>
          <a:prstGeom prst="rightArrow">
            <a:avLst>
              <a:gd name="adj1" fmla="val 50000"/>
              <a:gd name="adj2" fmla="val 75026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696000" y="4305240"/>
                <a:ext cx="10270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0" y="0"/>
          <a:ext cx="9144000" cy="69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451640" y="835200"/>
            <a:ext cx="79236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17080" y="3357720"/>
            <a:ext cx="79200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tiv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o de teorías y su evaluación en casos práct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vas Herramientas de apoyo al Marketing: Clase L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portunidad: Caso Econom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838080" y="1982880"/>
          <a:ext cx="7772400" cy="40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288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14400" y="1949400"/>
          <a:ext cx="754380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49400"/>
                    <a:ext cx="754380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4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14400" y="2133720"/>
          <a:ext cx="7162920" cy="372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16292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3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2101680"/>
          <a:ext cx="7543800" cy="39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1680"/>
                    <a:ext cx="754380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5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62120" y="2030400"/>
          <a:ext cx="7238880" cy="37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0400"/>
                    <a:ext cx="723888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V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Tiene un fundamento estadístico dife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LEXIBLE (se pueden combinar distribuciones simples y complicad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n utilizar variables con diversas escalas (nominal, ordinal, continuo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dores estadísticos para la determinación de número de clu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s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v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nsibilidad a la elección de los valores ini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-means o utilización de varias muestras ale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estimación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méric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ualmente 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n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iv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tilización de herramientas computacionales y funciones con expresiones ana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estimadores de máxima verosimilitud (parámetros) pueden sesgarse en muestras pequeñ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goritmo EM puede llegar a óptimo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0574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7672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jetivos: Interrelaciones Cruzadas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Catego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egmentos de Cl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atos: Datos de Panel (P.O.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Julio del año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oceso 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trucción Matriz de Disimil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as 6 variables neces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DS con matr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.A para determinar seg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.L para caracterizar categor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cusión, Implicaciones, 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os Datos Utiliz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ductos en Cana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dades Vend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echa de Comp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atos de Julio del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bjetivo Gener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ar la aplicación de modelos de clase latente como una herramienta de segmentación a un caso real (caso Economax) y su comparación con otras herramient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imer Anális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dias, Varianzas, Frecuencia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s de mayor compra (inicios y finales de seman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ás de mayor compra (antes de almuerzo, fin de jornad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nto promedio cercano a los $4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 de Pago: Efectivo (99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lección de Número de Clust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corre el programa para varios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elecciona el de mejores indic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4653000"/>
            <a:ext cx="6192720" cy="165564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244520" y="4653000"/>
            <a:ext cx="62071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Outputs – Probabilidad de Membresi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6326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971800" y="2151000"/>
            <a:ext cx="3790800" cy="3467160"/>
            <a:chOff x="2971800" y="2151000"/>
            <a:chExt cx="3790800" cy="3467160"/>
          </a:xfrm>
        </p:grpSpPr>
        <p:sp>
          <p:nvSpPr>
            <p:cNvPr id="245" name=""/>
            <p:cNvSpPr/>
            <p:nvPr/>
          </p:nvSpPr>
          <p:spPr>
            <a:xfrm>
              <a:off x="3124080" y="2151000"/>
              <a:ext cx="221004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3400" y="2417760"/>
              <a:ext cx="228600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2684520"/>
              <a:ext cx="236232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2989440"/>
              <a:ext cx="228600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24320" y="3218040"/>
              <a:ext cx="2438280" cy="285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1800" y="3522600"/>
              <a:ext cx="106668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1800" y="4284720"/>
              <a:ext cx="106668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451332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95920" y="500868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definen cuatro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Diarias (58,27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Semanales (29,2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Bisemanales o Mensuales (6,98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Ocasionales o de Emergencia (5,5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análisis lleva a un resultado más “fin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ferencias con caso Bosh M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ug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Microseg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sibilidad de cambio de formato a uno de mejor servicio para sus clientes (compras diari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estrategias que permitan un mayor conocimiento del consum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ondolas Evolu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mines Consultores (1999) 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“Sector Supermercados: ¿Cómo ha Evolucionado y hacia Dónde va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S Consulting (2002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Building a Category Management Capabil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Recomend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tilización de Variables Dispon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ocimiento de Te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udio de Software y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894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del, Michel &amp; Kamakura, Wagner A. (2000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Market Segmentation: Conceptual and Methodological Foundations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nternational Series in Quantitative Marketing, Vol 8. 2ª Edi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gidson, Vermunt (2003) “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ntechnical Introduction to Latent Class Mode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laert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Frank. (2002)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xpectation Maximization Algorithm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2002)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Latent Class Models for Clustering: A Comparison with K-Means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anadian Journal of Marketing Research, Volume 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 (200?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Latent Class Cluster Analysis“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cal Innovation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arbo, Kamakura &amp; Wedel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Applications of Multivariate Latent Variable Models in Market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sh, Musalem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Segmenting Shoppers According to their Basket Composition: Implications for Cross-Category Managemen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utoriales Latent Gol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www.latentgol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6576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upermerc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l kiosco al megamerc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Hábitos de consumido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s de Supermerc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orma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866960"/>
            <a:ext cx="7772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racterístic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stión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gístic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existencias, rot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rchandising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posición, fluj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22050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270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tegory Manag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les de variables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ncia de Inter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mplo años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2209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l Proble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ecesidad de Diferenc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odos son client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seg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gmentación Interio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permercad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. Servilletas de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05200" y="40006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9338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egment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epto C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volucra clientes en dec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eación de grupos de personas u organizaciones que son similares en terminos de de su respuesta al marketing mix, y por lo tanto, significativos para su planeamient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8:58:37Z</dcterms:created>
  <dc:creator>Francisco Mallea</dc:creator>
  <dc:description/>
  <dc:language>en-US</dc:language>
  <cp:lastModifiedBy>P</cp:lastModifiedBy>
  <dcterms:modified xsi:type="dcterms:W3CDTF">2004-11-04T11:36:09Z</dcterms:modified>
  <cp:revision>18</cp:revision>
  <dc:subject/>
  <dc:title>“Estudio de la Aplicación de Modelos de Clase Latente a la Segmentación: caso Economax”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0300826</vt:r8>
  </property>
  <property fmtid="{D5CDD505-2E9C-101B-9397-08002B2CF9AE}" pid="3" name="_AuthorEmail">
    <vt:lpwstr>pabustos@ing.uchile.cl</vt:lpwstr>
  </property>
  <property fmtid="{D5CDD505-2E9C-101B-9397-08002B2CF9AE}" pid="4" name="_AuthorEmailDisplayName">
    <vt:lpwstr>Pablo Bustos Serrano</vt:lpwstr>
  </property>
  <property fmtid="{D5CDD505-2E9C-101B-9397-08002B2CF9AE}" pid="5" name="_EmailSubject">
    <vt:lpwstr>presentaciones</vt:lpwstr>
  </property>
</Properties>
</file>