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7373-7AE0-416A-A8A4-16DC706B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6FA-A6D1-4FED-8F3B-E00DEF12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122B-D6F8-41A5-84B8-60E9ECFD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5D58-83F6-4862-96D1-1A4F648F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F86-FCE1-49CC-A590-EB006DCC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1FB-D6D7-4243-9580-F5862ABC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56CE-8D65-4AC5-A098-D40532CC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16E6-B8E8-46AB-943B-9ECBF2C7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D63-E062-416C-BB01-2E738DB7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843-4E34-4CA7-8AF1-5816E62A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F887-2200-408D-A269-4BFFF114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CD9-B50F-4568-9784-58ACA4C6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D64A-A8A5-4647-9227-F84F30615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deasdenegocios.com.ar/ideas.htm" TargetMode="External"/><Relationship Id="rId2" Type="http://schemas.openxmlformats.org/officeDocument/2006/relationships/hyperlink" Target="http://www.ideasdenegocios.com.ar/ideas.htm" TargetMode="External"/><Relationship Id="rId3" Type="http://schemas.openxmlformats.org/officeDocument/2006/relationships/hyperlink" Target="http://www.ideasdenegocios.com.ar/ideas.htm" TargetMode="External"/><Relationship Id="rId4" Type="http://schemas.openxmlformats.org/officeDocument/2006/relationships/hyperlink" Target="http://www.ideasdenegocios.com.ar/ideas.htm" TargetMode="External"/><Relationship Id="rId5" Type="http://schemas.openxmlformats.org/officeDocument/2006/relationships/hyperlink" Target="http://www.100negocios.com/ideas-de-negocios-para-2010/#more-610" TargetMode="Externa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28880" y="0"/>
            <a:ext cx="5283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B39-F024-4D88-8D0C-AE4693282726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4536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AD5-33EA-4776-9746-6BBFEA14F045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84400" y="0"/>
            <a:ext cx="497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3E58-7E56-4314-A10F-EDB2593D00EE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82800" y="189000"/>
            <a:ext cx="5873760" cy="59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15C-0AA2-40EA-AA20-F97400D43C88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79600" y="0"/>
            <a:ext cx="4384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32B-9B62-4DB2-98C5-DF68E6EC3DDE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E8A-D6E6-4526-AF22-03BD2D61119C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04960" y="0"/>
            <a:ext cx="5732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7555-DDEE-4EDA-8E70-CE45B1686243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74920" y="0"/>
            <a:ext cx="43941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56EE-D5FE-4C2B-A479-A0C84C982B76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5568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BCE-E760-41AE-B352-FE4E57300DE3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68440" y="0"/>
            <a:ext cx="4407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86D-3C4B-4A41-BED5-0C41BC747ED0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4536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B4DF-8FFF-4488-B6C8-426B6A52F141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32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AED-56E0-4B33-81DC-FA1F181BB8A0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2240" y="0"/>
            <a:ext cx="4616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6C9B-EC2A-471C-9792-9D05019C24D8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20920" y="0"/>
            <a:ext cx="44989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092-FB4D-4172-9A69-2EAB90C97A11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58680"/>
            <a:ext cx="6048360" cy="566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4A24-1515-43D1-A629-B1FEF283D2F5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30280" y="0"/>
            <a:ext cx="4481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CAA-37BA-44E8-B733-EA965298831D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01840" y="0"/>
            <a:ext cx="4538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219-FE0D-4C97-9018-6ADE964A2CEA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41640" y="0"/>
            <a:ext cx="4860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D33-376A-45C8-80F4-BEEF7D2056F9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5440" y="2275920"/>
            <a:ext cx="75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deasdenegocios.com.ar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deas.ht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320" y="3429000"/>
            <a:ext cx="81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100negocios.com/ideas-de-negocios-para-2010/#more-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64A-EBF0-4F96-94E5-EAFB9CABEE4A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A027-3C20-4C39-A3EB-7D6E3E6E8E7E}" type="slidenum">
              <a:t>27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4080" y="0"/>
            <a:ext cx="4695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71E4-26B2-412C-BFBD-70639429005B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25600" y="0"/>
            <a:ext cx="4491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4E9-B23A-4B47-9ED2-A158252C70FB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42940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C0B-892C-47E6-9693-2556088B03E0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321440" cy="11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6888-DDDB-4866-A393-3C6EBEF0F659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13080" y="0"/>
            <a:ext cx="4316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C3D-908A-4CF9-A023-C4DA59A93F51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4AE-79CA-42E5-89C1-92398A959140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5126040" cy="272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D806-CEB9-4800-B679-5E821DB9DB9C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01:20Z</dcterms:created>
  <dc:creator>Usuario</dc:creator>
  <dc:description/>
  <dc:language>en-US</dc:language>
  <cp:lastModifiedBy>Usuario</cp:lastModifiedBy>
  <dcterms:modified xsi:type="dcterms:W3CDTF">2010-04-06T15:26:33Z</dcterms:modified>
  <cp:revision>3</cp:revision>
  <dc:subject/>
  <dc:title>Diapositiva 1</dc:title>
</cp:coreProperties>
</file>