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61C-5A95-4983-87DE-675F23B5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4A6-F0F8-48C6-8042-225B9023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A7F-68B4-475B-8346-F5AF2B2E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504-F831-4CE7-BA04-58FF9438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B04-534F-4A17-BFE3-2B685406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0F1-FE65-4B0B-AC9E-79BA8B47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A92-0604-412E-B54D-22F5E6F2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5A6-1B0A-4BA7-94F2-159BF186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C64-4030-4D25-B46F-395951BE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21D-97AF-4AFB-95FC-C071BC69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E8F-2FFA-4D17-89E8-420F9FB1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B44-A487-4DE8-96B7-CECDFECF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DE0B-C98B-4293-ADE3-7A3A8C213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deasdenegocios.com.ar/ideas.htm" TargetMode="External"/><Relationship Id="rId2" Type="http://schemas.openxmlformats.org/officeDocument/2006/relationships/hyperlink" Target="http://www.ideasdenegocios.com.ar/ideas.htm" TargetMode="External"/><Relationship Id="rId3" Type="http://schemas.openxmlformats.org/officeDocument/2006/relationships/hyperlink" Target="http://www.ideasdenegocios.com.ar/ideas.htm" TargetMode="External"/><Relationship Id="rId4" Type="http://schemas.openxmlformats.org/officeDocument/2006/relationships/hyperlink" Target="http://www.ideasdenegocios.com.ar/ideas.htm" TargetMode="External"/><Relationship Id="rId5" Type="http://schemas.openxmlformats.org/officeDocument/2006/relationships/hyperlink" Target="http://www.100negocios.com/ideas-de-negocios-para-2010/#more-610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28880" y="0"/>
            <a:ext cx="5283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BFCA-9BF0-4C9A-8E52-DB12F483730E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A50-9BD8-41F3-9BDD-1BC8A467D4BF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84400" y="0"/>
            <a:ext cx="497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ECE-FCD5-4307-A889-7358D9205DEB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82800" y="189000"/>
            <a:ext cx="5873760" cy="59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8B4-F05C-4DD9-980D-E349E25A8E01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79600" y="0"/>
            <a:ext cx="4384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10E-0AF1-4D88-BB44-BCFEC800F48C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EBA-9E5E-47ED-8AA2-CBE4428CA055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04960" y="0"/>
            <a:ext cx="5732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D17-C6E4-4C34-A56E-825D01973376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43941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737-976A-4381-ACA3-2B6AEBA6A547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5568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EED-E509-4C7B-A20F-5983B28C7623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8440" y="0"/>
            <a:ext cx="4407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D04-FDDC-451C-8553-2BE073E87562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B9E-9E00-4791-9883-C1D62DC1BE14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2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1DB-8645-4F3B-89A8-06CC04015386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2240" y="0"/>
            <a:ext cx="4616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F6D-E785-4183-A07C-E4A51D0BECC4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20920" y="0"/>
            <a:ext cx="4498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14F-A93D-4651-AC98-68B640A31D56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58680"/>
            <a:ext cx="6048360" cy="566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265-C173-413F-8400-9DE3A72CA7F6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30280" y="0"/>
            <a:ext cx="448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A5E-0B5A-45C7-AEE6-BA2536108FCE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538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920-CAC5-4173-8D6D-52BE08743DBB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41640" y="0"/>
            <a:ext cx="4860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A3FC-B85A-448D-A2DB-9C7AF9087F1B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5440" y="2275920"/>
            <a:ext cx="75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deasdenegocios.com.ar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deas.ht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320" y="342900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100negocios.com/ideas-de-negocios-para-2010/#more-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6603-BEF1-458C-8317-D9D881914265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6AF-728A-4085-A03D-3D8C1A86D721}" type="slidenum">
              <a:t>27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4080" y="0"/>
            <a:ext cx="4695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51F-711C-4A9E-B5EB-131D8CC8D15F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2560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4A1-DDA8-4105-9AEF-195EFB87CD11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294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F21-58EA-4901-9399-2820514F8509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321440" cy="11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6CD-879C-4278-BE00-D711F6FDF9FB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3080" y="0"/>
            <a:ext cx="4316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93E-B20B-4A09-A329-2C1B4ECF5902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554-F940-49E1-8794-F52E67803555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126040" cy="27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840-2BD9-4D7D-8D66-EC1DBE9A3347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01:20Z</dcterms:created>
  <dc:creator>Usuario</dc:creator>
  <dc:description/>
  <dc:language>en-US</dc:language>
  <cp:lastModifiedBy>Usuario</cp:lastModifiedBy>
  <dcterms:modified xsi:type="dcterms:W3CDTF">2010-04-06T15:26:33Z</dcterms:modified>
  <cp:revision>3</cp:revision>
  <dc:subject/>
  <dc:title>Diapositiva 1</dc:title>
</cp:coreProperties>
</file>