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wmf" ContentType="image/x-wmf"/>
  <Override PartName="/ppt/media/image9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6.wmf" ContentType="image/x-wmf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25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910C-EBAB-4432-99B0-D58A5A64A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A941-B1AE-4442-8810-B75072220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7D1C-4B1E-456B-B390-96406FB88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3178-475C-4835-8869-3A3F6B3A3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277D-2E70-4269-BEF0-DD0A84204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4B6F-AA12-42EA-9995-0FE7ED3D2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BC20-5C12-4E6B-B05F-594830474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0B2F-906F-40D8-B5C8-147C620B5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D6E7-3563-4BCF-AFEA-F64FC7897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CDC0-F67B-4CF2-AE95-95B83837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37A7-8DC7-4F3E-B923-4D9FC803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899F-4D63-40A1-9783-3FA62C6B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2B2B1-B07B-4B81-B0DC-6A7F62369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ideasdenegocios.com.ar/ideas.htm" TargetMode="External"/><Relationship Id="rId2" Type="http://schemas.openxmlformats.org/officeDocument/2006/relationships/hyperlink" Target="http://www.ideasdenegocios.com.ar/ideas.htm" TargetMode="External"/><Relationship Id="rId3" Type="http://schemas.openxmlformats.org/officeDocument/2006/relationships/hyperlink" Target="http://www.ideasdenegocios.com.ar/ideas.htm" TargetMode="External"/><Relationship Id="rId4" Type="http://schemas.openxmlformats.org/officeDocument/2006/relationships/hyperlink" Target="http://www.ideasdenegocios.com.ar/ideas.htm" TargetMode="External"/><Relationship Id="rId5" Type="http://schemas.openxmlformats.org/officeDocument/2006/relationships/hyperlink" Target="http://www.100negocios.com/ideas-de-negocios-para-2010/#more-610" TargetMode="Externa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28880" y="0"/>
            <a:ext cx="5283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E598-AA56-418C-9FFC-50D3B3D8379C}" type="slidenum">
              <a:t>1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303640" y="0"/>
            <a:ext cx="45367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4239-7A98-4C87-ADA6-9ACE8D5F01D0}" type="slidenum">
              <a:t>10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084400" y="0"/>
            <a:ext cx="49752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BF1B-8726-4262-89FA-83DE6FB5127A}" type="slidenum">
              <a:t>11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882800" y="189000"/>
            <a:ext cx="5873760" cy="5976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8B43-FBD8-4063-9952-92EE9C30A791}" type="slidenum">
              <a:t>12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379600" y="0"/>
            <a:ext cx="43848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0652-AE1E-420A-9C00-52097A1CACAD}" type="slidenum">
              <a:t>13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351160" y="0"/>
            <a:ext cx="44402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CCB0-E7F9-46CA-ACB4-F1A71E9D51B7}" type="slidenum">
              <a:t>14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04960" y="0"/>
            <a:ext cx="57326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778E-B457-4FD3-9F8D-88E098CD040B}" type="slidenum">
              <a:t>15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374920" y="0"/>
            <a:ext cx="439416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9CEE-ADF9-450C-8E74-9C82D393BDA2}" type="slidenum">
              <a:t>1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155680" y="0"/>
            <a:ext cx="48308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0178-5F2A-42C4-8495-1C2AB20066DC}" type="slidenum">
              <a:t>17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368440" y="0"/>
            <a:ext cx="44071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C089-E128-4BD2-8957-956F1294435C}" type="slidenum">
              <a:t>18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03640" y="0"/>
            <a:ext cx="45367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A6D9-A19E-4A26-9736-205ED00F6BAF}" type="slidenum">
              <a:t>19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53323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DFEC-29C4-4840-A279-75C4EF6C03A3}" type="slidenum">
              <a:t>2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62240" y="0"/>
            <a:ext cx="46162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F2E6-1AAA-4E57-8511-3BA87C315816}" type="slidenum">
              <a:t>20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320920" y="0"/>
            <a:ext cx="44989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0FD6-3615-40D3-9ABC-27547925C62C}" type="slidenum">
              <a:t>21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124000" y="58680"/>
            <a:ext cx="6048360" cy="5661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28CF-71DC-44DF-806E-899E7FED2698}" type="slidenum">
              <a:t>22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330280" y="0"/>
            <a:ext cx="44816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E5A6-AF98-4D32-9C69-271706C6AB37}" type="slidenum">
              <a:t>23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301840" y="0"/>
            <a:ext cx="45385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E433-964A-49A5-B798-9627D9906D32}" type="slidenum">
              <a:t>24</a:t>
            </a:fld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141640" y="0"/>
            <a:ext cx="48607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C524-E166-46DA-990D-E5CE69C1DCC0}" type="slidenum">
              <a:t>25</a:t>
            </a:fld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045440" y="2275920"/>
            <a:ext cx="750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ideasdenegocios.com.ar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ideas.ht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70320" y="3429000"/>
            <a:ext cx="814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100negocios.com/ideas-de-negocios-para-2010/#more-6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D1D6-FD5C-4D04-B023-E1C7CD2DA308}" type="slidenum">
              <a:t>26</a:t>
            </a:fld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F086-8C01-4EBF-9764-702F3141B397}" type="slidenum">
              <a:t>27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24080" y="0"/>
            <a:ext cx="46958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0EA8-2293-4952-9C87-906AB689479C}" type="slidenum">
              <a:t>3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325600" y="0"/>
            <a:ext cx="4491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8847-A20B-4478-BFFC-656E0BF7B144}" type="slidenum">
              <a:t>4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627280" y="0"/>
            <a:ext cx="42940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8032-1F15-4395-9C0A-E95E48FC1AE8}" type="slidenum">
              <a:t>5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68360" y="692280"/>
            <a:ext cx="4321440" cy="111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23F6-D248-42CC-9561-FA6D2D1D4028}" type="slidenum">
              <a:t>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413080" y="0"/>
            <a:ext cx="43164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F9A2-3E08-4DA5-8F36-D29C3BF29313}" type="slidenum">
              <a:t>7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351160" y="0"/>
            <a:ext cx="44402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B7AF-2AF8-4243-A841-D4B8763DB8B2}" type="slidenum">
              <a:t>8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050920" y="765000"/>
            <a:ext cx="5126040" cy="272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3AAA-3248-4B9E-9CDA-20FC47AACCA3}" type="slidenum">
              <a:t>9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14:01:20Z</dcterms:created>
  <dc:creator>Usuario</dc:creator>
  <dc:description/>
  <dc:language>en-US</dc:language>
  <cp:lastModifiedBy>Usuario</cp:lastModifiedBy>
  <dcterms:modified xsi:type="dcterms:W3CDTF">2010-04-06T15:26:33Z</dcterms:modified>
  <cp:revision>3</cp:revision>
  <dc:subject/>
  <dc:title>Diapositiva 1</dc:title>
</cp:coreProperties>
</file>