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CE5-18F1-457C-8F08-3D02664A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DE0-01E0-41D9-B43A-33F1F157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95C-871E-4D16-9E8F-D9767731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2BC-AA19-4A68-BAAD-1AE7DA28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EB3-EC54-4705-8658-7581A86F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12E-B231-4200-8C7F-8CF646A4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87D-EDE7-499E-B39A-59E19AE7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76B-D7A3-40C2-BAE4-C2C95CB5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1D6-ECEA-4874-AFBF-C8DEE382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7E0-DEE3-4482-95BD-F5BD9D43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BC7-B527-46B1-8C3B-F16B92EB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3A9-247E-4B83-9C65-10059AFD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60D1-AEDE-49B3-A433-8AAAFCE83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mprenautas.com/" TargetMode="External"/><Relationship Id="rId2" Type="http://schemas.openxmlformats.org/officeDocument/2006/relationships/hyperlink" Target="http://www.emprendedorxxi.cl/" TargetMode="External"/><Relationship Id="rId3" Type="http://schemas.openxmlformats.org/officeDocument/2006/relationships/hyperlink" Target="http://www.centropyme.cl/" TargetMode="External"/><Relationship Id="rId4" Type="http://schemas.openxmlformats.org/officeDocument/2006/relationships/hyperlink" Target="http://www.proincuba.cl/" TargetMode="External"/><Relationship Id="rId5" Type="http://schemas.openxmlformats.org/officeDocument/2006/relationships/hyperlink" Target="http://www.diariopyme.cl/" TargetMode="External"/><Relationship Id="rId6" Type="http://schemas.openxmlformats.org/officeDocument/2006/relationships/hyperlink" Target="http://www.cchc.cl/" TargetMode="External"/><Relationship Id="rId7" Type="http://schemas.openxmlformats.org/officeDocument/2006/relationships/hyperlink" Target="http://www.ine.cl/" TargetMode="External"/><Relationship Id="rId8" Type="http://schemas.openxmlformats.org/officeDocument/2006/relationships/hyperlink" Target="http://www.entrepreneur.com/" TargetMode="External"/><Relationship Id="rId9" Type="http://schemas.openxmlformats.org/officeDocument/2006/relationships/hyperlink" Target="http://www.franchises.com/" TargetMode="External"/><Relationship Id="rId10" Type="http://schemas.openxmlformats.org/officeDocument/2006/relationships/hyperlink" Target="http://www.franchisedirect.com/" TargetMode="External"/><Relationship Id="rId11" Type="http://schemas.openxmlformats.org/officeDocument/2006/relationships/hyperlink" Target="http://incubacion.accessnova.cl/" TargetMode="External"/><Relationship Id="rId12" Type="http://schemas.openxmlformats.org/officeDocument/2006/relationships/hyperlink" Target="http://incubacion.accessnova.cl/" TargetMode="External"/><Relationship Id="rId13" Type="http://schemas.openxmlformats.org/officeDocument/2006/relationships/hyperlink" Target="http://incubacion.accessnova.cl/" TargetMode="External"/><Relationship Id="rId14" Type="http://schemas.openxmlformats.org/officeDocument/2006/relationships/hyperlink" Target="http://incubacion.accessnova.cl/" TargetMode="External"/><Relationship Id="rId15" Type="http://schemas.openxmlformats.org/officeDocument/2006/relationships/hyperlink" Target="http://www.3ie.cl/" TargetMode="External"/><Relationship Id="rId16" Type="http://schemas.openxmlformats.org/officeDocument/2006/relationships/hyperlink" Target="http://www.3ie.cl/" TargetMode="External"/><Relationship Id="rId17" Type="http://schemas.openxmlformats.org/officeDocument/2006/relationships/hyperlink" Target="http://www.3ie.cl/" TargetMode="External"/><Relationship Id="rId18" Type="http://schemas.openxmlformats.org/officeDocument/2006/relationships/hyperlink" Target="http://www.circulo.cl/" TargetMode="External"/><Relationship Id="rId19" Type="http://schemas.openxmlformats.org/officeDocument/2006/relationships/hyperlink" Target="http://www.corfo.cl/" TargetMode="External"/><Relationship Id="rId20" Type="http://schemas.openxmlformats.org/officeDocument/2006/relationships/hyperlink" Target="http://www.fosis.cl/" TargetMode="External"/><Relationship Id="rId21" Type="http://schemas.openxmlformats.org/officeDocument/2006/relationships/hyperlink" Target="http://www.revistacity.cl/" TargetMode="External"/><Relationship Id="rId22" Type="http://schemas.openxmlformats.org/officeDocument/2006/relationships/hyperlink" Target="http://www.sabio.cl/" TargetMode="External"/><Relationship Id="rId23" Type="http://schemas.openxmlformats.org/officeDocument/2006/relationships/hyperlink" Target="http://www.innova.cl/" TargetMode="External"/><Relationship Id="rId24" Type="http://schemas.openxmlformats.org/officeDocument/2006/relationships/hyperlink" Target="http://www.fundacionchile.cl/" TargetMode="External"/><Relationship Id="rId25" Type="http://schemas.openxmlformats.org/officeDocument/2006/relationships/hyperlink" Target="http://www.australincuba.cl/" TargetMode="External"/><Relationship Id="rId26" Type="http://schemas.openxmlformats.org/officeDocument/2006/relationships/hyperlink" Target="http://www.ventanauc.cl/" TargetMode="External"/><Relationship Id="rId27" Type="http://schemas.openxmlformats.org/officeDocument/2006/relationships/hyperlink" Target="http://www.chilemprende.cl/" TargetMode="External"/><Relationship Id="rId28" Type="http://schemas.openxmlformats.org/officeDocument/2006/relationships/hyperlink" Target="http://www.ashoka.org/" TargetMode="External"/><Relationship Id="rId2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765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9936360" cy="559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0360" y="449280"/>
            <a:ext cx="8820000" cy="618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84480" y="0"/>
            <a:ext cx="45482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497800" cy="681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22320"/>
            <a:ext cx="7775640" cy="684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37720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Webs Interes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26636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1125360"/>
            <a:ext cx="0" cy="573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197000"/>
            <a:ext cx="410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endeavor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mprenauta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mprendedorxxi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entropym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proincuba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diariopym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cchc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entrepreneur.com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franchis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franchisedirec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emprendedore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bcentral.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publiguias.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520" y="126828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ncubacion.accessnova.c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3ie.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circul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corf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fosis.cl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revistacity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sabi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innova.cl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octanti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www.fundacion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ww.australincuba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www.ventanauc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.chilemprend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www.ashoka.org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ccs.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¿Serán atractivos estos negoc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restaurante para g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compañía de inspecciones técnicas de cas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zoológico de animales venenos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librería con cafetería e Intern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universidad virtu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local de reparación de scoot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gimnasio para guagu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empresa de tatuajes para aut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Paseos en Zeppelín por Santiag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bar - pub científic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firma organizadora de cumpleaños para ni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instituto para que estudien los mayores de 50 a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casino por la Web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pastelería para diabétic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agencia de turismo aventura y ecológic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agente (manager) de músicos y deportist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museo del nego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 Techo para Chi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Una fábrica de chocolates con diseñ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17" end="1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2">
                                      <p:txEl>
                                        <p:pRg st="18" end="1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87200"/>
            <a:ext cx="8496000" cy="648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080" y="1341360"/>
            <a:ext cx="9036000" cy="444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23:45:43Z</dcterms:created>
  <dc:creator>Ariel</dc:creator>
  <dc:description/>
  <dc:language>en-US</dc:language>
  <cp:lastModifiedBy>Ariel</cp:lastModifiedBy>
  <dcterms:modified xsi:type="dcterms:W3CDTF">2007-03-24T00:21:22Z</dcterms:modified>
  <cp:revision>4</cp:revision>
  <dc:subject/>
  <dc:title>Slide 1</dc:title>
</cp:coreProperties>
</file>