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6D2-999A-44A8-877A-CE2BF9C2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D37-C48A-46E6-8EAB-1527D12B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DF8-F2E0-4900-9C70-5A7768BF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5E1-2508-4992-945A-FFC8A2C6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6F2-79CC-4400-B19F-F969656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54C-5AAF-4943-98FD-37788236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D0D-4918-4445-A9D5-8E01A32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8A0-C717-4927-909B-8552F21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6B6-8D38-4D3A-989F-51CF3C2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A5D-C974-4B0D-8F64-C3F24E9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A10-C985-4EC0-8DE4-04DA219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B51-72BB-4F57-ACD7-4B676BE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FEF-3C08-41BE-93FF-73879AD5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5CD-778F-4C3C-B36A-15DCD256CAF2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8A9-0511-4286-94C2-4ED18C7451C4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31A-1BC6-4B89-A999-6D7A042B9826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E09-AD4F-418E-92EB-7D85E687233A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334-6C1D-49DA-8E0A-803176BA55D4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EB2-F958-4DBD-B051-68DD3E6A3D7D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81F-F0B6-474F-945E-4EB44EEA38A6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39D-305D-4C46-909B-A1EFF7952443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A9D-64AE-4D64-9EEC-A7B3F24D61C0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AA8-DA21-4853-B894-4413618EED7C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DD1-23EC-4C67-8447-32838834040D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8E3-5013-4E49-A16E-FECFDA9C0311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1D0-513B-4621-BB53-45805E1CFC75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736-FDE6-4746-968F-CF883AEAF405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47A-6226-4C2E-B204-DA11C0320DEE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62A-42B5-4CF4-82C5-45FC6DE31633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C0B-74A5-4AD7-A7A4-8F720BCBCA05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FFD-118B-4B8F-A740-CB808C5B0D54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F46-B471-461A-9BF1-9904FC81C48B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BF2-1572-4A1F-A5A1-088D1F4CFBA5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FD2-14C2-428F-8FD5-46E8579DF444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ADB-2CAC-4C10-825F-D44C62CF363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24F-68E9-469A-9FDB-7A5DB5B6464B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61F-4BCD-48E4-8797-00435767FF53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2F0-1B7B-4785-90BF-4B9A8D605799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577-5D15-42ED-916F-D744647FBF5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96C-48AB-4C34-8DDA-19701D5F816A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4-06T15:26:33Z</dcterms:modified>
  <cp:revision>3</cp:revision>
  <dc:subject/>
  <dc:title>Diapositiva 1</dc:title>
</cp:coreProperties>
</file>