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760" y="624816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4217-D542-4569-B36B-B84BEA4576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baseline="15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Elevator Pitch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99320" y="6445080"/>
            <a:ext cx="162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© Copyright 2004 Chris O’Le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 101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ris O’Le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7040" y="62326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TEACHING TOOL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stener probably doesn’t know as much about the subject as you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ablish the context of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them organize what you’re telling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 = Your Grand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er = Your Sales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JIG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31880" y="1330200"/>
            <a:ext cx="5878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Flow of 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MMARY SENTENC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overview of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e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 your product an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on its own to introduc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o say if you only have 1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product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wrong with the state of the 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drive people to adopt your innov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people are experiencing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communicate The Probl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with a (preferably personal) 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you came to see that a problem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contrast the state of the art and your vision of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CONSEQUEN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nsequences of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or psychologic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pecific and tangible about the nature and magnitude of the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evidence that people are in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they will change and adopt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OLU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you bui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z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H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eople a plain English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BA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t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it diffe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ywood pitch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ENEFI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rela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the state of the art (e.g. existing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you can offer a 10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tic if only 1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get the attention of your custo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eople make or sav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peopl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TEA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mul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lev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qualified to solve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the credibility and credentials of th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rior experi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xecutive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UNDING NEEDS &amp; USE OF PROCEED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eed to reach the next mile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ping produ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$ you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time will it t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are you in the product development lifecy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tion 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DON’T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TALK ABOUT THE TECHNOLOG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for man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have spent _ years 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understand it, you won’t give them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don’t understand it, they’ll lose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mus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s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alk to an Ordinary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ampl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BOUT SALESLOGIX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middle market Customer Relationship Management (CRM)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by Pat Sull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d $17 million in 3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to Sage Software in 2001 for $253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6208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MMARY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make a software product, called SalesLogix, that combines the affordability and usability of a contact manager like Act and the power of a high-end CRM system like Sie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y organizations are beginning to understand the value of giving their salespeople and customer service people tools that will allow them more efficiently manage their relationships with Contacts and Ac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 is that existing Customer Relationship Management (CRM) solutions fall into one of two categor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 managers like Act and GoldMine that salespeople love but that do not allow people to share information across a large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 end CRM systems like Siebel that will scale to support the needs of hundreds or thousands of users but that salespeople refuse to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35000"/>
            <a:ext cx="73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sult is that too many organizations are unable 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e the efforts of their sales and customer service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tain a holistic picture of th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imize the revenue gained from each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477800"/>
            <a:ext cx="365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the CRM system that delivers the best of both worl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ease of use of a conta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calability, database synchronization, and reporting capabilities of a high-end CR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523880"/>
            <a:ext cx="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334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34340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514600"/>
            <a:ext cx="1828800" cy="1828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Log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82720"/>
            <a:ext cx="73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people happy by giving them tools that save them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 managers happy by giving them the reports that they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I.S. people happy by using industry-standard databases like Oracle and Microsoft 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034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alesLogix team is led by Pat Sullivan, the former co-founder and CEO of Contact Software International, the company that developed Act, the most widely used contact manager. Other members of the SalesLogix team includ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eg Head (VP of Marketing) – Original product manager for Act at both Contact Software International and Syman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nil Padiyar (VP of Engineering) – Former VP of Development for Nov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n Nichter (VP of Sales) – Former VP of Sales for Contact Softwar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vin Carson (VP of Professional Services) – A highly experienced and respected CRM Value-Added Resel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5448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NDING NEEDS &amp; USE OF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seeking $5 million to finance continued development of SalesLogix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requen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Made Mistak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on Failure Patter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m B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 low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qualified to solve the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SO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, not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e of who will buy it or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1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but no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TTING LOST IN THE “HOW”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(or exclusive) focus on H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istake of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nswer the questions they would ask, not the questions an investor or customer would 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listener probably doesn’t understand the technology (and doesn’t c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into the How until later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ISMATCHED MESSAG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used to giving one type of message to one type of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it will work univers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tailor the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ors want to hear about upsid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ngness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want to hear about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mak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YPE-erbol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greatest invention since sliced bre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multi-billion dollar marke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can get just 1% of this market…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urn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re skep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sounds too good to be true, it probably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seem unfoc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come across as naï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is harder than you th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 but don’t overstate you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GETTING TO THE POIN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people save the best for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re’s so much mo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 never do it ju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intrigu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people put the bes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off with an 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hrase that addresses The Problem and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only have a limited amount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be cut off at any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e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focus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explain what’s wrong with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hat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drive people to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tic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stablishing that a problem truly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n Search Of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BENEFIT(S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eatures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 are what most people care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benefits to be self-ev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often benefits are only clear to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benefits at the end of the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at the fr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ill customers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BA-iti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zz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explain this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p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grandm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UNICATION 101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needs you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will bu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d what it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 are to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ESTABLISHING CREDIBILIT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qualifications to solve this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ent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really understand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you lived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a real solution to a hypothetical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s AND DON’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ailor your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lost in the “H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Pitch = 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context of the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oversell or over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o W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ry Wei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our Point Across in 30 seco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 O. F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NTACT INF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843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909.9760 - hom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494.1324 - cel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@thepowerofpain.com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ides Available Online a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ORIGIN OF THE TER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nto a Venture Capitalist or Prospective Customer in an elev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 you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he length of the elevator 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5 to 60 seconds) to convince them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follow-up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an elevator pit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ince them to invest in your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e them to buy you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YOU NEED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,000 foot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nterested in the subject as you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knowledgeable about the subject as you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eed to prove to a potential investo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arti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understand 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get a customer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27:18Z</dcterms:created>
  <dc:creator>Chris O'Leary</dc:creator>
  <dc:description/>
  <dc:language>en-US</dc:language>
  <cp:lastModifiedBy>Jorge</cp:lastModifiedBy>
  <dcterms:modified xsi:type="dcterms:W3CDTF">2005-12-02T20:05:22Z</dcterms:modified>
  <cp:revision>234</cp:revision>
  <dc:subject>How to create an effective elevator pitch</dc:subject>
  <dc:title>Elevator Pitch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1654246</vt:r8>
  </property>
  <property fmtid="{D5CDD505-2E9C-101B-9397-08002B2CF9AE}" pid="3" name="_AuthorEmail">
    <vt:lpwstr>coleary@talx.com</vt:lpwstr>
  </property>
  <property fmtid="{D5CDD505-2E9C-101B-9397-08002B2CF9AE}" pid="4" name="_AuthorEmailDisplayName">
    <vt:lpwstr>Chris O'Leary</vt:lpwstr>
  </property>
  <property fmtid="{D5CDD505-2E9C-101B-9397-08002B2CF9AE}" pid="5" name="_EmailSubject">
    <vt:lpwstr>Olin Cup 2004 - 5/7 Workshop Confirmation</vt:lpwstr>
  </property>
  <property fmtid="{D5CDD505-2E9C-101B-9397-08002B2CF9AE}" pid="6" name="_ReviewingToolsShownOnce">
    <vt:lpwstr/>
  </property>
</Properties>
</file>