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2193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84624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341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4624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193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4624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32760" y="6248160"/>
            <a:ext cx="241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638E-745F-45D8-9869-0F589FE304B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 baseline="15000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Elevator Pitch 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99320" y="6445080"/>
            <a:ext cx="1626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© Copyright 2004 Chris O’Lea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28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 101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hris O’Leary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27040" y="623268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ersion 1.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TEACHING TOOL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are the teac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listener probably doesn’t know as much about the subject as you 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 establish the context of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them organize what you’re telling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dience = Your Grandm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stener = Your Sales Fo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= JIG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631880" y="1330200"/>
            <a:ext cx="5878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The Flow of a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UMMARY SENTENC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 overview of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the 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on your product and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used on its own to introduce your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o say if you only have 1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 of product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wrong with the state of the ar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ill drive people to adopt your innova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people are experiencing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ys to communicate The Probl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 off with a (preferably personal) s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how you came to see that a problem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 and contrast the state of the art and your vision of the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CONSEQUEN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the consequences of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or psychological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specific and tangible about the nature and magnitude of the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evidence that people are in p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they will change and adopt your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SOLU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have you buil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z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“How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people a plain English defi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MBA spe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ana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’s it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is it differen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llywood pitch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BENEFI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’s in it for m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relative advantag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red to the state of the art (e.g. existing sol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ally, you can offer a 10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tic if only 1X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ill you get the attention of your custome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 people make or sav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ve peopl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TEA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umulati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ears o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lev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are you qualified to solve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hasize the credibility and credentials of the t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your prior experienc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aling with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ving The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xecutive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FUNDING NEEDS &amp; USE OF PROCEED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 you need to reach the next mileston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pping product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$ you nee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time will it tak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 level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 are you in the product development lifecyc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ntion 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Arial Black"/>
              </a:rPr>
              <a:t>DON’T</a:t>
            </a: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 TALK ABOUT THE TECHNOLOG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i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d for many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lo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hey have spent _ years dealing wi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og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understand it, you won’t give them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y don’t understand it, they’ll lose inter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mus t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sel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you talk to an Ordinary Per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Sample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Elevator Pitc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ABOUT SALESLOGIX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ding middle market Customer Relationship Management (CRM) br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nded by Pat Sulliv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or of 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sed $17 million in 3 rou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d to Sage Software in 2001 for $253 mill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620800"/>
            <a:ext cx="7315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MMARY SEN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e make a software product, called SalesLogix, that combines the affordability and usability of a contact manager like Act and the power of a high-end CRM system like Sieb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114300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ny organizations are beginning to understand the value of giving their salespeople and customer service people tools that will allow them more efficiently manage their relationships with Contacts and Accou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89080" indent="-174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problem is that existing Customer Relationship Management (CRM) solutions fall into one of two categorie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tact managers like Act and GoldMine that salespeople love but that do not allow people to share information across a large organiz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87240" indent="-23004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igh end CRM systems like Siebel that will scale to support the needs of hundreds or thousands of users but that salespeople refuse to u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935000"/>
            <a:ext cx="7315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result is that too many organizations are unable 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ordinate the efforts of their sales and customer service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btain a holistic picture of the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ximize the revenue gained from each custom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477800"/>
            <a:ext cx="3657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the CRM system that delivers the best of both worl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ease of use of a contact 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7000" indent="-18252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calability, database synchronization, and reporting capabilities of a high-end CRM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1523880"/>
            <a:ext cx="0" cy="3810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5334120"/>
            <a:ext cx="33526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4343400"/>
            <a:ext cx="83808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nag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1600200"/>
            <a:ext cx="91440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-End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514600"/>
            <a:ext cx="1828800" cy="1828800"/>
          </a:xfrm>
          <a:prstGeom prst="ellipse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Log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782720"/>
            <a:ext cx="7315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people happy by giving them tools that save them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sales managers happy by giving them the reports that they 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akes I.S. people happy by using industry-standard databases like Oracle and Microsoft SQL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1203480"/>
            <a:ext cx="73152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he SalesLogix team is led by Pat Sullivan, the former co-founder and CEO of Contact Software International, the company that developed Act, the most widely used contact manager. Other members of the SalesLogix team includ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Greg Head (VP of Marketing) – Original product manager for Act at both Contact Software International and Syman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nil Padiyar (VP of Engineering) – Former VP of Development for Nov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n Nichter (VP of Sales) – Former VP of Sales for Contact Software Inter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90520" indent="-17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evin Carson (VP of Professional Services) – A highly experienced and respected CRM Value-Added Resell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SALESLOGIX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2544840"/>
            <a:ext cx="7315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UNDING NEEDS &amp; USE OF PROC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alesLogix is seeking $5 million to finance continued development of SalesLogix 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2239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Frequent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Made Mistak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on Failure Pattern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m Burn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remely  low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qualified to solve the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ISO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, not a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nse of who will buy it or w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“11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remental adv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 but no 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GETTING LOST IN THE “HOW”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(or exclusive) focus on How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mistake of engine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answer the questions they would ask, not the questions an investor or customer would as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listener probably doesn’t understand the technology (and doesn’t ca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into the How until later 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ISMATCHED MESSAG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used to giving one type of message to one type of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e it will work universal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tailor the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stors want to hear about upside potent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ze of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llingness to p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stomers want to hear about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tim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sav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w will this make me mone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HYPE-erbol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the greatest invention since sliced brea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multi-billion dollar market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we can get just 1% of this market…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urn people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ople are skep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t sounds too good to be true, it probably 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seem unfoc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will come across as naï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ling is harder than you th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 enthusiastic but don’t overstate your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GETTING TO THE POIN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people save the best for l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there’s so much mo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ould never do it jus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ing to intrigue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enced people put the best information fir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them what you’re going to tell them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rt off with an executive summ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gle phrase that addresses The Problem and 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only have a limited amount of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prepared to be cut off at any mo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PROBLE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re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focus on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pport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ent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ver explain what’s wrong with state of the a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people hate to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ill drive people to chang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othetical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establishing that a problem truly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 In Search Of A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 STATEMENT OF THE BENEFIT(S)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features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 are what most people care abo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benefits to be self-evid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 often benefits are only clear to an expe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benefits at the end of the pit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uld be at the fr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y will customers car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MBA-iti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ssive use of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arg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zz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ony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would you explain this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po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chil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fa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grandm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MMUNICATION 101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world needs your innov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will buy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and what it do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 are to solve 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your innovation 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NOT ESTABLISHING CREDIBILITY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your qualifications to solve this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dent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you really understand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you lived with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this a real solution to a hypothetical probl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 Summar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DOs AND DON’T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speak Engli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tailor your message to the aud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get lost in the “Ho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vator Pitch = Teach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he context of the innov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just load people down with fa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oversell or overprom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RESOURCES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ing to Wi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ry Weis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Get Your Point Across in 30 seco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o O. Fra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ONTACT INFO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58436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909.9760 - hom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314.494.1324 - cell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hris@thepowerofpain.com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lides Available Online a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www.thepowerofpain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FLOW OF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mmary Sent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sequence(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ding Needs &amp; Use of Procee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alk about The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964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THE ORIGIN OF THE TERM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nto a Venture Capitalist or Prospective Customer in an eleva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ask you what you 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have the length of the elevator rid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5 to 60 seconds) to convince them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e t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up a follow-up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oal of an elevator pit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sn’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vince them to invest in your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uade them to buy your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ELEVATOR PITCH DEFINITION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856160" y="2314440"/>
            <a:ext cx="5420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 Elevator Pitch is 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or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igh-le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crip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 a new product or servi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nefit-focused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tailored to the audienc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WHY YOU NEED AN ELEVATOR PITCH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,000 foot 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aren’t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interested in the subject as you ar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knowledgeable about the subject as you 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need to prove to a potential investo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are arti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understand sel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 can get a customer’s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22:27:18Z</dcterms:created>
  <dc:creator>Chris O'Leary</dc:creator>
  <dc:description/>
  <dc:language>en-US</dc:language>
  <cp:lastModifiedBy>Jorge</cp:lastModifiedBy>
  <dcterms:modified xsi:type="dcterms:W3CDTF">2005-12-02T20:05:22Z</dcterms:modified>
  <cp:revision>234</cp:revision>
  <dc:subject>How to create an effective elevator pitch</dc:subject>
  <dc:title>Elevator Pitch 10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31654246</vt:r8>
  </property>
  <property fmtid="{D5CDD505-2E9C-101B-9397-08002B2CF9AE}" pid="3" name="_AuthorEmail">
    <vt:lpwstr>coleary@talx.com</vt:lpwstr>
  </property>
  <property fmtid="{D5CDD505-2E9C-101B-9397-08002B2CF9AE}" pid="4" name="_AuthorEmailDisplayName">
    <vt:lpwstr>Chris O'Leary</vt:lpwstr>
  </property>
  <property fmtid="{D5CDD505-2E9C-101B-9397-08002B2CF9AE}" pid="5" name="_EmailSubject">
    <vt:lpwstr>Olin Cup 2004 - 5/7 Workshop Confirmation</vt:lpwstr>
  </property>
  <property fmtid="{D5CDD505-2E9C-101B-9397-08002B2CF9AE}" pid="6" name="_ReviewingToolsShownOnce">
    <vt:lpwstr/>
  </property>
</Properties>
</file>