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E4D-70CE-4660-8E57-3A27E388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013-0E6A-475A-B281-FAC5187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396-2123-4AF6-99B7-FEA483D4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642-451D-48FD-905C-4FAC81E0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753-6AAE-4918-8E1E-A1289DF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41E-D9F4-40D2-BD23-DFF5869A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92D-B7C9-49AE-B285-2CBBFF9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479-76BD-40E1-BF61-0858603D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A1C-81BF-497B-936D-D8C414E2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BCB-402A-42E1-85C9-7D66900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0E5-986F-4B41-B356-88B8B1B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DF8-B9D4-488D-A313-4069AC2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B83-4C18-494D-AD35-5E228613D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4480" indent="0" algn="ctr">
              <a:buNone/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463840"/>
            <a:ext cx="7488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úmero limitado de áreas en las cuales los resultados, si son satisfactorios, aseguran un funcionamiento competitivo y exitoso para la Organiz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ara la identificación de los Factores Críticos de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aborar una lista de l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purar esta lista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dentificar los factore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iminar los factores de éxito no cr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grupar los factores de éxito de acuerdo con los obje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leccionar los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nalizar el estudio de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4480" algn="ctr"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2:03:24Z</dcterms:created>
  <dc:creator>Jorge</dc:creator>
  <dc:description/>
  <dc:language>en-US</dc:language>
  <cp:lastModifiedBy>Jorge</cp:lastModifiedBy>
  <dcterms:modified xsi:type="dcterms:W3CDTF">2010-05-02T02:03:57Z</dcterms:modified>
  <cp:revision>1</cp:revision>
  <dc:subject/>
  <dc:title>Diapositiva 1</dc:title>
</cp:coreProperties>
</file>