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B82-374F-4723-AB2A-ECC07E83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7B5-2AF3-4F17-901A-84E0F182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80F-45E8-42DA-B815-36342DF9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145-6817-46D4-979A-085E2DD0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B7C-9D82-4303-94DA-517D1497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B2F-E07A-494D-AA73-B125F403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68F-52CA-4470-8D2A-8F87F293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420-24DE-4DFF-973C-AD236C06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099-EE85-4C64-9F9E-D3A1E5FD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78D-4D21-4067-99AB-A0E76F45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C93-2EF7-4899-BA92-39B92508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164-BB49-4040-9D04-EEB7017F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9D88-E85F-4B19-89CF-FF0ADE1A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4480" indent="0" algn="ctr">
              <a:buNone/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463840"/>
            <a:ext cx="7488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5000"/>
              </a:lnSpc>
              <a:spcBef>
                <a:spcPts val="75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úmero limitado de áreas en las cuales los resultados, si son satisfactorios, aseguran un funcionamiento competitivo y exitoso para la Organizació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ara la identificación de los Factores Críticos de É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aborar una lista de los objetivo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purar esta lista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dentificar los factore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iminar los factores de éxito no cr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grupar los factores de éxito de acuerdo con los obje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leccionar los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inalizar el estudio de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14480" algn="ctr"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2:03:24Z</dcterms:created>
  <dc:creator>Jorge</dc:creator>
  <dc:description/>
  <dc:language>en-US</dc:language>
  <cp:lastModifiedBy>Jorge</cp:lastModifiedBy>
  <dcterms:modified xsi:type="dcterms:W3CDTF">2010-05-02T02:03:57Z</dcterms:modified>
  <cp:revision>1</cp:revision>
  <dc:subject/>
  <dc:title>Diapositiva 1</dc:title>
</cp:coreProperties>
</file>