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35E-4D2E-46E0-AFD6-AA85720F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0D8-AB56-4972-B2C5-A3A00C38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42F0-2227-4044-B9D6-E05622BB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6DD0-A0B4-41FF-86B5-06E135A0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2254-A1E2-42E6-9F7A-0A32621E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C32-8D55-48DD-8CC0-6B2FCF07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1B2-CB9A-459A-A2AC-A3DBDAA4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55F-D453-4E0B-95CE-AE659E53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11BA-EF1C-46B8-A03D-AB056C4F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40C9-6DEA-473C-9152-03CD435D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8D7F-DDBB-49AC-A845-3A50B77E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8093-6F54-4210-AF18-AF6DD639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D39E-1409-4C17-908C-AFDCD68A4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actores Críticos de Éx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8560" y="476280"/>
            <a:ext cx="58323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14480" indent="0" algn="ctr">
              <a:buNone/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Factores Críticos de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2463840"/>
            <a:ext cx="7488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15000"/>
              </a:lnSpc>
              <a:spcBef>
                <a:spcPts val="75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úmero limitado de áreas en las cuales los resultados, si son satisfactorios, aseguran un funcionamiento competitivo y exitoso para la Organizació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Para la identificación de los Factores Críticos de Éx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aborar una lista de los objetivos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epurar esta lista de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Identificar los factores de éxi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iminar los factores de éxito no crít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Agrupar los factores de éxito de acuerdo con los objetiv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Seleccionar los Factores Críticos de Éxi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Finalizar el estudio de Factores Críticos de Éxi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476280"/>
            <a:ext cx="58323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14480" algn="ctr"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Factores Críticos de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02:03:24Z</dcterms:created>
  <dc:creator>Jorge</dc:creator>
  <dc:description/>
  <dc:language>en-US</dc:language>
  <cp:lastModifiedBy>Jorge</cp:lastModifiedBy>
  <dcterms:modified xsi:type="dcterms:W3CDTF">2010-05-02T02:03:57Z</dcterms:modified>
  <cp:revision>1</cp:revision>
  <dc:subject/>
  <dc:title>Diapositiva 1</dc:title>
</cp:coreProperties>
</file>