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433-D79B-492D-A048-9B113CAC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5C2-8CB5-43DA-943B-262D4D8C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D66-FAE9-400E-BBFC-DEEC42B2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AE3-1BEA-4747-A8D0-4E3B504E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671-DA00-48B7-85FD-141D6FC2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4B1-89F9-4E1C-A3BC-2AA551AE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982-3B3B-4C8B-87E1-C41B9D0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B27-8C17-419F-964B-FA0C4BEA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0A1-9FBB-4C34-A775-CA1416B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91A-278C-4C0B-A55B-1275C18F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670-E112-4705-BE6D-5CA0A8BD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AB9-428A-4898-B3AA-CA5343D1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9846-5E1D-4CDC-8E0A-74DF0FD2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4480" indent="0" algn="ctr">
              <a:buNone/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463840"/>
            <a:ext cx="7488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5000"/>
              </a:lnSpc>
              <a:spcBef>
                <a:spcPts val="75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úmero limitado de áreas en las cuales los resultados, si son satisfactorios, aseguran un funcionamiento competitivo y exitoso para la Organizació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ara la identificación de los Factores Críticos de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aborar una lista de los objetiv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purar esta lista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dentificar los factore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iminar los factores de éxito no cr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grupar los factores de éxito de acuerdo con los obje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leccionar los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nalizar el estudio de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14480" algn="ctr"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2:03:24Z</dcterms:created>
  <dc:creator>Jorge</dc:creator>
  <dc:description/>
  <dc:language>en-US</dc:language>
  <cp:lastModifiedBy>Jorge</cp:lastModifiedBy>
  <dcterms:modified xsi:type="dcterms:W3CDTF">2010-05-02T02:03:57Z</dcterms:modified>
  <cp:revision>1</cp:revision>
  <dc:subject/>
  <dc:title>Diapositiva 1</dc:title>
</cp:coreProperties>
</file>