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F59-5868-40A4-A0CC-050F1C30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3A9-FAD7-415D-8FE1-4410D714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C6C-93D1-4FD7-BFD1-EFA15079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A9E-D12A-4556-A1D7-E6CF8508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0D3-D105-41D0-BE34-E306D306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B8A-10E7-49CC-8927-F9604BC9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9C1-DAA3-489A-A14A-B3464850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94C-5F47-4539-BDEF-7266E3A3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7CF-684D-40D3-80BA-765481E5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4A4-BC17-43E9-BD53-2599E4EF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F86-2615-4548-95F4-F6A7AC6A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9E0-BAEF-4149-9C0A-ECC7DF3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ECBF-67BF-4447-B9D5-F3CAF694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4480" indent="0" algn="ctr">
              <a:buNone/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463840"/>
            <a:ext cx="7488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5000"/>
              </a:lnSpc>
              <a:spcBef>
                <a:spcPts val="75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úmero limitado de áreas en las cuales los resultados, si son satisfactorios, aseguran un funcionamiento competitivo y exitoso para la Organizació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Para la identificación de los Factores Críticos de É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aborar una lista de los objetiv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purar esta lista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dentificar los factore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iminar los factores de éxito no cr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grupar los factores de éxito de acuerdo con los obje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leccionar los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lnSpc>
                <a:spcPct val="8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nalizar el estudio de Factores Críticos de Éx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6280"/>
            <a:ext cx="58323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14480" algn="ctr"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es Crítico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2:03:24Z</dcterms:created>
  <dc:creator>Jorge</dc:creator>
  <dc:description/>
  <dc:language>en-US</dc:language>
  <cp:lastModifiedBy>Jorge</cp:lastModifiedBy>
  <dcterms:modified xsi:type="dcterms:W3CDTF">2010-05-02T02:03:57Z</dcterms:modified>
  <cp:revision>1</cp:revision>
  <dc:subject/>
  <dc:title>Diapositiva 1</dc:title>
</cp:coreProperties>
</file>