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135-2BF4-49BB-98CB-2EF06525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F84-014E-4D4D-99E2-90B2B296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8F9-EBB3-4EE5-AD03-4887BCB5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9478-A977-4EAD-BED5-F95C4488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A957-DDB4-41A7-93A7-AEB0CEA4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E282-F1EF-4036-8FD9-C985FD65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3562-A1E4-49F3-BAE6-318BA023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64FE-AD39-4D1B-9A03-B5D19CD4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9CC8-0500-4581-A376-5A86849E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43D7-665B-4C5B-919A-9FE2F569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FEED-C650-4AB8-8E3C-C6B9877E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6F3-CF53-4FA0-914A-3E1A7012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0ADC-D0BF-4FE9-8A4D-A79ABEEB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1BDC-532C-43E1-B734-094B5551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5D03-D6C7-453C-BFD3-A8FDFBB4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4CF9-3AB6-4C25-A608-84FAC3D2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321C-0D7A-4A3C-AAFB-67EDEDB0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1990-4CC3-434F-9EC5-6F66C8F5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2082-6088-46C3-823B-79C7ED08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438F-8BD7-4699-B153-C87D320F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4A28-DC33-4882-8011-F6FC6F28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564-72F9-4E05-A572-DC2DFE7D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D5A5-7EC4-4E52-B514-075CE8E8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ADFF-AD1C-4E16-98A7-01BC68FE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5492-087C-4D81-A1E7-D1F4752735BF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Text Box 11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8F6D-8B75-4CF4-8094-F7A242DE6685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FDA8-B1C5-404B-88E6-D5E2E09C0514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mente"/>
          <p:cNvPicPr/>
          <p:nvPr/>
        </p:nvPicPr>
        <p:blipFill>
          <a:blip r:embed="rId1"/>
          <a:stretch/>
        </p:blipFill>
        <p:spPr>
          <a:xfrm>
            <a:off x="2141640" y="1252440"/>
            <a:ext cx="526896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83D7-5CF7-4071-BDD3-4DDBE225D73C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38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9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0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1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42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3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4"/>
          <p:cNvSpPr/>
          <p:nvPr/>
        </p:nvSpPr>
        <p:spPr>
          <a:xfrm rot="17989800">
            <a:off x="4905360" y="5066280"/>
            <a:ext cx="195120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Equipo hum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45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7" descr="brain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8"/>
          <p:cNvSpPr/>
          <p:nvPr/>
        </p:nvSpPr>
        <p:spPr>
          <a:xfrm>
            <a:off x="6461280" y="1720800"/>
            <a:ext cx="1671480" cy="636480"/>
          </a:xfrm>
          <a:prstGeom prst="wedgeRectCallout">
            <a:avLst>
              <a:gd name="adj1" fmla="val -67092"/>
              <a:gd name="adj2" fmla="val 1622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mo puede afectar el flujo la subestimación de la competencia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49"/>
          <p:cNvSpPr/>
          <p:nvPr/>
        </p:nvSpPr>
        <p:spPr>
          <a:xfrm>
            <a:off x="6865920" y="4194000"/>
            <a:ext cx="1671480" cy="636840"/>
          </a:xfrm>
          <a:prstGeom prst="wedgeRectCallout">
            <a:avLst>
              <a:gd name="adj1" fmla="val -85138"/>
              <a:gd name="adj2" fmla="val 118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l euipo que lidera el proyecto, es capaz de implementarl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50"/>
          <p:cNvSpPr/>
          <p:nvPr/>
        </p:nvSpPr>
        <p:spPr>
          <a:xfrm>
            <a:off x="196920" y="1987560"/>
            <a:ext cx="1671480" cy="636480"/>
          </a:xfrm>
          <a:prstGeom prst="wedgeRectCallout">
            <a:avLst>
              <a:gd name="adj1" fmla="val 54462"/>
              <a:gd name="adj2" fmla="val 1395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á bien proyectado el mercad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51"/>
          <p:cNvSpPr/>
          <p:nvPr/>
        </p:nvSpPr>
        <p:spPr>
          <a:xfrm>
            <a:off x="0" y="4178160"/>
            <a:ext cx="1671480" cy="636840"/>
          </a:xfrm>
          <a:prstGeom prst="wedgeRectCallout">
            <a:avLst>
              <a:gd name="adj1" fmla="val 69564"/>
              <a:gd name="adj2" fmla="val 137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Hay un mecanismo de salida equilibrado entre los accionistas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52"/>
          <p:cNvSpPr/>
          <p:nvPr/>
        </p:nvSpPr>
        <p:spPr>
          <a:xfrm>
            <a:off x="3902040" y="1100160"/>
            <a:ext cx="1671840" cy="636480"/>
          </a:xfrm>
          <a:prstGeom prst="wedgeRectCallout">
            <a:avLst>
              <a:gd name="adj1" fmla="val -45537"/>
              <a:gd name="adj2" fmla="val 88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 realista la proyección del fluj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53"/>
          <p:cNvSpPr/>
          <p:nvPr/>
        </p:nvSpPr>
        <p:spPr>
          <a:xfrm>
            <a:off x="6211800" y="5815080"/>
            <a:ext cx="1671840" cy="636480"/>
          </a:xfrm>
          <a:prstGeom prst="wedgeRectCallout">
            <a:avLst>
              <a:gd name="adj1" fmla="val -121888"/>
              <a:gd name="adj2" fmla="val 34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 realista el plazo y el presupuesto de implementación del producto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5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57"/>
          <p:cNvSpPr/>
          <p:nvPr/>
        </p:nvSpPr>
        <p:spPr>
          <a:xfrm>
            <a:off x="422280" y="5508720"/>
            <a:ext cx="1671480" cy="636480"/>
          </a:xfrm>
          <a:prstGeom prst="wedgeRectCallout">
            <a:avLst>
              <a:gd name="adj1" fmla="val 6601"/>
              <a:gd name="adj2" fmla="val 81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Hay alguna regulación o ley que impida o dificulte el negocio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708B-19F0-43C8-A9D5-F8F1F545FEC5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5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6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8"/>
          <p:cNvSpPr/>
          <p:nvPr/>
        </p:nvSpPr>
        <p:spPr>
          <a:xfrm rot="17989800">
            <a:off x="4923360" y="5099040"/>
            <a:ext cx="187632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Equipo hum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9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0" descr="brain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7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19"/>
          <p:cNvSpPr/>
          <p:nvPr/>
        </p:nvSpPr>
        <p:spPr>
          <a:xfrm rot="19722600">
            <a:off x="4269600" y="3030120"/>
            <a:ext cx="26557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solo paranoicos sobreviven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20"/>
          <p:cNvSpPr/>
          <p:nvPr/>
        </p:nvSpPr>
        <p:spPr>
          <a:xfrm rot="2125200">
            <a:off x="4430880" y="4539960"/>
            <a:ext cx="1783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manejo de crisis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21"/>
          <p:cNvSpPr/>
          <p:nvPr/>
        </p:nvSpPr>
        <p:spPr>
          <a:xfrm rot="21376800">
            <a:off x="3331800" y="5517720"/>
            <a:ext cx="21344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mas tarde, mas caro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22"/>
          <p:cNvSpPr/>
          <p:nvPr/>
        </p:nvSpPr>
        <p:spPr>
          <a:xfrm rot="20363400">
            <a:off x="2267280" y="4578120"/>
            <a:ext cx="2152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quiero ver mi retorn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23"/>
          <p:cNvSpPr/>
          <p:nvPr/>
        </p:nvSpPr>
        <p:spPr>
          <a:xfrm rot="1751400">
            <a:off x="2297880" y="3460680"/>
            <a:ext cx="1305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optimism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24"/>
          <p:cNvSpPr/>
          <p:nvPr/>
        </p:nvSpPr>
        <p:spPr>
          <a:xfrm rot="1448400">
            <a:off x="2888640" y="2727360"/>
            <a:ext cx="28810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No deseo que me pidan más pl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25"/>
          <p:cNvSpPr/>
          <p:nvPr/>
        </p:nvSpPr>
        <p:spPr>
          <a:xfrm rot="703200">
            <a:off x="397080" y="5873400"/>
            <a:ext cx="1293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imprevist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679A-CAEB-449A-89BC-33CCCDBCD10D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722880" y="2274840"/>
            <a:ext cx="750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sensación de riesgo es un jui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da inversionista tiene sus propios mie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uidado con los escépticos y con los optimis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ién se hace carg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án pidiendo un socio, no un cli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nicero o Ejecutiv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justa tu ofert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1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FBE6-D587-4039-A994-7376D43D7595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904320" y="2279520"/>
            <a:ext cx="7663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A) NO LE CREO NADA…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B) NO ME CONVENCE , TENGO DUD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C) ME CONVENCE TOTAL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8AEF-CF1C-4694-95FE-2C291B1ECC98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332080"/>
                <a:gridCol w="6811920"/>
              </a:tblGrid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UR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NSAMIENTO OBSE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NCIER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s flujos son creíbles, las tasas, los indicadores, los supuestos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á bien evaluada la amenaza de competencia actual y potencial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PO HUM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e equipo humano es capaz de llevar adelante el proyecto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producto está bien definido en cuanto a lo que puede hacer, cuanto cuesta implementarlo y el tiempo para poder venderl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C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á considerada adecuadamente la regulación o leyes que podrían poner en riesgo el negoci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L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o es la propuesta de salida del negocio? Como y cuando recuperaré mi plata realment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3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R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 bien está considerada la demanda potencial y objetivo? Podrán vender lo que dicen y en los plazos prometidos? La estrategia de marketing es razonabl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4:49:35Z</dcterms:created>
  <dc:creator>michael</dc:creator>
  <dc:description/>
  <dc:language>en-US</dc:language>
  <cp:lastModifiedBy>Jaime</cp:lastModifiedBy>
  <cp:lastPrinted>2003-10-23T15:52:00Z</cp:lastPrinted>
  <dcterms:modified xsi:type="dcterms:W3CDTF">2010-05-12T23:20:54Z</dcterms:modified>
  <cp:revision>150</cp:revision>
  <dc:subject/>
  <dc:title>No Slide Title</dc:title>
</cp:coreProperties>
</file>