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6A98-8B02-4E91-8653-3D6508EB1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2C629-F7FB-4EB8-B88E-3A0F1B4A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91C3-E180-4357-8D35-F3A443565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4345-B75B-493F-A9E3-BEE25CA08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159DA-AB16-42A1-8898-361C56909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F793C-49DD-4F4C-B345-F3848C04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0D087-D65E-471D-A446-27FE2D67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33F5-572F-4016-82D0-B921070F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F1544-8DF8-4C10-B0F8-58883F70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EF570-382C-4B97-95B5-E62794B1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1DBA4-DB50-4177-9B21-8FEDF99E5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3078-993C-4FC0-95F6-B9C2E3EDE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6E8C-1695-4BC2-8EEA-3B3A7B36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15745-0717-432C-96D6-F1984D6FA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463B4-4220-40CE-A146-A73E0603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F714D-0670-4EFA-B2A1-8DE29450F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E9790-6E44-4007-85C2-CD88319E4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D52C-7AE7-4FD5-9403-E693D237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D167-E779-4196-892C-91D0996A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79E1-3B81-46E0-8951-315F6D6E3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4511-56C2-4FF1-8F9E-D7713CC58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5502-A8A7-4873-B937-9561EBA0E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9271-41DF-4787-8C36-B5328AF2C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6906-D948-4CB8-9F5B-0B6FC636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AutoShape 3"/>
            <p:cNvSpPr/>
            <p:nvPr/>
          </p:nvSpPr>
          <p:spPr>
            <a:xfrm>
              <a:off x="-3238560" y="685800"/>
              <a:ext cx="4114800" cy="312408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-2425680" y="0"/>
              <a:ext cx="3093840" cy="315432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66FA3-D413-4A0B-9FE6-843FF7406182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Text Box 11"/>
          <p:cNvSpPr/>
          <p:nvPr/>
        </p:nvSpPr>
        <p:spPr>
          <a:xfrm>
            <a:off x="685800" y="6613560"/>
            <a:ext cx="80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ill Sans MT"/>
              </a:rPr>
              <a:t>James Geshwiler,  +1-781-274-9124,  james@commonangels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7" name="Line 3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AutoShape 4"/>
            <p:cNvSpPr/>
            <p:nvPr/>
          </p:nvSpPr>
          <p:spPr>
            <a:xfrm>
              <a:off x="-2514600" y="1371600"/>
              <a:ext cx="3657600" cy="3657600"/>
            </a:xfrm>
            <a:prstGeom prst="pie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" name="AutoShape 5"/>
            <p:cNvSpPr/>
            <p:nvPr/>
          </p:nvSpPr>
          <p:spPr>
            <a:xfrm>
              <a:off x="-3222720" y="304920"/>
              <a:ext cx="4038840" cy="4038480"/>
            </a:xfrm>
            <a:prstGeom prst="pie">
              <a:avLst/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0" name="Text Box 11"/>
          <p:cNvSpPr/>
          <p:nvPr/>
        </p:nvSpPr>
        <p:spPr>
          <a:xfrm>
            <a:off x="685800" y="6613560"/>
            <a:ext cx="80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Gill Sans MT"/>
              </a:rPr>
              <a:t>James Geshwiler,  +1-781-274-9124,  james@commonangels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98DBB-5F78-41F1-994D-0218162400D7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B833A-79DE-405E-8EFC-623486FD7DE3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Picture 4" descr="mente"/>
          <p:cNvPicPr/>
          <p:nvPr/>
        </p:nvPicPr>
        <p:blipFill>
          <a:blip r:embed="rId1"/>
          <a:stretch/>
        </p:blipFill>
        <p:spPr>
          <a:xfrm>
            <a:off x="2141640" y="1252440"/>
            <a:ext cx="526896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60586-E549-4FBC-9BB0-2649F90B692E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AutoShape 38"/>
          <p:cNvSpPr/>
          <p:nvPr/>
        </p:nvSpPr>
        <p:spPr>
          <a:xfrm>
            <a:off x="2079720" y="2560680"/>
            <a:ext cx="4101840" cy="3357360"/>
          </a:xfrm>
          <a:prstGeom prst="hexagon">
            <a:avLst>
              <a:gd name="adj" fmla="val 30544"/>
              <a:gd name="vf" fmla="val 115470"/>
            </a:avLst>
          </a:prstGeom>
          <a:solidFill>
            <a:srgbClr val="0032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Rectangle 39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40"/>
          <p:cNvSpPr/>
          <p:nvPr/>
        </p:nvSpPr>
        <p:spPr>
          <a:xfrm>
            <a:off x="3157560" y="2038320"/>
            <a:ext cx="1979640" cy="4291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 Narrow"/>
              </a:rPr>
              <a:t>Financie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41"/>
          <p:cNvSpPr/>
          <p:nvPr/>
        </p:nvSpPr>
        <p:spPr>
          <a:xfrm rot="3548400">
            <a:off x="5169240" y="3160440"/>
            <a:ext cx="1842840" cy="39888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Narrow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42"/>
          <p:cNvSpPr/>
          <p:nvPr/>
        </p:nvSpPr>
        <p:spPr>
          <a:xfrm rot="18054000">
            <a:off x="1568520" y="3129120"/>
            <a:ext cx="120780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Text Box 43"/>
          <p:cNvSpPr/>
          <p:nvPr/>
        </p:nvSpPr>
        <p:spPr>
          <a:xfrm>
            <a:off x="3291840" y="5979960"/>
            <a:ext cx="126288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Text Box 44"/>
          <p:cNvSpPr/>
          <p:nvPr/>
        </p:nvSpPr>
        <p:spPr>
          <a:xfrm rot="17989800">
            <a:off x="4905360" y="5066280"/>
            <a:ext cx="1951200" cy="39888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Narrow"/>
              </a:rPr>
              <a:t>Equipo huma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45"/>
          <p:cNvSpPr/>
          <p:nvPr/>
        </p:nvSpPr>
        <p:spPr>
          <a:xfrm rot="3439800">
            <a:off x="1821240" y="4838760"/>
            <a:ext cx="88956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Picture 47" descr="brain"/>
          <p:cNvPicPr/>
          <p:nvPr/>
        </p:nvPicPr>
        <p:blipFill>
          <a:blip r:embed="rId1"/>
          <a:stretch/>
        </p:blipFill>
        <p:spPr>
          <a:xfrm>
            <a:off x="3075120" y="3144960"/>
            <a:ext cx="2216160" cy="2290680"/>
          </a:xfrm>
          <a:prstGeom prst="rect">
            <a:avLst/>
          </a:prstGeom>
          <a:ln w="0">
            <a:noFill/>
          </a:ln>
        </p:spPr>
      </p:pic>
      <p:sp>
        <p:nvSpPr>
          <p:cNvPr id="105" name="AutoShape 48"/>
          <p:cNvSpPr/>
          <p:nvPr/>
        </p:nvSpPr>
        <p:spPr>
          <a:xfrm>
            <a:off x="6461280" y="1720800"/>
            <a:ext cx="1671480" cy="636480"/>
          </a:xfrm>
          <a:prstGeom prst="wedgeRectCallout">
            <a:avLst>
              <a:gd name="adj1" fmla="val -67092"/>
              <a:gd name="adj2" fmla="val 16221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Como puede afectar el flujo la subestimación de la competencia?</a:t>
            </a: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AutoShape 49"/>
          <p:cNvSpPr/>
          <p:nvPr/>
        </p:nvSpPr>
        <p:spPr>
          <a:xfrm>
            <a:off x="6865920" y="4194000"/>
            <a:ext cx="1671480" cy="636840"/>
          </a:xfrm>
          <a:prstGeom prst="wedgeRectCallout">
            <a:avLst>
              <a:gd name="adj1" fmla="val -85138"/>
              <a:gd name="adj2" fmla="val 1188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l euipo que lidera el proyecto, es capaz de implementarlo?</a:t>
            </a: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AutoShape 50"/>
          <p:cNvSpPr/>
          <p:nvPr/>
        </p:nvSpPr>
        <p:spPr>
          <a:xfrm>
            <a:off x="196920" y="1987560"/>
            <a:ext cx="1671480" cy="636480"/>
          </a:xfrm>
          <a:prstGeom prst="wedgeRectCallout">
            <a:avLst>
              <a:gd name="adj1" fmla="val 54462"/>
              <a:gd name="adj2" fmla="val 1395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tá bien proyectado el mercado?</a:t>
            </a: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AutoShape 51"/>
          <p:cNvSpPr/>
          <p:nvPr/>
        </p:nvSpPr>
        <p:spPr>
          <a:xfrm>
            <a:off x="0" y="4178160"/>
            <a:ext cx="1671480" cy="636840"/>
          </a:xfrm>
          <a:prstGeom prst="wedgeRectCallout">
            <a:avLst>
              <a:gd name="adj1" fmla="val 69564"/>
              <a:gd name="adj2" fmla="val 13778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Hay un mecanismo de salida equilibrado entre los accionistas?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AutoShape 52"/>
          <p:cNvSpPr/>
          <p:nvPr/>
        </p:nvSpPr>
        <p:spPr>
          <a:xfrm>
            <a:off x="3902040" y="1100160"/>
            <a:ext cx="1671840" cy="636480"/>
          </a:xfrm>
          <a:prstGeom prst="wedgeRectCallout">
            <a:avLst>
              <a:gd name="adj1" fmla="val -45537"/>
              <a:gd name="adj2" fmla="val 8840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 realista la proyección del flujo?</a:t>
            </a: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AutoShape 53"/>
          <p:cNvSpPr/>
          <p:nvPr/>
        </p:nvSpPr>
        <p:spPr>
          <a:xfrm>
            <a:off x="6211800" y="5815080"/>
            <a:ext cx="1671840" cy="636480"/>
          </a:xfrm>
          <a:prstGeom prst="wedgeRectCallout">
            <a:avLst>
              <a:gd name="adj1" fmla="val -121888"/>
              <a:gd name="adj2" fmla="val 340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Es realista el plazo y el presupuesto de implementación del producto?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Text Box 55"/>
          <p:cNvSpPr/>
          <p:nvPr/>
        </p:nvSpPr>
        <p:spPr>
          <a:xfrm>
            <a:off x="21600" y="6362640"/>
            <a:ext cx="1443960" cy="459720"/>
          </a:xfrm>
          <a:prstGeom prst="rect">
            <a:avLst/>
          </a:prstGeom>
          <a:solidFill>
            <a:srgbClr val="ff3300">
              <a:alpha val="76000"/>
            </a:srgbClr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regul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AutoShape 57"/>
          <p:cNvSpPr/>
          <p:nvPr/>
        </p:nvSpPr>
        <p:spPr>
          <a:xfrm>
            <a:off x="422280" y="5508720"/>
            <a:ext cx="1671480" cy="636480"/>
          </a:xfrm>
          <a:prstGeom prst="wedgeRectCallout">
            <a:avLst>
              <a:gd name="adj1" fmla="val 6601"/>
              <a:gd name="adj2" fmla="val 8142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s-ES_tradnl" sz="1000" spc="-1" strike="noStrike">
                <a:solidFill>
                  <a:srgbClr val="000000"/>
                </a:solidFill>
                <a:latin typeface="Arial Narrow"/>
              </a:rPr>
              <a:t>Hay alguna regulación o ley que impida o dificulte el negocio?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D589-1BB0-4ADB-80C1-F0FA58597E5D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AutoShape 2"/>
          <p:cNvSpPr/>
          <p:nvPr/>
        </p:nvSpPr>
        <p:spPr>
          <a:xfrm>
            <a:off x="2079720" y="2560680"/>
            <a:ext cx="4101840" cy="3357360"/>
          </a:xfrm>
          <a:prstGeom prst="hexagon">
            <a:avLst>
              <a:gd name="adj" fmla="val 30544"/>
              <a:gd name="vf" fmla="val 115470"/>
            </a:avLst>
          </a:prstGeom>
          <a:solidFill>
            <a:srgbClr val="0032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3157560" y="2038320"/>
            <a:ext cx="1979640" cy="4291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00"/>
                </a:solidFill>
                <a:latin typeface="Arial Narrow"/>
              </a:rPr>
              <a:t>Financier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Text Box 5"/>
          <p:cNvSpPr/>
          <p:nvPr/>
        </p:nvSpPr>
        <p:spPr>
          <a:xfrm rot="3548400">
            <a:off x="5169240" y="3160440"/>
            <a:ext cx="1842840" cy="39888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Narrow"/>
              </a:rPr>
              <a:t>competenci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Text Box 6"/>
          <p:cNvSpPr/>
          <p:nvPr/>
        </p:nvSpPr>
        <p:spPr>
          <a:xfrm rot="18054000">
            <a:off x="1568520" y="3129120"/>
            <a:ext cx="120780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Mercad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291840" y="5979960"/>
            <a:ext cx="126288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product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Text Box 8"/>
          <p:cNvSpPr/>
          <p:nvPr/>
        </p:nvSpPr>
        <p:spPr>
          <a:xfrm rot="17989800">
            <a:off x="4923360" y="5099040"/>
            <a:ext cx="1876320" cy="39888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Narrow"/>
              </a:rPr>
              <a:t>Equipo huma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Text Box 9"/>
          <p:cNvSpPr/>
          <p:nvPr/>
        </p:nvSpPr>
        <p:spPr>
          <a:xfrm rot="3439800">
            <a:off x="1821240" y="4838760"/>
            <a:ext cx="889560" cy="459720"/>
          </a:xfrm>
          <a:prstGeom prst="rect">
            <a:avLst/>
          </a:prstGeom>
          <a:solidFill>
            <a:srgbClr val="ff3300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sali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Picture 10" descr="brain"/>
          <p:cNvPicPr/>
          <p:nvPr/>
        </p:nvPicPr>
        <p:blipFill>
          <a:blip r:embed="rId1"/>
          <a:stretch/>
        </p:blipFill>
        <p:spPr>
          <a:xfrm>
            <a:off x="3075120" y="3144960"/>
            <a:ext cx="2216160" cy="22906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7"/>
          <p:cNvSpPr/>
          <p:nvPr/>
        </p:nvSpPr>
        <p:spPr>
          <a:xfrm>
            <a:off x="21600" y="6362640"/>
            <a:ext cx="1443960" cy="459720"/>
          </a:xfrm>
          <a:prstGeom prst="rect">
            <a:avLst/>
          </a:prstGeom>
          <a:solidFill>
            <a:srgbClr val="ff3300">
              <a:alpha val="76000"/>
            </a:srgbClr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 Narrow"/>
              </a:rPr>
              <a:t>regul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 Box 19"/>
          <p:cNvSpPr/>
          <p:nvPr/>
        </p:nvSpPr>
        <p:spPr>
          <a:xfrm rot="19722600">
            <a:off x="4269600" y="3030120"/>
            <a:ext cx="26557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¡¡ solo paranoicos sobreviven !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Text Box 20"/>
          <p:cNvSpPr/>
          <p:nvPr/>
        </p:nvSpPr>
        <p:spPr>
          <a:xfrm rot="2125200">
            <a:off x="4430880" y="4539960"/>
            <a:ext cx="17838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¡¡ manejo de crisis !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Text Box 21"/>
          <p:cNvSpPr/>
          <p:nvPr/>
        </p:nvSpPr>
        <p:spPr>
          <a:xfrm rot="21376800">
            <a:off x="3331800" y="5517720"/>
            <a:ext cx="213444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¡¡ mas tarde, mas caro !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Text Box 22"/>
          <p:cNvSpPr/>
          <p:nvPr/>
        </p:nvSpPr>
        <p:spPr>
          <a:xfrm rot="20363400">
            <a:off x="2267280" y="4578120"/>
            <a:ext cx="215280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¡¡ quiero ver mi retorno!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Text Box 23"/>
          <p:cNvSpPr/>
          <p:nvPr/>
        </p:nvSpPr>
        <p:spPr>
          <a:xfrm rot="1751400">
            <a:off x="2297880" y="3460680"/>
            <a:ext cx="130536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¡¡ optimismo!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24"/>
          <p:cNvSpPr/>
          <p:nvPr/>
        </p:nvSpPr>
        <p:spPr>
          <a:xfrm rot="1448400">
            <a:off x="2888640" y="2727360"/>
            <a:ext cx="288108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No deseo que me pidan más pla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Text Box 25"/>
          <p:cNvSpPr/>
          <p:nvPr/>
        </p:nvSpPr>
        <p:spPr>
          <a:xfrm rot="703200">
            <a:off x="397080" y="5873400"/>
            <a:ext cx="1293120" cy="307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400" spc="-1" strike="noStrike">
                <a:solidFill>
                  <a:srgbClr val="000000"/>
                </a:solidFill>
                <a:latin typeface="Agency FB"/>
              </a:rPr>
              <a:t>¡¡ imprevisto!!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FD83A-5502-4CE3-B83A-505DDF0642C9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19"/>
          <p:cNvSpPr/>
          <p:nvPr/>
        </p:nvSpPr>
        <p:spPr>
          <a:xfrm>
            <a:off x="722880" y="2274840"/>
            <a:ext cx="7507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a sensación de riesgo es un juic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ada inversionista tiene sus propios mie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uidado con los escépticos y con los optimist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Quién se hace carg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tán pidiendo un socio, no un clie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Carnicero o Ejecutivo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Es justa tu oferta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13" dur="1" fill="hold"/>
                                  <p:tgtEl>
                                    <p:spTgt spid="13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99cc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4C10-95DA-4CCF-A2B0-CA4862AF91A1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Box 4"/>
          <p:cNvSpPr/>
          <p:nvPr/>
        </p:nvSpPr>
        <p:spPr>
          <a:xfrm>
            <a:off x="904320" y="2279520"/>
            <a:ext cx="76636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Verdana"/>
              </a:rPr>
              <a:t>A) NO LE CREO NADA….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Verdana"/>
              </a:rPr>
              <a:t>B) NO ME CONVENCE , TENGO DUDA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Verdana"/>
              </a:rPr>
              <a:t>C) ME CONVENCE TOTALMENT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BAC6-1949-4A6A-8860-F966636B0D23}" type="slidenum">
              <a:rPr b="0" lang="es-C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Rectangle 3"/>
          <p:cNvSpPr/>
          <p:nvPr/>
        </p:nvSpPr>
        <p:spPr>
          <a:xfrm>
            <a:off x="393840" y="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Los 7 riesgos claves en la mente del inversionis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drawingml/2006/table">
            <a:tbl>
              <a:tblPr/>
              <a:tblGrid>
                <a:gridCol w="2332080"/>
                <a:gridCol w="6811920"/>
              </a:tblGrid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EURO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ENSAMIENTO OBSES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ANCIER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os flujos son creíbles, las tasas, los indicadores, los supuestos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PET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á bien evaluada la amenaza de competencia actual y potencial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QUIPO HUMA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e equipo humano es capaz de llevar adelante el proyecto 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1044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DU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l producto está bien definido en cuanto a lo que puede hacer, cuanto cuesta implementarlo y el tiempo para poder venderlo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GULAC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tá considerada adecuadamente la regulación o leyes que podrían poner en riesgo el negocio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  <a:tr h="76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ALI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mo es la propuesta de salida del negocio? Como y cuando recuperaré mi plata realment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6f6"/>
                    </a:solidFill>
                  </a:tcPr>
                </a:tc>
              </a:tr>
              <a:tr h="136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RC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uan bien está considerada la demanda potencial y objetivo? Podrán vender lo que dicen y en los plazos prometidos? La estrategia de marketing es razonable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c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3T14:49:35Z</dcterms:created>
  <dc:creator>michael</dc:creator>
  <dc:description/>
  <dc:language>en-US</dc:language>
  <cp:lastModifiedBy>Jaime</cp:lastModifiedBy>
  <cp:lastPrinted>2003-10-23T15:52:00Z</cp:lastPrinted>
  <dcterms:modified xsi:type="dcterms:W3CDTF">2010-05-12T23:20:54Z</dcterms:modified>
  <cp:revision>150</cp:revision>
  <dc:subject/>
  <dc:title>No Slide Title</dc:title>
</cp:coreProperties>
</file>