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87FD-C28D-40ED-A9E7-7D28AAF5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5CF0-DDC1-4D84-A1EC-77D76ABD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3C40-B375-4836-A3F0-39E83147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DB99-1B11-44DF-BFF6-D39D81A2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33E7-67C2-4E77-839D-EB95385DA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9D87-21E7-4FF2-BEC7-DC7D5D27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7FC4-6B98-46B2-903E-512DCFDB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8259-D162-4DFA-B565-E9A3A004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52C5-6A6E-4338-B1D9-45E49B04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DF7F-DBA5-4AB6-838D-6CB315BE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BACE-4AD8-4B7B-8855-6110F1C3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DBC8-6FED-48B6-BFC3-D42141BB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B3A0-797A-4F5D-90E9-B34D705A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E369-73DC-4E6C-9D26-F3036AA1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56F0-678C-4431-9E45-6F1BA548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AC38-52A3-45D8-85B8-38694EAF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17AF-40A2-4B96-88E0-BD9957AE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87B3-1892-41AD-B9FF-DC386B00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0EF5-F0D7-4C34-887F-79406619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EE46-1D80-431A-B2AE-88658D7E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9A68-6DFB-4B4B-8E98-AE8331A1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AF3A-2930-4F83-A684-BC9B96AF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438D-059E-4032-B092-4AD9985F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6830-161D-49FD-95AD-F209CC45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4D96-3AFA-4070-8DC3-BD9A8AAF6A45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685800" y="6613560"/>
            <a:ext cx="80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ill Sans MT"/>
              </a:rPr>
              <a:t>James Geshwiler,  +1-781-274-9124,  james@commonangels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" name="Text Box 11"/>
          <p:cNvSpPr/>
          <p:nvPr/>
        </p:nvSpPr>
        <p:spPr>
          <a:xfrm>
            <a:off x="685800" y="6613560"/>
            <a:ext cx="80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ill Sans MT"/>
              </a:rPr>
              <a:t>James Geshwiler,  +1-781-274-9124,  james@commonangels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F808-1DE6-4426-9CC0-6E246521DB67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8BF2-3E6B-4428-8F96-E1E160A37255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mente"/>
          <p:cNvPicPr/>
          <p:nvPr/>
        </p:nvPicPr>
        <p:blipFill>
          <a:blip r:embed="rId1"/>
          <a:stretch/>
        </p:blipFill>
        <p:spPr>
          <a:xfrm>
            <a:off x="2141640" y="1252440"/>
            <a:ext cx="526896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2F4A-C145-4E03-A82C-49CCCBCA332D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AutoShape 38"/>
          <p:cNvSpPr/>
          <p:nvPr/>
        </p:nvSpPr>
        <p:spPr>
          <a:xfrm>
            <a:off x="2079720" y="2560680"/>
            <a:ext cx="4101840" cy="3357360"/>
          </a:xfrm>
          <a:prstGeom prst="hexagon">
            <a:avLst>
              <a:gd name="adj" fmla="val 30544"/>
              <a:gd name="vf" fmla="val 115470"/>
            </a:avLst>
          </a:prstGeom>
          <a:solidFill>
            <a:srgbClr val="0032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39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0"/>
          <p:cNvSpPr/>
          <p:nvPr/>
        </p:nvSpPr>
        <p:spPr>
          <a:xfrm>
            <a:off x="3157560" y="2038320"/>
            <a:ext cx="1979640" cy="429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 Narrow"/>
              </a:rPr>
              <a:t>Financi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1"/>
          <p:cNvSpPr/>
          <p:nvPr/>
        </p:nvSpPr>
        <p:spPr>
          <a:xfrm rot="3548400">
            <a:off x="5169240" y="3160440"/>
            <a:ext cx="184284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42"/>
          <p:cNvSpPr/>
          <p:nvPr/>
        </p:nvSpPr>
        <p:spPr>
          <a:xfrm rot="18054000">
            <a:off x="1568520" y="3129120"/>
            <a:ext cx="120780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3"/>
          <p:cNvSpPr/>
          <p:nvPr/>
        </p:nvSpPr>
        <p:spPr>
          <a:xfrm>
            <a:off x="3291840" y="5979960"/>
            <a:ext cx="126288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4"/>
          <p:cNvSpPr/>
          <p:nvPr/>
        </p:nvSpPr>
        <p:spPr>
          <a:xfrm rot="17989800">
            <a:off x="4905360" y="5066280"/>
            <a:ext cx="195120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</a:rPr>
              <a:t>Equipo huma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45"/>
          <p:cNvSpPr/>
          <p:nvPr/>
        </p:nvSpPr>
        <p:spPr>
          <a:xfrm rot="3439800">
            <a:off x="1821240" y="4838760"/>
            <a:ext cx="88956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47" descr="brain"/>
          <p:cNvPicPr/>
          <p:nvPr/>
        </p:nvPicPr>
        <p:blipFill>
          <a:blip r:embed="rId1"/>
          <a:stretch/>
        </p:blipFill>
        <p:spPr>
          <a:xfrm>
            <a:off x="3075120" y="3144960"/>
            <a:ext cx="2216160" cy="229068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48"/>
          <p:cNvSpPr/>
          <p:nvPr/>
        </p:nvSpPr>
        <p:spPr>
          <a:xfrm>
            <a:off x="6461280" y="1720800"/>
            <a:ext cx="1671480" cy="636480"/>
          </a:xfrm>
          <a:prstGeom prst="wedgeRectCallout">
            <a:avLst>
              <a:gd name="adj1" fmla="val -67092"/>
              <a:gd name="adj2" fmla="val 1622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omo puede afectar el flujo la subestimación de la competencia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49"/>
          <p:cNvSpPr/>
          <p:nvPr/>
        </p:nvSpPr>
        <p:spPr>
          <a:xfrm>
            <a:off x="6865920" y="4194000"/>
            <a:ext cx="1671480" cy="636840"/>
          </a:xfrm>
          <a:prstGeom prst="wedgeRectCallout">
            <a:avLst>
              <a:gd name="adj1" fmla="val -85138"/>
              <a:gd name="adj2" fmla="val 1188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l euipo que lidera el proyecto, es capaz de implementarl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50"/>
          <p:cNvSpPr/>
          <p:nvPr/>
        </p:nvSpPr>
        <p:spPr>
          <a:xfrm>
            <a:off x="196920" y="1987560"/>
            <a:ext cx="1671480" cy="636480"/>
          </a:xfrm>
          <a:prstGeom prst="wedgeRectCallout">
            <a:avLst>
              <a:gd name="adj1" fmla="val 54462"/>
              <a:gd name="adj2" fmla="val 1395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á bien proyectado el mercad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51"/>
          <p:cNvSpPr/>
          <p:nvPr/>
        </p:nvSpPr>
        <p:spPr>
          <a:xfrm>
            <a:off x="0" y="4178160"/>
            <a:ext cx="1671480" cy="636840"/>
          </a:xfrm>
          <a:prstGeom prst="wedgeRectCallout">
            <a:avLst>
              <a:gd name="adj1" fmla="val 69564"/>
              <a:gd name="adj2" fmla="val 137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Hay un mecanismo de salida equilibrado entre los accionistas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52"/>
          <p:cNvSpPr/>
          <p:nvPr/>
        </p:nvSpPr>
        <p:spPr>
          <a:xfrm>
            <a:off x="3902040" y="1100160"/>
            <a:ext cx="1671840" cy="636480"/>
          </a:xfrm>
          <a:prstGeom prst="wedgeRectCallout">
            <a:avLst>
              <a:gd name="adj1" fmla="val -45537"/>
              <a:gd name="adj2" fmla="val 88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 realista la proyección del fluj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53"/>
          <p:cNvSpPr/>
          <p:nvPr/>
        </p:nvSpPr>
        <p:spPr>
          <a:xfrm>
            <a:off x="6211800" y="5815080"/>
            <a:ext cx="1671840" cy="636480"/>
          </a:xfrm>
          <a:prstGeom prst="wedgeRectCallout">
            <a:avLst>
              <a:gd name="adj1" fmla="val -121888"/>
              <a:gd name="adj2" fmla="val 34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 realista el plazo y el presupuesto de implementación del producto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5"/>
          <p:cNvSpPr/>
          <p:nvPr/>
        </p:nvSpPr>
        <p:spPr>
          <a:xfrm>
            <a:off x="21600" y="6362640"/>
            <a:ext cx="1443960" cy="459720"/>
          </a:xfrm>
          <a:prstGeom prst="rect">
            <a:avLst/>
          </a:prstGeom>
          <a:solidFill>
            <a:srgbClr val="ff3300">
              <a:alpha val="76000"/>
            </a:srgbClr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regul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57"/>
          <p:cNvSpPr/>
          <p:nvPr/>
        </p:nvSpPr>
        <p:spPr>
          <a:xfrm>
            <a:off x="422280" y="5508720"/>
            <a:ext cx="1671480" cy="636480"/>
          </a:xfrm>
          <a:prstGeom prst="wedgeRectCallout">
            <a:avLst>
              <a:gd name="adj1" fmla="val 6601"/>
              <a:gd name="adj2" fmla="val 814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Hay alguna regulación o ley que impida o dificulte el negocio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258E-E5B5-4ADB-8023-E67D7E3098D5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AutoShape 2"/>
          <p:cNvSpPr/>
          <p:nvPr/>
        </p:nvSpPr>
        <p:spPr>
          <a:xfrm>
            <a:off x="2079720" y="2560680"/>
            <a:ext cx="4101840" cy="3357360"/>
          </a:xfrm>
          <a:prstGeom prst="hexagon">
            <a:avLst>
              <a:gd name="adj" fmla="val 30544"/>
              <a:gd name="vf" fmla="val 115470"/>
            </a:avLst>
          </a:prstGeom>
          <a:solidFill>
            <a:srgbClr val="0032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157560" y="2038320"/>
            <a:ext cx="1979640" cy="429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 Narrow"/>
              </a:rPr>
              <a:t>Financi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5"/>
          <p:cNvSpPr/>
          <p:nvPr/>
        </p:nvSpPr>
        <p:spPr>
          <a:xfrm rot="3548400">
            <a:off x="5169240" y="3160440"/>
            <a:ext cx="184284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6"/>
          <p:cNvSpPr/>
          <p:nvPr/>
        </p:nvSpPr>
        <p:spPr>
          <a:xfrm rot="18054000">
            <a:off x="1568520" y="3129120"/>
            <a:ext cx="120780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291840" y="5979960"/>
            <a:ext cx="126288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8"/>
          <p:cNvSpPr/>
          <p:nvPr/>
        </p:nvSpPr>
        <p:spPr>
          <a:xfrm rot="17989800">
            <a:off x="4923360" y="5099040"/>
            <a:ext cx="187632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</a:rPr>
              <a:t>Equipo huma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9"/>
          <p:cNvSpPr/>
          <p:nvPr/>
        </p:nvSpPr>
        <p:spPr>
          <a:xfrm rot="3439800">
            <a:off x="1821240" y="4838760"/>
            <a:ext cx="88956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10" descr="brain"/>
          <p:cNvPicPr/>
          <p:nvPr/>
        </p:nvPicPr>
        <p:blipFill>
          <a:blip r:embed="rId1"/>
          <a:stretch/>
        </p:blipFill>
        <p:spPr>
          <a:xfrm>
            <a:off x="3075120" y="3144960"/>
            <a:ext cx="2216160" cy="22906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7"/>
          <p:cNvSpPr/>
          <p:nvPr/>
        </p:nvSpPr>
        <p:spPr>
          <a:xfrm>
            <a:off x="21600" y="6362640"/>
            <a:ext cx="1443960" cy="459720"/>
          </a:xfrm>
          <a:prstGeom prst="rect">
            <a:avLst/>
          </a:prstGeom>
          <a:solidFill>
            <a:srgbClr val="ff3300">
              <a:alpha val="76000"/>
            </a:srgbClr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regul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19"/>
          <p:cNvSpPr/>
          <p:nvPr/>
        </p:nvSpPr>
        <p:spPr>
          <a:xfrm rot="19722600">
            <a:off x="4269600" y="3030120"/>
            <a:ext cx="26557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solo paranoicos sobreviven 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20"/>
          <p:cNvSpPr/>
          <p:nvPr/>
        </p:nvSpPr>
        <p:spPr>
          <a:xfrm rot="2125200">
            <a:off x="4430880" y="4539960"/>
            <a:ext cx="1783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manejo de crisis 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21"/>
          <p:cNvSpPr/>
          <p:nvPr/>
        </p:nvSpPr>
        <p:spPr>
          <a:xfrm rot="21376800">
            <a:off x="3331800" y="5517720"/>
            <a:ext cx="21344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mas tarde, mas caro 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22"/>
          <p:cNvSpPr/>
          <p:nvPr/>
        </p:nvSpPr>
        <p:spPr>
          <a:xfrm rot="20363400">
            <a:off x="2267280" y="4578120"/>
            <a:ext cx="2152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quiero ver mi retorno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23"/>
          <p:cNvSpPr/>
          <p:nvPr/>
        </p:nvSpPr>
        <p:spPr>
          <a:xfrm rot="1751400">
            <a:off x="2297880" y="3460680"/>
            <a:ext cx="13053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optimismo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24"/>
          <p:cNvSpPr/>
          <p:nvPr/>
        </p:nvSpPr>
        <p:spPr>
          <a:xfrm rot="1448400">
            <a:off x="2888640" y="2727360"/>
            <a:ext cx="28810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No deseo que me pidan más pl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25"/>
          <p:cNvSpPr/>
          <p:nvPr/>
        </p:nvSpPr>
        <p:spPr>
          <a:xfrm rot="703200">
            <a:off x="397080" y="5873400"/>
            <a:ext cx="12931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imprevisto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54D9-DB0A-461F-A156-19123A50ACBE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722880" y="2274840"/>
            <a:ext cx="750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sensación de riesgo es un jui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da inversionista tiene sus propios mie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uidado con los escépticos y con los optimis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Quién se hace carg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tán pidiendo un socio, no un cli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rnicero o Ejecutiv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 justa tu ofert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" dur="1" fill="hold"/>
                                  <p:tgtEl>
                                    <p:spTgt spid="13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86D7-FB97-477D-8E7F-D75B60C288D2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904320" y="2279520"/>
            <a:ext cx="7663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A) NO LE CREO NADA…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B) NO ME CONVENCE , TENGO DUD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C) ME CONVENCE TOTALM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332E-F7BC-4080-B94F-4126A40224BF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332080"/>
                <a:gridCol w="6811920"/>
              </a:tblGrid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URO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NSAMIENTO OBSES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NCIER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s flujos son creíbles, las tasas, los indicadores, los supuestos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á bien evaluada la amenaza de competencia actual y potencial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IPO HUM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e equipo humano es capaz de llevar adelante el proyecto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producto está bien definido en cuanto a lo que puede hacer, cuanto cuesta implementarlo y el tiempo para poder venderl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ULAC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á considerada adecuadamente la regulación o leyes que podrían poner en riesgo el negoci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L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o es la propuesta de salida del negocio? Como y cuando recuperaré mi plata realment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3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R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 bien está considerada la demanda potencial y objetivo? Podrán vender lo que dicen y en los plazos prometidos? La estrategia de marketing es razonabl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4:49:35Z</dcterms:created>
  <dc:creator>michael</dc:creator>
  <dc:description/>
  <dc:language>en-US</dc:language>
  <cp:lastModifiedBy>Jaime</cp:lastModifiedBy>
  <cp:lastPrinted>2003-10-23T15:52:00Z</cp:lastPrinted>
  <dcterms:modified xsi:type="dcterms:W3CDTF">2010-05-12T23:20:54Z</dcterms:modified>
  <cp:revision>150</cp:revision>
  <dc:subject/>
  <dc:title>No Slide Title</dc:title>
</cp:coreProperties>
</file>