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C5E-80DA-45E3-A3F7-5B7608DC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195-A57A-4AFF-BA80-52B6313F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C07-DB58-4683-8F05-AC7BE206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900-399B-4352-8BF3-F24C951C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0F20-1546-492F-B6AC-625C6391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D377-DF86-4F62-93EE-B2A2AEB2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6B8B-82F4-4452-ACED-7A6B98A1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44D7-E75F-4C13-8F33-13AB407C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20A3-1350-4160-978F-BC8DD5FF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14A8-0D78-4F10-B89D-D537E118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245D-D716-4E18-8676-BE5261DC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B66-3F70-4EAF-BDE4-183F74C0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AD57-1FF6-49D8-8F12-7F897EB4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C55C-F2EE-4F8E-A6B2-FBB3DAF7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B7FE-6F42-41AF-AD06-775FDE56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CED9-11D4-4531-9721-15043849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D4EC-A487-435F-88F8-E58E4687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3BD-5499-4C67-A091-6F925331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A30-B954-471C-8B29-B70408A1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349-299D-441A-B4A3-53CFFEE0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0A6-D742-47FB-ABCF-D154515E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0E2-E2AA-4A90-9B48-49A9D1C9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41A-233F-4BED-829B-4DA0EAC8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1F9-C8BB-4040-A0C2-76A0E219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E4F1-7C6A-48FC-9588-58B92B392E39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54F0-1342-4230-8DFC-595C37FD43F6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C6E2-8D7E-4434-BF34-96292E6BE7AF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mente"/>
          <p:cNvPicPr/>
          <p:nvPr/>
        </p:nvPicPr>
        <p:blipFill>
          <a:blip r:embed="rId1"/>
          <a:stretch/>
        </p:blipFill>
        <p:spPr>
          <a:xfrm>
            <a:off x="2141640" y="1252440"/>
            <a:ext cx="52689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A376-153D-43C2-9CA4-ECCFF00CAC19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38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1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2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4"/>
          <p:cNvSpPr/>
          <p:nvPr/>
        </p:nvSpPr>
        <p:spPr>
          <a:xfrm rot="17989800">
            <a:off x="4905360" y="5066280"/>
            <a:ext cx="19512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5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7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8"/>
          <p:cNvSpPr/>
          <p:nvPr/>
        </p:nvSpPr>
        <p:spPr>
          <a:xfrm>
            <a:off x="6461280" y="1720800"/>
            <a:ext cx="1671480" cy="636480"/>
          </a:xfrm>
          <a:prstGeom prst="wedgeRectCallout">
            <a:avLst>
              <a:gd name="adj1" fmla="val -67092"/>
              <a:gd name="adj2" fmla="val 162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mo puede afectar el flujo la subestimación de la competencia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49"/>
          <p:cNvSpPr/>
          <p:nvPr/>
        </p:nvSpPr>
        <p:spPr>
          <a:xfrm>
            <a:off x="6865920" y="4194000"/>
            <a:ext cx="1671480" cy="636840"/>
          </a:xfrm>
          <a:prstGeom prst="wedgeRectCallout">
            <a:avLst>
              <a:gd name="adj1" fmla="val -85138"/>
              <a:gd name="adj2" fmla="val 118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euipo que lidera el proyecto, es capaz de implementarl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50"/>
          <p:cNvSpPr/>
          <p:nvPr/>
        </p:nvSpPr>
        <p:spPr>
          <a:xfrm>
            <a:off x="196920" y="1987560"/>
            <a:ext cx="1671480" cy="636480"/>
          </a:xfrm>
          <a:prstGeom prst="wedgeRectCallout">
            <a:avLst>
              <a:gd name="adj1" fmla="val 54462"/>
              <a:gd name="adj2" fmla="val 139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á bien proyectado el mercad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51"/>
          <p:cNvSpPr/>
          <p:nvPr/>
        </p:nvSpPr>
        <p:spPr>
          <a:xfrm>
            <a:off x="0" y="4178160"/>
            <a:ext cx="1671480" cy="636840"/>
          </a:xfrm>
          <a:prstGeom prst="wedgeRectCallout">
            <a:avLst>
              <a:gd name="adj1" fmla="val 69564"/>
              <a:gd name="adj2" fmla="val 137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un mecanismo de salida equilibrado entre los accionistas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52"/>
          <p:cNvSpPr/>
          <p:nvPr/>
        </p:nvSpPr>
        <p:spPr>
          <a:xfrm>
            <a:off x="3902040" y="1100160"/>
            <a:ext cx="1671840" cy="636480"/>
          </a:xfrm>
          <a:prstGeom prst="wedgeRectCallout">
            <a:avLst>
              <a:gd name="adj1" fmla="val -45537"/>
              <a:gd name="adj2" fmla="val 88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la proyección del fluj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53"/>
          <p:cNvSpPr/>
          <p:nvPr/>
        </p:nvSpPr>
        <p:spPr>
          <a:xfrm>
            <a:off x="6211800" y="5815080"/>
            <a:ext cx="1671840" cy="636480"/>
          </a:xfrm>
          <a:prstGeom prst="wedgeRectCallout">
            <a:avLst>
              <a:gd name="adj1" fmla="val -121888"/>
              <a:gd name="adj2" fmla="val 34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el plazo y el presupuesto de implementación del product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57"/>
          <p:cNvSpPr/>
          <p:nvPr/>
        </p:nvSpPr>
        <p:spPr>
          <a:xfrm>
            <a:off x="422280" y="5508720"/>
            <a:ext cx="1671480" cy="636480"/>
          </a:xfrm>
          <a:prstGeom prst="wedgeRectCallout">
            <a:avLst>
              <a:gd name="adj1" fmla="val 6601"/>
              <a:gd name="adj2" fmla="val 8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alguna regulación o ley que impida o dificulte el negoci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6FB2-7FFE-4FD2-A41B-EF6FE9BA8588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8"/>
          <p:cNvSpPr/>
          <p:nvPr/>
        </p:nvSpPr>
        <p:spPr>
          <a:xfrm rot="17989800">
            <a:off x="4923360" y="5099040"/>
            <a:ext cx="187632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0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7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9"/>
          <p:cNvSpPr/>
          <p:nvPr/>
        </p:nvSpPr>
        <p:spPr>
          <a:xfrm rot="19722600">
            <a:off x="4269600" y="3030120"/>
            <a:ext cx="2655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solo paranoicos sobreviven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0"/>
          <p:cNvSpPr/>
          <p:nvPr/>
        </p:nvSpPr>
        <p:spPr>
          <a:xfrm rot="2125200">
            <a:off x="4430880" y="4539960"/>
            <a:ext cx="1783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nejo de crisis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1"/>
          <p:cNvSpPr/>
          <p:nvPr/>
        </p:nvSpPr>
        <p:spPr>
          <a:xfrm rot="21376800">
            <a:off x="3331800" y="5517720"/>
            <a:ext cx="21344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s tarde, mas caro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2"/>
          <p:cNvSpPr/>
          <p:nvPr/>
        </p:nvSpPr>
        <p:spPr>
          <a:xfrm rot="20363400">
            <a:off x="2267280" y="4578120"/>
            <a:ext cx="2152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quiero ver mi retorn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3"/>
          <p:cNvSpPr/>
          <p:nvPr/>
        </p:nvSpPr>
        <p:spPr>
          <a:xfrm rot="1751400">
            <a:off x="2297880" y="3460680"/>
            <a:ext cx="1305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optimism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4"/>
          <p:cNvSpPr/>
          <p:nvPr/>
        </p:nvSpPr>
        <p:spPr>
          <a:xfrm rot="1448400">
            <a:off x="2888640" y="2727360"/>
            <a:ext cx="2881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No deseo que me pidan más pl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5"/>
          <p:cNvSpPr/>
          <p:nvPr/>
        </p:nvSpPr>
        <p:spPr>
          <a:xfrm rot="703200">
            <a:off x="397080" y="5873400"/>
            <a:ext cx="1293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imprevist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543C-DC82-4B2C-A121-902015C7FDE9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722880" y="2274840"/>
            <a:ext cx="750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sensación de riesgo es un ju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da inversionista tiene sus propios mie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uidado con los escépticos y con los optimis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ién se hace carg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idiendo un socio, no un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nicero o Ejecutiv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justa tu ofert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23BC-6740-4E22-87C1-556245BBB588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904320" y="2279520"/>
            <a:ext cx="7663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A) NO LE CREO NADA…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B) NO ME CONVENCE , TENGO DU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C) ME CONVENCE TOTAL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653A-D5C0-4CFD-80A6-E94609A0E96A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332080"/>
                <a:gridCol w="681192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UR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NSAMIENTO OBSE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IER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 flujos son creíbles, las tasas, los indicadores, los supuestos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bien evaluada la amenaza de competencia actual y potencial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PO HUM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e equipo humano es capaz de llevar adelante el proyecto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producto está bien definido en cuanto a lo que puede hacer, cuanto cuesta implementarlo y el tiempo para poder venderl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considerada adecuadamente la regulación o leyes que podrían poner en riesgo el negoci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o es la propuesta de salida del negocio? Como y cuando recuperaré mi plata realment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 bien está considerada la demanda potencial y objetivo? Podrán vender lo que dicen y en los plazos prometidos? La estrategia de marketing es razon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49:35Z</dcterms:created>
  <dc:creator>michael</dc:creator>
  <dc:description/>
  <dc:language>en-US</dc:language>
  <cp:lastModifiedBy>Jaime</cp:lastModifiedBy>
  <cp:lastPrinted>2003-10-23T15:52:00Z</cp:lastPrinted>
  <dcterms:modified xsi:type="dcterms:W3CDTF">2010-05-12T23:20:54Z</dcterms:modified>
  <cp:revision>150</cp:revision>
  <dc:subject/>
  <dc:title>No Slide Title</dc:title>
</cp:coreProperties>
</file>