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6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7"/>
          </p:nvPr>
        </p:nvSpPr>
        <p:spPr>
          <a:xfrm>
            <a:off x="397188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3CF101-ACC6-4B4F-BC89-B5A806CFAD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868042-A505-40AC-93F8-EB15D4EF72AB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03956B-CF21-4004-905F-3C39769DAB1C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991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01F4-B777-4578-9571-B45CF5FF2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DD39-85C2-4879-8875-7D89BF5CA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48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9213-F645-4B2F-AB01-C52D0B903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9012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776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42FC-32C9-4BE2-8139-CD7D8C1E7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D0E9D-D9DB-4D2D-B301-AE655636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AA671-1D88-46E9-9FC3-169F1CB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6172C-A47C-4470-B10A-17CF998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7BB8-4932-4522-92B9-B2E20CD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88795-21A6-45AE-917E-B6A78E8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EDFFA-8CDF-4376-833D-80B61C83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6313A-EDFA-472A-BA59-F1D7487E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0FE0-BEEA-477B-AD04-6E65F96CC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48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2BC7-FC14-4F00-8980-8E7C7081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634DB-EF92-46E9-843E-4F5D65D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6212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AE4B-25C6-4EF2-B3E1-D712E1E6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48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D80C-3E92-4E7D-A507-F59BBD2F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6212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012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776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AE4D2-E392-4C42-91C1-6C43826D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E67-ED24-43BB-A00B-EEC2B12A5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045E-9989-4F92-B761-B17F3E5A4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FC2B-473D-4099-A24E-BB69D97B6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61DE-F977-49DD-BE81-5B94A719C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8A8A-29D7-4665-9DB1-B964BC8CE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48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2AD0-699D-4C3B-B3C9-9E7DEE8AA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B3F1-5C2F-4913-9CC2-97CAA7E08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594-0EA7-4AFF-898A-6E6112793B6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7"/>
          <p:cNvSpPr/>
          <p:nvPr/>
        </p:nvSpPr>
        <p:spPr>
          <a:xfrm>
            <a:off x="20520" y="6392880"/>
            <a:ext cx="40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Palatino Linotype"/>
              </a:rPr>
              <a:t>Selección de Tecnología y Productiv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6067-3887-4FF6-8FCE-66F07E7D2DBD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rebuchet MS"/>
              </a:rPr>
              <a:t>Selección de Tecnología y Produc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obots Industri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962160" cy="264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43480" y="3389400"/>
            <a:ext cx="5295600" cy="2935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2619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rebuchet MS"/>
              </a:rPr>
              <a:t>Sistemas para el Manejo Automatizado de Materiales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(AMH) mejoran la eficiencia del transporte, el almacenamiento y la recuperación de materia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Bandas computarizad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istemas de almacenamie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istemas de recuper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Movimiento más rápido de los materia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Inventarios y espacio de almacén más pequeñ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Menos daños a producto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Mayor productividad labor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5909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Estas piezas individuales pueden ser combinadas para formar Células de Producción o incluso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Sistemas Flexibles de Producción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 complejos (FM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Una célula de producción podría constar de un robot o de un centro de maquinad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Un FMS es un sistema completamente automatizad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Un FMS consta d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entro de maquinado con carga y descarga automatizada de pieza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istema de vehículos automatizados guiados para mover las piezas entre máquinas y otros elementos que permitan la producción no asistida de piez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Un sistema de control general de computadora para manejar el sistema enter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El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Diseño Asistido por Computadora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 (CAD) es un enfoque para el diseño de productos y procesos que está basado en la potencia de la computador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Gráficas de computadora (Para examinar las características visuales de un producto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ngeniería asistida por computadora (Para evaluara sus características de ingenierí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Planeación de procesos asistidos por computadora (Diseñas programas de las partes que sirven de instrucciones para las máquinas controladas por computador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Sistemas Automatizados de Planeación y Control de la Producción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 son simples sistemas de información computarizada que ayudan a planear, programar y vigilar una operación fabri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Obtienen constantemente información del taller de la planta acerca de la situación del trabajo, llegada de materiales, et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iberan las órdenes de compras y de producció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Algunos incluyen: procesamiento de ordenes y contabilidad de cost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Manufactura Integrada por Computador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Todas las anteriores se integran en este concepto: CI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CIM es una versión automatizada del proceso de producción, en la cual las tres funciones básicas (diseño del proceso y producto, planeación y control, y el proceso de producción) son reemplazadas por la tecnología recién descrit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 sistema plenamente integrado está automatizado y todos sus procesos están integrados entre s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Tecnologías de Oficin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municacion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FAX, e-mail, teléfonos celulares, GPS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nejo de informac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Tecnologías de información, bases de datos, data mining, sistemas de información geográfica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ocument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Tipeo por PC, scanners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ocesamiento de Imáge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Tecnología de Servici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Bancos: Cajeros automátic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upermercados: Códigos de barras (inventari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dici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6181-E359-4F39-B828-CF31BF9F5B35}" type="slidenum"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onjunto de procesos, herramientas, procedimientos (métodos) y equipos que se usan para producir bienes y servic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Factor determinante de la competitividad de la empres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e requiere de su administración tanto en empresas manufactureras como de servic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roceso de Selec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Es un proceso continuo e integrado al sistema que incluye los siguientes aspect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finición de la política tecnológica de la empres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¿Deseo ser líder tecnológico o seguido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¿Prefiero ser intensivo en capital o en mano de obr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ordinación entre producto y proces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¿Cambios en la tecnología de proceso o de producto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cologí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so cuidadoso de recursos escasos o aplicar tecnología para mitigar efectos no desead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Proceso de Selecció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Ejemplos de alternativas tecnológica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serradero: ¿Sierra con computador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ransporte: GPS, radio, computadores o sistem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Velocidad del cambio tecnológic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ápid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puta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en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Minerí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Evaluación de las inversiones en tecnologí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Grandes inversiones de capital: Se debe evaluar los beneficios financieros y estratégic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aluación compleja: Incluye no solo disminución de costos sino también elevar la calidad y variedad de los productos, acortar tiempos de espera y aumentar la flexibilidad de una opera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Beneficios intangibles (traspaso de conocimient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loz cambio hace que equipos queden rápidamente obsolet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Evaluación de las inversiones en tecnologí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No siempre tendrá costos efectivos, podría no valer la pena adoptarl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uede ser más barato y rápido fabricar piezas complejas en volúmenes pequeños que programar la máquin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conocimiento especializado puede no ser fácil de transferir a la computador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Beneficios de las inversiones en Tecnologí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educción de Cost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laborales: Reemplazar a personas por robots o un número menor de trabajado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de materiales: Usar con más eficiencia materiales existentes o materiales mejo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de inventarios: Mayor eficiencia de produc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de calidad: Inspección automatizada y menor variación de los productos elaborados. Mayor contr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de mantenimiento: Equipamiento se ajusta so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stos de transporte: Sistemas de programa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Beneficios de las inversiones en Tecnologí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Otros Benefici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Mayor variedad de productos: Economías de alcance en razón de sistemas flexibles de produc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Mejores características de los productos: Capacidad para hacer cosas que no se podrían hacer a man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iclos más cortos de tiempo: Mayor velocidad para preparar las máquinas o cambiarl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Mayor producción de product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Riesgos de adoptar nuevas Tecnología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iesgos Tecnológico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rimera en adoptar una nueva tecnología tiene el beneficio de la delantera, pero el riesgo de una tecnología no probad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Riesgo de obsolescenc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4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iesgos Para las Operacion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Alteraciones al menos a corto plazo: reorganizar planta, capacitar al personal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Posibles demoras y errores al proceso de produc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mandas inciertas de diversos recur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Riesgos de adoptar nuevas Tecnología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iesgos Para la Organizació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Podrían carecer de la cultura organizacional para absorber las alteraciones e incertidumb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Riesgo de que empleados o administradores abandonen la empres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4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iesgos Para el Ambiente o el Mercado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Podrían invertir y luego encontrarse con que los cambios en factores ambientales o del mercado hacen que su inversión no valga nada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j.: Automóviles eléctricos -&gt; normas futuras de gobiern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j.: Riesgos en las fluctuaciones de los tipos de cambi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j.: Escasa demanda por productos nuevo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Papel preponderante en aumento de productiv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A brindado ventaja competitiva a empresas que la han adoptado pron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Beneficio aumenta cuando se integran las tecnologías de información y de producció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No solo hay beneficios tangibles y muchos se verán a largo plaz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a implementación requiere compromiso por parte de la empresa y de todos los emplead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Inversiones pueden estar fuera del alcance de empresas medianas y pequeñ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os costos deberían bajar en el futur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Clasificació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ecnología dura: máquin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ecnología blanda: procesamiento de informa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Avances han tenido efecto generalizado en las compañías de manufactura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istemas de Hardw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istemas de Softw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automatización a los proces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empeñan tareas que llevan mucho trabajo y antes eran desempeñadas por human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Máquinas controladas numéricamen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entros de maquinad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Robots industria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istemas automatizados para el manejo de materia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istemas flexibles de produc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Instrumentos controlados por computadora que se pueden usar para fabricar producto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Tecnologí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yudan al diseño de los productos manufacturados y al análisis, la planeación y el control de las actividades fabri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iseño asistido por computador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5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Planeación automatizada de la manufactura y sistemas de contr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a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Máquinas Controladas Numéricamente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 (CN) están compuestas po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áquina-Herramienta típica usada para girar, perforar o troquelar diferentes pie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Una computadora que controla la secuencia de procesos que desarrolla la máquin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Adoptadas por primera vez por las empresas aeroespaciales de Estados Unidos en la década de 196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rebuchet MS"/>
              </a:rPr>
              <a:t>En los modelos recientes hay control de adapta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Máquinas Controladas Numéric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429000" cy="335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5257800" cy="28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91320" y="5486400"/>
            <a:ext cx="259056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Centros de Maquinado 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representan un mayor grado de automatización y  complejida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1669" b="0"/>
          <a:stretch/>
        </p:blipFill>
        <p:spPr>
          <a:xfrm>
            <a:off x="5486400" y="2895480"/>
            <a:ext cx="3124080" cy="337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3316320"/>
            <a:ext cx="464796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No solo ofrecen control automático sino que llevan muchas herramientas que pueden ser cambiadas automá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rebuchet MS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rebuchet MS"/>
              </a:rPr>
              <a:t>Robots Industriales</a:t>
            </a:r>
            <a:r>
              <a:rPr b="0" lang="es-CL" sz="2800" spc="-1" strike="noStrike">
                <a:solidFill>
                  <a:srgbClr val="000000"/>
                </a:solidFill>
                <a:latin typeface="Trebuchet MS"/>
              </a:rPr>
              <a:t> son empelados par sustituir a los trabajadores en muchas actividades manuales repetitivas y en tareas que son peligrosas, sucias o aburrid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Un robot es una máquina programable, que cumple con muchas funcio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 han añadido capacidades par que haya coordinación visual y de sensibilidad táct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gunos se les puede enseñar una secuencia de movimientos en un patrón tridimensio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Xime</cp:lastModifiedBy>
  <cp:lastPrinted>2002-03-21T07:38:08Z</cp:lastPrinted>
  <dcterms:modified xsi:type="dcterms:W3CDTF">2010-05-06T01:59:20Z</dcterms:modified>
  <cp:revision>338</cp:revision>
  <dc:subject/>
  <dc:title>Comercio Electrónico</dc:title>
</cp:coreProperties>
</file>