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76D-7F85-4E11-9AE1-EFF59576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7634-5843-4C24-94AE-3E37DEAB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794-4C92-491C-8FE4-DA604BF6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B207-DF1A-43FA-A783-3A003034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13EB-2073-4203-9186-F4924AA1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5B91-2977-4801-AF26-A8DDC93D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671A-2409-4921-8626-3E69F0D4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E196-B782-40C8-BDE3-9470F28B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C5CA-0DF7-4C95-8956-B420056E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107C-E6FD-4D77-88B8-28BBDD2F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DF27-3542-43CA-849C-1E8F9969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90CA-4758-4E12-A15B-59740553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6CB1-ED7B-4F82-A9F6-F562BE26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9EA9-E2A7-4DC0-B139-4FED1CB5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5388-FE46-43DB-8E4C-54BD762B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2DE4-7AAC-4BD3-8009-C985B369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0E85-029A-4162-914B-520DF6EC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37ACA4-ABB6-49EB-ACD4-4B025630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B6376-9B34-4D47-864B-61806238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FAA53-FEE6-4AAC-8069-6E64962C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2B99B-B203-4BED-8946-81A8D14B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EF827-344F-4040-9D5E-66F12639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204-65E8-44D8-A96C-BF4EE56C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1BCF0-7E46-4899-BB35-C655D0A9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A16A9-BCA7-4148-A043-66F2D3E9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EC42E-BF06-4790-A724-019B3558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22DEF-0D04-4309-8857-F02FB5EF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22832-0CFE-41BB-9120-FBEAEF8B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71010-D0B0-49E2-AB4F-5C76922D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7C8FB-8278-420D-8489-F9FCEBA3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B2ED0-DEF2-4C17-9EB4-632685B9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612C9-D840-400F-96D0-4CD169CC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6B233-52C3-4AC1-B15F-C84A602D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F47-B195-4B28-BEBB-828C100B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8B005-9EE4-4062-A376-64836E3B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4EABE-96CB-4770-9382-D3970A9A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235AF-5CF8-4404-9438-77CBC782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503D8-63C3-42FE-9211-DE85461E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6A5F5-66EB-460A-A2A4-35A6C355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D4C9A-A040-43A1-9F03-46547602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51E10-AAB2-4ABB-841B-85BAD6E7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04C7A-F6CA-409A-9F42-406B75F1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02792-BFD8-4AEB-BA91-C3CE2DF8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E49D-F04F-466C-BA7F-0B1C1B21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D28-6D46-4647-8335-963BBED9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EC42-E7BC-477F-9D94-CB670C9E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CA4-32E0-493E-8204-AF600B1F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60CD-C849-4E40-99AD-C8BD2C7F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899C-FC48-4916-911A-D872E334777B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3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4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5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26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40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41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42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43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44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3678-88EC-4DE3-BB0A-6B3FFA632D7E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FA6C-D377-4CAF-B94C-722A89C9F57E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F6F9-888B-4E99-BAB7-ADC39CA47507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400" y="1500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rebuchet MS"/>
              </a:rPr>
              <a:t>Entel vs Movistar</a:t>
            </a:r>
            <a:endParaRPr b="0" lang="en-US" sz="6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85776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4617b"/>
                </a:solidFill>
                <a:latin typeface="Georgia"/>
              </a:rPr>
              <a:t>Auxiliar Análisis Financier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6500880" y="5857920"/>
            <a:ext cx="2333520" cy="771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357120" y="4786200"/>
            <a:ext cx="18954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85840" y="2308320"/>
          <a:ext cx="6408720" cy="3620880"/>
        </p:xfrm>
        <a:graphic>
          <a:graphicData uri="http://schemas.openxmlformats.org/drawingml/2006/table">
            <a:tbl>
              <a:tblPr/>
              <a:tblGrid>
                <a:gridCol w="3379680"/>
                <a:gridCol w="1514520"/>
                <a:gridCol w="1514520"/>
              </a:tblGrid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081.9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614.2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er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2.5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8.6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reedores comerciales y otras cuentas por pag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909.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41.8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pagar a entidades relacionada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969.2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590.63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32.2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78.1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pagar por impues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05.7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26.5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8.0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5.4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diferi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794.9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06.0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3.053.7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10.311.7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.814.1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.791.3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6.8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813.1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321.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9.1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95.5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5.7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no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9.199.1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.307.9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12.252.8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12.619.6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40" name="4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s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s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85840" y="2151000"/>
          <a:ext cx="5351400" cy="4349880"/>
        </p:xfrm>
        <a:graphic>
          <a:graphicData uri="http://schemas.openxmlformats.org/drawingml/2006/table">
            <a:tbl>
              <a:tblPr/>
              <a:tblGrid>
                <a:gridCol w="3128760"/>
                <a:gridCol w="1111320"/>
                <a:gridCol w="1111320"/>
              </a:tblGrid>
              <a:tr h="19008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421.8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83.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er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509.9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14.5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reedores comerciales y otras cuentas por pag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.521.2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3.077.0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.5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a la re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02.5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28.3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96.9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650.2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diferi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657.2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346.3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de cober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.2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.5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acumulados (o devengad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07.5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42.2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3.397.5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1.491.9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5.821.1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6.376.3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.3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0.3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84.1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85.5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por impuestos difer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016.9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81.1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8.8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diferid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4.2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95.2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ligacion por beneficios Post Emp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63.7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12.7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040.5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940.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No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01.140.1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57.700.2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4.537.67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79.192.2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44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trimonio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15800" y="2500200"/>
          <a:ext cx="6228000" cy="1722600"/>
        </p:xfrm>
        <a:graphic>
          <a:graphicData uri="http://schemas.openxmlformats.org/drawingml/2006/table">
            <a:tbl>
              <a:tblPr/>
              <a:tblGrid>
                <a:gridCol w="3957840"/>
                <a:gridCol w="1135080"/>
                <a:gridCol w="113508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emit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31.647.2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65.350.0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reser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.365.208.2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.402.198.3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s reten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.837.7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.639.2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 atribuible a los tenedores de instrumentos de patrimonio neto de controlad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9.276.6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9.790.9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ones minoritar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9.276.6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9.791.8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y patrimo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251.529.4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32.411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47" name="4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trimonio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28760" y="2571840"/>
          <a:ext cx="6414840" cy="1539720"/>
        </p:xfrm>
        <a:graphic>
          <a:graphicData uri="http://schemas.openxmlformats.org/drawingml/2006/table">
            <a:tbl>
              <a:tblPr/>
              <a:tblGrid>
                <a:gridCol w="4117680"/>
                <a:gridCol w="1149480"/>
                <a:gridCol w="114768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emit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.667.5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.667.5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reser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84.968.3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84.471.7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s reten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3.152.7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.672.7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 atribuible a los accionistas de la Matr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.851.9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.868.5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és minor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.851.9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.868.5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y patrimo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65.389.5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03.060.8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50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</a:t>
            </a: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(EERR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571760" y="2214720"/>
          <a:ext cx="5905440" cy="3342960"/>
        </p:xfrm>
        <a:graphic>
          <a:graphicData uri="http://schemas.openxmlformats.org/drawingml/2006/table">
            <a:tbl>
              <a:tblPr/>
              <a:tblGrid>
                <a:gridCol w="3646440"/>
                <a:gridCol w="1128600"/>
                <a:gridCol w="113040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ordin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3.007.09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7.741.97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377.84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33.5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de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41.967.20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39.022.2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y 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48.852.0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58.208.8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gastos vari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419.982.6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460.754.4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8.639.27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16.852.71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rocedente de inver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07.14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19.0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cias de camb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  182.2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7.938.96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 distintos de l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antes de impues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1.068.7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2.117.9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 por impuesto a las gana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33.016.8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13.513.9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8.051.9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8.603.9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53" name="5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Estados Financieros (EERR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314360" y="2131920"/>
          <a:ext cx="6043680" cy="4003920"/>
        </p:xfrm>
        <a:graphic>
          <a:graphicData uri="http://schemas.openxmlformats.org/drawingml/2006/table">
            <a:tbl>
              <a:tblPr/>
              <a:tblGrid>
                <a:gridCol w="3659400"/>
                <a:gridCol w="1127160"/>
                <a:gridCol w="125712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ordin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.129.6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3.411.97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12.36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22.8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de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00.707.10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91.692.32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y 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211.769.59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194.402.0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s por deterioro (Reversion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32.198.82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36.018.03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gastos vari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465.415.40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488.510.5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(Pérdida) por baja en cuentas de activ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orrientes no mantenidos para la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29.1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      166.55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11.351.84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15.239.3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rocedente de inver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67.7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18.9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cias de camb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7.524.35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  4.543.6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 por unidades de reaju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77.7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14.301.8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antes de impues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1.049.50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4.779.43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 por impuesto a las gana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28.789.5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25.546.79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2.259.9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9.232.6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56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400" y="2101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rebuchet MS"/>
              </a:rPr>
              <a:t>Indicadores Financieros</a:t>
            </a:r>
            <a:endParaRPr b="0" lang="en-US" sz="6000" spc="-1" strike="noStrike">
              <a:solidFill>
                <a:srgbClr val="04617b"/>
              </a:solidFill>
              <a:latin typeface="Trebuchet MS"/>
            </a:endParaRPr>
          </a:p>
        </p:txBody>
      </p:sp>
      <p:grpSp>
        <p:nvGrpSpPr>
          <p:cNvPr id="258" name="10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59" name="11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0" name="12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1" name="13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Liquidez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43000" y="2571840"/>
          <a:ext cx="7000920" cy="1501560"/>
        </p:xfrm>
        <a:graphic>
          <a:graphicData uri="http://schemas.openxmlformats.org/drawingml/2006/table">
            <a:tbl>
              <a:tblPr/>
              <a:tblGrid>
                <a:gridCol w="3265560"/>
                <a:gridCol w="933480"/>
                <a:gridCol w="934920"/>
                <a:gridCol w="933480"/>
                <a:gridCol w="93348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ción de liquid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 Áci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4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65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6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7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Endeudamiento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071720" y="2428920"/>
          <a:ext cx="7072200" cy="1876320"/>
        </p:xfrm>
        <a:graphic>
          <a:graphicData uri="http://schemas.openxmlformats.org/drawingml/2006/table">
            <a:tbl>
              <a:tblPr/>
              <a:tblGrid>
                <a:gridCol w="4008240"/>
                <a:gridCol w="765360"/>
                <a:gridCol w="766440"/>
                <a:gridCol w="765360"/>
                <a:gridCol w="76680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ón de endeudami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ón deuda patrimon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bertura de inter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0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71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2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3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Rentabilidad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785960" y="2712960"/>
          <a:ext cx="5429160" cy="1501920"/>
        </p:xfrm>
        <a:graphic>
          <a:graphicData uri="http://schemas.openxmlformats.org/drawingml/2006/table">
            <a:tbl>
              <a:tblPr/>
              <a:tblGrid>
                <a:gridCol w="1030320"/>
                <a:gridCol w="1100160"/>
                <a:gridCol w="1100160"/>
                <a:gridCol w="1098360"/>
                <a:gridCol w="110016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6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77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8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9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Agenda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Caracterización de la Industr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Indicadores Financier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Análisis Financier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Eficiencia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571680" y="2087640"/>
          <a:ext cx="7786440" cy="2627280"/>
        </p:xfrm>
        <a:graphic>
          <a:graphicData uri="http://schemas.openxmlformats.org/drawingml/2006/table">
            <a:tbl>
              <a:tblPr/>
              <a:tblGrid>
                <a:gridCol w="4413240"/>
                <a:gridCol w="842760"/>
                <a:gridCol w="843120"/>
                <a:gridCol w="844560"/>
                <a:gridCol w="84276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tación de existenc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istencia en dí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tación de Cuentas por Cob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odo de Cob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tación de los Ac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2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83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4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5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Análisis Financiero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Impacto de la crisi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Desempeño de las empresa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Conclusione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785960" y="2146320"/>
            <a:ext cx="569124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8400" y="2101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rebuchet MS"/>
              </a:rPr>
              <a:t>FIN</a:t>
            </a:r>
            <a:endParaRPr b="0" lang="en-US" sz="6000" spc="-1" strike="noStrike">
              <a:solidFill>
                <a:srgbClr val="04617b"/>
              </a:solidFill>
              <a:latin typeface="Trebuchet MS"/>
            </a:endParaRPr>
          </a:p>
        </p:txBody>
      </p:sp>
      <p:grpSp>
        <p:nvGrpSpPr>
          <p:cNvPr id="291" name="10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92" name="11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3" name="12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Motivación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17,6 millones de abonado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Penetración del 99,2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Tráfico de llamadas (2009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12 mil millones de minutos.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Nuevos servicios asociado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a la industr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334120" y="1214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5981760" y="4124160"/>
            <a:ext cx="27334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Industria de telefonía móvil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5" name="3 Marcador de contenido" descr=""/>
          <p:cNvPicPr/>
          <p:nvPr/>
        </p:nvPicPr>
        <p:blipFill>
          <a:blip r:embed="rId1"/>
          <a:stretch/>
        </p:blipFill>
        <p:spPr>
          <a:xfrm>
            <a:off x="428760" y="2143080"/>
            <a:ext cx="8072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Industria de telefonía móvil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7" name="3 Marcador de contenido" descr=""/>
          <p:cNvPicPr/>
          <p:nvPr/>
        </p:nvPicPr>
        <p:blipFill>
          <a:blip r:embed="rId1"/>
          <a:stretch/>
        </p:blipFill>
        <p:spPr>
          <a:xfrm>
            <a:off x="428760" y="2143080"/>
            <a:ext cx="8072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Aspectos relevante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Decreto Tarifari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Crisis económic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Medir impacto.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Nuevas tecnologí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Cambio de equipos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Nuevos servicios (3G)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4643280" y="2000160"/>
            <a:ext cx="421488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ntel vs Movistar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2" name="4 Marcador de contenido" descr=""/>
          <p:cNvPicPr/>
          <p:nvPr/>
        </p:nvPicPr>
        <p:blipFill>
          <a:blip r:embed="rId1"/>
          <a:stretch/>
        </p:blipFill>
        <p:spPr>
          <a:xfrm>
            <a:off x="298440" y="2243160"/>
            <a:ext cx="86504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Act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85840" y="2357280"/>
          <a:ext cx="6357960" cy="4230720"/>
        </p:xfrm>
        <a:graphic>
          <a:graphicData uri="http://schemas.openxmlformats.org/drawingml/2006/table">
            <a:tbl>
              <a:tblPr/>
              <a:tblGrid>
                <a:gridCol w="4154400"/>
                <a:gridCol w="1101600"/>
                <a:gridCol w="1101960"/>
              </a:tblGrid>
              <a:tr h="190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ectivo y equivalentes al efec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690.2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368.9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financieros a valor razonable con cambios en resul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5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.9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udores comerciales y otras cuentas por cobrar, neto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659.6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.107.4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a entidades relacion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77.2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246.7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ntari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845.1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595.9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05.1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s anticipa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985.1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249.5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por impuestos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1.1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2.4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59.8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9.2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os corrientes en operación,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76.330.1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95.889.2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 financie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4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intangibles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7.426.2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4.329.1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iedades, planta y equip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430.8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1.151.9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por impuestos difer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342.2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742.4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291.27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75.199.3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036.522.3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251.529.4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32.411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35" name="5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543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Act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57120" y="2301840"/>
          <a:ext cx="6261120" cy="4192560"/>
        </p:xfrm>
        <a:graphic>
          <a:graphicData uri="http://schemas.openxmlformats.org/drawingml/2006/table">
            <a:tbl>
              <a:tblPr/>
              <a:tblGrid>
                <a:gridCol w="4043520"/>
                <a:gridCol w="1109520"/>
                <a:gridCol w="1108080"/>
              </a:tblGrid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ectivo y equivalentes al efec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363.14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571.9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financieros a valor razonable con cambios en resul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5.8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085.6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udores comerciales y otras cuentas por cobrar, neto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.700.6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.940.8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a entidades relacion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9.8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8.3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ntari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882.9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337.7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s anticipa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70.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293.8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por impuestos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027.8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954.6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9.8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84.9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1.390.1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86.867.9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 financie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5.5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903.7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udores comerciales y otras cuents por cobrar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48.7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21.6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intangibles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508.1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638.5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iedades, planta y equip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.358.1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.128.8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por impuestos difer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635.1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068.5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08.0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08.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65.6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2.4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 no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043.999.4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016.192.7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65.389.5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03.060.7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38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6:21:10Z</dcterms:created>
  <dc:creator>Héctor Alvarez</dc:creator>
  <dc:description/>
  <dc:language>en-US</dc:language>
  <cp:lastModifiedBy>Héctor Alvarez</cp:lastModifiedBy>
  <dcterms:modified xsi:type="dcterms:W3CDTF">2010-05-12T20:41:52Z</dcterms:modified>
  <cp:revision>20</cp:revision>
  <dc:subject/>
  <dc:title>Entel vs Movistar</dc:title>
</cp:coreProperties>
</file>