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CCC-096F-411F-BDC6-493EC099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2CF-2698-436F-B545-EA148094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B18-27DC-427B-91BE-2AC5AE75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0B5-900D-44FE-A802-F7FCA50F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C521-A69B-40D6-AEFB-07207892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BD0E-E96B-40BB-BB06-64055D1D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E73D-0E97-439A-B0EA-FE40F9FE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8CCE-8036-4C3F-9463-A0165022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B0AB-49F8-4E63-95BB-80BA60DE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5BC0-D35E-4A96-867A-C43AD169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E9FA-6509-4435-B6E8-8DDBE93C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C6B-DDB6-4D27-AAD8-962B8CA4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0C97-2BEF-416A-B261-BC19986B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BB03-70AC-4712-B7D2-BB773231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84B5-F991-4F08-B557-0377C9B4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23AF-778A-49FD-9847-608CC8ED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DD6B-0298-4980-9EA2-78BD972E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3D536-88EA-41EF-A9DC-E3B5401A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EC945-8D5C-4EFE-954A-3E3D8714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DF1D3-EAA7-4775-924C-98DFC5B8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A9A5E-1F2C-4D42-8032-0A0D5DFF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F244A-DB3C-4BEF-BB05-748D234D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1ED-FC4F-4C45-9F6B-A33E3CA7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CA006-D072-4433-A5D8-9274AAED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F56B3-94AF-4822-A709-89140889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DD6A4-903A-4BD5-A8CE-76D363FA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68861-AC2D-4842-B01D-8F9D3D8E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FEB67-95DA-42E4-82D7-3C4990F9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93340-8556-4E79-B052-64F5E9E8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E1EE5-D724-4041-B202-289E9372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72106-42A5-45DA-8939-9D949D0A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BE406-67EA-4342-9F05-C2EB210B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D3C54-4396-4848-8DD1-9FCE9057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A3A-6ED0-407F-AB90-A756997F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88518-33F2-40C0-93E5-6B7087D5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DA4B2-C0ED-4A38-954A-E6AB26AF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41711-E96C-4AFF-B95C-D709B9D3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876FC-DF67-4110-A5E9-80E01770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083FC-54EB-450F-8262-9D3F6905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F142F-775F-4F06-B1B6-ADCD79BE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EE5AE-7A36-4A5F-BFEA-18AF0B50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A1330-DA59-4A9E-B6B6-0ECDEA06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C6E5B-BF88-4BF9-A687-80172852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473-0756-49E1-905A-0762E4B4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E2E1-E6EB-4092-ABAF-7D1C2498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57F-7DFA-452C-845E-F8603DD9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47B-016E-408D-909A-211A1278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7D3-516A-4BB8-9236-5EC9FF4F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EB0C-A6FC-44BE-B31E-20B3294F2818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3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4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5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26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40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41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42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43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44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F42B-6A6F-41C4-97B2-FFE5096E1264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EFE9-EF57-4E34-AC4F-07895B2339CD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10C0-087F-48B3-99B5-487C412D901A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Entel vs Movistar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85776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4617b"/>
                </a:solidFill>
                <a:latin typeface="Georgia"/>
              </a:rPr>
              <a:t>Auxiliar Análisis Financier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6500880" y="5857920"/>
            <a:ext cx="2333520" cy="771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357120" y="4786200"/>
            <a:ext cx="1895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85840" y="2308320"/>
          <a:ext cx="6408720" cy="3620880"/>
        </p:xfrm>
        <a:graphic>
          <a:graphicData uri="http://schemas.openxmlformats.org/drawingml/2006/table">
            <a:tbl>
              <a:tblPr/>
              <a:tblGrid>
                <a:gridCol w="3379680"/>
                <a:gridCol w="1514520"/>
                <a:gridCol w="1514520"/>
              </a:tblGrid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081.9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614.2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er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.5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8.6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eedores comerciales y otras cuentas por pa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909.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41.8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pagar a entidades relacionada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969.2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590.6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32.2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78.1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pagar por impue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05.7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26.5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8.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.4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794.9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06.0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3.053.7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10.311.7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.814.1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791.3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8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813.1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21.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.1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95.5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.7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9.199.1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.307.9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12.252.8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12.619.6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0" name="4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s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s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85840" y="2151000"/>
          <a:ext cx="5351400" cy="4349880"/>
        </p:xfrm>
        <a:graphic>
          <a:graphicData uri="http://schemas.openxmlformats.org/drawingml/2006/table">
            <a:tbl>
              <a:tblPr/>
              <a:tblGrid>
                <a:gridCol w="3128760"/>
                <a:gridCol w="1111320"/>
                <a:gridCol w="1111320"/>
              </a:tblGrid>
              <a:tr h="1900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421.8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83.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er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509.9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4.5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eedores comerciales y otras cuentas por pag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.521.2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3.077.0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.5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a la r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02.5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28.3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96.9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650.2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657.2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346.3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.2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.5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acumulados (o devengad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07.5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42.2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3.397.5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1.491.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5.821.1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6.376.3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.3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0.3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84.1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85.5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016.9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81.1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.8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4.2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95.2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ligacion por beneficios Post Emp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63.7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12.7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040.5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940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1.140.1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7.700.2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4.537.67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79.192.2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4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trimonio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15800" y="2500200"/>
          <a:ext cx="6228000" cy="1722600"/>
        </p:xfrm>
        <a:graphic>
          <a:graphicData uri="http://schemas.openxmlformats.org/drawingml/2006/table">
            <a:tbl>
              <a:tblPr/>
              <a:tblGrid>
                <a:gridCol w="3957840"/>
                <a:gridCol w="1135080"/>
                <a:gridCol w="11350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emi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31.647.2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65.350.0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reser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.365.208.2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.402.198.3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s reten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.837.7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639.2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 atribuible a los tenedores de instrumentos de patrimonio neto de control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.276.6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9.790.9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ones minoritar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.276.6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9.791.8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y p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51.529.4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32.411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7" name="4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trimonio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28760" y="2571840"/>
          <a:ext cx="6414840" cy="1539720"/>
        </p:xfrm>
        <a:graphic>
          <a:graphicData uri="http://schemas.openxmlformats.org/drawingml/2006/table">
            <a:tbl>
              <a:tblPr/>
              <a:tblGrid>
                <a:gridCol w="4117680"/>
                <a:gridCol w="1149480"/>
                <a:gridCol w="11476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emi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.667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.667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reser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84.968.3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84.471.7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s reten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.152.7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.672.7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 atribuible a los accionistas de la Matr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.851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.868.5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és minor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.851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.868.5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y p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65.389.5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03.060.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0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</a:t>
            </a: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(EERR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571760" y="2214720"/>
          <a:ext cx="5905440" cy="3342960"/>
        </p:xfrm>
        <a:graphic>
          <a:graphicData uri="http://schemas.openxmlformats.org/drawingml/2006/table">
            <a:tbl>
              <a:tblPr/>
              <a:tblGrid>
                <a:gridCol w="3646440"/>
                <a:gridCol w="1128600"/>
                <a:gridCol w="113040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ordi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3.007.0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7.741.97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377.8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33.5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de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41.967.2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9.022.2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y 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48.852.0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58.208.8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gastos vari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19.982.6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60.754.4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8.639.2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6.852.71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rocedente de inver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7.1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19.0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cias de cam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182.2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7.938.96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istintos de l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antes de impue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1.068.7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2.117.9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 por impuesto a las gana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3.016.8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3.513.9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8.051.9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8.603.9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3" name="5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stados Financieros (EERR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314360" y="2131920"/>
          <a:ext cx="6043680" cy="4003920"/>
        </p:xfrm>
        <a:graphic>
          <a:graphicData uri="http://schemas.openxmlformats.org/drawingml/2006/table">
            <a:tbl>
              <a:tblPr/>
              <a:tblGrid>
                <a:gridCol w="3659400"/>
                <a:gridCol w="1127160"/>
                <a:gridCol w="125712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ordi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.129.6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411.9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2.3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22.8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de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00.707.1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91.692.3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y 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11.769.5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194.402.0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s por deterioro (Reversi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2.198.8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36.018.03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gastos vari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65.415.40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488.510.5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(Pérdida) por baja en cuentas de activ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orrientes no mantenidos para la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29.1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    166.5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1.351.8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15.239.3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rocedente de inver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7.7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18.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cias de cam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7.524.35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4.543.6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 por unidades de reaju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77.7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14.301.8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antes de impue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1.049.50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4.779.43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 por impuesto a las gana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28.789.5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25.546.7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2.259.9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9.232.6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6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400" y="2101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Indicadores Financieros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grpSp>
        <p:nvGrpSpPr>
          <p:cNvPr id="258" name="10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59" name="11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0" name="12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1" name="13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Liquidez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43000" y="2571840"/>
          <a:ext cx="7000920" cy="1501560"/>
        </p:xfrm>
        <a:graphic>
          <a:graphicData uri="http://schemas.openxmlformats.org/drawingml/2006/table">
            <a:tbl>
              <a:tblPr/>
              <a:tblGrid>
                <a:gridCol w="3265560"/>
                <a:gridCol w="933480"/>
                <a:gridCol w="934920"/>
                <a:gridCol w="933480"/>
                <a:gridCol w="93348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ón de liqu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 Áci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4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65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6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7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ndeudamient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071720" y="2428920"/>
          <a:ext cx="7072200" cy="1876320"/>
        </p:xfrm>
        <a:graphic>
          <a:graphicData uri="http://schemas.openxmlformats.org/drawingml/2006/table">
            <a:tbl>
              <a:tblPr/>
              <a:tblGrid>
                <a:gridCol w="4008240"/>
                <a:gridCol w="765360"/>
                <a:gridCol w="766440"/>
                <a:gridCol w="765360"/>
                <a:gridCol w="76680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ón de endeudami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ón deuda patrimon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bertura de inter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0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71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2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3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Rentabilidad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785960" y="2712960"/>
          <a:ext cx="5429160" cy="1501920"/>
        </p:xfrm>
        <a:graphic>
          <a:graphicData uri="http://schemas.openxmlformats.org/drawingml/2006/table">
            <a:tbl>
              <a:tblPr/>
              <a:tblGrid>
                <a:gridCol w="1030320"/>
                <a:gridCol w="1100160"/>
                <a:gridCol w="1100160"/>
                <a:gridCol w="1098360"/>
                <a:gridCol w="110016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6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77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8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9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aracterización de la Industr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Indicadores Financier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Análisis Financier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ficienci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71680" y="2087640"/>
          <a:ext cx="7786440" cy="2627280"/>
        </p:xfrm>
        <a:graphic>
          <a:graphicData uri="http://schemas.openxmlformats.org/drawingml/2006/table">
            <a:tbl>
              <a:tblPr/>
              <a:tblGrid>
                <a:gridCol w="4413240"/>
                <a:gridCol w="842760"/>
                <a:gridCol w="843120"/>
                <a:gridCol w="844560"/>
                <a:gridCol w="84276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existen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stencia en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Cuentas por Cob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odo de Cob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los 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2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83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4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5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Análisis Financier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Impacto de la crisi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Desempeño de las empresa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Conclusion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785960" y="2146320"/>
            <a:ext cx="56912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400" y="2101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FIN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grpSp>
        <p:nvGrpSpPr>
          <p:cNvPr id="291" name="10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92" name="11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3" name="12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Motivación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17,6 millones de abonado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Penetración del 99,2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Tráfico de llamadas (2009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12 mil millones de minutos.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Nuevos servicios asociado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a la industr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334120" y="1214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5981760" y="4124160"/>
            <a:ext cx="27334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Industria de telefonía móvil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5" name="3 Marcador de contenido" descr=""/>
          <p:cNvPicPr/>
          <p:nvPr/>
        </p:nvPicPr>
        <p:blipFill>
          <a:blip r:embed="rId1"/>
          <a:stretch/>
        </p:blipFill>
        <p:spPr>
          <a:xfrm>
            <a:off x="428760" y="2143080"/>
            <a:ext cx="8072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Industria de telefonía móvil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7" name="3 Marcador de contenido" descr=""/>
          <p:cNvPicPr/>
          <p:nvPr/>
        </p:nvPicPr>
        <p:blipFill>
          <a:blip r:embed="rId1"/>
          <a:stretch/>
        </p:blipFill>
        <p:spPr>
          <a:xfrm>
            <a:off x="428760" y="2143080"/>
            <a:ext cx="8072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Aspectos relevant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Decreto Tarifari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risis económic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Medir impacto.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Nuevas tecnologí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Cambio de equipos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Nuevos servicios (3G)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643280" y="2000160"/>
            <a:ext cx="421488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ntel vs Movistar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2" name="4 Marcador de contenido" descr=""/>
          <p:cNvPicPr/>
          <p:nvPr/>
        </p:nvPicPr>
        <p:blipFill>
          <a:blip r:embed="rId1"/>
          <a:stretch/>
        </p:blipFill>
        <p:spPr>
          <a:xfrm>
            <a:off x="298440" y="2243160"/>
            <a:ext cx="86504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Act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85840" y="2357280"/>
          <a:ext cx="6357960" cy="4230720"/>
        </p:xfrm>
        <a:graphic>
          <a:graphicData uri="http://schemas.openxmlformats.org/drawingml/2006/table">
            <a:tbl>
              <a:tblPr/>
              <a:tblGrid>
                <a:gridCol w="4154400"/>
                <a:gridCol w="1101600"/>
                <a:gridCol w="1101960"/>
              </a:tblGrid>
              <a:tr h="190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ectivo y equivalentes al efe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690.2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368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financieros a valor razonable con cambios en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9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as por cobrar, neto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659.6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.107.4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a entidades relacion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77.2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46.7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ari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845.1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595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05.1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 anticipa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985.1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49.5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por impuest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1.1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.4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59.8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9.2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os corrientes en operación,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6.330.1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5.889.2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 financie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intangibles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.426.2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.329.1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, planta y equip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430.8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1.151.9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42.2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742.4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91.2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75.199.3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36.522.3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51.529.4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32.411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35" name="5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543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Act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57120" y="2301840"/>
          <a:ext cx="6261120" cy="4192560"/>
        </p:xfrm>
        <a:graphic>
          <a:graphicData uri="http://schemas.openxmlformats.org/drawingml/2006/table">
            <a:tbl>
              <a:tblPr/>
              <a:tblGrid>
                <a:gridCol w="4043520"/>
                <a:gridCol w="1109520"/>
                <a:gridCol w="1108080"/>
              </a:tblGrid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ectivo y equivalentes al efe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363.14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571.9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financieros a valor razonable con cambios en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8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085.6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as por cobrar, neto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.700.6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.940.8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a entidades relacion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9.8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8.3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ari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882.9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337.7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 anticipa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70.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93.8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por impuest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27.8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954.6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9.8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84.9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1.390.1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6.867.9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 financie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5.5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903.7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s por cobrar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8.7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21.6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intangibles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508.1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638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, planta y equip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.358.1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.128.8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635.1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068.5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08.0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08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5.6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2.4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43.999.4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16.192.7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65.389.5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03.060.7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38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6:21:10Z</dcterms:created>
  <dc:creator>Héctor Alvarez</dc:creator>
  <dc:description/>
  <dc:language>en-US</dc:language>
  <cp:lastModifiedBy>Héctor Alvarez</cp:lastModifiedBy>
  <dcterms:modified xsi:type="dcterms:W3CDTF">2010-05-12T20:41:52Z</dcterms:modified>
  <cp:revision>20</cp:revision>
  <dc:subject/>
  <dc:title>Entel vs Movistar</dc:title>
</cp:coreProperties>
</file>