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E101-31F1-475A-B451-FC64E11B4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A1C7-4F19-4BF8-8D88-33F58955C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3315-1E0D-4D2C-99EB-E2B2617D0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A55A-5209-491E-9AD2-87447A5C3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7D41-44FD-48C4-B259-E3D9B2FAC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A867-F2F0-4D70-99E9-30659B408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4B92-E407-4C33-8A27-CB406CDD9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14CD-4746-41A1-A972-FFB3E9937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08EF-086E-461E-A4DD-D82F75033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D68B-C1CC-480D-B3EA-5F172656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E30A-0434-4B89-BEF5-10D78E89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747A-A5F6-467A-8622-E0080139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64953-DD6F-4C01-A89A-94EE51261D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62.xml"/><Relationship Id="rId2" Type="http://schemas.openxmlformats.org/officeDocument/2006/relationships/slide" Target="slide63.xml"/><Relationship Id="rId3" Type="http://schemas.openxmlformats.org/officeDocument/2006/relationships/slide" Target="slide64.xml"/><Relationship Id="rId4" Type="http://schemas.openxmlformats.org/officeDocument/2006/relationships/slide" Target="slide66.xml"/><Relationship Id="rId5" Type="http://schemas.openxmlformats.org/officeDocument/2006/relationships/slide" Target="slide67.xml"/><Relationship Id="rId6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" Target="slide61.xml"/><Relationship Id="rId4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unda Part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tabilidad Gerenc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 Otras clasificaciones importa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relevante: Costo futuro que será afectado por una decisión ac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hundido: Costo inamovible porque ya se produjo o porque una decisión ya tomada lo hace irremed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incremental: Mayor costo derivado de la producción de un conjunto adicional de unida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marginal:  Costo de producir una unidad adi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controlable: Costo que puede ser modificado por el responsable de un departamento o se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histórico: El que ya se produj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estándar: Costo preestablecido o futu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ificación de los Cos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ación del Costo de 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este caso, el objetivo de costo es el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de Produc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se incurren en el proceso productivo, y que generalmente se asignan al producto (inventariab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no Productiv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se incurren fuera del proceso de producción (gastos de administración y ventas). Generalmente se consideran gastos del período (no inventariab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ificación de los costos de produ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s Dire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teria Prima Direc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sto de los materiales que forman parte de los productos termin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alarios de los trabajadores que participan directamente en la fabricación de los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ificación de los costos de produ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Indire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Materia Prima Indirect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Materiales que no forman parte de los productos o que no son medibles en forma económicamente factible. Ej: Repuestos, lubricantes, pegamento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Mano de Obra Indirect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Salarios de trabajadores tales como capataces, personal de mantención, guardia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3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Gastos Generales de Fabrica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Otros costos, tales como depreciación, arriendos, seguros, energía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2860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irecto del product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teria prima j usada en el product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o de obra directa j usada en el product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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+ 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Producción de la Empres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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+ 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l Producto i = C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ujo de Exist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terias Prim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. en Proces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. Termin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I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Consum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I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 Prod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I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C.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 Pr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F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o de Obr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sto de 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eldos  Distrib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stos In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Distri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1830240"/>
            <a:ext cx="0" cy="144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0040" y="2819520"/>
            <a:ext cx="228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906560"/>
            <a:ext cx="0" cy="205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560" y="3733920"/>
            <a:ext cx="205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010280" y="1906560"/>
            <a:ext cx="0" cy="12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45040" y="2819520"/>
            <a:ext cx="220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95280" y="4497480"/>
            <a:ext cx="0" cy="68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5869080"/>
            <a:ext cx="0" cy="68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010280" y="4497480"/>
            <a:ext cx="0" cy="12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744640" y="2211480"/>
            <a:ext cx="379440" cy="379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3760" y="4800600"/>
            <a:ext cx="2271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590920" y="3049560"/>
            <a:ext cx="0" cy="17510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92360" y="3048120"/>
            <a:ext cx="4557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40080" y="6019920"/>
            <a:ext cx="3031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743200" y="3506400"/>
            <a:ext cx="0" cy="25131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44640" y="3581280"/>
            <a:ext cx="303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06960" y="2211480"/>
            <a:ext cx="912960" cy="379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07360" y="2209680"/>
            <a:ext cx="4557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763120" y="2211480"/>
            <a:ext cx="0" cy="1522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640480" y="3657600"/>
            <a:ext cx="31226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3659040"/>
            <a:ext cx="0" cy="10652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40480" y="4724280"/>
            <a:ext cx="303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jercic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ra el año recién terminado se obtuvieron los siguientes 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de administración y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s primas directas comprad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8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15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materias primas direc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materias primas direc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3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precia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7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tros costos indirec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4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productos terminad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6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productos terminad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financier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asa de impuesto a la ren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5341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terminar el costo de producción y de ventas para el año recién termin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ostrar los flujos de existencias en las cuentas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feccionar el Estado de Resultados para e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materias prim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rectas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s primas directas comprad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2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s primas directas disponible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materias primas direc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 prima directa utilizad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5341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 prima directa utilizad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8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s indirec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41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13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producción to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8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istencias iniciales de productos terminad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6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producción to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8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ductos terminados disponibles para la ven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89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istencias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inal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de productos terminad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4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8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4920" y="6091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ado de 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15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s de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85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rgen de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6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de administración y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25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4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financier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10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sultado antes de impues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3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mpuesto a la Ren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12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Utilidad del ejercicio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18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33520" y="533520"/>
          <a:ext cx="822960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33520"/>
                    <a:ext cx="822960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stemas de Cálculo de Cos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la parte del costo que se imputa al produ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eo Absorbente (o completo o func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eo Variable (o directo o contribuc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dónde se imputan los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por órdenes de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por proce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el origen de los da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histó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estánd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étodos de Costeo: Absorbente y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Qué costos se deben incluir como costos del produc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teo Absorbente (o completo o funcion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teo Variable (o directo o contribucion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mbos métodos difieren en la forma de tratar los costos indirectos fij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steo Absorb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producto absorbe la totalidad de los costos de producción (fijos y variables), en tanto los costos no  productivos se consideran gastos del perío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damento: Tanto los costos variables como los fijos son necesarios para producir bien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e método es el único aceptado para fines exter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steo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costos indirectos de producción fijos no son inventariables, es decir, se consideran gastos del período, al igual que los costos no product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undamento: Los costos indirectos fijos se relacionan con la capacidad de producción, que es función de un período determin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e método es de uso interno y presta mucha utilidad a la toma de deci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quema del Estado de Resultados con ambos métod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eo Absorbent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Costo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Margen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Gastos de Adm. y V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Resultado Oper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2071800"/>
            <a:ext cx="4114800" cy="43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eo Variabl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Costos. variab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adm. y v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Margen de con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Costos fij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adm. y v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Resultado Oper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jemplo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Costeo absorbente vs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07732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unitarios de producción ($/un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P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 variab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 fij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U. to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4114800"/>
            <a:ext cx="845820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duc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6.000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.000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 de vent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7.500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asto variable de adm. y vtas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$1.7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asto Fijo de adm. y vtas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$4.8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hay inventario in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r costeo absorben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1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entas (5000*7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7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. Inici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prod. (6000*5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3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. Final (1000*5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5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7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rgen de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de Adm. y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6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3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r costeo variabl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entas (5000*7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7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variabl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producción (3000*50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5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adm. y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1.7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rgen de Contribu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0.8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fijos de producción (2500*60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5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fijos de Adm. y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4.8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1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alor de los inventario fina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costeo absorbente: 1.000*5.500 = 5.50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costeo variable: 1.000*3.000 = 3.00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3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stemas de Cos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fini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junto de registros, procedimientos y equipos utilizados para recopilar, en forma rutinaria, la información de los costos de una empre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esa medir los costos por objetivo de costos (no en un saco). Típicamente: departamentos y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abilidad Gerenc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bilidad de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os prev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étodos de cost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gnación de costos indirectos: método conve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gnación de costos indirectos: método 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s y Decisiones de 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álisis costo-volumen-uti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variables y margen de con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relevantes y problemas de 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bilidad para la planificación y el control de gest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estándar y análisis de desvi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stemas de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51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ósitos de un Sistema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-514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eo de los produ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-514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eación y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tapas de un Sistema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ª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umulación de los costos en los centros de responsabilidad (propósito de contr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ª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licación de los costos a los productos (propósito de costeo de product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9996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eo por Órdenes de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9996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eo por Proce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STEO POR ÓRDENES DE TRABA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Objetivo de Costo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Orden de Trabajo o L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usa en empresas que producen a pedido o cuando hay centros de producción que fabrican muchos productos (ej: imprentas, constructoras,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hoja de costos acompaña al lote de producción, y en ella se registran los costos incurridos en cada departamento (MPD, MOD, C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Unitario Lote i:    MPDi + MODi + C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amaño Lote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68880" y="5943600"/>
            <a:ext cx="342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eo por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jetivo de Costo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s procesos, que fabrican un sólo producto en grandes cant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usa en empresas con producción en grandes cantidades y en forma continua (Ej.:Productos químicos, textiles, acero, minería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cada proceso se miden los costos de MPD, MOD, CI incurridos en un perí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ego se determina el costo promedio de pasar una unidad de producto a través del 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 Unitario Proceso i:          MPD + MOD + 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º de unidades proces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63960" y="6248520"/>
            <a:ext cx="373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Insumos de un Proce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entario inicial con un grado de terminación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lorado a 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idades provenientes del proceso anterior, valoradas en 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u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conversión = MOD + 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oductos del Proce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entario Final, con grado de terminación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y valorado en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idades terminadas y enviadas al proceso siguiente, valoradas en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 de Costeo por Órdenes de Trabajo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Una fábrica recibe durante un determinado período dos órdenes de trabajo, para fabricar 5.000 unidades del producto X y 1.000 unidades del producto Y, respectivamente. Las hojas de costos muestran la siguiente informa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den de Fabricación Producto 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A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 kg de PVC (3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 hrs (2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B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0 kg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átex (1.0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00 hrs (4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den de Fabricación Producto 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 kg de PVC (3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0 hrs (2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B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 kg de látex (1.0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 hrs (4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demás, los costos indirectos de los departamentos A y B son de $200 mil y $250 mil, respectiv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pide determinar el costo unitario de los productos X e 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ció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distribuir los costos indirectos usaremos como base de asignación las horas de mano de ob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stribución de los Costos Indirectos del Depto.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oras de MOD utilizad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7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ota de Costos Indirect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/ Base   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.000 / 7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85,71 $/h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X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85,71*2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57.1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Y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85,71*5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42.8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stribución de los Costos Indirectos del Depto. 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oras de MOD utilizad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ota de Costos Indirect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/ Base   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50.000 / 15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666,7 $/h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X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666,7*1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66.6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Y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666,7*5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83.3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sumen de costos del producto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P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*300 + 10*1.0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2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*200 + 100*4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8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7.143 + 166.667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23.81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28.8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idad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Unit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65,76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sumen de costos del producto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P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*300 + 5*1.0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6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0*200 + 50*4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2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42.857 + 83.333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26.19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11.1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idad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Unit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11,19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abilidad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ceptos Prev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tivos de la Contabilidad Gerencial y de la Contabilidad de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abilidad Gerenc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r de información para apoyar la toma de deci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r información para la planificación y el control de las oper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abilidad de Cos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ificar, acumular, controlar y asignar los co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r información para la elaboración de los estados financieros (valorizar existencias y determinar costo de vent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8052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a empresa se dedica a la fabricación de pernos, a través de dos procesos. En el primer departamento se fabrica la cabeza del perno, a partir de un cilindro metálico que es la materia prima. En el segundo proceso o departamento, se toman las unidades provenientes del proceso anterior y se les fabrica el “hilo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sabe que los costos de conversión del primer departamento son de $600.000 por concepto de mano de obra directa y $300.000 por concepto de costos indirectos. El costo de la materia prima es de $40 la unidad y durante el período se procesaron y terminaron 30.000 unidad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uponiendo que no hay inventarios de productos en proceso, determine el valor del producto a la salida del primer proce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 de Costeo por Procesos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80520" y="6094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ció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de Conversión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600.000 + 300.0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9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de Conversión Unit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900.000 / 3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0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alor del Producto al salir del primer proces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$40 + $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70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ignación de Costos Indirectos: Métod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n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bjetivo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ignar todos los costos indirectos incurridos en el período a los productos fabricados. Para ello se debe seleccionar un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se de Asignació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Base de Asignación es un método sistemático de relacionar un determinado costo o grupo de costos con un objetivo de costos. La selección de la base de asignación debe ser guiada p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propósito persegu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costo o esfuerzo necesario para la asign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s bases de asignación más utilizadas s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oras de mano de obra direc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la  mano de obra direc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oras máqu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la materia prima o costo pri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uperficie o espacio utiliz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838188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En una fábrica ha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artamentos Produc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artamentos de Servi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Además ha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I de Pla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I de Departamentos de Servi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I de Departamentos de 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conveniente departamentalizar los CI, puesto que un determinado producto no necesariamente requiere de la participación de todos los departamen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815328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partamento (Centro de Costo)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dad que realiza una función específica, que es responsable de determinados costos y que ocupa un espacio físico determin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cedimien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ignar CI a Departamentos de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92480" indent="0" algn="just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ción Prim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92480" indent="0" algn="just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ción Secund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ignar CI de los Departamentos de Producción a los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8600" y="1096920"/>
            <a:ext cx="8763120" cy="45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763120" cy="25909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57200" y="2998800"/>
            <a:ext cx="784872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4920" y="825480"/>
            <a:ext cx="8534160" cy="52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28600" y="782640"/>
            <a:ext cx="861048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as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Reducción del patrimonio. Concepto de la contabilidad financiera vinculado a los principios contables o legislación con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s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Sacrificio de recursos que se hace con la esperanza de obtener algún beneficio futuro. Concepto de la contabilidad de cos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j. Costos que no son gasto: Costo de oportun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stos que no son costo: Impuesto a la re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04920" y="2055960"/>
            <a:ext cx="853416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28600" y="1677960"/>
            <a:ext cx="861048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28600" y="1312920"/>
            <a:ext cx="853452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80880" y="1305000"/>
            <a:ext cx="861084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28600" y="1244520"/>
            <a:ext cx="8763120" cy="44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1.5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signación de Costos Indirectos: Método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BC (Activity-Based Cost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143000" y="1866960"/>
          <a:ext cx="6888240" cy="499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866960"/>
                    <a:ext cx="6888240" cy="49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76212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deas claves del ABC - Cost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productos no consumen costos, sino activ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s actividades son las que consumen recur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secuenci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a adecuada gestión de costos debe actuar sobre las actividades (mejora continua; AB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 mayor consumo de actividades por parte de un producto mayor asignación de costos indirec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ABC - Co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4080" y="2743200"/>
            <a:ext cx="1299240" cy="459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9520" y="274320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43000" y="2590920"/>
            <a:ext cx="129528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33920" y="2590920"/>
            <a:ext cx="182880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42160" y="2556000"/>
            <a:ext cx="13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to de 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0" y="2590920"/>
            <a:ext cx="152388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38280" y="297180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562720" y="29718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09680" y="396252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dores de uso de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38680" y="39625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dores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3886200"/>
            <a:ext cx="2133720" cy="99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4120" y="3886200"/>
            <a:ext cx="2057400" cy="99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971800" y="30481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6324480" y="30481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ualquier trabajo realizado al interior de una organización. (Ej: Emisión de facturas, preparar pedidos, mantención de equipos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unit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de l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de lín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de emp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dores de uso de recursos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Driver de recurs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medida de la cantidad de recursos utilizados (consumidos) por una ac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54200" y="3047040"/>
            <a:ext cx="474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jemplo: Almacén de materia pr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480" y="3655800"/>
            <a:ext cx="126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urs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18440" y="3655800"/>
            <a:ext cx="172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ive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%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18120" y="3654360"/>
            <a:ext cx="2445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ipu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b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pa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46483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15000" y="4267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15000" y="4267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46483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15000" y="5029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15000" y="5334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715000" y="57150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6095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15000" y="6477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Objetivo de Cost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pósito o actividad para la cual se miden en forma separada los costos. Ej: productos, departamentos, territorio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eligen en función de las decisiones que se desean tom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dores de actividad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Drivers de activida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medida de la intensidad y frecuencia de la demanda de actividades por parte de los objetos de costos. Es utilizada para asignar los costos de las actividades a los objetos de costos. Identifican una relación de causa-efecto entre amb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8240" y="4266000"/>
            <a:ext cx="51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jemplo: Planificación de la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2800" y="4645800"/>
            <a:ext cx="2392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zamiento O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63240" y="4645800"/>
            <a:ext cx="1742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iver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° de O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° de car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552360" y="4645800"/>
            <a:ext cx="218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jeto de cos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638680" y="5562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5880" y="55627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5880" y="5562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5880" y="6324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6400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248520" y="57146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248520" y="57150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248520" y="6400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ases y Etapas del Proceso de Asignación ABC - Co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751400"/>
            <a:ext cx="17524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2405520"/>
            <a:ext cx="1752480" cy="1923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termina-ción del costo de las actividades de cada centr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520" y="4416480"/>
            <a:ext cx="1752480" cy="2228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termina-ción del costo de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19520" y="1757520"/>
            <a:ext cx="59436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743200" y="24436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1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signación de los costos indirectos a los cen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29008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2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dentificación de las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743200" y="33580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° Elección de los generadores de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389160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° Asignación de los costos a las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442476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5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lección de los generadores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49582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6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clasificación de las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36000" y="5415480"/>
            <a:ext cx="6072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7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álculo del costo unitario del generador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735640" y="5872680"/>
            <a:ext cx="6081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° Asignación del costo de las actividades a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743200" y="63298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° Asignación de los costos directos a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2590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0" y="6095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0" y="6477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0" y="35812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0" y="4114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0" y="4648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Asignación de los costos indirectos a los cent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8040" y="2294280"/>
            <a:ext cx="56386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In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253200" y="2294280"/>
            <a:ext cx="21222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8040" y="3589200"/>
            <a:ext cx="17524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o de Comp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60520" y="3589200"/>
            <a:ext cx="167652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o de Cor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037040" y="3589200"/>
            <a:ext cx="22096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o de Mont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51240" y="274644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351240" y="31273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1522440" y="31273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224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12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800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" action="ppaction://hlinkshowjump?jump=previousslide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 Identificación de las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380880" y="2362320"/>
          <a:ext cx="8763120" cy="320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362320"/>
                    <a:ext cx="876312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>
            <a:hlinkClick r:id="rId3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) Elección de los generadores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2120" y="1958040"/>
            <a:ext cx="2895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2391120"/>
            <a:ext cx="28954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unit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3437280"/>
            <a:ext cx="289548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de l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2120" y="4729320"/>
            <a:ext cx="28954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de lí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2120" y="5744160"/>
            <a:ext cx="2895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de empr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1958040"/>
            <a:ext cx="47242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dores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57600" y="2391120"/>
            <a:ext cx="47242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eria prima consum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o de obra directa (h/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652920" y="3405600"/>
            <a:ext cx="474984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úmeros de puestas a punto de las máqui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nes de comp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imientos de mater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úmero de órdenes de 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657600" y="4729320"/>
            <a:ext cx="47242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empos empleados en cambios de ingeni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ficaciones requeridas por el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657600" y="5720400"/>
            <a:ext cx="47242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e usan o se asignan arbitrari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) Elección de los generadores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96680" y="1982880"/>
            <a:ext cx="801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Centr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99600" y="1982880"/>
            <a:ext cx="1113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ctivida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671440" y="1982880"/>
            <a:ext cx="2925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Generadores de activida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63680" y="2048040"/>
            <a:ext cx="1323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87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793880" y="2048040"/>
            <a:ext cx="3573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6724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73720" y="2048040"/>
            <a:ext cx="3298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672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672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" y="2054160"/>
            <a:ext cx="6480" cy="30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787400" y="1978200"/>
            <a:ext cx="6480" cy="30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67240" y="2054160"/>
            <a:ext cx="6480" cy="30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672400" y="1978200"/>
            <a:ext cx="6480" cy="30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1240" y="2300400"/>
            <a:ext cx="965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99000" y="2300400"/>
            <a:ext cx="3300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misión de órdenes de compr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895760" y="2610000"/>
            <a:ext cx="199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479200" y="2300400"/>
            <a:ext cx="2978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órdenes cursad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478120" y="261000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23637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3680" y="228744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787400" y="2287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793880" y="228744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67240" y="23637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73720" y="228744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672400" y="2287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237024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787400" y="229392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67240" y="237024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672400" y="229392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60520" y="2924280"/>
            <a:ext cx="863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rtad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895040" y="2924280"/>
            <a:ext cx="2734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rte de la materia prim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896120" y="3233880"/>
            <a:ext cx="3518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uestas a punto de la maquinari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95400" y="3543480"/>
            <a:ext cx="19850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94680" y="3851280"/>
            <a:ext cx="2410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ambios de ingenierí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75960" y="2924280"/>
            <a:ext cx="164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77760" y="3233880"/>
            <a:ext cx="2914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78120" y="354348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75240" y="3851280"/>
            <a:ext cx="2148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iempos empleado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63680" y="2989440"/>
            <a:ext cx="1323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7874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793880" y="2989440"/>
            <a:ext cx="3573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6724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373720" y="2989440"/>
            <a:ext cx="3298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6724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2995560"/>
            <a:ext cx="6480" cy="12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787400" y="2919240"/>
            <a:ext cx="6480" cy="123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67240" y="2995560"/>
            <a:ext cx="6480" cy="12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672400" y="2919240"/>
            <a:ext cx="6480" cy="123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58720" y="4167360"/>
            <a:ext cx="893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ontaj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92880" y="4167360"/>
            <a:ext cx="1919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ontaje de pa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896120" y="4476600"/>
            <a:ext cx="3518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uestas a punto de la maquinari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95400" y="4784760"/>
            <a:ext cx="19850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75960" y="4167360"/>
            <a:ext cx="164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477760" y="4476600"/>
            <a:ext cx="2914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478120" y="478476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572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3680" y="423072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874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93880" y="423072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36724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373720" y="423072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6724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57200" y="423720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63680" y="508788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787400" y="416088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87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793880" y="508788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67240" y="423720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36724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73720" y="508788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672400" y="416088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672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672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457200" y="1980720"/>
            <a:ext cx="0" cy="312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5410080" y="1980720"/>
            <a:ext cx="0" cy="312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" y="19810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" y="228600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57200" y="28954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57200" y="419112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>
            <a:hlinkClick r:id="rId1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) Reclasificación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ner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isión de órdenes de comp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úmero de órdenes curs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te de materia prim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estas a punto de las máquin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mbios de ingenierí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mpos emple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taje de par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as máqu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>
            <a:hlinkClick r:id="rId1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) Cálculo del costo unitario del generador de Activida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Unitario = Costo actividad / número d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gener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) Asignación del costo de las actividades a los produ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de la actividad * N° de generadores de cad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produ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>
            <a:hlinkClick r:id="rId1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tecedentes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a empresa fabrica dos productos, X e Y, para los cuales se tienen los siguientes 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914400" y="2813040"/>
            <a:ext cx="754380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380520" y="3808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la producción la empresa cuenta con cuatro departamento, para los que se conocen los siguientes 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933960" cy="25956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457200" y="41911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sumo unitario de horas de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1981080" y="4987800"/>
            <a:ext cx="533412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umulación de costos y sistemas de cost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umulación de costos es la recopilación de información de costos en una forma organizada mediante un sistema de contabil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a significa “regularida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ctividades por depart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838080" y="1181160"/>
            <a:ext cx="7239240" cy="163044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914400" y="4114800"/>
            <a:ext cx="7162920" cy="191628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838080" y="32767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tros anteced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steo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0769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upongamos que la empresa realizó la primera etapa, es decir, eligió los drivers de recursos y asignó los costos indirectos a las actividades, llegando a los siguientes costos por activida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eo de las Actividad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ctividades de maquinari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6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Gestión de pedid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.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Gestión de Client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tr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3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stos total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6.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3059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hora entonces corresponde elegir para cada actividad el generador (driver) de actividades, para luego asignar el costo de las actividades a los produc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304920" y="2868480"/>
            <a:ext cx="853416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304920" y="1935000"/>
            <a:ext cx="861048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609480" y="1965240"/>
            <a:ext cx="7848720" cy="289728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457200" y="7621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resumen, los costos de cada producto son los siguient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ificación de los Cos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acuerdo a su identificación con el objetivo de co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Direct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quellos que se pueden identificar específicamente con un solo objetivo de costo, en forma económicamente fact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Indirect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quellos que no pueden ser identificados con un solo objetivo de costo, en forma económicamente fact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ificación de los Cos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acuerdo a su variabilidad con el nivel de produ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Fij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son independientes, en un cierto rango, del nivel de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Variabl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varían en proporción directa con el nivel de ac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semifij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Crecen a saltos según se alcanzan ciertos volúmenes de ac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semivariabl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Fijos hasta un cierto nivel y luego vari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Monica Mena Valderas</dc:creator>
  <dc:description/>
  <dc:language>en-US</dc:language>
  <cp:lastModifiedBy>Michael Jorrat De Luis</cp:lastModifiedBy>
  <cp:lastPrinted>2000-06-08T22:31:45Z</cp:lastPrinted>
  <dcterms:modified xsi:type="dcterms:W3CDTF">2004-10-22T01:04:35Z</dcterms:modified>
  <cp:revision>28</cp:revision>
  <dc:subject/>
  <dc:title>Contabilidad Administrativa</dc:title>
</cp:coreProperties>
</file>