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28F0-8928-4A16-B6BD-9488F07FBC81}" type="slidenum">
              <a:rPr b="0" lang="es-MX"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1FF7-8463-45A2-976E-8ADC23482A0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BA5D-6602-4DC3-9F32-102A2014205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E513-94DA-417B-B0B5-A146816B941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B711-6352-451F-AC8B-21A266387B9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BC8D-E27B-4642-AEF1-9DFB5D4ABBA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197F-1C4B-4146-B234-C91BB8E57D4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B5ED-0014-4750-983D-ED1872B71C9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DEB0-5BB2-4102-961F-94181463BFB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7CA6-9DFA-4547-9C0A-4651EA64D00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1011-4DD9-4EBC-B62C-BD26895C0BC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E9C3-0A2D-4729-B5BE-0373B72CDD5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67602-6F21-4263-81FA-CB50F94E931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22A5-FB81-4688-9A96-0D3813A7082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E900-4166-462D-9B74-E90EDDAA0FA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8DF8-01C2-4FF7-8220-BD9EAC96787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BCCE-B1CA-4BEE-8166-C27B8D789D9B}"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5DFC-96F6-4EB5-8FF2-EA5583108B9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F8EA-C665-4A76-B611-A3C8BE9392B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8FB9-364D-4CE1-A990-19BF2CA5A58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6C1A-50AA-4ACC-AADD-F0D5AC2EC30D}"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8348-0EA1-4961-B6ED-8C716D9E03F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DEF0-F045-4E13-BE45-1E297E0BA76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299D-EE4F-48B6-AED1-084F0ED05640}"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2F53-AC8F-4A28-AE08-357C6160D73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090C-F91C-48D5-83F0-CE55477B0E4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F89B-CF33-49BB-8659-8562088CE74B}"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4581-E28C-4C54-AF20-A4165CCD6B7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B48C-7FFB-40C7-A01D-DEA580934E61}"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020CA18-F495-42A8-8C67-6A3785FA6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069C5E-B186-484B-B932-A82FFBD6D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B5FF490-2B18-46D4-A57F-7AA106321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53110E0-6B44-4DFA-90DD-74FDBAE9B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E47AC-F4AC-4178-B66D-E36580656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641A2-F37A-4F6E-B409-3A258B5C1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9862D-8743-47E2-9070-FFE63DB02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1C7EE-3E7B-4397-9C19-A51524207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89005-043F-4390-96D2-01E51646B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CE095-E619-4865-B79A-5563970CF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9B46A-0A3E-422E-9AB0-5C4416A64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E95188-8949-4A75-A9F7-F353D74D0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5CEDA-109E-45A3-86C9-CBC1DC8E6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BE999-8305-44E3-A9D3-C991E6116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4A8A9-DDFE-4D3C-B710-2BF01F741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69BCC-A368-4EC9-825E-108C60F4A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3C343-1B27-49AD-BA6B-79C7BD3CA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3120E2-A71D-4891-B716-D4B3A1D83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D069F4-8CFC-4C0D-85D6-40688EAB2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432A99-95C8-41F8-98E1-CAB9F8017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4238A0-11DB-40D8-AA44-35802D882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CD65F7-0466-41FF-BD53-6232DB09C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9CA4CC-F47F-47CA-ABAE-0775CB8FA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E3D994-687E-4CC4-9D7B-C416E2760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AF555-EDCA-465E-B474-CB68D4D4EC55}"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BCF5-3216-4B42-9EA2-489D469FD3B3}"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1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7"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8"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9"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40"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41"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42"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43"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44"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45"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46" name="13 Conector recto de flecha"/>
          <p:cNvCxnSpPr>
            <a:stCxn id="137" idx="3"/>
            <a:endCxn id="138"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7" name="16 Conector recto de flecha"/>
          <p:cNvCxnSpPr>
            <a:stCxn id="138" idx="3"/>
            <a:endCxn id="139"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8" name="19 Conector recto de flecha"/>
          <p:cNvCxnSpPr>
            <a:stCxn id="138" idx="3"/>
            <a:endCxn id="140"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9" name="21 Conector recto de flecha"/>
          <p:cNvCxnSpPr>
            <a:stCxn id="138" idx="3"/>
            <a:endCxn id="141"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50" name="23 Conector recto de flecha"/>
          <p:cNvCxnSpPr>
            <a:stCxn id="140" idx="3"/>
            <a:endCxn id="142"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51" name="25 Conector recto de flecha"/>
          <p:cNvCxnSpPr>
            <a:stCxn id="140" idx="3"/>
            <a:endCxn id="143"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52" name="27 Conector recto de flecha"/>
          <p:cNvCxnSpPr>
            <a:stCxn id="141" idx="3"/>
            <a:endCxn id="144"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53" name="29 Conector recto de flecha"/>
          <p:cNvCxnSpPr>
            <a:stCxn id="141" idx="3"/>
            <a:endCxn id="145" idx="1"/>
          </p:cNvCxnSpPr>
          <p:nvPr/>
        </p:nvCxnSpPr>
        <p:spPr>
          <a:xfrm>
            <a:off x="6289200" y="3462120"/>
            <a:ext cx="367560" cy="433800"/>
          </a:xfrm>
          <a:prstGeom prst="straightConnector1">
            <a:avLst/>
          </a:prstGeom>
          <a:ln w="9360">
            <a:solidFill>
              <a:srgbClr val="0098cc"/>
            </a:solidFill>
            <a:miter/>
            <a:tailEnd len="med" type="arrow" w="med"/>
          </a:ln>
        </p:spPr>
      </p:cxnSp>
      <p:sp>
        <p:nvSpPr>
          <p:cNvPr id="154"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55"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56" name="33 Conector recto de flecha"/>
          <p:cNvCxnSpPr>
            <a:stCxn id="137" idx="3"/>
            <a:endCxn id="154"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7" name="35 Conector recto de flecha"/>
          <p:cNvCxnSpPr>
            <a:stCxn id="154" idx="3"/>
            <a:endCxn id="155" idx="1"/>
          </p:cNvCxnSpPr>
          <p:nvPr/>
        </p:nvCxnSpPr>
        <p:spPr>
          <a:xfrm>
            <a:off x="3987720" y="4168440"/>
            <a:ext cx="527760" cy="5400"/>
          </a:xfrm>
          <a:prstGeom prst="straightConnector1">
            <a:avLst/>
          </a:prstGeom>
          <a:ln w="9360">
            <a:solidFill>
              <a:srgbClr val="0098cc"/>
            </a:solidFill>
            <a:miter/>
            <a:tailEnd len="med" type="arrow" w="med"/>
          </a:ln>
        </p:spPr>
      </p:cxnSp>
      <p:sp>
        <p:nvSpPr>
          <p:cNvPr id="158"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9"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60"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61"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62" name="41 Conector recto de flecha"/>
          <p:cNvCxnSpPr>
            <a:stCxn id="137" idx="3"/>
            <a:endCxn id="158"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63" name="43 Conector recto de flecha"/>
          <p:cNvCxnSpPr>
            <a:stCxn id="158" idx="3"/>
            <a:endCxn id="161"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64" name="45 Conector recto de flecha"/>
          <p:cNvCxnSpPr>
            <a:stCxn id="158" idx="3"/>
            <a:endCxn id="160"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65" name="47 Conector recto de flecha"/>
          <p:cNvCxnSpPr>
            <a:stCxn id="158" idx="3"/>
            <a:endCxn id="159"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9"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13"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10-05-03T11:58:21Z</dcterms:modified>
  <cp:revision>37</cp:revision>
  <dc:subject/>
  <dc:title>Diapositiva 1</dc:title>
</cp:coreProperties>
</file>