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209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04C57-7D83-4CEE-83B2-009E53AB5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FD574-B0C2-4B24-9682-3BEEBC378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F5349-BEB7-486A-A5F6-2AD5674F1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83FD2-A267-4D06-BF96-33A90A752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FFD7D-0772-43E8-847D-25A5795A5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CA618-FB3B-4E8E-A97C-5D49DDA25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62027-8CCB-4DD2-B16A-E852C20B4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DA7E9-F4C9-4396-97E9-D56BBEBDB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678A6-1867-4256-BC95-53781C9B4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7208D-DD4F-4F0C-B6F6-20F96AEF2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5BF1D-634B-4502-85C1-D33C6F30B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5BE15-F9D9-4EE1-85C6-BF8DABE4C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8E6C7-7409-485C-B397-829C79E11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84211-61BF-456D-81B7-534D4ED4A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64F04-86D3-4963-BD7F-E253A0A5D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DD0F0-1BA1-47BF-B43C-CA7022CAE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8A834-7345-480C-BCF9-8DB4C0330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E2543-0C8F-420A-ABBD-E5FCDEA4C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B4F0F-0AB2-47A9-926C-C955DCB06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70CC8-015C-47A9-BBF0-96363A902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CA155-F8B5-49B0-AF23-CD85D361E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AC7B8-B7FF-4111-A14B-96EF2B046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60B73-5095-4C12-8CEC-BEEBBFFE6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7D291-F49E-45EA-9322-B8091816B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8FE00-58D5-4EBE-BCAC-DC7B6E5DADC7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A92FB-B5B2-42F4-83B7-3F525B6CD362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álisis Financier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 análisis de los valores que muestran los estados financieros es de interés par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ministración: en qué medida se están cumpliendo los objetivos trazad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gentes Externo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nco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valuar la capacidad de pag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cionistas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ntabilidad versus riesg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reedores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acidad de pag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dices de Liquidez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lación de Liquidez =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ctivos circulan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sivos circulan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de la capacidad de la empresa para pagar sus deud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 corto plaz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st Acido =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ct. circulante - Existenci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sivo circulan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 más exigente que el anteri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dices de Endeudamiento o solvencia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miten evaluar la importancia de la deuda como proporción de los recursos totales empleados por la empres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 proporción de financiamiento se conoce también como “apalancamiento financiero”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dices de Endeudamient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53416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zón de Endeudamiento =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Pasivo To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 To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zón Deuda/Patrimonio =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Pasivo To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trimon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bertura de Interes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Resultado Operacion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tos Financier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dices de Rentabilidad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53416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Rentabilidad sobre el patrimonio (ROI) y la rentabilidad sobre activos definidas anteriorment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uando hay impuesto a la renta, la definición más correcta de la rentabilidad sobre activos es la siguient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Ra =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Utilidad del Ej. + Intereses x (1-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tivos Tota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dices de Rentabilida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534160" cy="304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ntabilidad Operacional sobre Activos (RO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OA=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Resultado Operacion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s Tota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OA =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Resultado Operacion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x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    Ventas       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nt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Activos Tota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583640" y="5638680"/>
            <a:ext cx="284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Margen de Oper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408640" y="5638680"/>
            <a:ext cx="31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Rotación de los Activ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2286000" y="4647960"/>
            <a:ext cx="685800" cy="990360"/>
          </a:xfrm>
          <a:prstGeom prst="line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 flipV="1">
            <a:off x="6781320" y="4571640"/>
            <a:ext cx="381240" cy="1143000"/>
          </a:xfrm>
          <a:prstGeom prst="line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dices de Actividad: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otación de existencias =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osto de vent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(vec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ci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úmero de veces que se renueva el inventario en un ejercici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cias en días =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  Existencias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(día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o de ventas/36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° de días que habrá existencias sin necesidad de producir o compr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609480" y="6091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Rotación ctas por cobrar =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Ingresos por venta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tas por cobr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eríodo de cobro = 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    Ctas por cobrar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Ingresos por venta/36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Número de días que las ventas permanecen como cuentas por cobr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Rotación de los Activos =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     Ventas      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tivos Tota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aciones del uso de razones financiera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5120" indent="-1951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ólo usa información cont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95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95120" indent="-1951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siempre los valores contables reflejan valores de mercado. Es bueno complementar el análisis con información com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85920" indent="2822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% de cuentas por cobrar que es recuper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85920" indent="2822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ál es el estado de las existenci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85920" indent="2822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ál es el valor de mercado de los activos fij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85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95120" indent="-1951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za datos históricos. Es bueno complementarlo con información que permita proyecta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152280" y="1098720"/>
            <a:ext cx="8839440" cy="553068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288000" y="228600"/>
            <a:ext cx="130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Ejemplo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324000" y="1268280"/>
            <a:ext cx="8208720" cy="48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Arial"/>
              </a:rPr>
              <a:t>Primera Parte:</a:t>
            </a:r>
            <a:br>
              <a:rPr sz="4000"/>
            </a:br>
            <a:br>
              <a:rPr sz="4000"/>
            </a:br>
            <a:r>
              <a:rPr b="0" lang="es-ES_tradnl" sz="4000" spc="-1" strike="noStrike">
                <a:solidFill>
                  <a:srgbClr val="ffffff"/>
                </a:solidFill>
                <a:latin typeface="Arial"/>
              </a:rPr>
              <a:t>Contabilidad Financiera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ffff"/>
                </a:solidFill>
                <a:latin typeface="Arial"/>
              </a:rPr>
              <a:t>11. Análisis Financier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304920" y="1192320"/>
            <a:ext cx="8458200" cy="44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228600" y="650880"/>
            <a:ext cx="8691480" cy="585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685800" y="9140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alizar los estados financieros de una empresa consiste en examinarlos desde el punto de vista de su situación económica y financier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Situación Económic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Capacidad o grado de eficiencia para producir utilidad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Situación Financier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Capacidad de la empresa para pagar sus deud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94920" y="333000"/>
            <a:ext cx="806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eptos Prelimina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04920" y="1474560"/>
            <a:ext cx="8610480" cy="50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finiciones de Rentabilida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entiende por rentabilidad la ganancias que produce un activo en relación al monto inverti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 rentabilidad sobre el patrimonio mide las ganancias que reciben los dueños del patrimonio de la empresa en relación a su propia inversión, es decir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 =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Utilidad del Ejercic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trimon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304920" y="836640"/>
            <a:ext cx="8610480" cy="568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finiciones de Rentabilida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La Rentabilidad sobre Activos, en cambio, mide las gananci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que reciben todos los que tienen intereses en la empre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(pasivo y patrimonio) en relación a los montos invertido, 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cir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Ra =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Utilidad del Ejercicio + Intere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tivos Tota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685800" y="1413000"/>
            <a:ext cx="7772400" cy="468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 rentabilidad del patrimonio está influenciada por la política de financiamiento de la empres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 rentabilidad de los activos es una medida de eficiencia, y es independiente de cómo se financian los activo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uando una empresa se endeuda aumenta la rentabilidad esperada de los accionistas, pero también aumenta el riesg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66840" y="549360"/>
            <a:ext cx="838188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lación entre la Deuda, Riesgo y Rentabilid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zones o Indices Financier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 análisis financiero consiste en la comparación de índice o razones calculadas a partir de los estados financier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pongamos que una empresa tiene una rentabilidad de 10%. ¿Es esto bueno o malo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trones de Comparació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jetivos o estándares de la empre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volución históri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ultados de otras empresas del sect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685800" y="9140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Normalmente se consideran las siguientes familias 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Ratios o razones financiera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Liquidez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Endeudamien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Rentabilid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Activid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dices de Liquidez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miten evaluar la capacidad de la empresa para pagar oportunamente sus obligaciones de corto plaz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n especialmente relevantes para bancos y proveedores que otorgan créditos de corto plaz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Soporte Técnico</dc:creator>
  <dc:description/>
  <dc:language>en-US</dc:language>
  <cp:lastModifiedBy>ivan.alvarez</cp:lastModifiedBy>
  <cp:lastPrinted>1999-03-18T21:04:13Z</cp:lastPrinted>
  <dcterms:modified xsi:type="dcterms:W3CDTF">2006-04-24T12:13:18Z</dcterms:modified>
  <cp:revision>10</cp:revision>
  <dc:subject/>
  <dc:title>Análisis Financiero</dc:title>
</cp:coreProperties>
</file>