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185-C739-4E20-B74E-728AB9DAD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1036-5252-414E-98DA-F2093155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9849E-8264-4F86-A6D0-5FEF59A3A5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6ABC-A8B3-4744-BE7E-F171F13CA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C1C4-4021-4EA2-9B31-641DA0BB7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99976-3160-414B-8B9B-7134CE445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FB723-55CC-4E76-88DD-3FFDD724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C6CBE-6DE2-47AA-87A9-4F9028E43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46E19-CADE-4FA4-8508-A6D19BA28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09D0F-5D0A-4FB2-BA60-F63D7F5E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E9E73-6281-4505-8AF4-8AEB4AD6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FE27-6F32-44A7-9343-0F895A2FD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B87D4-CF7C-4078-A44D-99F57FB7D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4124-186F-48E9-A944-5925E21C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51B4-2BE4-4662-B792-2F6F1A50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981A-67BB-4FAB-8364-EAF8CC370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1B2FC-1500-4D1A-A2AE-8E7AB568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FA4B-3F4F-474B-A9A5-CF19C9393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1E04-0CC3-406E-832B-851398FD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62A6-0A69-4FA0-B5CD-99964607B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B5D3-20E0-4926-BE56-7F5EA24AA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C86F-0600-494B-BBB2-0E36B890C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C6C-5F59-4CDA-B4FD-8ED098D4C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7CF1-DA3A-4FBF-8406-940AA475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9B01A-82B3-4341-BAED-6776650DFDDB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E54C-C6CE-4610-A7F3-762D845268E3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106668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55840"/>
            <a:ext cx="8229600" cy="377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8: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52280" y="1268280"/>
            <a:ext cx="8839440" cy="528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Nominal  =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(Act. - Pas.)    =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érdida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(9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52440"/>
            <a:ext cx="31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 (cont.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2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5960" y="1413000"/>
            <a:ext cx="883908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hora el activo es un terren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(no pierde valor con la inflació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.1         =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= 1.000 * 1.1 + 10 = 1.1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228600" y="1676520"/>
            <a:ext cx="8610480" cy="2133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Final Corregid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.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13080" y="352440"/>
            <a:ext cx="297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2 (cont.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8140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3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76320" y="1413000"/>
            <a:ext cx="8991360" cy="518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hora hay una deuda reajustable (en UF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5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Inicial Actualizado = 1.000 * 1,1            =  1.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Final Actualizado   = 1.510 – 500 * 1,1 =     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real (PFA - PI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=    (14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95280" y="476280"/>
            <a:ext cx="86724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ecanismo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Ini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valorizar el Patrimonio Final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s Revalorizables (No Monetari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76168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s a Plazo Reajustab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Intangibles, Ac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Cobrar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95280" y="456840"/>
            <a:ext cx="7453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sivos no monetari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stán auto protegidos de la Inflació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 valor real permanece constante en el tiem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en U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pactadas en moneda extranjer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alquier deuda pactada con cláusula de reajus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amortiza en pesos y luego se hace C.M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24000" y="380520"/>
            <a:ext cx="744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y Pasivos mone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quellos pasivos y activos cuyo valor nominal permanece constante, pero no el re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as no reajus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ses de la 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28600" y="1773000"/>
            <a:ext cx="8763120" cy="477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el Capital Inicial (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portes y 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gir Pas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IPC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Variación del Índice de Precios al Consumidor, se usa para corregir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Reposi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corregir el valor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fine como el valor de la última unidad comp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a fines tributarios se considera el precio más alto pagado en el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078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ó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canismo para reflejar en los estados financieros la pérdida d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oder adquisi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e la mone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920" y="76320"/>
            <a:ext cx="8207280" cy="97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tores de correc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52280" y="1676520"/>
            <a:ext cx="876312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Variación Tipo de Camb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las deudas o depósitos pactados en moneda extranj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láusulas de Reajustabilidad</a:t>
            </a:r>
            <a:r>
              <a:rPr b="1" i="1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Según como se haya establecido o pac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7b46d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usa para corregir deudas o depósitos pactados con las respectivas cláusula (la más usual es la Unidad de Fomento (UF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8816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61048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na empresa tiene los siguientes estados financieros a fi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l ejercicio de 200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xtran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8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3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otal Pas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7750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6761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7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. y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50920" y="75960"/>
            <a:ext cx="8740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, se tiene la siguiente inform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4 =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a Noviembre de 2005 = 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riación tipo de cambio   =   3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existencias, valoradas según el método FIFO,  se componen de 80 unidades a $8 cada una y 16 unidades a $10 cada una. En la última compra se pagó este último pre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50560" y="75960"/>
            <a:ext cx="7978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Capital Inicial (como el IPC de diciembre 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oce en Enero, se usa el de noviembr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PC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2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1= 25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 Revaloriz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.000*1.25 =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00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05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Activos No Mone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Revalorizad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500*1.25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96*10    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6705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valorización Pasivos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. Revalorizad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600* 1.3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en M.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Final Revalorizado : (Activo- Pas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+ 900 + 960 + 625- 780 - 400 = 1.4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o el Patrimonio Inicial Revalorizado es 1250, se tie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15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6705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23640" y="1143000"/>
            <a:ext cx="866772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s de Corrección Monetari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6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M.E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23640" y="75960"/>
            <a:ext cx="577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4572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981000"/>
            <a:ext cx="6186600" cy="50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Estado de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t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1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Vta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rge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7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Adm.y Vta.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.O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rrección Monetaria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14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15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69339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4 (cont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uevo Bala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SIVO Y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 en M.E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78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udores por Vtas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. por Paga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1.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62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Utilidad del Ejercici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15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.58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2.5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4920" y="475920"/>
            <a:ext cx="859644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5960" y="1981080"/>
            <a:ext cx="8915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ongamos una economía donde existe un solo bien (manzanas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0 : Po = 10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ecio periodo 1 : P1 = 11 $/un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tonces la inflación =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964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1 Concepto de Poder Adquisitiv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52280" y="1628640"/>
            <a:ext cx="8839440" cy="48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un individuo dispone de $ 1.000, y tiene la alternativa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ositar al 20%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Manzan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,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 =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fi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.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9,0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nominal = 1.200 – 1.000 =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 cada añ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re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=  9,09*11 = 1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n $ del año 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424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calcular la utilidad real obtenida en un depósito, lo que hacemos es comparar el dinero obtenido a la fecha del vencimiento con el capital depositado originalmente, pero actualizado según la variación del IPC (inflación)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tilidad real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 1200 – 1000 * (1+ 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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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200 – 1000 * 1,1       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 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312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2 Inflación y Estad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as de la Inflación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el valor de Activos y 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orsiona la relación entre Ingresos y Ga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pagar impuestos sobre utilidades re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 comparar estados financieros de distintos perí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496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ara determinar la utilidad real en una empresa, es decir, con corrección monetaria, se aplica un procedimiento conceptualmente similar a cuando se obtiene la utilidad real de un depósito bancario (como en ejemplo anterior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 diferencia es que el patrimonio final no es necesariamente una cantidad de dinero, como ocurre en un depósito, sino un conjunto de activos y pasivos, monetarios y no monetar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tonces, se debe comparar el patrimonio inicial actualizado con el patrimonio final, también actualiz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4920" y="188640"/>
            <a:ext cx="8596440" cy="115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s expresiones important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5280" y="1773360"/>
            <a:ext cx="787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sultado = Patrimonio Final - Patrimonio Inicial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rimonio = Activo - 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jemplo 1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I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.F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1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Patrim. Inici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.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upuest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flación 10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7b46d0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Utilidad es producto de una prestación de servicios que se paga al con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1T23:09:14Z</dcterms:created>
  <dc:creator>Michael Jorratt</dc:creator>
  <dc:description/>
  <dc:language>en-US</dc:language>
  <cp:lastModifiedBy>IVAN ALVAREZ VALDES</cp:lastModifiedBy>
  <cp:lastPrinted>1999-03-18T21:02:27Z</cp:lastPrinted>
  <dcterms:modified xsi:type="dcterms:W3CDTF">2006-04-17T03:14:02Z</dcterms:modified>
  <cp:revision>29</cp:revision>
  <dc:subject/>
  <dc:title>Primera Parte: Contabilidad Financiera</dc:title>
</cp:coreProperties>
</file>