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C781-3803-4997-925F-DF3CFC486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BB27-E7E3-4E3B-9EF9-09334741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EF61-A7C8-4463-B1CC-5F50AE23B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BD09-4643-43EC-B8C5-565733252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6C03-1F05-49D8-9039-449183C8A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AC392-F473-42C6-8745-15169EAA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7BD7-988D-4E80-AE0E-4DB56378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68C1-700E-4CC3-9542-44CA2517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9CBD-F0E5-4DE6-A85D-04561FD4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5B59-FE33-4A21-AF8A-D27475EA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DA7A-55B8-4B92-9E30-B73E60B7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CB25-EFFA-486D-885B-0EEA7A1B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F1E1-9F7F-423B-BBDA-AD674F0F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03EA-BC0A-410A-99A3-904E96E9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460A-E60B-47EB-87DE-5582F524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A876-65EF-4DC4-9571-638CE5518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4101-24D7-4DD9-A20B-4D7A0FFBD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567B-6ED3-48DA-BC0B-59324234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AAFD-D915-4251-8D66-21C952E8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4403-96E8-4BEE-83A6-15AC76FF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0316-2DC0-41E5-93DC-A9A737E8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74B5-701D-40F5-9AF7-22B6226D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8D61-3C6C-490C-A67E-7A868A77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B67A-FF5A-4F07-BC02-FF71E409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CA20-1CD1-422A-8700-2587A4094179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4123-4E75-495F-9761-A4328E064A4E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344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ítulo 5: Pas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compra una camioneta vía leasing. El contrato establece 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6 cuotas iguales de m$ 1.000, las que incluyen 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mensual del 1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.01)  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= 5.79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= 6.000 - 5.795,5 = 204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gistr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en leasing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9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4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por Leasing 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 primer m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por leas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7,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7,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676520"/>
            <a:ext cx="86421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Qué parte de la cuota mensual corresponde a interés 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nto a capit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e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 por amortizar   Interé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95,4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7,9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2,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853,4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48,5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1,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901,9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39,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,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940,9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29,4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70,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970,4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9,7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0,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990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9,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9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0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7627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bilización Tribu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cuota del leasing es un gasto. Sólo se registra como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última cuota (opción), la cual se depre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ota contrato de leas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gast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5589720"/>
            <a:ext cx="7920000" cy="45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ventaja fundamental del leasing es tributar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ipales rubros del pas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cipales Rubros del Pas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e instituc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, Documentos por pagar y Acreedores 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en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 a la re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ercibidos por adela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s dife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5993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ligaciones con el Público (Bon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de emi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Monto que se pagará al tenedor del bo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asa de emi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asa de interés que se devengar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P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ital no amortizado más intereses devengados y no pa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de merc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ecio al que se transa el bono (en función de la tasa de interés de mercad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up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ago parcial del bono, que puede incluir amortización del capital y/o intere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 una serie de bonos a 5 años plazo con valor de emisión de MM$ 700 y tasa de emisión de 6,5%. Anualmente se amortizará la quinta parte del valor de emisión y se pagarán los intereses devengados.  Como la tasa de interés de mercado es de 7,2%, el bono se transó en MM$ 687,46. Los gastos de colocación alcanzaron a MM$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82,4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5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12,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1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er cupón (pago de capital e interese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5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2,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5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2,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9135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 una serie de bonos a 5 años plazo con valor de emisión de MM$ 700 y tasa de emisión de 7,5%. Anualmente se amortizará la quinta parte del valor de emisión y se pagarán los intereses devengados. Como la tasa de interés de mercado era de 6,8%, el bono se transó en MM$ 712,65. Los gastos de colocación alcanzaron a MM$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7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5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2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7627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contrato de arrendamiento con opción de comp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solicita a otra (la empresa de leasing) que adquiera un determinado bien para dárselo simultáneamente en arrenda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contrato establece el pago de una cuota de arrendamiento por un cierto lap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final de ese lapso el arrendatario tiene 3 opcio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olver el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guir arrendánd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ar la opción y quedarse con el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980720"/>
            <a:ext cx="8915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bilización Financie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en leasing (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Leasing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Diferid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de las cuotas de arrend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atoria de las cuo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que generará el contrato durante su vigencia, 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r (2) -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1:18:56Z</dcterms:created>
  <dc:creator>Michael Jorratt</dc:creator>
  <dc:description/>
  <dc:language>en-US</dc:language>
  <cp:lastModifiedBy>IVAN ALVAREZ VALDES</cp:lastModifiedBy>
  <cp:lastPrinted>1999-03-18T20:56:04Z</cp:lastPrinted>
  <dcterms:modified xsi:type="dcterms:W3CDTF">2006-04-10T04:49:51Z</dcterms:modified>
  <cp:revision>12</cp:revision>
  <dc:subject/>
  <dc:title>Primera Parte: Contabilidad Financiera</dc:title>
</cp:coreProperties>
</file>