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0528-B84B-4ECD-80D5-9C523AB6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73D-E787-43C3-9051-166E2144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031F-E93A-4E43-8D90-092759D4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C0A-0F2E-456B-BD42-CCD84232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4931-61E7-40D2-A39D-8A76683A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2102-01FF-4025-84F9-A8FAD8EE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4F80-26E5-42FD-BF8C-EF58B641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ACDA-4ABD-4964-8C41-78995698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A9FA-5295-4A58-92A1-30C35CDE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35B1-0E59-42C8-BE2D-3CAC99E6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92C0-CBFB-4E5C-91DA-BF70E741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8796-ED9B-473C-B933-402872DB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9EC1-B001-4B04-9ED8-6FB1D6E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96C9-2F30-4F82-9099-FADEC89B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ADD4-00AF-45A1-AFAD-130EECDA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FE5-7AFB-414A-A324-DCB50A1A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59C1-2797-43CF-BBEE-3B7A3B953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9D4-F778-48D4-9E93-696A0BD3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42C-D58D-4C6C-A7B0-7841FF2B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F24-A344-4AE9-8212-DDC315E4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5CC-58B4-47A2-9663-DD54971E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50B-2A9E-4BC6-9111-BCB8DB20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BA8-35C4-4B9D-802E-2C09BBC1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3CFD-9835-41D1-9227-1044F1A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1D1D-8098-4216-BB8D-7C3D3885DA8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3B36-7A11-402B-B0F2-1A5BA31916E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3440"/>
            <a:ext cx="8229600" cy="33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ítulo 5: Pas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mpra una camioneta vía leasing. El contrato establece 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6 cuotas iguales de m$ 1.000, las que incluyen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mensual del 1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.01) 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1.0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= 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= 6.000 - 5.795,5 =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istr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4,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 primer m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por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7,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76520"/>
            <a:ext cx="8642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Qué parte de la cuota mensual corresponde a interés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nto a capit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 por amortizar   Interés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795,4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7,9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2,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853,4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48,5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1,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901,9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39,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,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940,9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9,4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70,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970,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9,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0,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990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9,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9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0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762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Tribu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uota del leasing es un gasto. Sólo se registra como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última cuota (opción), la cual se depre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 contrato de leas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gast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5589720"/>
            <a:ext cx="7920000" cy="45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ventaja fundamental del leasing es tributar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ales Rubros del Pas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, Documentos por pagar y 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dela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5993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Monto que se pagará al tenedor del bo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asa de emis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asa de interés que se devengar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P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ital no amortizado más intereses devengados y no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Valor de merc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ecio al que se transa el bono (en función de la tasa de interés de mercad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up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ago parcial del bono, que puede incluir amortización del capital y/o intere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6,5%. Anualmente se amortizará la quinta parte del valor de emisión y se pagarán los intereses devengados.  Como la tasa de interés de mercado es de 7,2%, el bono se transó en MM$ 687,46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82,4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12,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1 (cont.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er cupón (pago de capital e interes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5,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diferido (CP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2,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913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 una serie de bonos a 5 años plazo con valor de emisión de MM$ 700 y tasa de emisión de 7,5%. Anualmente se amortizará la quinta parte del valor de emisión y se pagarán los intereses devengados. Como la tasa de interés de mercado era de 6,8%, el bono se transó en MM$ 712,65. Los gastos de colocación alcanzaron a MM$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7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 (G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5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2,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ación con el público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00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contrato de arrendamiento con opción de comp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solicita a otra (la empresa de leasing) que adquiera un determinado bien para dárselo simultáneamente en arrend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contrato establece el pago de una cuota de arrendamiento por un cierto lap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final de ese lapso el arrendatario tiene 3 op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olver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ir arrendánd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r la opción y quedarse con el bi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bilización Financie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en leasing 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Leasing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Diferid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de las cuotas de arren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matoria de las cu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que generará el contrato durante su vigencia, 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r (2) -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1:18:56Z</dcterms:created>
  <dc:creator>Michael Jorratt</dc:creator>
  <dc:description/>
  <dc:language>en-US</dc:language>
  <cp:lastModifiedBy>IVAN ALVAREZ VALDES</cp:lastModifiedBy>
  <cp:lastPrinted>1999-03-18T20:56:04Z</cp:lastPrinted>
  <dcterms:modified xsi:type="dcterms:W3CDTF">2006-04-10T04:49:51Z</dcterms:modified>
  <cp:revision>12</cp:revision>
  <dc:subject/>
  <dc:title>Primera Parte: Contabilidad Financiera</dc:title>
</cp:coreProperties>
</file>