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3D8-CDC1-4281-8E2F-47392690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71D-0C81-4EF3-B477-0ECAC44F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D38-991E-49EF-B609-47C67BCA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A9B-34B4-4A62-8382-251B6345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B62-447A-405D-8E1C-B0044747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9BB-1C19-400F-8964-4A686277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14E-DA9A-4A63-89D2-60FAC0F7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E68-3999-4162-A139-83EC7D49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B22-4CE0-4D87-A9BF-ABD3D0CF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139-423E-421C-B1F6-F525E8DD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938-D382-4CD7-9480-4C6BC8A4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A3B-3129-4097-8AAB-847AE270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78A1-0C8D-4A6D-A90C-C93A3C5C004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gund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645000"/>
            <a:ext cx="66564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1: Contabilidad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98064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relevan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sto futuro que será afectado por una decisión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hundi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sto inamovible porque ya se produjo o porque una decisión ya tomada lo hace irremed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incremen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ayor costo derivado de la producción de un conjunto adicional de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Costo de producir una unidad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contro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sto que puede ser modificado por el responsable de un departamento o s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históri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l que ya se prod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 estánd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sto preestablecido o fut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v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ación del Costo de P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7733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7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rc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40428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1560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542880"/>
          <a:ext cx="8424720" cy="56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2880"/>
                    <a:ext cx="8424720" cy="56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916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empresa Piolín Ltda. fabrica jaulas de canarios. El proceso productivo consiste en cortar, doblar y soldar varillas de aluminio hasta dar la forma a la jaula, la que luego es pintada. Las distintas gerencias le dan a usted un listado de los costos incurri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asifique los costos de acuerdo a su comportamiento (variables, fijos) y de acuerdo a su identificación con el producto (directos, indirectos y no produc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illas de Alu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i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ldadura y otros materiales para sol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preciación de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guro del local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isión de vend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alarios Personal Administ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puestos Sold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sonal de man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er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ergía Eléctrica de la fáb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guro de la plant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eldo Jef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de Cálculo de 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07732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steo: Absorbente 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steo Absorb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steo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quema del Estado de Resultados con ambos méto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osteo absorbente vs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or costeo absorbe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or costeo varia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Gerenci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empresa Piolín Ltda. fabrica jaulas para canarios. El proceso productivo consiste en cortar, doblar y soldar varillas de aluminio hasta dar la forma a la jaula, la que luego es pintada. Las distintas gerencias le entregan a usted la siguiente información respecto del perío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00244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nidades producid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nidades vendid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 de venta unitari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s de varillas de alumini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2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stencias iniciales de varill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8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stencias finales de varill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2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ntur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4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dadura y otros materiales para solda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2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preciación herramien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1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o local de vent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3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isión vendedor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18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larios personal administrativ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6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puestos soldador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sonal de manten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4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erari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18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ergía eléctrica de la fábr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10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os de la planta de produc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3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eldo jefe de produc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$  1.00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7993080" cy="49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do de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gresos por ventas (10.000 * 20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sto de ventas (10.000*4,9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49.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5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27.5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23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3.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20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Valor existencias finales de productos terminados = 5.000 * 4,9 = 24.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do de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greso por venta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os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producción (10.000 * 4,033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40.3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18.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41.6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3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9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3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16.1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alor existencias finales de productos terminados = 5.000 * 4,033 = 20.1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ación de Costos Indirectos: Método Conve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de Cost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081160" y="3562200"/>
          <a:ext cx="52275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1160" y="3562200"/>
                    <a:ext cx="52275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0720" cy="29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actualidad, para muchas empresas los costos indirectos representan una fracción relativamente alta de los costos to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anterior, la correcta asignación de estos costos cobra mayor relev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surge el Método de Costeo Basado en Actividades como una alternativa al método conven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ABC - Cos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63240"/>
            <a:ext cx="8153280" cy="90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ificación de los Cos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Oficina Computación Personal</cp:lastModifiedBy>
  <cp:lastPrinted>2000-06-08T22:31:45Z</cp:lastPrinted>
  <dcterms:modified xsi:type="dcterms:W3CDTF">2009-05-11T16:39:18Z</dcterms:modified>
  <cp:revision>37</cp:revision>
  <dc:subject/>
  <dc:title>Contabilidad Administrativa</dc:title>
</cp:coreProperties>
</file>