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9634-B8C9-4CFF-A6A8-B1A71A2F7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F71D-3206-453B-8887-76EC65A6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3013-DC5B-4297-899B-617913DC6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C640-1643-4470-8CA6-BCA18CCD9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C34A-433A-4E72-87C0-F3409C72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1309-0432-4337-8917-BD148082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CB7E-FE71-4518-998E-CBAAA076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D597-09E5-4B50-9CDC-06A90EFE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BC1B-EDB0-43C7-86F0-F9DB256D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7FCB-13C8-4FEE-B7DB-2DC10A57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17BA-0E83-4DB8-B446-8D889234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FD5D-40CF-4321-BCDD-8A6A4F73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9183-DE23-487C-94A5-82F0BF8D4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pítulo 4: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istemas Con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 libro que agrupa todas las cuentas que utiliza la empr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primer registro corresponde al saldo del ejercicio anterior, salvo en las cuentas de resultado, cuyo saldo inicial es siempre c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25600" y="3147840"/>
          <a:ext cx="8367480" cy="291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3147840"/>
                    <a:ext cx="836748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574000" y="2117880"/>
            <a:ext cx="3615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enta: Dispon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342720"/>
            <a:ext cx="8386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ibro Diario y Asiento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65240"/>
            <a:ext cx="7989840" cy="391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Libro Diario es un registro cronológico de las transacciones efectuadas por una organización. Se especifica el carácter y circunstancia de cada una de el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registro de una transacción en el Libro Diario recibe el nombre de “Asiento Contabl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34272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ibro Diario y Asiento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9000"/>
          </a:bodyPr>
          <a:p>
            <a:pPr marL="167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quema de un Libro Dia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8400" y="3048120"/>
          <a:ext cx="9088200" cy="373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00" y="3048120"/>
                    <a:ext cx="908820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alance de Comprob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4840" y="2097000"/>
            <a:ext cx="83451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stado de todas las cuentas del mayor con los débitos y créditos del período y sus respectivos saldos deudores o acree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8760" y="3819600"/>
            <a:ext cx="8902800" cy="97776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ERIFICA QUE EL PASO DEL LIBRO DIARIO AL MA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A CORR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l Ciclo Con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41536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alance in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gistro inicial de las transacciones en el libro d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raspaso al libro may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alance de comprob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sientos de ajustes y cierre de cuentas (hoja de trabaj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eparación de los estad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 de Registro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1280" y="1649520"/>
            <a:ext cx="7705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la empresa JG Gestión SA desarrollaremos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gistro de las transacciones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alance de comprobación y sal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ado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sientos de ci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11280" y="1197000"/>
          <a:ext cx="8137440" cy="490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197000"/>
                    <a:ext cx="813744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11280" y="1206360"/>
          <a:ext cx="8137440" cy="432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06360"/>
                    <a:ext cx="813744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39640" y="1116000"/>
          <a:ext cx="8136000" cy="490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16000"/>
                    <a:ext cx="8136000" cy="49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ISTEMA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gistros Contab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lan de Cue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bro Diario y Asientos Con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alance de Comprob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iclo Con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11280" y="1338120"/>
          <a:ext cx="8064360" cy="372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38120"/>
                    <a:ext cx="8064360" cy="37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90520" y="304920"/>
            <a:ext cx="29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4360" y="1111320"/>
          <a:ext cx="7488000" cy="476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11320"/>
                    <a:ext cx="748800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84360" y="933480"/>
          <a:ext cx="7632720" cy="461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933480"/>
                    <a:ext cx="763272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68360" y="847800"/>
          <a:ext cx="7991280" cy="48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847800"/>
                    <a:ext cx="7991280" cy="48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1880" y="304920"/>
            <a:ext cx="61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alance de Comprobación y Sal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68360" y="1152360"/>
          <a:ext cx="8351640" cy="52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52360"/>
                    <a:ext cx="8351640" cy="52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78720" y="185760"/>
            <a:ext cx="43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ad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11280" y="3900600"/>
          <a:ext cx="5327640" cy="276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900600"/>
                    <a:ext cx="5327640" cy="27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611280" y="981000"/>
          <a:ext cx="6697440" cy="2873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981000"/>
                    <a:ext cx="6697440" cy="28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1960" y="380880"/>
            <a:ext cx="37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ientos de Ci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066680"/>
            <a:ext cx="816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s cuentas de resultado se deben dejar en cero para comenzar el ejercicio sigu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71640" y="2133720"/>
          <a:ext cx="6553080" cy="449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133720"/>
                    <a:ext cx="6553080" cy="44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eterminación del resultado tribut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0840" y="1484280"/>
            <a:ext cx="8813880" cy="4546800"/>
          </a:xfrm>
          <a:prstGeom prst="rect">
            <a:avLst/>
          </a:prstGeom>
          <a:noFill/>
          <a:ln w="1015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Financie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1) Gastos rechazados para fines tribu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2) Ingresos exentos o no considerados r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/-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3) Diferencias tempo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Renta Líquida Impon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empl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1): provisiones, gastos de automóv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2): Dividendos o retiros de otras empresas, rentas de DF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3): Depreciación acelerada, cuotas de leasing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eterminación del resultado tribut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ara el caso de JG Gestión S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08120" y="3141720"/>
          <a:ext cx="7751520" cy="198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120" y="3141720"/>
                    <a:ext cx="7751520" cy="19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 de Registro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1042920"/>
            <a:ext cx="817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erta empresa muestra el siguiente balance al comenzar el ejercicio (en M$)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04920" y="2209680"/>
          <a:ext cx="86868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09680"/>
                    <a:ext cx="86868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empresas pueden tener cientos o miles de transacciones diarias, por lo cual no es posible registrar las transacciones directamente en el balance, como lo hemos hecho hasta ah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“Cuenta” es un registro asociado a un ítem o rubro del balance, en el cual se registran todas las variaciones que afectan a dicho rub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582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urante los dos meses siguientes realiza las siguientes transac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1200240"/>
            <a:ext cx="8655120" cy="52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02/0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de mercadería por un monto de M$ 1.200, pagándose 50% a plazo y el resto al contado. El costo de la mercadería fue de M$ 9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04/0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lientes pagan M$ 500 que adeudaban a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15/0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 su vez la empresa paga M$ 400 que adeudaba a sus provee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8/0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trega el 50% de los bienes pagados por anticipado, obteniendo un margen de ganancia, sobre ingresos, del 4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06/02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ga M$ 200 por concepto de remuner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8/02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compran muebles por M$ 100, pagando al con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T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deuda se contrajo a un tasa del 2% mensual (lineal) y se debe pagar al cabo de 1 año junto con los inter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 activo fijo le resta una vida útil de 20 años y su valor residual es c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seguro tiene una duración de 1 año y fue contratado hace 2 m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 pide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alance de comprobación y sal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ientos de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ju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ientos de ci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ado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3980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2381400"/>
            <a:ext cx="8640720" cy="30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631000" cy="465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otar una cantidad al Debe se llama: Adeudar, cargar o debi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otar una cantidad al Haber se llama: Abonar o acredi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asándonos en la igualdad del inventario existirá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ntas de A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ntas de Pas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ntas de Patrimon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ntas de Resul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569440" cy="48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lan de Cuen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70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65040" indent="-365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rresponde al conjunto de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ent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utilizadas en un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mpres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o mínimo son las del Balance General y las del estado de result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empresa elegirá el nivel de desagregación en función de sus requerimientos de inform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: Plan de Cuentas de JG Gestión 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478400" y="1557360"/>
            <a:ext cx="4414680" cy="4068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87440" y="1557360"/>
            <a:ext cx="39621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: Plan de Cuentas de JG Gestión 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79720" y="1270080"/>
            <a:ext cx="44845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03:04:30Z</dcterms:created>
  <dc:creator>Soporte Técnico</dc:creator>
  <dc:description/>
  <dc:language>en-US</dc:language>
  <cp:lastModifiedBy>Michel</cp:lastModifiedBy>
  <dcterms:modified xsi:type="dcterms:W3CDTF">2009-03-10T01:47:56Z</dcterms:modified>
  <cp:revision>13</cp:revision>
  <dc:subject/>
  <dc:title>Contabilidad y Control</dc:title>
</cp:coreProperties>
</file>